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93D-CA82-4A4D-824E-190BD997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8E4-B066-40B0-BE5E-A2FD57BD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C6F-D724-4C11-9F85-D9D5FA53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F37-AD78-4483-913D-874B4CED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2B5-C5B1-4DED-AFCE-D424BEA3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616-0B36-4E20-89A3-1181C3FC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A07-CC94-4258-9BF7-6F2BFD96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A82-0DCB-48DF-A85C-36DC87F9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E79-D06E-43B6-ADE5-3C56F442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D14A-BBAB-4F46-8163-EB22E993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2BB8-AF2D-42E4-B999-FD4F8AA1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BA5-268E-4812-85AB-5A34467D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sucaifengbao.com/" TargetMode="External"/><Relationship Id="rId4" Type="http://schemas.openxmlformats.org/officeDocument/2006/relationships/hyperlink" Target="http://ppt.sucaifengbao.com/" TargetMode="External"/><Relationship Id="rId5" Type="http://schemas.openxmlformats.org/officeDocument/2006/relationships/hyperlink" Target="http://ae.sucaifengbao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2D10-8C44-4E6C-9DF5-9F9AB5ABE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Autu3 [转换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2"/>
          <p:cNvSpPr/>
          <p:nvPr/>
        </p:nvSpPr>
        <p:spPr>
          <a:xfrm>
            <a:off x="47056680" y="56786400"/>
            <a:ext cx="26571600" cy="9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素材风暴：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caifengbao.com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pt.sucaifengbao.com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ae.sucaifengbao.com/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6"/>
          <p:cNvGrpSpPr/>
          <p:nvPr/>
        </p:nvGrpSpPr>
        <p:grpSpPr>
          <a:xfrm>
            <a:off x="0" y="22320"/>
            <a:ext cx="9144000" cy="6835680"/>
            <a:chOff x="0" y="22320"/>
            <a:chExt cx="9144000" cy="6835680"/>
          </a:xfrm>
        </p:grpSpPr>
        <p:pic>
          <p:nvPicPr>
            <p:cNvPr id="44" name="Picture 8" descr="Autumn Cards 23 [转换]"/>
            <p:cNvPicPr/>
            <p:nvPr/>
          </p:nvPicPr>
          <p:blipFill>
            <a:blip r:embed="rId1"/>
            <a:srcRect l="8963" t="0" r="0" b="0"/>
            <a:stretch/>
          </p:blipFill>
          <p:spPr>
            <a:xfrm>
              <a:off x="0" y="22320"/>
              <a:ext cx="9144000" cy="683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Group 15"/>
            <p:cNvGrpSpPr/>
            <p:nvPr/>
          </p:nvGrpSpPr>
          <p:grpSpPr>
            <a:xfrm>
              <a:off x="0" y="4292640"/>
              <a:ext cx="6089760" cy="1441080"/>
              <a:chOff x="0" y="4292640"/>
              <a:chExt cx="6089760" cy="1441080"/>
            </a:xfrm>
          </p:grpSpPr>
          <p:grpSp>
            <p:nvGrpSpPr>
              <p:cNvPr id="46" name="Group 9"/>
              <p:cNvGrpSpPr/>
              <p:nvPr/>
            </p:nvGrpSpPr>
            <p:grpSpPr>
              <a:xfrm>
                <a:off x="0" y="4292640"/>
                <a:ext cx="6089760" cy="1441080"/>
                <a:chOff x="0" y="4292640"/>
                <a:chExt cx="6089760" cy="1441080"/>
              </a:xfrm>
            </p:grpSpPr>
            <p:sp>
              <p:nvSpPr>
                <p:cNvPr id="47" name="AutoShape 10"/>
                <p:cNvSpPr/>
                <p:nvPr/>
              </p:nvSpPr>
              <p:spPr>
                <a:xfrm>
                  <a:off x="431640" y="4292640"/>
                  <a:ext cx="5658120" cy="144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85b400"/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Rectangle 11"/>
                <p:cNvSpPr/>
                <p:nvPr/>
              </p:nvSpPr>
              <p:spPr>
                <a:xfrm>
                  <a:off x="0" y="4292640"/>
                  <a:ext cx="649440" cy="1441080"/>
                </a:xfrm>
                <a:prstGeom prst="rect">
                  <a:avLst/>
                </a:pr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" name="Rectangle 13"/>
              <p:cNvSpPr/>
              <p:nvPr/>
            </p:nvSpPr>
            <p:spPr>
              <a:xfrm>
                <a:off x="1168560" y="4592520"/>
                <a:ext cx="3793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艺术设计工作</a:t>
                </a:r>
                <a:r>
                  <a:rPr b="1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4" descr="Adards 23 [转换]"/>
          <p:cNvPicPr/>
          <p:nvPr/>
        </p:nvPicPr>
        <p:blipFill>
          <a:blip r:embed="rId1"/>
          <a:srcRect l="0" t="0" r="0" b="4140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1"/>
          <p:cNvGrpSpPr/>
          <p:nvPr/>
        </p:nvGrpSpPr>
        <p:grpSpPr>
          <a:xfrm>
            <a:off x="1765440" y="1916280"/>
            <a:ext cx="5758920" cy="542880"/>
            <a:chOff x="1765440" y="1916280"/>
            <a:chExt cx="5758920" cy="542880"/>
          </a:xfrm>
        </p:grpSpPr>
        <p:sp>
          <p:nvSpPr>
            <p:cNvPr id="53" name="AutoShape 12"/>
            <p:cNvSpPr/>
            <p:nvPr/>
          </p:nvSpPr>
          <p:spPr>
            <a:xfrm>
              <a:off x="2038680" y="1957320"/>
              <a:ext cx="5485680" cy="348840"/>
            </a:xfrm>
            <a:prstGeom prst="roundRect">
              <a:avLst>
                <a:gd name="adj" fmla="val 16667"/>
              </a:avLst>
            </a:prstGeom>
            <a:solidFill>
              <a:srgbClr val="e1c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AutoShape 3"/>
            <p:cNvGrpSpPr/>
            <p:nvPr/>
          </p:nvGrpSpPr>
          <p:grpSpPr>
            <a:xfrm>
              <a:off x="1765440" y="1916280"/>
              <a:ext cx="5549040" cy="542880"/>
              <a:chOff x="1765440" y="1916280"/>
              <a:chExt cx="5549040" cy="542880"/>
            </a:xfrm>
          </p:grpSpPr>
          <p:pic>
            <p:nvPicPr>
              <p:cNvPr id="55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5440" y="1916280"/>
                <a:ext cx="554904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1848960" y="2018880"/>
                <a:ext cx="537804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22"/>
          <p:cNvGrpSpPr/>
          <p:nvPr/>
        </p:nvGrpSpPr>
        <p:grpSpPr>
          <a:xfrm>
            <a:off x="1765440" y="2781360"/>
            <a:ext cx="5758920" cy="542880"/>
            <a:chOff x="1765440" y="2781360"/>
            <a:chExt cx="5758920" cy="542880"/>
          </a:xfrm>
        </p:grpSpPr>
        <p:sp>
          <p:nvSpPr>
            <p:cNvPr id="58" name="AutoShape 18"/>
            <p:cNvSpPr/>
            <p:nvPr/>
          </p:nvSpPr>
          <p:spPr>
            <a:xfrm>
              <a:off x="2038680" y="2822400"/>
              <a:ext cx="5485680" cy="348840"/>
            </a:xfrm>
            <a:prstGeom prst="roundRect">
              <a:avLst>
                <a:gd name="adj" fmla="val 16667"/>
              </a:avLst>
            </a:prstGeom>
            <a:solidFill>
              <a:srgbClr val="85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AutoShape 3"/>
            <p:cNvGrpSpPr/>
            <p:nvPr/>
          </p:nvGrpSpPr>
          <p:grpSpPr>
            <a:xfrm>
              <a:off x="1765440" y="2781360"/>
              <a:ext cx="5549040" cy="542880"/>
              <a:chOff x="1765440" y="2781360"/>
              <a:chExt cx="5549040" cy="542880"/>
            </a:xfrm>
          </p:grpSpPr>
          <p:pic>
            <p:nvPicPr>
              <p:cNvPr id="60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765440" y="2781360"/>
                <a:ext cx="554904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848960" y="2883960"/>
                <a:ext cx="537804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Group 23"/>
          <p:cNvGrpSpPr/>
          <p:nvPr/>
        </p:nvGrpSpPr>
        <p:grpSpPr>
          <a:xfrm>
            <a:off x="1765440" y="3716280"/>
            <a:ext cx="5758920" cy="542880"/>
            <a:chOff x="1765440" y="3716280"/>
            <a:chExt cx="5758920" cy="542880"/>
          </a:xfrm>
        </p:grpSpPr>
        <p:sp>
          <p:nvSpPr>
            <p:cNvPr id="63" name="AutoShape 24"/>
            <p:cNvSpPr/>
            <p:nvPr/>
          </p:nvSpPr>
          <p:spPr>
            <a:xfrm>
              <a:off x="2038680" y="3758040"/>
              <a:ext cx="5485680" cy="345960"/>
            </a:xfrm>
            <a:prstGeom prst="roundRect">
              <a:avLst>
                <a:gd name="adj" fmla="val 16667"/>
              </a:avLst>
            </a:prstGeom>
            <a:solidFill>
              <a:srgbClr val="e1c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AutoShape 3"/>
            <p:cNvGrpSpPr/>
            <p:nvPr/>
          </p:nvGrpSpPr>
          <p:grpSpPr>
            <a:xfrm>
              <a:off x="1765440" y="3716280"/>
              <a:ext cx="5549040" cy="542880"/>
              <a:chOff x="1765440" y="3716280"/>
              <a:chExt cx="5549040" cy="542880"/>
            </a:xfrm>
          </p:grpSpPr>
          <p:pic>
            <p:nvPicPr>
              <p:cNvPr id="65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1765440" y="3716280"/>
                <a:ext cx="554904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1848960" y="3819600"/>
                <a:ext cx="5378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Group 28"/>
          <p:cNvGrpSpPr/>
          <p:nvPr/>
        </p:nvGrpSpPr>
        <p:grpSpPr>
          <a:xfrm>
            <a:off x="1765440" y="4581360"/>
            <a:ext cx="5758920" cy="543240"/>
            <a:chOff x="1765440" y="4581360"/>
            <a:chExt cx="5758920" cy="543240"/>
          </a:xfrm>
        </p:grpSpPr>
        <p:sp>
          <p:nvSpPr>
            <p:cNvPr id="68" name="AutoShape 29"/>
            <p:cNvSpPr/>
            <p:nvPr/>
          </p:nvSpPr>
          <p:spPr>
            <a:xfrm>
              <a:off x="2038680" y="4623480"/>
              <a:ext cx="5485680" cy="348840"/>
            </a:xfrm>
            <a:prstGeom prst="roundRect">
              <a:avLst>
                <a:gd name="adj" fmla="val 16667"/>
              </a:avLst>
            </a:prstGeom>
            <a:solidFill>
              <a:srgbClr val="85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AutoShape 3"/>
            <p:cNvGrpSpPr/>
            <p:nvPr/>
          </p:nvGrpSpPr>
          <p:grpSpPr>
            <a:xfrm>
              <a:off x="1765440" y="4581360"/>
              <a:ext cx="5549040" cy="543240"/>
              <a:chOff x="1765440" y="4581360"/>
              <a:chExt cx="5549040" cy="543240"/>
            </a:xfrm>
          </p:grpSpPr>
          <p:pic>
            <p:nvPicPr>
              <p:cNvPr id="70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1765440" y="4581360"/>
                <a:ext cx="5549040" cy="54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1848960" y="4685400"/>
                <a:ext cx="537804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1"/>
          <a:srcRect l="12554" t="0" r="12353" b="0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15"/>
          <p:cNvGrpSpPr/>
          <p:nvPr/>
        </p:nvGrpSpPr>
        <p:grpSpPr>
          <a:xfrm>
            <a:off x="-36360" y="0"/>
            <a:ext cx="7489800" cy="693360"/>
            <a:chOff x="-36360" y="0"/>
            <a:chExt cx="7489800" cy="693360"/>
          </a:xfrm>
        </p:grpSpPr>
        <p:sp>
          <p:nvSpPr>
            <p:cNvPr id="74" name="Text Box 9"/>
            <p:cNvSpPr/>
            <p:nvPr/>
          </p:nvSpPr>
          <p:spPr>
            <a:xfrm>
              <a:off x="-36360" y="50760"/>
              <a:ext cx="36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方正兰亭粗黑简体"/>
                </a:rPr>
                <a:t>礼仪与沟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4"/>
            <p:cNvSpPr/>
            <p:nvPr/>
          </p:nvSpPr>
          <p:spPr>
            <a:xfrm>
              <a:off x="2484720" y="0"/>
              <a:ext cx="49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日常交际  迎来送往</a:t>
              </a:r>
              <a:r>
                <a:rPr b="1" lang="zh-CN" sz="36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5"/>
            <p:cNvSpPr/>
            <p:nvPr/>
          </p:nvSpPr>
          <p:spPr>
            <a:xfrm>
              <a:off x="4067280" y="260280"/>
              <a:ext cx="144360" cy="1443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AutoShape 13"/>
          <p:cNvSpPr/>
          <p:nvPr/>
        </p:nvSpPr>
        <p:spPr>
          <a:xfrm>
            <a:off x="304920" y="1125360"/>
            <a:ext cx="8532720" cy="5234040"/>
          </a:xfrm>
          <a:prstGeom prst="roundRect">
            <a:avLst>
              <a:gd name="adj" fmla="val 3306"/>
            </a:avLst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8"/>
          <p:cNvGrpSpPr/>
          <p:nvPr/>
        </p:nvGrpSpPr>
        <p:grpSpPr>
          <a:xfrm>
            <a:off x="0" y="0"/>
            <a:ext cx="9828360" cy="6851520"/>
            <a:chOff x="0" y="0"/>
            <a:chExt cx="9828360" cy="6851520"/>
          </a:xfrm>
        </p:grpSpPr>
        <p:pic>
          <p:nvPicPr>
            <p:cNvPr id="79" name="Picture 2" descr="1 [转换]"/>
            <p:cNvPicPr/>
            <p:nvPr/>
          </p:nvPicPr>
          <p:blipFill>
            <a:blip r:embed="rId1"/>
            <a:srcRect l="0" t="1327" r="4873" b="0"/>
            <a:stretch/>
          </p:blipFill>
          <p:spPr>
            <a:xfrm>
              <a:off x="0" y="0"/>
              <a:ext cx="9144000" cy="68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4"/>
            <p:cNvSpPr/>
            <p:nvPr/>
          </p:nvSpPr>
          <p:spPr>
            <a:xfrm>
              <a:off x="4859280" y="4830840"/>
              <a:ext cx="4969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6"/>
            <p:cNvSpPr/>
            <p:nvPr/>
          </p:nvSpPr>
          <p:spPr>
            <a:xfrm>
              <a:off x="4859280" y="3855960"/>
              <a:ext cx="4465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68360" y="1125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q"/>
          <p:cNvPicPr/>
          <p:nvPr/>
        </p:nvPicPr>
        <p:blipFill>
          <a:blip r:embed="rId1"/>
          <a:srcRect l="0" t="2107" r="14488" b="91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8"/>
          <p:cNvGrpSpPr/>
          <p:nvPr/>
        </p:nvGrpSpPr>
        <p:grpSpPr>
          <a:xfrm>
            <a:off x="4998960" y="2382840"/>
            <a:ext cx="3749400" cy="542880"/>
            <a:chOff x="4998960" y="2382840"/>
            <a:chExt cx="3749400" cy="542880"/>
          </a:xfrm>
        </p:grpSpPr>
        <p:sp>
          <p:nvSpPr>
            <p:cNvPr id="85" name="AutoShape 4"/>
            <p:cNvSpPr/>
            <p:nvPr/>
          </p:nvSpPr>
          <p:spPr>
            <a:xfrm>
              <a:off x="5311800" y="2425680"/>
              <a:ext cx="3436560" cy="345960"/>
            </a:xfrm>
            <a:prstGeom prst="roundRect">
              <a:avLst>
                <a:gd name="adj" fmla="val 16667"/>
              </a:avLst>
            </a:prstGeom>
            <a:solidFill>
              <a:srgbClr val="e1c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AutoShape 3"/>
            <p:cNvGrpSpPr/>
            <p:nvPr/>
          </p:nvGrpSpPr>
          <p:grpSpPr>
            <a:xfrm>
              <a:off x="4998960" y="2382840"/>
              <a:ext cx="3517560" cy="542880"/>
              <a:chOff x="4998960" y="2382840"/>
              <a:chExt cx="3517560" cy="542880"/>
            </a:xfrm>
          </p:grpSpPr>
          <p:pic>
            <p:nvPicPr>
              <p:cNvPr id="87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4998960" y="2382840"/>
                <a:ext cx="351756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5079960" y="2487240"/>
                <a:ext cx="3354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Group 19"/>
          <p:cNvGrpSpPr/>
          <p:nvPr/>
        </p:nvGrpSpPr>
        <p:grpSpPr>
          <a:xfrm>
            <a:off x="4067280" y="3246480"/>
            <a:ext cx="4677840" cy="542880"/>
            <a:chOff x="4067280" y="3246480"/>
            <a:chExt cx="4677840" cy="542880"/>
          </a:xfrm>
        </p:grpSpPr>
        <p:sp>
          <p:nvSpPr>
            <p:cNvPr id="90" name="AutoShape 9"/>
            <p:cNvSpPr/>
            <p:nvPr/>
          </p:nvSpPr>
          <p:spPr>
            <a:xfrm>
              <a:off x="4350240" y="3288600"/>
              <a:ext cx="4394880" cy="348840"/>
            </a:xfrm>
            <a:prstGeom prst="roundRect">
              <a:avLst>
                <a:gd name="adj" fmla="val 16667"/>
              </a:avLst>
            </a:prstGeom>
            <a:solidFill>
              <a:srgbClr val="85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AutoShape 3"/>
            <p:cNvGrpSpPr/>
            <p:nvPr/>
          </p:nvGrpSpPr>
          <p:grpSpPr>
            <a:xfrm>
              <a:off x="4067280" y="3246480"/>
              <a:ext cx="4473000" cy="542880"/>
              <a:chOff x="4067280" y="3246480"/>
              <a:chExt cx="4473000" cy="542880"/>
            </a:xfrm>
          </p:grpSpPr>
          <p:pic>
            <p:nvPicPr>
              <p:cNvPr id="9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067280" y="3246480"/>
                <a:ext cx="447300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4151160" y="3350160"/>
                <a:ext cx="430200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Text Box 17"/>
          <p:cNvSpPr/>
          <p:nvPr/>
        </p:nvSpPr>
        <p:spPr>
          <a:xfrm>
            <a:off x="7343640" y="1484280"/>
            <a:ext cx="14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48500"/>
                </a:solidFill>
                <a:latin typeface="Arial"/>
                <a:ea typeface="方正超粗黑简体"/>
              </a:rPr>
              <a:t>目 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0"/>
          <p:cNvGrpSpPr/>
          <p:nvPr/>
        </p:nvGrpSpPr>
        <p:grpSpPr>
          <a:xfrm>
            <a:off x="3687840" y="4110120"/>
            <a:ext cx="5060520" cy="542880"/>
            <a:chOff x="3687840" y="4110120"/>
            <a:chExt cx="5060520" cy="542880"/>
          </a:xfrm>
        </p:grpSpPr>
        <p:sp>
          <p:nvSpPr>
            <p:cNvPr id="96" name="AutoShape 21"/>
            <p:cNvSpPr/>
            <p:nvPr/>
          </p:nvSpPr>
          <p:spPr>
            <a:xfrm>
              <a:off x="3933360" y="4151160"/>
              <a:ext cx="4815000" cy="348840"/>
            </a:xfrm>
            <a:prstGeom prst="roundRect">
              <a:avLst>
                <a:gd name="adj" fmla="val 16667"/>
              </a:avLst>
            </a:prstGeom>
            <a:solidFill>
              <a:srgbClr val="e1c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AutoShape 3"/>
            <p:cNvGrpSpPr/>
            <p:nvPr/>
          </p:nvGrpSpPr>
          <p:grpSpPr>
            <a:xfrm>
              <a:off x="3687840" y="4110120"/>
              <a:ext cx="4883400" cy="542880"/>
              <a:chOff x="3687840" y="4110120"/>
              <a:chExt cx="4883400" cy="542880"/>
            </a:xfrm>
          </p:grpSpPr>
          <p:pic>
            <p:nvPicPr>
              <p:cNvPr id="98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87840" y="4110120"/>
                <a:ext cx="488340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3769920" y="4212360"/>
                <a:ext cx="471600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30"/>
          <p:cNvGrpSpPr/>
          <p:nvPr/>
        </p:nvGrpSpPr>
        <p:grpSpPr>
          <a:xfrm>
            <a:off x="2674800" y="4973760"/>
            <a:ext cx="6073560" cy="542880"/>
            <a:chOff x="2674800" y="4973760"/>
            <a:chExt cx="6073560" cy="542880"/>
          </a:xfrm>
        </p:grpSpPr>
        <p:sp>
          <p:nvSpPr>
            <p:cNvPr id="101" name="AutoShape 26"/>
            <p:cNvSpPr/>
            <p:nvPr/>
          </p:nvSpPr>
          <p:spPr>
            <a:xfrm>
              <a:off x="2986560" y="5015520"/>
              <a:ext cx="5761800" cy="345960"/>
            </a:xfrm>
            <a:prstGeom prst="roundRect">
              <a:avLst>
                <a:gd name="adj" fmla="val 16667"/>
              </a:avLst>
            </a:prstGeom>
            <a:solidFill>
              <a:srgbClr val="85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AutoShape 3"/>
            <p:cNvGrpSpPr/>
            <p:nvPr/>
          </p:nvGrpSpPr>
          <p:grpSpPr>
            <a:xfrm>
              <a:off x="2674800" y="4973760"/>
              <a:ext cx="5883480" cy="542880"/>
              <a:chOff x="2674800" y="4973760"/>
              <a:chExt cx="5883480" cy="542880"/>
            </a:xfrm>
          </p:grpSpPr>
          <p:pic>
            <p:nvPicPr>
              <p:cNvPr id="103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674800" y="4973760"/>
                <a:ext cx="588348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2759400" y="5078160"/>
                <a:ext cx="571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1 [转a换]"/>
          <p:cNvPicPr/>
          <p:nvPr/>
        </p:nvPicPr>
        <p:blipFill>
          <a:blip r:embed="rId1"/>
          <a:srcRect l="0" t="1710" r="4873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574560" y="1484280"/>
            <a:ext cx="7993080" cy="475308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574560" y="404640"/>
            <a:ext cx="7993080" cy="9367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875-0FD9-4DAF-AED7-79B987906172}" type="slidenum">
              <a:t>7</a:t>
            </a:fld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 [转换]"/>
          <p:cNvPicPr/>
          <p:nvPr/>
        </p:nvPicPr>
        <p:blipFill>
          <a:blip r:embed="rId1"/>
          <a:srcRect l="0" t="1327" r="4873" b="0"/>
          <a:stretch/>
        </p:blipFill>
        <p:spPr>
          <a:xfrm>
            <a:off x="0" y="-2700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6227640" y="42210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超粗黑简体"/>
              </a:rPr>
              <a:t>谢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3:02:39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24:27Z</dcterms:modified>
  <cp:revision>18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