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8FE-0E9E-4959-85F2-B6CD0BD8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3CC-2301-49A5-9600-E8A18314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826-A9D0-4008-B320-24C07541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FE9-70FC-4F4D-93D0-99B956EE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23DD9-82CB-4F31-99BF-30582D7727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F3ED3-922C-4C21-B3FD-E3C167DB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696FC-2C18-4DEF-9B72-0A24AE9B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5CE7E-7F53-498A-87C2-068C26C4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DCC7F-EC92-4D96-9FE4-00D21784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96880" y="609480"/>
            <a:ext cx="77090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CDD75-F083-4F4C-AB26-9AA6DCAE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A5012-36F7-4AEC-B5E7-448E4AE5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783-3378-4AFE-9DD6-7765018F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168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94C95-7FC8-4D66-A995-FD198B28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FEFDC-60B8-4337-9665-58C34742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AC5F5-2416-407A-8891-61E918B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168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2D00D-F4A7-434F-AAB4-8F446ACC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4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692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4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692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F2361-7274-4688-9D59-7860AE94C1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A64-B4F7-4F94-B8BE-20DC7153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7A5-F183-4FB3-A02F-A57EF38D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B16-7468-4296-AD5A-890304E5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880" y="609480"/>
            <a:ext cx="77090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AF9-0603-417C-A6B1-B71EE3FE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4BB-90C6-4A13-BE62-FBE911C6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7D7-940E-4460-99CC-16DE9836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880" y="516960"/>
            <a:ext cx="7709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389-4F9A-4049-BEC9-C143F6CA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9"/>
          <p:cNvSpPr/>
          <p:nvPr/>
        </p:nvSpPr>
        <p:spPr>
          <a:xfrm>
            <a:off x="380880" y="457200"/>
            <a:ext cx="83822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648e"/>
              </a:gs>
              <a:gs pos="50000">
                <a:srgbClr val="1d435f"/>
              </a:gs>
              <a:gs pos="100000">
                <a:srgbClr val="2c648e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8284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5638680" y="646092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533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9D33-E5B2-4707-B77D-B3B65AD3A7A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34" descr="schooldays2 copy"/>
          <p:cNvPicPr/>
          <p:nvPr/>
        </p:nvPicPr>
        <p:blipFill>
          <a:blip r:embed="rId3"/>
          <a:stretch/>
        </p:blipFill>
        <p:spPr>
          <a:xfrm>
            <a:off x="6738840" y="28440"/>
            <a:ext cx="1981440" cy="1171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9e675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9" descr="schooldays2 copy"/>
          <p:cNvPicPr/>
          <p:nvPr/>
        </p:nvPicPr>
        <p:blipFill>
          <a:blip r:embed="rId3"/>
          <a:stretch/>
        </p:blipFill>
        <p:spPr>
          <a:xfrm>
            <a:off x="1981080" y="3335400"/>
            <a:ext cx="7162920" cy="3522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9e675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b14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004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851B-A455-4BB4-AC8E-34FFE37E5D8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148680"/>
            <a:ext cx="3359160" cy="119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3600" spc="-1" strike="noStrike">
              <a:solidFill>
                <a:srgbClr val="e9e675"/>
              </a:solidFill>
              <a:latin typeface="Arial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99720" y="40464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英文教育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模板完整版打包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27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grpSp>
          <p:nvGrpSpPr>
            <p:cNvPr id="233" name="Group 3"/>
            <p:cNvGrpSpPr/>
            <p:nvPr/>
          </p:nvGrpSpPr>
          <p:grpSpPr>
            <a:xfrm>
              <a:off x="2895480" y="2133720"/>
              <a:ext cx="3196800" cy="2890800"/>
              <a:chOff x="2895480" y="2133720"/>
              <a:chExt cx="3196800" cy="2890800"/>
            </a:xfrm>
          </p:grpSpPr>
          <p:sp>
            <p:nvSpPr>
              <p:cNvPr id="234" name="AutoShape 4"/>
              <p:cNvSpPr/>
              <p:nvPr/>
            </p:nvSpPr>
            <p:spPr>
              <a:xfrm flipH="1" rot="16200000">
                <a:off x="2813400" y="32472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6f5c9"/>
                  </a:gs>
                  <a:gs pos="100000">
                    <a:srgbClr val="e9e6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 flipH="1" rot="5400000">
                <a:off x="5683320" y="319284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6f5c9"/>
                  </a:gs>
                  <a:gs pos="100000">
                    <a:srgbClr val="e9e675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AutoShape 6"/>
              <p:cNvSpPr/>
              <p:nvPr/>
            </p:nvSpPr>
            <p:spPr>
              <a:xfrm flipH="1" rot="10800000">
                <a:off x="4250520" y="469764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6f5c9"/>
                  </a:gs>
                  <a:gs pos="100000">
                    <a:srgbClr val="e9e67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Oval 7"/>
              <p:cNvSpPr/>
              <p:nvPr/>
            </p:nvSpPr>
            <p:spPr>
              <a:xfrm>
                <a:off x="3222360" y="213372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Oval 8"/>
              <p:cNvSpPr/>
              <p:nvPr/>
            </p:nvSpPr>
            <p:spPr>
              <a:xfrm>
                <a:off x="3368880" y="227808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Oval 9"/>
              <p:cNvSpPr/>
              <p:nvPr/>
            </p:nvSpPr>
            <p:spPr>
              <a:xfrm>
                <a:off x="3502440" y="241308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50000">
                    <a:srgbClr val="ffffff"/>
                  </a:gs>
                  <a:gs pos="100000">
                    <a:srgbClr val="8a52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Oval 10"/>
              <p:cNvSpPr/>
              <p:nvPr/>
            </p:nvSpPr>
            <p:spPr>
              <a:xfrm>
                <a:off x="3502440" y="241308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Oval 11"/>
              <p:cNvSpPr/>
              <p:nvPr/>
            </p:nvSpPr>
            <p:spPr>
              <a:xfrm>
                <a:off x="3634560" y="254484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50000">
                    <a:srgbClr val="4b2c6c"/>
                  </a:gs>
                  <a:gs pos="100000">
                    <a:srgbClr val="8a52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2" name="Oval 12"/>
              <p:cNvSpPr/>
              <p:nvPr/>
            </p:nvSpPr>
            <p:spPr>
              <a:xfrm>
                <a:off x="3634560" y="254484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3" name="AutoShape 13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7adf"/>
                </a:gs>
                <a:gs pos="50000">
                  <a:srgbClr val="163867"/>
                </a:gs>
                <a:gs pos="100000">
                  <a:srgbClr val="2f7a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AutoShape 14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7adf"/>
                </a:gs>
                <a:gs pos="50000">
                  <a:srgbClr val="163867"/>
                </a:gs>
                <a:gs pos="100000">
                  <a:srgbClr val="2f7a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AutoShape 15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7adf"/>
                </a:gs>
                <a:gs pos="50000">
                  <a:srgbClr val="163867"/>
                </a:gs>
                <a:gs pos="100000">
                  <a:srgbClr val="2f7a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AutoShape 16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ab14b"/>
                </a:gs>
                <a:gs pos="50000">
                  <a:srgbClr val="2a5223"/>
                </a:gs>
                <a:gs pos="100000">
                  <a:srgbClr val="5ab1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AutoShape 17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ab14b"/>
                </a:gs>
                <a:gs pos="50000">
                  <a:srgbClr val="2a5223"/>
                </a:gs>
                <a:gs pos="100000">
                  <a:srgbClr val="5ab1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" name="AutoShape 18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ab14b"/>
                </a:gs>
                <a:gs pos="50000">
                  <a:srgbClr val="2a5223"/>
                </a:gs>
                <a:gs pos="100000">
                  <a:srgbClr val="5ab1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" name="Text Box 19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AutoShape 20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7adf"/>
                </a:gs>
                <a:gs pos="50000">
                  <a:srgbClr val="163867"/>
                </a:gs>
                <a:gs pos="100000">
                  <a:srgbClr val="2f7ad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Text Box 21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Text Box 22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Text Box 23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Text Box 25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Text Box 26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29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59" name="Freeform 3"/>
            <p:cNvSpPr/>
            <p:nvPr/>
          </p:nvSpPr>
          <p:spPr>
            <a:xfrm>
              <a:off x="7761240" y="1752480"/>
              <a:ext cx="614520" cy="981000"/>
            </a:xfrm>
            <a:prstGeom prst="pie">
              <a:avLst/>
            </a:pr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" name="Freeform 4"/>
            <p:cNvSpPr/>
            <p:nvPr/>
          </p:nvSpPr>
          <p:spPr>
            <a:xfrm>
              <a:off x="4821120" y="1752480"/>
              <a:ext cx="3560760" cy="62712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Freeform 5"/>
            <p:cNvSpPr/>
            <p:nvPr/>
          </p:nvSpPr>
          <p:spPr>
            <a:xfrm>
              <a:off x="7143840" y="2727360"/>
              <a:ext cx="612720" cy="974520"/>
            </a:xfrm>
            <a:prstGeom prst="pie">
              <a:avLst/>
            </a:pr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>
              <a:off x="3936960" y="2727360"/>
              <a:ext cx="3827520" cy="625320"/>
            </a:xfrm>
            <a:prstGeom prst="pie">
              <a:avLst/>
            </a:pr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6524640" y="3690720"/>
              <a:ext cx="611280" cy="981000"/>
            </a:xfrm>
            <a:prstGeom prst="pie">
              <a:avLst/>
            </a:pr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5910120" y="4657680"/>
              <a:ext cx="614520" cy="981000"/>
            </a:xfrm>
            <a:prstGeom prst="pie">
              <a:avLst/>
            </a:pr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2178000" y="4662360"/>
              <a:ext cx="4346640" cy="627120"/>
            </a:xfrm>
            <a:prstGeom prst="pie">
              <a:avLst/>
            </a:pr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Line 15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Line 16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Line 17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Line 18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2808360" y="1941480"/>
              <a:ext cx="1957320" cy="3157560"/>
            </a:xfrm>
            <a:prstGeom prst="pie">
              <a:avLst/>
            </a:pr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Rectangle 20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Rectangle 21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3059280" y="3690720"/>
              <a:ext cx="4082760" cy="63180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Rectangle 23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Rectangle 24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Text Box 26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" name="Text Box 27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Text Box 28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0" y="15238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solidFill>
            <a:srgbClr val="5ab14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80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380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380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579132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293" name="AutoShape 3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AutoShape 4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a5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Oval 5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50000">
                  <a:srgbClr val="ffffff"/>
                </a:gs>
                <a:gs pos="100000">
                  <a:srgbClr val="8a52c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Oval 6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a52c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50000">
                  <a:srgbClr val="4b2c6c"/>
                </a:gs>
                <a:gs pos="100000">
                  <a:srgbClr val="8a52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Oval 8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a52c8">
                    <a:alpha val="0"/>
                  </a:srgbClr>
                </a:gs>
                <a:gs pos="100000">
                  <a:srgbClr val="5834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Oval 9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dd8739"/>
                </a:gs>
                <a:gs pos="50000">
                  <a:srgbClr val="ffffff"/>
                </a:gs>
                <a:gs pos="100000">
                  <a:srgbClr val="dd87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d873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dd8739"/>
                </a:gs>
                <a:gs pos="50000">
                  <a:srgbClr val="78491f"/>
                </a:gs>
                <a:gs pos="100000">
                  <a:srgbClr val="dd87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dd8739">
                    <a:alpha val="0"/>
                  </a:srgbClr>
                </a:gs>
                <a:gs pos="100000">
                  <a:srgbClr val="8c562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5" name="Group 15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06" name="Oval 16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Oval 17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Oval 18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Oval 19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0" name="Oval 20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50000">
                  <a:srgbClr val="ffffff"/>
                </a:gs>
                <a:gs pos="100000">
                  <a:srgbClr val="5ab14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50000">
                  <a:srgbClr val="316029"/>
                </a:gs>
                <a:gs pos="100000">
                  <a:srgbClr val="5ab1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3970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5" name="Group 25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16" name="Oval 26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" name="Oval 27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" name="Oval 28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" name="Oval 29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20" name="Group 30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21" name="Oval 31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" name="Oval 32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3" name="Oval 33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4" name="Oval 34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5" name="AutoShape 35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AutoShape 36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AutoShape 37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Text Box 38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Text Box 39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Text Box 40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Group 63"/>
          <p:cNvGrpSpPr/>
          <p:nvPr/>
        </p:nvGrpSpPr>
        <p:grpSpPr>
          <a:xfrm>
            <a:off x="1066680" y="1498680"/>
            <a:ext cx="7010280" cy="4521240"/>
            <a:chOff x="1066680" y="1498680"/>
            <a:chExt cx="7010280" cy="4521240"/>
          </a:xfrm>
        </p:grpSpPr>
        <p:sp>
          <p:nvSpPr>
            <p:cNvPr id="333" name="Freeform 3"/>
            <p:cNvSpPr/>
            <p:nvPr/>
          </p:nvSpPr>
          <p:spPr>
            <a:xfrm>
              <a:off x="1066680" y="1981440"/>
              <a:ext cx="5943600" cy="4038480"/>
            </a:xfrm>
            <a:prstGeom prst="pi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f7ad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Text Box 32"/>
            <p:cNvSpPr/>
            <p:nvPr/>
          </p:nvSpPr>
          <p:spPr>
            <a:xfrm>
              <a:off x="556236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5" name="Group 62"/>
            <p:cNvGrpSpPr/>
            <p:nvPr/>
          </p:nvGrpSpPr>
          <p:grpSpPr>
            <a:xfrm>
              <a:off x="3314520" y="3708360"/>
              <a:ext cx="1704960" cy="2028960"/>
              <a:chOff x="3314520" y="3708360"/>
              <a:chExt cx="1704960" cy="2028960"/>
            </a:xfrm>
          </p:grpSpPr>
          <p:sp>
            <p:nvSpPr>
              <p:cNvPr id="336" name="Oval 34"/>
              <p:cNvSpPr/>
              <p:nvPr/>
            </p:nvSpPr>
            <p:spPr>
              <a:xfrm rot="20876400">
                <a:off x="3382920" y="49276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7" name="Oval 35"/>
              <p:cNvSpPr/>
              <p:nvPr/>
            </p:nvSpPr>
            <p:spPr>
              <a:xfrm>
                <a:off x="3314520" y="37083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" name="Oval 36"/>
              <p:cNvSpPr/>
              <p:nvPr/>
            </p:nvSpPr>
            <p:spPr>
              <a:xfrm>
                <a:off x="3335040" y="37177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9" name="Oval 37"/>
              <p:cNvSpPr/>
              <p:nvPr/>
            </p:nvSpPr>
            <p:spPr>
              <a:xfrm>
                <a:off x="3352680" y="37339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0" name="Oval 38"/>
              <p:cNvSpPr/>
              <p:nvPr/>
            </p:nvSpPr>
            <p:spPr>
              <a:xfrm>
                <a:off x="3444840" y="37782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1" name="Text Box 39"/>
              <p:cNvSpPr/>
              <p:nvPr/>
            </p:nvSpPr>
            <p:spPr>
              <a:xfrm>
                <a:off x="3732120" y="43354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2" name="Group 61"/>
            <p:cNvGrpSpPr/>
            <p:nvPr/>
          </p:nvGrpSpPr>
          <p:grpSpPr>
            <a:xfrm>
              <a:off x="1477800" y="3327480"/>
              <a:ext cx="1371240" cy="1718640"/>
              <a:chOff x="1477800" y="3327480"/>
              <a:chExt cx="1371240" cy="1718640"/>
            </a:xfrm>
          </p:grpSpPr>
          <p:sp>
            <p:nvSpPr>
              <p:cNvPr id="343" name="Oval 40"/>
              <p:cNvSpPr/>
              <p:nvPr/>
            </p:nvSpPr>
            <p:spPr>
              <a:xfrm rot="20826600">
                <a:off x="1554120" y="43178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44" name="Group 41"/>
              <p:cNvGrpSpPr/>
              <p:nvPr/>
            </p:nvGrpSpPr>
            <p:grpSpPr>
              <a:xfrm>
                <a:off x="1477800" y="3327480"/>
                <a:ext cx="1371240" cy="1441080"/>
                <a:chOff x="1477800" y="3327480"/>
                <a:chExt cx="1371240" cy="1441080"/>
              </a:xfrm>
            </p:grpSpPr>
            <p:sp>
              <p:nvSpPr>
                <p:cNvPr id="345" name="Oval 42"/>
                <p:cNvSpPr/>
                <p:nvPr/>
              </p:nvSpPr>
              <p:spPr>
                <a:xfrm>
                  <a:off x="1477800" y="33274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46" name="Oval 43"/>
                <p:cNvSpPr/>
                <p:nvPr/>
              </p:nvSpPr>
              <p:spPr>
                <a:xfrm>
                  <a:off x="1495800" y="33357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47" name="Oval 44"/>
                <p:cNvSpPr/>
                <p:nvPr/>
              </p:nvSpPr>
              <p:spPr>
                <a:xfrm>
                  <a:off x="1508760" y="33490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48" name="Oval 45"/>
                <p:cNvSpPr/>
                <p:nvPr/>
              </p:nvSpPr>
              <p:spPr>
                <a:xfrm>
                  <a:off x="1580400" y="33858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49" name="Text Box 46"/>
                <p:cNvSpPr/>
                <p:nvPr/>
              </p:nvSpPr>
              <p:spPr>
                <a:xfrm>
                  <a:off x="1758240" y="38336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50" name="Group 60"/>
            <p:cNvGrpSpPr/>
            <p:nvPr/>
          </p:nvGrpSpPr>
          <p:grpSpPr>
            <a:xfrm>
              <a:off x="1218960" y="1955880"/>
              <a:ext cx="1100160" cy="1139760"/>
              <a:chOff x="1218960" y="1955880"/>
              <a:chExt cx="1100160" cy="1139760"/>
            </a:xfrm>
          </p:grpSpPr>
          <p:sp>
            <p:nvSpPr>
              <p:cNvPr id="351" name="Oval 47"/>
              <p:cNvSpPr/>
              <p:nvPr/>
            </p:nvSpPr>
            <p:spPr>
              <a:xfrm>
                <a:off x="1218960" y="256248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2" name="Oval 48"/>
              <p:cNvSpPr/>
              <p:nvPr/>
            </p:nvSpPr>
            <p:spPr>
              <a:xfrm>
                <a:off x="1295280" y="195588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" name="Oval 49"/>
              <p:cNvSpPr/>
              <p:nvPr/>
            </p:nvSpPr>
            <p:spPr>
              <a:xfrm>
                <a:off x="1307880" y="19605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" name="Oval 50"/>
              <p:cNvSpPr/>
              <p:nvPr/>
            </p:nvSpPr>
            <p:spPr>
              <a:xfrm>
                <a:off x="1319040" y="19717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5" name="Oval 51"/>
              <p:cNvSpPr/>
              <p:nvPr/>
            </p:nvSpPr>
            <p:spPr>
              <a:xfrm>
                <a:off x="1373040" y="19972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6" name="Text Box 52"/>
              <p:cNvSpPr/>
              <p:nvPr/>
            </p:nvSpPr>
            <p:spPr>
              <a:xfrm>
                <a:off x="1492200" y="23050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Group 59"/>
            <p:cNvGrpSpPr/>
            <p:nvPr/>
          </p:nvGrpSpPr>
          <p:grpSpPr>
            <a:xfrm>
              <a:off x="2514600" y="1498680"/>
              <a:ext cx="804240" cy="762120"/>
              <a:chOff x="2514600" y="1498680"/>
              <a:chExt cx="804240" cy="762120"/>
            </a:xfrm>
          </p:grpSpPr>
          <p:sp>
            <p:nvSpPr>
              <p:cNvPr id="358" name="Oval 53"/>
              <p:cNvSpPr/>
              <p:nvPr/>
            </p:nvSpPr>
            <p:spPr>
              <a:xfrm>
                <a:off x="2514600" y="203220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9" name="Oval 54"/>
              <p:cNvSpPr/>
              <p:nvPr/>
            </p:nvSpPr>
            <p:spPr>
              <a:xfrm>
                <a:off x="2636640" y="149868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0" name="Oval 55"/>
              <p:cNvSpPr/>
              <p:nvPr/>
            </p:nvSpPr>
            <p:spPr>
              <a:xfrm>
                <a:off x="2646000" y="15019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" name="Oval 56"/>
              <p:cNvSpPr/>
              <p:nvPr/>
            </p:nvSpPr>
            <p:spPr>
              <a:xfrm>
                <a:off x="2652480" y="150804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" name="Oval 57"/>
              <p:cNvSpPr/>
              <p:nvPr/>
            </p:nvSpPr>
            <p:spPr>
              <a:xfrm>
                <a:off x="2688840" y="15271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" name="Text Box 58"/>
              <p:cNvSpPr/>
              <p:nvPr/>
            </p:nvSpPr>
            <p:spPr>
              <a:xfrm>
                <a:off x="2706840" y="17226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Group 3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66" name="AutoShape 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e9e67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e9e67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e9e67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e9e67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e9e67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e9e67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50000">
                  <a:srgbClr val="ffffff"/>
                </a:gs>
                <a:gs pos="100000">
                  <a:srgbClr val="8a52c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a52c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50000">
                  <a:srgbClr val="4b2c6c"/>
                </a:gs>
                <a:gs pos="100000">
                  <a:srgbClr val="8a52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8a52c8">
                    <a:alpha val="0"/>
                  </a:srgbClr>
                </a:gs>
                <a:gs pos="100000">
                  <a:srgbClr val="5834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90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91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2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3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4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95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Group 84"/>
          <p:cNvGrpSpPr/>
          <p:nvPr/>
        </p:nvGrpSpPr>
        <p:grpSpPr>
          <a:xfrm>
            <a:off x="1168560" y="2039760"/>
            <a:ext cx="2163600" cy="3165480"/>
            <a:chOff x="1168560" y="2039760"/>
            <a:chExt cx="2163600" cy="3165480"/>
          </a:xfrm>
        </p:grpSpPr>
        <p:sp>
          <p:nvSpPr>
            <p:cNvPr id="398" name="AutoShape 49"/>
            <p:cNvSpPr/>
            <p:nvPr/>
          </p:nvSpPr>
          <p:spPr>
            <a:xfrm>
              <a:off x="1168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" name="AutoShape 50"/>
            <p:cNvSpPr/>
            <p:nvPr/>
          </p:nvSpPr>
          <p:spPr>
            <a:xfrm>
              <a:off x="1202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AutoShape 51"/>
            <p:cNvSpPr/>
            <p:nvPr/>
          </p:nvSpPr>
          <p:spPr>
            <a:xfrm>
              <a:off x="1219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AutoShape 52"/>
            <p:cNvSpPr/>
            <p:nvPr/>
          </p:nvSpPr>
          <p:spPr>
            <a:xfrm>
              <a:off x="1219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2" name="Group 53"/>
            <p:cNvGrpSpPr/>
            <p:nvPr/>
          </p:nvGrpSpPr>
          <p:grpSpPr>
            <a:xfrm>
              <a:off x="1913040" y="2039760"/>
              <a:ext cx="642960" cy="642960"/>
              <a:chOff x="1913040" y="2039760"/>
              <a:chExt cx="642960" cy="642960"/>
            </a:xfrm>
          </p:grpSpPr>
          <p:sp>
            <p:nvSpPr>
              <p:cNvPr id="403" name="Oval 54"/>
              <p:cNvSpPr/>
              <p:nvPr/>
            </p:nvSpPr>
            <p:spPr>
              <a:xfrm>
                <a:off x="191304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" name="Oval 55"/>
              <p:cNvSpPr/>
              <p:nvPr/>
            </p:nvSpPr>
            <p:spPr>
              <a:xfrm>
                <a:off x="191952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" name="Oval 56"/>
              <p:cNvSpPr/>
              <p:nvPr/>
            </p:nvSpPr>
            <p:spPr>
              <a:xfrm>
                <a:off x="192744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6" name="Oval 57"/>
              <p:cNvSpPr/>
              <p:nvPr/>
            </p:nvSpPr>
            <p:spPr>
              <a:xfrm>
                <a:off x="193392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7" name="Oval 58"/>
              <p:cNvSpPr/>
              <p:nvPr/>
            </p:nvSpPr>
            <p:spPr>
              <a:xfrm>
                <a:off x="196776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8" name="Text Box 59"/>
            <p:cNvSpPr/>
            <p:nvPr/>
          </p:nvSpPr>
          <p:spPr>
            <a:xfrm>
              <a:off x="2053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Text Box 60"/>
            <p:cNvSpPr/>
            <p:nvPr/>
          </p:nvSpPr>
          <p:spPr>
            <a:xfrm>
              <a:off x="1244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10" name="Group 86"/>
          <p:cNvGrpSpPr/>
          <p:nvPr/>
        </p:nvGrpSpPr>
        <p:grpSpPr>
          <a:xfrm>
            <a:off x="5892840" y="2039760"/>
            <a:ext cx="2163600" cy="3165480"/>
            <a:chOff x="5892840" y="2039760"/>
            <a:chExt cx="2163600" cy="3165480"/>
          </a:xfrm>
        </p:grpSpPr>
        <p:sp>
          <p:nvSpPr>
            <p:cNvPr id="411" name="AutoShape 61"/>
            <p:cNvSpPr/>
            <p:nvPr/>
          </p:nvSpPr>
          <p:spPr>
            <a:xfrm>
              <a:off x="58928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AutoShape 62"/>
            <p:cNvSpPr/>
            <p:nvPr/>
          </p:nvSpPr>
          <p:spPr>
            <a:xfrm>
              <a:off x="59263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3" name="AutoShape 63"/>
            <p:cNvSpPr/>
            <p:nvPr/>
          </p:nvSpPr>
          <p:spPr>
            <a:xfrm>
              <a:off x="59436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AutoShape 64"/>
            <p:cNvSpPr/>
            <p:nvPr/>
          </p:nvSpPr>
          <p:spPr>
            <a:xfrm>
              <a:off x="59436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6637320" y="2039760"/>
              <a:ext cx="642960" cy="642960"/>
              <a:chOff x="6637320" y="2039760"/>
              <a:chExt cx="642960" cy="642960"/>
            </a:xfrm>
          </p:grpSpPr>
          <p:sp>
            <p:nvSpPr>
              <p:cNvPr id="416" name="Oval 66"/>
              <p:cNvSpPr/>
              <p:nvPr/>
            </p:nvSpPr>
            <p:spPr>
              <a:xfrm>
                <a:off x="66373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7" name="Oval 67"/>
              <p:cNvSpPr/>
              <p:nvPr/>
            </p:nvSpPr>
            <p:spPr>
              <a:xfrm>
                <a:off x="66438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8" name="Oval 68"/>
              <p:cNvSpPr/>
              <p:nvPr/>
            </p:nvSpPr>
            <p:spPr>
              <a:xfrm>
                <a:off x="66517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9" name="Oval 69"/>
              <p:cNvSpPr/>
              <p:nvPr/>
            </p:nvSpPr>
            <p:spPr>
              <a:xfrm>
                <a:off x="66582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" name="Oval 70"/>
              <p:cNvSpPr/>
              <p:nvPr/>
            </p:nvSpPr>
            <p:spPr>
              <a:xfrm>
                <a:off x="66920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1" name="Text Box 71"/>
            <p:cNvSpPr/>
            <p:nvPr/>
          </p:nvSpPr>
          <p:spPr>
            <a:xfrm>
              <a:off x="67773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Text Box 72"/>
            <p:cNvSpPr/>
            <p:nvPr/>
          </p:nvSpPr>
          <p:spPr>
            <a:xfrm>
              <a:off x="59691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3" name="Group 85"/>
          <p:cNvGrpSpPr/>
          <p:nvPr/>
        </p:nvGrpSpPr>
        <p:grpSpPr>
          <a:xfrm>
            <a:off x="3530520" y="2039760"/>
            <a:ext cx="2163600" cy="3165480"/>
            <a:chOff x="3530520" y="2039760"/>
            <a:chExt cx="2163600" cy="3165480"/>
          </a:xfrm>
        </p:grpSpPr>
        <p:sp>
          <p:nvSpPr>
            <p:cNvPr id="424" name="AutoShape 73"/>
            <p:cNvSpPr/>
            <p:nvPr/>
          </p:nvSpPr>
          <p:spPr>
            <a:xfrm>
              <a:off x="3530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AutoShape 74"/>
            <p:cNvSpPr/>
            <p:nvPr/>
          </p:nvSpPr>
          <p:spPr>
            <a:xfrm>
              <a:off x="3564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AutoShape 75"/>
            <p:cNvSpPr/>
            <p:nvPr/>
          </p:nvSpPr>
          <p:spPr>
            <a:xfrm>
              <a:off x="3581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7" name="AutoShape 76"/>
            <p:cNvSpPr/>
            <p:nvPr/>
          </p:nvSpPr>
          <p:spPr>
            <a:xfrm>
              <a:off x="3581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" name="Oval 77"/>
            <p:cNvSpPr/>
            <p:nvPr/>
          </p:nvSpPr>
          <p:spPr>
            <a:xfrm>
              <a:off x="4275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9" name="Oval 78"/>
            <p:cNvSpPr/>
            <p:nvPr/>
          </p:nvSpPr>
          <p:spPr>
            <a:xfrm>
              <a:off x="428148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" name="Oval 79"/>
            <p:cNvSpPr/>
            <p:nvPr/>
          </p:nvSpPr>
          <p:spPr>
            <a:xfrm>
              <a:off x="428940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" name="Oval 80"/>
            <p:cNvSpPr/>
            <p:nvPr/>
          </p:nvSpPr>
          <p:spPr>
            <a:xfrm>
              <a:off x="429552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" name="Oval 81"/>
            <p:cNvSpPr/>
            <p:nvPr/>
          </p:nvSpPr>
          <p:spPr>
            <a:xfrm>
              <a:off x="433080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Text Box 82"/>
            <p:cNvSpPr/>
            <p:nvPr/>
          </p:nvSpPr>
          <p:spPr>
            <a:xfrm>
              <a:off x="4415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Text Box 83"/>
            <p:cNvSpPr/>
            <p:nvPr/>
          </p:nvSpPr>
          <p:spPr>
            <a:xfrm>
              <a:off x="3606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95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37" name="Rectangle 3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8" name="Rectangle 4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9" name="Group 91"/>
            <p:cNvGrpSpPr/>
            <p:nvPr/>
          </p:nvGrpSpPr>
          <p:grpSpPr>
            <a:xfrm>
              <a:off x="396720" y="2292480"/>
              <a:ext cx="2183040" cy="3600720"/>
              <a:chOff x="396720" y="2292480"/>
              <a:chExt cx="2183040" cy="3600720"/>
            </a:xfrm>
          </p:grpSpPr>
          <p:grpSp>
            <p:nvGrpSpPr>
              <p:cNvPr id="440" name="Group 58"/>
              <p:cNvGrpSpPr/>
              <p:nvPr/>
            </p:nvGrpSpPr>
            <p:grpSpPr>
              <a:xfrm>
                <a:off x="873720" y="3211560"/>
                <a:ext cx="1706040" cy="2681640"/>
                <a:chOff x="873720" y="3211560"/>
                <a:chExt cx="1706040" cy="2681640"/>
              </a:xfrm>
            </p:grpSpPr>
            <p:grpSp>
              <p:nvGrpSpPr>
                <p:cNvPr id="441" name="Group 59"/>
                <p:cNvGrpSpPr/>
                <p:nvPr/>
              </p:nvGrpSpPr>
              <p:grpSpPr>
                <a:xfrm>
                  <a:off x="873720" y="3390480"/>
                  <a:ext cx="1578600" cy="2502720"/>
                  <a:chOff x="873720" y="3390480"/>
                  <a:chExt cx="1578600" cy="2502720"/>
                </a:xfrm>
              </p:grpSpPr>
              <p:sp>
                <p:nvSpPr>
                  <p:cNvPr id="442" name="Freeform 60"/>
                  <p:cNvSpPr/>
                  <p:nvPr/>
                </p:nvSpPr>
                <p:spPr>
                  <a:xfrm rot="3876600">
                    <a:off x="410040" y="4362480"/>
                    <a:ext cx="2505240" cy="55836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3" name="Freeform 61"/>
                  <p:cNvSpPr/>
                  <p:nvPr/>
                </p:nvSpPr>
                <p:spPr>
                  <a:xfrm rot="3876600">
                    <a:off x="1915920" y="5331240"/>
                    <a:ext cx="393480" cy="457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4" name="Group 62"/>
                <p:cNvGrpSpPr/>
                <p:nvPr/>
              </p:nvGrpSpPr>
              <p:grpSpPr>
                <a:xfrm>
                  <a:off x="1368360" y="3211560"/>
                  <a:ext cx="1211400" cy="1920240"/>
                  <a:chOff x="1368360" y="3211560"/>
                  <a:chExt cx="1211400" cy="1920240"/>
                </a:xfrm>
              </p:grpSpPr>
              <p:sp>
                <p:nvSpPr>
                  <p:cNvPr id="445" name="Freeform 63"/>
                  <p:cNvSpPr/>
                  <p:nvPr/>
                </p:nvSpPr>
                <p:spPr>
                  <a:xfrm flipV="1" rot="3876600">
                    <a:off x="1012680" y="3957480"/>
                    <a:ext cx="1922400" cy="42840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6" name="Freeform 64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447" name="Group 65"/>
              <p:cNvGrpSpPr/>
              <p:nvPr/>
            </p:nvGrpSpPr>
            <p:grpSpPr>
              <a:xfrm>
                <a:off x="396720" y="2292480"/>
                <a:ext cx="1441800" cy="1440720"/>
                <a:chOff x="396720" y="2292480"/>
                <a:chExt cx="1441800" cy="1440720"/>
              </a:xfrm>
            </p:grpSpPr>
            <p:sp>
              <p:nvSpPr>
                <p:cNvPr id="448" name="Oval 66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9" name="Oval 67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50" name="Oval 68"/>
                <p:cNvSpPr/>
                <p:nvPr/>
              </p:nvSpPr>
              <p:spPr>
                <a:xfrm>
                  <a:off x="49212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51" name="Oval 69"/>
                <p:cNvSpPr/>
                <p:nvPr/>
              </p:nvSpPr>
              <p:spPr>
                <a:xfrm>
                  <a:off x="49212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52" name="Oval 70"/>
                <p:cNvSpPr/>
                <p:nvPr/>
              </p:nvSpPr>
              <p:spPr>
                <a:xfrm>
                  <a:off x="55404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53" name="Group 71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454" name="Oval 72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5" name="Oval 73"/>
                  <p:cNvSpPr/>
                  <p:nvPr/>
                </p:nvSpPr>
                <p:spPr>
                  <a:xfrm>
                    <a:off x="58536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6" name="Oval 74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7" name="Oval 75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58" name="Text Box 76"/>
              <p:cNvSpPr/>
              <p:nvPr/>
            </p:nvSpPr>
            <p:spPr>
              <a:xfrm rot="3925800">
                <a:off x="89784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9" name="Text Box 77"/>
              <p:cNvSpPr/>
              <p:nvPr/>
            </p:nvSpPr>
            <p:spPr>
              <a:xfrm rot="3925800">
                <a:off x="14018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60" name="Group 92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461" name="Group 40"/>
              <p:cNvGrpSpPr/>
              <p:nvPr/>
            </p:nvGrpSpPr>
            <p:grpSpPr>
              <a:xfrm>
                <a:off x="2856600" y="3211560"/>
                <a:ext cx="1706040" cy="2681640"/>
                <a:chOff x="2856600" y="3211560"/>
                <a:chExt cx="1706040" cy="2681640"/>
              </a:xfrm>
            </p:grpSpPr>
            <p:grpSp>
              <p:nvGrpSpPr>
                <p:cNvPr id="462" name="Group 41"/>
                <p:cNvGrpSpPr/>
                <p:nvPr/>
              </p:nvGrpSpPr>
              <p:grpSpPr>
                <a:xfrm>
                  <a:off x="2856600" y="3390480"/>
                  <a:ext cx="1578600" cy="2502720"/>
                  <a:chOff x="2856600" y="3390480"/>
                  <a:chExt cx="1578600" cy="2502720"/>
                </a:xfrm>
              </p:grpSpPr>
              <p:sp>
                <p:nvSpPr>
                  <p:cNvPr id="463" name="Freeform 42"/>
                  <p:cNvSpPr/>
                  <p:nvPr/>
                </p:nvSpPr>
                <p:spPr>
                  <a:xfrm rot="3876600">
                    <a:off x="2392920" y="4362480"/>
                    <a:ext cx="2505240" cy="55836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4" name="Freeform 43"/>
                  <p:cNvSpPr/>
                  <p:nvPr/>
                </p:nvSpPr>
                <p:spPr>
                  <a:xfrm rot="3876600">
                    <a:off x="3898800" y="5331240"/>
                    <a:ext cx="393480" cy="457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5" name="Group 44"/>
                <p:cNvGrpSpPr/>
                <p:nvPr/>
              </p:nvGrpSpPr>
              <p:grpSpPr>
                <a:xfrm>
                  <a:off x="3351240" y="3211560"/>
                  <a:ext cx="1211400" cy="1920240"/>
                  <a:chOff x="3351240" y="3211560"/>
                  <a:chExt cx="1211400" cy="1920240"/>
                </a:xfrm>
              </p:grpSpPr>
              <p:sp>
                <p:nvSpPr>
                  <p:cNvPr id="466" name="Freeform 45"/>
                  <p:cNvSpPr/>
                  <p:nvPr/>
                </p:nvSpPr>
                <p:spPr>
                  <a:xfrm flipV="1" rot="3876600">
                    <a:off x="2995560" y="3957480"/>
                    <a:ext cx="1922400" cy="42840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7" name="Freeform 46"/>
                  <p:cNvSpPr/>
                  <p:nvPr/>
                </p:nvSpPr>
                <p:spPr>
                  <a:xfrm flipV="1" rot="3876600">
                    <a:off x="4133520" y="4708800"/>
                    <a:ext cx="302040" cy="3506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468" name="Group 47"/>
              <p:cNvGrpSpPr/>
              <p:nvPr/>
            </p:nvGrpSpPr>
            <p:grpSpPr>
              <a:xfrm>
                <a:off x="2379600" y="2292480"/>
                <a:ext cx="1441800" cy="1440720"/>
                <a:chOff x="2379600" y="2292480"/>
                <a:chExt cx="1441800" cy="1440720"/>
              </a:xfrm>
            </p:grpSpPr>
            <p:sp>
              <p:nvSpPr>
                <p:cNvPr id="469" name="Oval 48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0" name="Oval 49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1" name="Oval 50"/>
                <p:cNvSpPr/>
                <p:nvPr/>
              </p:nvSpPr>
              <p:spPr>
                <a:xfrm>
                  <a:off x="247500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2" name="Oval 51"/>
                <p:cNvSpPr/>
                <p:nvPr/>
              </p:nvSpPr>
              <p:spPr>
                <a:xfrm>
                  <a:off x="247500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3" name="Oval 52"/>
                <p:cNvSpPr/>
                <p:nvPr/>
              </p:nvSpPr>
              <p:spPr>
                <a:xfrm>
                  <a:off x="253692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74" name="Group 53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475" name="Oval 54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6" name="Oval 55"/>
                  <p:cNvSpPr/>
                  <p:nvPr/>
                </p:nvSpPr>
                <p:spPr>
                  <a:xfrm>
                    <a:off x="256824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7" name="Oval 56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8" name="Oval 57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79" name="Text Box 78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" name="Text Box 79"/>
              <p:cNvSpPr/>
              <p:nvPr/>
            </p:nvSpPr>
            <p:spPr>
              <a:xfrm rot="3925800">
                <a:off x="33782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1" name="Group 93"/>
            <p:cNvGrpSpPr/>
            <p:nvPr/>
          </p:nvGrpSpPr>
          <p:grpSpPr>
            <a:xfrm>
              <a:off x="4427640" y="2292480"/>
              <a:ext cx="2182680" cy="3600720"/>
              <a:chOff x="4427640" y="2292480"/>
              <a:chExt cx="2182680" cy="3600720"/>
            </a:xfrm>
          </p:grpSpPr>
          <p:grpSp>
            <p:nvGrpSpPr>
              <p:cNvPr id="482" name="Group 5"/>
              <p:cNvGrpSpPr/>
              <p:nvPr/>
            </p:nvGrpSpPr>
            <p:grpSpPr>
              <a:xfrm>
                <a:off x="4904280" y="3211560"/>
                <a:ext cx="1706040" cy="2681640"/>
                <a:chOff x="4904280" y="3211560"/>
                <a:chExt cx="1706040" cy="2681640"/>
              </a:xfrm>
            </p:grpSpPr>
            <p:grpSp>
              <p:nvGrpSpPr>
                <p:cNvPr id="483" name="Group 6"/>
                <p:cNvGrpSpPr/>
                <p:nvPr/>
              </p:nvGrpSpPr>
              <p:grpSpPr>
                <a:xfrm>
                  <a:off x="4904280" y="3390480"/>
                  <a:ext cx="1578600" cy="2502720"/>
                  <a:chOff x="4904280" y="3390480"/>
                  <a:chExt cx="1578600" cy="2502720"/>
                </a:xfrm>
              </p:grpSpPr>
              <p:sp>
                <p:nvSpPr>
                  <p:cNvPr id="484" name="Freeform 7"/>
                  <p:cNvSpPr/>
                  <p:nvPr/>
                </p:nvSpPr>
                <p:spPr>
                  <a:xfrm rot="3876600">
                    <a:off x="4440600" y="4362480"/>
                    <a:ext cx="2505240" cy="55836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5" name="Freeform 8"/>
                  <p:cNvSpPr/>
                  <p:nvPr/>
                </p:nvSpPr>
                <p:spPr>
                  <a:xfrm rot="3876600">
                    <a:off x="5946480" y="5331240"/>
                    <a:ext cx="393480" cy="457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6" name="Group 9"/>
                <p:cNvGrpSpPr/>
                <p:nvPr/>
              </p:nvGrpSpPr>
              <p:grpSpPr>
                <a:xfrm>
                  <a:off x="5398920" y="3211560"/>
                  <a:ext cx="1211400" cy="1920240"/>
                  <a:chOff x="5398920" y="3211560"/>
                  <a:chExt cx="1211400" cy="1920240"/>
                </a:xfrm>
              </p:grpSpPr>
              <p:sp>
                <p:nvSpPr>
                  <p:cNvPr id="487" name="Freeform 10"/>
                  <p:cNvSpPr/>
                  <p:nvPr/>
                </p:nvSpPr>
                <p:spPr>
                  <a:xfrm flipV="1" rot="3876600">
                    <a:off x="5043240" y="3957480"/>
                    <a:ext cx="1922400" cy="42840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11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489" name="Group 12"/>
              <p:cNvGrpSpPr/>
              <p:nvPr/>
            </p:nvGrpSpPr>
            <p:grpSpPr>
              <a:xfrm>
                <a:off x="4427640" y="2292480"/>
                <a:ext cx="1441440" cy="1440720"/>
                <a:chOff x="4427640" y="2292480"/>
                <a:chExt cx="1441440" cy="1440720"/>
              </a:xfrm>
            </p:grpSpPr>
            <p:sp>
              <p:nvSpPr>
                <p:cNvPr id="490" name="Oval 13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1" name="Oval 14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2" name="Oval 15"/>
                <p:cNvSpPr/>
                <p:nvPr/>
              </p:nvSpPr>
              <p:spPr>
                <a:xfrm>
                  <a:off x="4523040" y="23860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3" name="Oval 16"/>
                <p:cNvSpPr/>
                <p:nvPr/>
              </p:nvSpPr>
              <p:spPr>
                <a:xfrm>
                  <a:off x="4523040" y="23893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4" name="Oval 17"/>
                <p:cNvSpPr/>
                <p:nvPr/>
              </p:nvSpPr>
              <p:spPr>
                <a:xfrm>
                  <a:off x="4584960" y="24498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95" name="Group 18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496" name="Oval 19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7" name="Oval 20"/>
                  <p:cNvSpPr/>
                  <p:nvPr/>
                </p:nvSpPr>
                <p:spPr>
                  <a:xfrm>
                    <a:off x="461628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8" name="Oval 21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9" name="Oval 22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500" name="Text Box 80"/>
              <p:cNvSpPr/>
              <p:nvPr/>
            </p:nvSpPr>
            <p:spPr>
              <a:xfrm rot="3925800">
                <a:off x="493200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" name="Text Box 81"/>
              <p:cNvSpPr/>
              <p:nvPr/>
            </p:nvSpPr>
            <p:spPr>
              <a:xfrm rot="3925800">
                <a:off x="54356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02" name="Group 94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503" name="Group 23"/>
              <p:cNvGrpSpPr/>
              <p:nvPr/>
            </p:nvGrpSpPr>
            <p:grpSpPr>
              <a:xfrm>
                <a:off x="7136280" y="3284640"/>
                <a:ext cx="1705680" cy="2681640"/>
                <a:chOff x="7136280" y="3284640"/>
                <a:chExt cx="1705680" cy="2681640"/>
              </a:xfrm>
            </p:grpSpPr>
            <p:grpSp>
              <p:nvGrpSpPr>
                <p:cNvPr id="504" name="Group 24"/>
                <p:cNvGrpSpPr/>
                <p:nvPr/>
              </p:nvGrpSpPr>
              <p:grpSpPr>
                <a:xfrm>
                  <a:off x="7136280" y="3463560"/>
                  <a:ext cx="1578600" cy="2502720"/>
                  <a:chOff x="7136280" y="3463560"/>
                  <a:chExt cx="1578600" cy="2502720"/>
                </a:xfrm>
              </p:grpSpPr>
              <p:sp>
                <p:nvSpPr>
                  <p:cNvPr id="505" name="Freeform 25"/>
                  <p:cNvSpPr/>
                  <p:nvPr/>
                </p:nvSpPr>
                <p:spPr>
                  <a:xfrm rot="3876600">
                    <a:off x="6672600" y="4435560"/>
                    <a:ext cx="2505240" cy="55836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6" name="Freeform 26"/>
                  <p:cNvSpPr/>
                  <p:nvPr/>
                </p:nvSpPr>
                <p:spPr>
                  <a:xfrm rot="3876600">
                    <a:off x="8178480" y="5404320"/>
                    <a:ext cx="393480" cy="457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07" name="Group 27"/>
                <p:cNvGrpSpPr/>
                <p:nvPr/>
              </p:nvGrpSpPr>
              <p:grpSpPr>
                <a:xfrm>
                  <a:off x="7630560" y="3284640"/>
                  <a:ext cx="1211400" cy="1920240"/>
                  <a:chOff x="7630560" y="3284640"/>
                  <a:chExt cx="1211400" cy="1920240"/>
                </a:xfrm>
              </p:grpSpPr>
              <p:sp>
                <p:nvSpPr>
                  <p:cNvPr id="508" name="Freeform 28"/>
                  <p:cNvSpPr/>
                  <p:nvPr/>
                </p:nvSpPr>
                <p:spPr>
                  <a:xfrm flipV="1" rot="3876600">
                    <a:off x="7274880" y="4030560"/>
                    <a:ext cx="1922400" cy="42840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9" name="Freeform 29"/>
                  <p:cNvSpPr/>
                  <p:nvPr/>
                </p:nvSpPr>
                <p:spPr>
                  <a:xfrm flipV="1" rot="3876600">
                    <a:off x="8412840" y="4782240"/>
                    <a:ext cx="302040" cy="3506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510" name="Oval 30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" name="Oval 31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" name="Oval 32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Oval 33"/>
              <p:cNvSpPr/>
              <p:nvPr/>
            </p:nvSpPr>
            <p:spPr>
              <a:xfrm>
                <a:off x="6559560" y="22496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Oval 34"/>
              <p:cNvSpPr/>
              <p:nvPr/>
            </p:nvSpPr>
            <p:spPr>
              <a:xfrm>
                <a:off x="6632640" y="23227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15" name="Group 35"/>
              <p:cNvGrpSpPr/>
              <p:nvPr/>
            </p:nvGrpSpPr>
            <p:grpSpPr>
              <a:xfrm>
                <a:off x="6653160" y="2343240"/>
                <a:ext cx="1312920" cy="1310400"/>
                <a:chOff x="6653160" y="2343240"/>
                <a:chExt cx="1312920" cy="1310400"/>
              </a:xfrm>
            </p:grpSpPr>
            <p:sp>
              <p:nvSpPr>
                <p:cNvPr id="516" name="Oval 36"/>
                <p:cNvSpPr/>
                <p:nvPr/>
              </p:nvSpPr>
              <p:spPr>
                <a:xfrm>
                  <a:off x="6653160" y="23432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7" name="Oval 37"/>
                <p:cNvSpPr/>
                <p:nvPr/>
              </p:nvSpPr>
              <p:spPr>
                <a:xfrm>
                  <a:off x="6669720" y="23504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8" name="Oval 38"/>
                <p:cNvSpPr/>
                <p:nvPr/>
              </p:nvSpPr>
              <p:spPr>
                <a:xfrm>
                  <a:off x="6683400" y="23630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9" name="Oval 39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20" name="Text Box 82"/>
              <p:cNvSpPr/>
              <p:nvPr/>
            </p:nvSpPr>
            <p:spPr>
              <a:xfrm rot="3925800">
                <a:off x="7147080" y="43966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Text Box 83"/>
              <p:cNvSpPr/>
              <p:nvPr/>
            </p:nvSpPr>
            <p:spPr>
              <a:xfrm rot="3925800">
                <a:off x="7649640" y="4105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2" name="Text Box 84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3" name="Text Box 85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4" name="Text Box 86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5" name="Text Box 87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cxnSp>
          <p:nvCxnSpPr>
            <p:cNvPr id="526" name="AutoShape 88"/>
            <p:cNvCxnSpPr>
              <a:stCxn id="522" idx="3"/>
              <a:endCxn id="523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7" name="AutoShape 89"/>
            <p:cNvCxnSpPr>
              <a:stCxn id="523" idx="3"/>
              <a:endCxn id="524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8" name="AutoShape 90"/>
            <p:cNvCxnSpPr>
              <a:stCxn id="524" idx="3"/>
              <a:endCxn id="525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3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23"/>
          <p:cNvGrpSpPr/>
          <p:nvPr/>
        </p:nvGrpSpPr>
        <p:grpSpPr>
          <a:xfrm>
            <a:off x="1173240" y="1302840"/>
            <a:ext cx="6667920" cy="4675320"/>
            <a:chOff x="1173240" y="1302840"/>
            <a:chExt cx="6667920" cy="4675320"/>
          </a:xfrm>
        </p:grpSpPr>
        <p:sp>
          <p:nvSpPr>
            <p:cNvPr id="538" name="Oval 3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88960" y="2115720"/>
              <a:ext cx="2851200" cy="1538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595160" y="3428640"/>
              <a:ext cx="2876400" cy="1630080"/>
            </a:xfrm>
            <a:prstGeom prst="pie">
              <a:avLst/>
            </a:pr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3433680" y="1844280"/>
              <a:ext cx="2813040" cy="1417680"/>
            </a:xfrm>
            <a:prstGeom prst="pie">
              <a:avLst/>
            </a:pr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95000" y="2496600"/>
              <a:ext cx="2762280" cy="1380960"/>
            </a:xfrm>
            <a:prstGeom prst="pie">
              <a:avLst/>
            </a:pr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6" name="Text Box 11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7" name="Text Box 12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8" name="Text Box 13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9" name="Freeform 14"/>
            <p:cNvSpPr/>
            <p:nvPr/>
          </p:nvSpPr>
          <p:spPr>
            <a:xfrm>
              <a:off x="6324480" y="3051000"/>
              <a:ext cx="1295640" cy="1711440"/>
            </a:xfrm>
            <a:prstGeom prst="pi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0" name="Arc 15"/>
            <p:cNvSpPr/>
            <p:nvPr/>
          </p:nvSpPr>
          <p:spPr>
            <a:xfrm rot="20539200">
              <a:off x="4722480" y="3057120"/>
              <a:ext cx="2984400" cy="134604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1" name="Freeform 16"/>
            <p:cNvSpPr/>
            <p:nvPr/>
          </p:nvSpPr>
          <p:spPr>
            <a:xfrm>
              <a:off x="4624200" y="3532320"/>
              <a:ext cx="1758960" cy="1236600"/>
            </a:xfrm>
            <a:prstGeom prst="pie">
              <a:avLst/>
            </a:pr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4" name="Text Box 19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55555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6" name="Freeform 21"/>
            <p:cNvSpPr/>
            <p:nvPr/>
          </p:nvSpPr>
          <p:spPr>
            <a:xfrm>
              <a:off x="4800600" y="3927600"/>
              <a:ext cx="1282680" cy="1028520"/>
            </a:xfrm>
            <a:prstGeom prst="pie">
              <a:avLst/>
            </a:pr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16"/>
          <p:cNvGrpSpPr/>
          <p:nvPr/>
        </p:nvGrpSpPr>
        <p:grpSpPr>
          <a:xfrm>
            <a:off x="1676520" y="1947960"/>
            <a:ext cx="5410080" cy="664920"/>
            <a:chOff x="1676520" y="1947960"/>
            <a:chExt cx="5410080" cy="664920"/>
          </a:xfrm>
        </p:grpSpPr>
        <p:grpSp>
          <p:nvGrpSpPr>
            <p:cNvPr id="89" name="Group 88"/>
            <p:cNvGrpSpPr/>
            <p:nvPr/>
          </p:nvGrpSpPr>
          <p:grpSpPr>
            <a:xfrm>
              <a:off x="1676520" y="1947960"/>
              <a:ext cx="762120" cy="664920"/>
              <a:chOff x="1676520" y="1947960"/>
              <a:chExt cx="762120" cy="664920"/>
            </a:xfrm>
          </p:grpSpPr>
          <p:sp>
            <p:nvSpPr>
              <p:cNvPr id="90" name="AutoShape 89"/>
              <p:cNvSpPr/>
              <p:nvPr/>
            </p:nvSpPr>
            <p:spPr>
              <a:xfrm>
                <a:off x="168264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AutoShape 90"/>
              <p:cNvSpPr/>
              <p:nvPr/>
            </p:nvSpPr>
            <p:spPr>
              <a:xfrm>
                <a:off x="167652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AutoShape 91"/>
              <p:cNvSpPr/>
              <p:nvPr/>
            </p:nvSpPr>
            <p:spPr>
              <a:xfrm>
                <a:off x="172080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0265d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3" name="Line 96"/>
            <p:cNvSpPr/>
            <p:nvPr/>
          </p:nvSpPr>
          <p:spPr>
            <a:xfrm>
              <a:off x="2286000" y="25570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Text Box 97"/>
            <p:cNvSpPr/>
            <p:nvPr/>
          </p:nvSpPr>
          <p:spPr>
            <a:xfrm>
              <a:off x="305136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Text Box 98"/>
            <p:cNvSpPr/>
            <p:nvPr/>
          </p:nvSpPr>
          <p:spPr>
            <a:xfrm>
              <a:off x="187524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6" name="Group 117"/>
          <p:cNvGrpSpPr/>
          <p:nvPr/>
        </p:nvGrpSpPr>
        <p:grpSpPr>
          <a:xfrm>
            <a:off x="1676520" y="2862360"/>
            <a:ext cx="5410080" cy="664920"/>
            <a:chOff x="1676520" y="2862360"/>
            <a:chExt cx="5410080" cy="664920"/>
          </a:xfrm>
        </p:grpSpPr>
        <p:grpSp>
          <p:nvGrpSpPr>
            <p:cNvPr id="97" name="Group 92"/>
            <p:cNvGrpSpPr/>
            <p:nvPr/>
          </p:nvGrpSpPr>
          <p:grpSpPr>
            <a:xfrm>
              <a:off x="1676520" y="2862360"/>
              <a:ext cx="762120" cy="664920"/>
              <a:chOff x="1676520" y="2862360"/>
              <a:chExt cx="762120" cy="664920"/>
            </a:xfrm>
          </p:grpSpPr>
          <p:sp>
            <p:nvSpPr>
              <p:cNvPr id="98" name="AutoShape 93"/>
              <p:cNvSpPr/>
              <p:nvPr/>
            </p:nvSpPr>
            <p:spPr>
              <a:xfrm>
                <a:off x="168264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AutoShape 94"/>
              <p:cNvSpPr/>
              <p:nvPr/>
            </p:nvSpPr>
            <p:spPr>
              <a:xfrm>
                <a:off x="167652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AutoShape 95"/>
              <p:cNvSpPr/>
              <p:nvPr/>
            </p:nvSpPr>
            <p:spPr>
              <a:xfrm>
                <a:off x="172080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ab14b"/>
                  </a:gs>
                  <a:gs pos="100000">
                    <a:srgbClr val="2a522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1" name="Line 99"/>
            <p:cNvSpPr/>
            <p:nvPr/>
          </p:nvSpPr>
          <p:spPr>
            <a:xfrm>
              <a:off x="2286000" y="3471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Text Box 100"/>
            <p:cNvSpPr/>
            <p:nvPr/>
          </p:nvSpPr>
          <p:spPr>
            <a:xfrm>
              <a:off x="305136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Text Box 101"/>
            <p:cNvSpPr/>
            <p:nvPr/>
          </p:nvSpPr>
          <p:spPr>
            <a:xfrm>
              <a:off x="187524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4" name="Group 118"/>
          <p:cNvGrpSpPr/>
          <p:nvPr/>
        </p:nvGrpSpPr>
        <p:grpSpPr>
          <a:xfrm>
            <a:off x="1676520" y="3754440"/>
            <a:ext cx="5410080" cy="665280"/>
            <a:chOff x="1676520" y="3754440"/>
            <a:chExt cx="5410080" cy="665280"/>
          </a:xfrm>
        </p:grpSpPr>
        <p:grpSp>
          <p:nvGrpSpPr>
            <p:cNvPr id="105" name="Group 102"/>
            <p:cNvGrpSpPr/>
            <p:nvPr/>
          </p:nvGrpSpPr>
          <p:grpSpPr>
            <a:xfrm>
              <a:off x="1676520" y="3754440"/>
              <a:ext cx="762120" cy="665280"/>
              <a:chOff x="1676520" y="3754440"/>
              <a:chExt cx="762120" cy="665280"/>
            </a:xfrm>
          </p:grpSpPr>
          <p:sp>
            <p:nvSpPr>
              <p:cNvPr id="106" name="AutoShape 103"/>
              <p:cNvSpPr/>
              <p:nvPr/>
            </p:nvSpPr>
            <p:spPr>
              <a:xfrm>
                <a:off x="168264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AutoShape 104"/>
              <p:cNvSpPr/>
              <p:nvPr/>
            </p:nvSpPr>
            <p:spPr>
              <a:xfrm>
                <a:off x="167652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AutoShape 105"/>
              <p:cNvSpPr/>
              <p:nvPr/>
            </p:nvSpPr>
            <p:spPr>
              <a:xfrm>
                <a:off x="172080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0265d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9" name="Line 110"/>
            <p:cNvSpPr/>
            <p:nvPr/>
          </p:nvSpPr>
          <p:spPr>
            <a:xfrm>
              <a:off x="2286000" y="43639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Text Box 111"/>
            <p:cNvSpPr/>
            <p:nvPr/>
          </p:nvSpPr>
          <p:spPr>
            <a:xfrm>
              <a:off x="305136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Text Box 112"/>
            <p:cNvSpPr/>
            <p:nvPr/>
          </p:nvSpPr>
          <p:spPr>
            <a:xfrm>
              <a:off x="187524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" name="Group 119"/>
          <p:cNvGrpSpPr/>
          <p:nvPr/>
        </p:nvGrpSpPr>
        <p:grpSpPr>
          <a:xfrm>
            <a:off x="1676520" y="4668840"/>
            <a:ext cx="5410080" cy="665280"/>
            <a:chOff x="1676520" y="4668840"/>
            <a:chExt cx="5410080" cy="665280"/>
          </a:xfrm>
        </p:grpSpPr>
        <p:grpSp>
          <p:nvGrpSpPr>
            <p:cNvPr id="113" name="Group 106"/>
            <p:cNvGrpSpPr/>
            <p:nvPr/>
          </p:nvGrpSpPr>
          <p:grpSpPr>
            <a:xfrm>
              <a:off x="1676520" y="4668840"/>
              <a:ext cx="762120" cy="665280"/>
              <a:chOff x="1676520" y="4668840"/>
              <a:chExt cx="762120" cy="665280"/>
            </a:xfrm>
          </p:grpSpPr>
          <p:sp>
            <p:nvSpPr>
              <p:cNvPr id="114" name="AutoShape 107"/>
              <p:cNvSpPr/>
              <p:nvPr/>
            </p:nvSpPr>
            <p:spPr>
              <a:xfrm>
                <a:off x="168264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AutoShape 108"/>
              <p:cNvSpPr/>
              <p:nvPr/>
            </p:nvSpPr>
            <p:spPr>
              <a:xfrm>
                <a:off x="167652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AutoShape 109"/>
              <p:cNvSpPr/>
              <p:nvPr/>
            </p:nvSpPr>
            <p:spPr>
              <a:xfrm>
                <a:off x="172080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ab14b"/>
                  </a:gs>
                  <a:gs pos="100000">
                    <a:srgbClr val="2a522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7" name="Line 113"/>
            <p:cNvSpPr/>
            <p:nvPr/>
          </p:nvSpPr>
          <p:spPr>
            <a:xfrm>
              <a:off x="2286000" y="52783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Text Box 114"/>
            <p:cNvSpPr/>
            <p:nvPr/>
          </p:nvSpPr>
          <p:spPr>
            <a:xfrm>
              <a:off x="305136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Text Box 115"/>
            <p:cNvSpPr/>
            <p:nvPr/>
          </p:nvSpPr>
          <p:spPr>
            <a:xfrm>
              <a:off x="187524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b14b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985-E3E8-436A-9881-90743E4D7F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WordArt 10"/>
          <p:cNvSpPr txBox="1"/>
          <p:nvPr/>
        </p:nvSpPr>
        <p:spPr>
          <a:xfrm>
            <a:off x="1905120" y="213372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ab14b"/>
                    </a:gs>
                    <a:gs pos="100000">
                      <a:srgbClr val="2c648e"/>
                    </a:gs>
                  </a:gsLst>
                  <a:lin ang="10800000"/>
                </a:gradFill>
                <a:effectLst>
                  <a:outerShdw dist="91658" dir="3382340" blurRad="0" rotWithShape="0">
                    <a:srgbClr val="000000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ab14b"/>
                  </a:gs>
                  <a:gs pos="100000">
                    <a:srgbClr val="2c648e"/>
                  </a:gs>
                </a:gsLst>
                <a:lin ang="10800000"/>
              </a:gradFill>
              <a:effectLst>
                <a:outerShdw dist="91658" dir="338234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730160"/>
            <a:ext cx="80010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9e675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b14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e9e675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e9e675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e9e675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e9e675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23880" y="518148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itle Image -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- CD: School Day (PhotoDisc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21"/>
          <p:cNvGrpSpPr/>
          <p:nvPr/>
        </p:nvGrpSpPr>
        <p:grpSpPr>
          <a:xfrm>
            <a:off x="1143000" y="3200400"/>
            <a:ext cx="2286000" cy="2666880"/>
            <a:chOff x="1143000" y="3200400"/>
            <a:chExt cx="2286000" cy="2666880"/>
          </a:xfrm>
        </p:grpSpPr>
        <p:sp>
          <p:nvSpPr>
            <p:cNvPr id="125" name="AutoShape 5"/>
            <p:cNvSpPr/>
            <p:nvPr/>
          </p:nvSpPr>
          <p:spPr>
            <a:xfrm>
              <a:off x="114300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1238400" y="34005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7" name="AutoShape 7"/>
          <p:cNvSpPr/>
          <p:nvPr/>
        </p:nvSpPr>
        <p:spPr>
          <a:xfrm>
            <a:off x="3222720" y="310032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3222720" y="3103560"/>
            <a:ext cx="903240" cy="1241280"/>
          </a:xfrm>
          <a:prstGeom prst="pie">
            <a:avLst/>
          </a:prstGeom>
          <a:gradFill rotWithShape="0">
            <a:gsLst>
              <a:gs pos="0">
                <a:srgbClr val="dac8ee"/>
              </a:gs>
              <a:gs pos="100000">
                <a:srgbClr val="8a5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Group 23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30" name="Group 11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31" name="Group 12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32" name="Oval 13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2861"/>
                    </a:gs>
                    <a:gs pos="100000">
                      <a:srgbClr val="8a52c8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3" name="Oval 14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cbb2e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4" name="Oval 15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5ab14b"/>
                  </a:gs>
                  <a:gs pos="100000">
                    <a:srgbClr val="2a522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Oval 16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5e4c0"/>
                  </a:gs>
                  <a:gs pos="100000">
                    <a:srgbClr val="5ab14b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Oval 17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5ab14b">
                      <a:alpha val="48235"/>
                    </a:srgbClr>
                  </a:gs>
                  <a:gs pos="100000">
                    <a:srgbClr val="478c3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Oval 18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5ab14b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8" name="Text Box 19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9" name="Group 22"/>
          <p:cNvGrpSpPr/>
          <p:nvPr/>
        </p:nvGrpSpPr>
        <p:grpSpPr>
          <a:xfrm>
            <a:off x="5562720" y="3200400"/>
            <a:ext cx="2286000" cy="2666880"/>
            <a:chOff x="5562720" y="3200400"/>
            <a:chExt cx="2286000" cy="2666880"/>
          </a:xfrm>
        </p:grpSpPr>
        <p:sp>
          <p:nvSpPr>
            <p:cNvPr id="140" name="AutoShape 3"/>
            <p:cNvSpPr/>
            <p:nvPr/>
          </p:nvSpPr>
          <p:spPr>
            <a:xfrm>
              <a:off x="556272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5715000" y="33814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2" name="Freeform 10"/>
          <p:cNvSpPr/>
          <p:nvPr/>
        </p:nvSpPr>
        <p:spPr>
          <a:xfrm flipH="1">
            <a:off x="4874400" y="3103560"/>
            <a:ext cx="903240" cy="1241280"/>
          </a:xfrm>
          <a:prstGeom prst="pie">
            <a:avLst/>
          </a:prstGeom>
          <a:gradFill rotWithShape="0">
            <a:gsLst>
              <a:gs pos="0">
                <a:srgbClr val="cbe6c6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3"/>
          <p:cNvSpPr/>
          <p:nvPr/>
        </p:nvSpPr>
        <p:spPr>
          <a:xfrm>
            <a:off x="5638680" y="6461280"/>
            <a:ext cx="228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24"/>
          <p:cNvGrpSpPr/>
          <p:nvPr/>
        </p:nvGrpSpPr>
        <p:grpSpPr>
          <a:xfrm>
            <a:off x="615600" y="1479600"/>
            <a:ext cx="7932240" cy="5225040"/>
            <a:chOff x="615600" y="1479600"/>
            <a:chExt cx="7932240" cy="5225040"/>
          </a:xfrm>
        </p:grpSpPr>
        <p:sp>
          <p:nvSpPr>
            <p:cNvPr id="146" name="Freeform 3"/>
            <p:cNvSpPr/>
            <p:nvPr/>
          </p:nvSpPr>
          <p:spPr>
            <a:xfrm rot="20241600">
              <a:off x="1236600" y="2690280"/>
              <a:ext cx="6853320" cy="2802960"/>
            </a:xfrm>
            <a:prstGeom prst="pi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ebf2fc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 rot="20056200">
              <a:off x="4572000" y="2666520"/>
              <a:ext cx="1066680" cy="304200"/>
            </a:xfrm>
            <a:prstGeom prst="ellipse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 rot="20056200">
              <a:off x="7467480" y="2895120"/>
              <a:ext cx="1067040" cy="304200"/>
            </a:xfrm>
            <a:prstGeom prst="ellipse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 rot="20056200">
              <a:off x="2971800" y="5866920"/>
              <a:ext cx="1066680" cy="304200"/>
            </a:xfrm>
            <a:prstGeom prst="ellipse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Oval 21"/>
            <p:cNvSpPr/>
            <p:nvPr/>
          </p:nvSpPr>
          <p:spPr>
            <a:xfrm rot="20056200">
              <a:off x="5714640" y="5257080"/>
              <a:ext cx="1066680" cy="304560"/>
            </a:xfrm>
            <a:prstGeom prst="ellipse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Oval 22"/>
            <p:cNvSpPr/>
            <p:nvPr/>
          </p:nvSpPr>
          <p:spPr>
            <a:xfrm rot="20056200">
              <a:off x="2057040" y="4190400"/>
              <a:ext cx="1066680" cy="304560"/>
            </a:xfrm>
            <a:prstGeom prst="ellipse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3968640" y="18284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1454040" y="33526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2336760" y="50497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5111640" y="44193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e9e675"/>
                </a:gs>
                <a:gs pos="100000">
                  <a:srgbClr val="63613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>
              <a:off x="6940440" y="20570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dd8739"/>
                </a:gs>
                <a:gs pos="100000">
                  <a:srgbClr val="4c2f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1751760" y="3809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4307760" y="2285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7241400" y="2563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5450760" y="4876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2629800" y="5500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3587760" y="38145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>
              <a:off x="2631960" y="21157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cxnSp>
          <p:nvCxnSpPr>
            <p:cNvPr id="164" name="AutoShape 16"/>
            <p:cNvCxnSpPr/>
            <p:nvPr/>
          </p:nvCxnSpPr>
          <p:spPr>
            <a:xfrm flipH="1">
              <a:off x="615600" y="21153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5" name="Text Box 17"/>
            <p:cNvSpPr/>
            <p:nvPr/>
          </p:nvSpPr>
          <p:spPr>
            <a:xfrm>
              <a:off x="741600" y="1676520"/>
              <a:ext cx="178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1752480" y="1733400"/>
            <a:ext cx="5562720" cy="1306440"/>
            <a:chOff x="1752480" y="1733400"/>
            <a:chExt cx="5562720" cy="1306440"/>
          </a:xfrm>
        </p:grpSpPr>
        <p:sp>
          <p:nvSpPr>
            <p:cNvPr id="168" name="AutoShape 4"/>
            <p:cNvSpPr/>
            <p:nvPr/>
          </p:nvSpPr>
          <p:spPr>
            <a:xfrm>
              <a:off x="1752480" y="17334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AutoShape 5"/>
            <p:cNvSpPr/>
            <p:nvPr/>
          </p:nvSpPr>
          <p:spPr>
            <a:xfrm>
              <a:off x="1874880" y="18540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0" name="Freeform 6"/>
            <p:cNvGrpSpPr/>
            <p:nvPr/>
          </p:nvGrpSpPr>
          <p:grpSpPr>
            <a:xfrm>
              <a:off x="1931760" y="1914480"/>
              <a:ext cx="542880" cy="542880"/>
              <a:chOff x="1931760" y="1914480"/>
              <a:chExt cx="542880" cy="542880"/>
            </a:xfrm>
          </p:grpSpPr>
          <p:pic>
            <p:nvPicPr>
              <p:cNvPr id="171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31760" y="1914480"/>
                <a:ext cx="541440" cy="54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1940760" y="1922760"/>
                <a:ext cx="53388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3" name="Text Box 7"/>
            <p:cNvSpPr/>
            <p:nvPr/>
          </p:nvSpPr>
          <p:spPr>
            <a:xfrm>
              <a:off x="1972080" y="21463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3092400" y="193500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5" name="Group 9"/>
          <p:cNvGrpSpPr/>
          <p:nvPr/>
        </p:nvGrpSpPr>
        <p:grpSpPr>
          <a:xfrm>
            <a:off x="1752480" y="3176640"/>
            <a:ext cx="5562720" cy="1306440"/>
            <a:chOff x="1752480" y="3176640"/>
            <a:chExt cx="5562720" cy="1306440"/>
          </a:xfrm>
        </p:grpSpPr>
        <p:sp>
          <p:nvSpPr>
            <p:cNvPr id="176" name="AutoShape 10"/>
            <p:cNvSpPr/>
            <p:nvPr/>
          </p:nvSpPr>
          <p:spPr>
            <a:xfrm>
              <a:off x="1752480" y="3176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1874880" y="3297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>
              <a:off x="1941480" y="336564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3d4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Text Box 13"/>
            <p:cNvSpPr/>
            <p:nvPr/>
          </p:nvSpPr>
          <p:spPr>
            <a:xfrm>
              <a:off x="1972080" y="35910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3092400" y="3354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1" name="Group 15"/>
          <p:cNvGrpSpPr/>
          <p:nvPr/>
        </p:nvGrpSpPr>
        <p:grpSpPr>
          <a:xfrm>
            <a:off x="1752480" y="4637160"/>
            <a:ext cx="5562720" cy="1306440"/>
            <a:chOff x="1752480" y="4637160"/>
            <a:chExt cx="5562720" cy="1306440"/>
          </a:xfrm>
        </p:grpSpPr>
        <p:sp>
          <p:nvSpPr>
            <p:cNvPr id="182" name="AutoShape 16"/>
            <p:cNvSpPr/>
            <p:nvPr/>
          </p:nvSpPr>
          <p:spPr>
            <a:xfrm>
              <a:off x="1752480" y="463716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AutoShape 17"/>
            <p:cNvSpPr/>
            <p:nvPr/>
          </p:nvSpPr>
          <p:spPr>
            <a:xfrm>
              <a:off x="1874880" y="475776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>
              <a:off x="1941480" y="482616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6cb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1972080" y="5050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3092400" y="481500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189" name="Group 4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190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c3a6e3"/>
                  </a:gs>
                  <a:gs pos="100000">
                    <a:srgbClr val="8a52c8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663e1a"/>
                  </a:gs>
                  <a:gs pos="100000">
                    <a:srgbClr val="dd8739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4" name="Text Box 9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11"/>
          <p:cNvGrpSpPr/>
          <p:nvPr/>
        </p:nvGrpSpPr>
        <p:grpSpPr>
          <a:xfrm>
            <a:off x="1143000" y="1752480"/>
            <a:ext cx="7086600" cy="3833640"/>
            <a:chOff x="1143000" y="1752480"/>
            <a:chExt cx="7086600" cy="3833640"/>
          </a:xfrm>
        </p:grpSpPr>
        <p:sp>
          <p:nvSpPr>
            <p:cNvPr id="200" name="AutoShape 3"/>
            <p:cNvSpPr/>
            <p:nvPr/>
          </p:nvSpPr>
          <p:spPr>
            <a:xfrm>
              <a:off x="1143000" y="1752480"/>
              <a:ext cx="3833640" cy="3833640"/>
            </a:xfrm>
            <a:prstGeom prst="pie">
              <a:avLst/>
            </a:prstGeom>
            <a:gradFill rotWithShape="0">
              <a:gsLst>
                <a:gs pos="0">
                  <a:srgbClr val="2f7adf"/>
                </a:gs>
                <a:gs pos="50000">
                  <a:srgbClr val="163867"/>
                </a:gs>
                <a:gs pos="100000">
                  <a:srgbClr val="2f7a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Oval 4"/>
            <p:cNvSpPr/>
            <p:nvPr/>
          </p:nvSpPr>
          <p:spPr>
            <a:xfrm>
              <a:off x="14479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a2d399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AutoShape 5"/>
            <p:cNvSpPr/>
            <p:nvPr/>
          </p:nvSpPr>
          <p:spPr>
            <a:xfrm>
              <a:off x="38527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af4"/>
                </a:gs>
                <a:gs pos="100000">
                  <a:srgbClr val="5ab14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c648e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AutoShape 6"/>
            <p:cNvSpPr/>
            <p:nvPr/>
          </p:nvSpPr>
          <p:spPr>
            <a:xfrm>
              <a:off x="41832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7"/>
                </a:gs>
                <a:gs pos="100000">
                  <a:srgbClr val="e9e675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c648e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AutoShape 7"/>
            <p:cNvSpPr/>
            <p:nvPr/>
          </p:nvSpPr>
          <p:spPr>
            <a:xfrm>
              <a:off x="44496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af4"/>
                </a:gs>
                <a:gs pos="100000">
                  <a:srgbClr val="5ab14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c648e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" name="AutoShape 8"/>
            <p:cNvSpPr/>
            <p:nvPr/>
          </p:nvSpPr>
          <p:spPr>
            <a:xfrm>
              <a:off x="4183200" y="4065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7"/>
                </a:gs>
                <a:gs pos="100000">
                  <a:srgbClr val="e9e675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c648e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38527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af4"/>
                </a:gs>
                <a:gs pos="100000">
                  <a:srgbClr val="5ab14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c648e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Text Box 10"/>
            <p:cNvSpPr/>
            <p:nvPr/>
          </p:nvSpPr>
          <p:spPr>
            <a:xfrm>
              <a:off x="22867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96880" y="609480"/>
            <a:ext cx="770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0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1" name="AutoShape 5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AutoShape 6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AutoShape 7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4" name="Group 8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15" name="AutoShape 9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AutoShape 11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8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0" name="Group 14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21" name="AutoShape 15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AutoShape 16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AutoShape 17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d440e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4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5" name="Group 19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26" name="AutoShape 20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AutoShape 22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9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79280" y="1773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Verdana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1:03:1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33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