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0088-F150-4707-9801-4C8EA679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422604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7720" y="442512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D8179-ABFD-4266-AE95-FDB2C8F2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422604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80640" y="422604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37720" y="442512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80640" y="442512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9DE7D-09F1-455B-956C-695E8ABA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422604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7320" y="422604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76560" y="422604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37720" y="442512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7320" y="442512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76560" y="442512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AA2F7-4FE1-4591-A12F-E5B0DB5C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B328-EFFD-44D5-B269-C897D8E6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7720" y="422604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6437-4ACA-40C8-B2CE-DD72D3B7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422604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5E38-B0DF-4A86-8A40-11D7E332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422604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80640" y="422604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69F9-FCC7-4F00-82FC-9AFFDB36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4F2D-FE3A-4642-B41F-F069EC0D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440" y="3540240"/>
            <a:ext cx="792468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C142-2F0C-4E4F-B8A3-44E701A2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422604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0640" y="422604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42512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FABA-7A71-43E9-B947-8B70C07D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37720" y="422604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C9FD8-6E0A-4C2D-A4EE-F27E9EDB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422604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80640" y="422604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80640" y="442512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F687-F504-446C-9CC8-43863B7E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422604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80640" y="422604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7720" y="442512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440C-FCD8-47FB-B6CA-9662BAFF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422604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7720" y="442512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B088-8F30-42B9-AB0D-E6ED12EE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422604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80640" y="422604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7720" y="442512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80640" y="442512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EF43-5EC2-402A-819A-7CDB7447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422604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07320" y="422604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76560" y="422604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7720" y="442512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07320" y="442512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76560" y="442512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900F-617E-4E72-A169-697D0840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422604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83C8-D02A-4968-8700-FA2BBCB6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422604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0640" y="422604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D0036-8623-4844-9197-6CC1567B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778FF-A0C6-4B59-B6F2-5E04BF5E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440" y="3540240"/>
            <a:ext cx="792468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F01E2-438B-483F-A901-C4230A8F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422604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0640" y="422604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7720" y="442512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4270-83A1-4351-804D-F7F136F6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422604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80640" y="422604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80640" y="442512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D4402-6ED1-4337-B94B-5FAC6BC8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422604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80640" y="422604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42512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A1C3-3E10-4880-8587-6B9C7772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0"/>
            <a:ext cx="9156600" cy="457200"/>
          </a:xfrm>
          <a:prstGeom prst="rect">
            <a:avLst/>
          </a:prstGeom>
          <a:gradFill rotWithShape="0">
            <a:gsLst>
              <a:gs pos="0">
                <a:srgbClr val="9e9e9e">
                  <a:alpha val="77254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0"/>
          <a:ext cx="990720" cy="685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9072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14264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fd45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27c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cb09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DD7C-B75E-4DC5-A37C-FEEF53595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3"/>
          </p:nvPr>
        </p:nvSpPr>
        <p:spPr>
          <a:xfrm>
            <a:off x="151920" y="6501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330120"/>
            <a:ext cx="9144000" cy="762120"/>
            <a:chOff x="0" y="330120"/>
            <a:chExt cx="9144000" cy="762120"/>
          </a:xfrm>
        </p:grpSpPr>
        <p:sp>
          <p:nvSpPr>
            <p:cNvPr id="8" name=""/>
            <p:cNvSpPr/>
            <p:nvPr/>
          </p:nvSpPr>
          <p:spPr>
            <a:xfrm>
              <a:off x="0" y="832680"/>
              <a:ext cx="9144000" cy="259560"/>
            </a:xfrm>
            <a:prstGeom prst="rect">
              <a:avLst/>
            </a:prstGeom>
            <a:gradFill rotWithShape="0">
              <a:gsLst>
                <a:gs pos="0">
                  <a:srgbClr val="9fd458"/>
                </a:gs>
                <a:gs pos="100000">
                  <a:srgbClr val="4961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330120"/>
              <a:ext cx="9144000" cy="518760"/>
            </a:xfrm>
            <a:prstGeom prst="rect">
              <a:avLst/>
            </a:prstGeom>
            <a:solidFill>
              <a:srgbClr val="9fd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0" y="304920"/>
            <a:ext cx="9144000" cy="183960"/>
          </a:xfrm>
          <a:prstGeom prst="rect">
            <a:avLst/>
          </a:prstGeom>
          <a:gradFill rotWithShape="0">
            <a:gsLst>
              <a:gs pos="0">
                <a:srgbClr val="cce8a8"/>
              </a:gs>
              <a:gs pos="100000">
                <a:srgbClr val="9fd4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10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8024760" y="406440"/>
            <a:ext cx="990720" cy="548280"/>
            <a:chOff x="8024760" y="406440"/>
            <a:chExt cx="990720" cy="548280"/>
          </a:xfrm>
        </p:grpSpPr>
        <p:sp>
          <p:nvSpPr>
            <p:cNvPr id="13" name=""/>
            <p:cNvSpPr/>
            <p:nvPr/>
          </p:nvSpPr>
          <p:spPr>
            <a:xfrm>
              <a:off x="8024760" y="5558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rot="5400000">
              <a:off x="8369280" y="1123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27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400800" y="0"/>
            <a:ext cx="194472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-12240" y="2895120"/>
            <a:ext cx="9156600" cy="914400"/>
          </a:xfrm>
          <a:prstGeom prst="rect">
            <a:avLst/>
          </a:prstGeom>
          <a:gradFill rotWithShape="0">
            <a:gsLst>
              <a:gs pos="0">
                <a:srgbClr val="000000">
                  <a:alpha val="77254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295960" y="3009960"/>
            <a:ext cx="6858000" cy="838080"/>
          </a:xfrm>
          <a:prstGeom prst="rect">
            <a:avLst/>
          </a:prstGeom>
          <a:gradFill rotWithShape="0">
            <a:gsLst>
              <a:gs pos="0">
                <a:srgbClr val="000000">
                  <a:alpha val="6117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800600"/>
            <a:ext cx="9144000" cy="720720"/>
          </a:xfrm>
          <a:prstGeom prst="rect">
            <a:avLst/>
          </a:prstGeom>
          <a:gradFill rotWithShape="0">
            <a:gsLst>
              <a:gs pos="0">
                <a:srgbClr val="000000">
                  <a:alpha val="77254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5D41-C2F5-49C9-981C-45A54B607B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9" name="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27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0" y="3352680"/>
            <a:ext cx="9144000" cy="1477800"/>
            <a:chOff x="0" y="3352680"/>
            <a:chExt cx="9144000" cy="1477800"/>
          </a:xfrm>
        </p:grpSpPr>
        <p:sp>
          <p:nvSpPr>
            <p:cNvPr id="62" name=""/>
            <p:cNvSpPr/>
            <p:nvPr/>
          </p:nvSpPr>
          <p:spPr>
            <a:xfrm>
              <a:off x="0" y="3352680"/>
              <a:ext cx="9144000" cy="257040"/>
            </a:xfrm>
            <a:prstGeom prst="rect">
              <a:avLst/>
            </a:prstGeom>
            <a:gradFill rotWithShape="0">
              <a:gsLst>
                <a:gs pos="0">
                  <a:srgbClr val="d5ebb7"/>
                </a:gs>
                <a:gs pos="100000">
                  <a:srgbClr val="9fd4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606920"/>
              <a:ext cx="9144000" cy="223560"/>
            </a:xfrm>
            <a:prstGeom prst="rect">
              <a:avLst/>
            </a:prstGeom>
            <a:gradFill rotWithShape="0">
              <a:gsLst>
                <a:gs pos="0">
                  <a:srgbClr val="9fd458"/>
                </a:gs>
                <a:gs pos="100000">
                  <a:srgbClr val="4961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3585960"/>
              <a:ext cx="9144000" cy="1062000"/>
            </a:xfrm>
            <a:prstGeom prst="rect">
              <a:avLst/>
            </a:prstGeom>
            <a:solidFill>
              <a:srgbClr val="9fd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cb092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3540240"/>
            <a:ext cx="7924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医学实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100430"/>
                </a:solidFill>
                <a:latin typeface="宋体"/>
                <a:ea typeface="宋体"/>
              </a:rPr>
              <a:t>幻灯片之家 </a:t>
            </a:r>
            <a:r>
              <a:rPr b="1" lang="en-US" sz="1700" spc="-1" strike="noStrike">
                <a:solidFill>
                  <a:srgbClr val="10043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7720" y="422604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10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130400" y="2279520"/>
            <a:ext cx="7632720" cy="3054240"/>
            <a:chOff x="1130400" y="2279520"/>
            <a:chExt cx="7632720" cy="3054240"/>
          </a:xfrm>
        </p:grpSpPr>
        <p:sp>
          <p:nvSpPr>
            <p:cNvPr id="241" name=""/>
            <p:cNvSpPr/>
            <p:nvPr/>
          </p:nvSpPr>
          <p:spPr>
            <a:xfrm>
              <a:off x="3291120" y="3078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8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26400" y="3078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cb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0240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cb09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0240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cb09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43880" y="242712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205e4e"/>
                </a:gs>
                <a:gs pos="50000">
                  <a:srgbClr val="3cb092"/>
                </a:gs>
                <a:gs pos="100000">
                  <a:srgbClr val="205e4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75560" y="2438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cb092">
                    <a:alpha val="0"/>
                  </a:srgbClr>
                </a:gs>
                <a:gs pos="100000">
                  <a:srgbClr val="256f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45400" y="2520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30400" y="2279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fd45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30400" y="2279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fd458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71520" y="24206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5722f"/>
                </a:gs>
                <a:gs pos="50000">
                  <a:srgbClr val="9fd458"/>
                </a:gs>
                <a:gs pos="100000">
                  <a:srgbClr val="55722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73320" y="24238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fd458">
                    <a:alpha val="0"/>
                  </a:srgbClr>
                </a:gs>
                <a:gs pos="100000">
                  <a:srgbClr val="6486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65480" y="251460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1392480" y="2539800"/>
              <a:ext cx="1636560" cy="1636920"/>
              <a:chOff x="1392480" y="2539800"/>
              <a:chExt cx="1636560" cy="1636920"/>
            </a:xfrm>
          </p:grpSpPr>
          <p:sp>
            <p:nvSpPr>
              <p:cNvPr id="254" name=""/>
              <p:cNvSpPr/>
              <p:nvPr/>
            </p:nvSpPr>
            <p:spPr>
              <a:xfrm>
                <a:off x="1392480" y="2539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413360" y="25488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430280" y="2564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519200" y="2606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386712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8dd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6712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174060"/>
                </a:gs>
                <a:gs pos="100000">
                  <a:srgbClr val="338dd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08600" y="24271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b4c70"/>
                </a:gs>
                <a:gs pos="50000">
                  <a:srgbClr val="338dd1"/>
                </a:gs>
                <a:gs pos="100000">
                  <a:srgbClr val="1b4c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10040" y="2430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38dd1">
                    <a:alpha val="0"/>
                  </a:srgbClr>
                </a:gs>
                <a:gs pos="100000">
                  <a:srgbClr val="2059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02200" y="2520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4129200" y="2539800"/>
              <a:ext cx="1636560" cy="1636920"/>
              <a:chOff x="4129200" y="2539800"/>
              <a:chExt cx="1636560" cy="1636920"/>
            </a:xfrm>
          </p:grpSpPr>
          <p:sp>
            <p:nvSpPr>
              <p:cNvPr id="264" name=""/>
              <p:cNvSpPr/>
              <p:nvPr/>
            </p:nvSpPr>
            <p:spPr>
              <a:xfrm>
                <a:off x="4129200" y="2539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150080" y="25488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67000" y="2564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255920" y="2606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875640" y="2539800"/>
              <a:ext cx="1636560" cy="1636920"/>
              <a:chOff x="6875640" y="2539800"/>
              <a:chExt cx="1636560" cy="1636920"/>
            </a:xfrm>
          </p:grpSpPr>
          <p:sp>
            <p:nvSpPr>
              <p:cNvPr id="269" name=""/>
              <p:cNvSpPr/>
              <p:nvPr/>
            </p:nvSpPr>
            <p:spPr>
              <a:xfrm>
                <a:off x="6875640" y="2539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896520" y="25488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913440" y="2564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02360" y="2606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1179720" y="4817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13200" y="4817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66120" y="4817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27000" y="3144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70200" y="3144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13400" y="3144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10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47920" y="1619280"/>
            <a:ext cx="7390800" cy="4400640"/>
            <a:chOff x="1447920" y="1619280"/>
            <a:chExt cx="7390800" cy="4400640"/>
          </a:xfrm>
        </p:grpSpPr>
        <p:sp>
          <p:nvSpPr>
            <p:cNvPr id="281" name=""/>
            <p:cNvSpPr/>
            <p:nvPr/>
          </p:nvSpPr>
          <p:spPr>
            <a:xfrm>
              <a:off x="1447920" y="1981080"/>
              <a:ext cx="594324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cb092"/>
                </a:gs>
                <a:gs pos="100000">
                  <a:srgbClr val="0b3a7f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1840" y="3733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20876400">
              <a:off x="3468600" y="5048280"/>
              <a:ext cx="143784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00200" y="3828960"/>
              <a:ext cx="170460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20720" y="38386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38360" y="3854520"/>
              <a:ext cx="158400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30520" y="3898800"/>
              <a:ext cx="140904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1744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20826600">
              <a:off x="1625400" y="4438440"/>
              <a:ext cx="113292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549080" y="3448080"/>
              <a:ext cx="1370880" cy="1441080"/>
              <a:chOff x="1549080" y="3448080"/>
              <a:chExt cx="1370880" cy="1441080"/>
            </a:xfrm>
          </p:grpSpPr>
          <p:sp>
            <p:nvSpPr>
              <p:cNvPr id="291" name=""/>
              <p:cNvSpPr/>
              <p:nvPr/>
            </p:nvSpPr>
            <p:spPr>
              <a:xfrm>
                <a:off x="1549080" y="3448080"/>
                <a:ext cx="137088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67080" y="3456360"/>
                <a:ext cx="133668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580040" y="34696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651680" y="3506400"/>
                <a:ext cx="113184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2952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1447920" y="2683080"/>
              <a:ext cx="91404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23880" y="2076480"/>
              <a:ext cx="102348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36480" y="2081160"/>
              <a:ext cx="99972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47640" y="2092320"/>
              <a:ext cx="95040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01640" y="211788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2080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14400" y="2152800"/>
              <a:ext cx="68544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36800" y="1619280"/>
              <a:ext cx="68220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46160" y="162252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52640" y="1628640"/>
              <a:ext cx="63288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89000" y="1647720"/>
              <a:ext cx="56304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07000" y="184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10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476720" y="1828800"/>
            <a:ext cx="7282440" cy="3770280"/>
            <a:chOff x="1476720" y="1828800"/>
            <a:chExt cx="7282440" cy="3770280"/>
          </a:xfrm>
        </p:grpSpPr>
        <p:sp>
          <p:nvSpPr>
            <p:cNvPr id="310" name=""/>
            <p:cNvSpPr/>
            <p:nvPr/>
          </p:nvSpPr>
          <p:spPr>
            <a:xfrm rot="17973000">
              <a:off x="528552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b3a7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3465600">
              <a:off x="533592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b3a7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4368800">
              <a:off x="411696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b3a7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7534800">
              <a:off x="407880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b3a7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1804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0b3a7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0800000">
              <a:off x="350784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0b3a7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288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0b3a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802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9112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946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802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7672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1480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8592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bc6e7"/>
                </a:gs>
                <a:gs pos="100000">
                  <a:srgbClr val="338dd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0032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bc6e7"/>
                </a:gs>
                <a:gs pos="100000">
                  <a:srgbClr val="338dd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0544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bc6e7"/>
                </a:gs>
                <a:gs pos="100000">
                  <a:srgbClr val="338dd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2436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9bc6e7"/>
                </a:gs>
                <a:gs pos="100000">
                  <a:srgbClr val="338dd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0544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bc6e7"/>
                </a:gs>
                <a:gs pos="100000">
                  <a:srgbClr val="338dd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1984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bc6e7"/>
                </a:gs>
                <a:gs pos="100000">
                  <a:srgbClr val="338dd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6888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cb09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7356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cb09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797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05e4e"/>
                </a:gs>
                <a:gs pos="50000">
                  <a:srgbClr val="3cb092"/>
                </a:gs>
                <a:gs pos="100000">
                  <a:srgbClr val="205e4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7652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3cb092">
                    <a:alpha val="0"/>
                  </a:srgbClr>
                </a:gs>
                <a:gs pos="100000">
                  <a:srgbClr val="256f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5428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4475160" y="3087720"/>
              <a:ext cx="1290600" cy="1278000"/>
              <a:chOff x="4475160" y="3087720"/>
              <a:chExt cx="1290600" cy="1278000"/>
            </a:xfrm>
          </p:grpSpPr>
          <p:sp>
            <p:nvSpPr>
              <p:cNvPr id="335" name=""/>
              <p:cNvSpPr/>
              <p:nvPr/>
            </p:nvSpPr>
            <p:spPr>
              <a:xfrm>
                <a:off x="447516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9172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50504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7488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473832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10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600200" y="1940040"/>
            <a:ext cx="2163600" cy="3165480"/>
            <a:chOff x="1600200" y="1940040"/>
            <a:chExt cx="2163600" cy="3165480"/>
          </a:xfrm>
        </p:grpSpPr>
        <p:sp>
          <p:nvSpPr>
            <p:cNvPr id="342" name=""/>
            <p:cNvSpPr/>
            <p:nvPr/>
          </p:nvSpPr>
          <p:spPr>
            <a:xfrm>
              <a:off x="1600200" y="2247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33680" y="2256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50960" y="4319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50960" y="2278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2344680" y="1940040"/>
              <a:ext cx="642960" cy="642960"/>
              <a:chOff x="2344680" y="1940040"/>
              <a:chExt cx="642960" cy="642960"/>
            </a:xfrm>
          </p:grpSpPr>
          <p:sp>
            <p:nvSpPr>
              <p:cNvPr id="347" name=""/>
              <p:cNvSpPr/>
              <p:nvPr/>
            </p:nvSpPr>
            <p:spPr>
              <a:xfrm>
                <a:off x="2344680" y="1940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351160" y="1944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359080" y="1948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365560" y="1954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399400" y="1969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2484720" y="203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76520" y="2702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6324480" y="1940040"/>
            <a:ext cx="2163600" cy="3165480"/>
            <a:chOff x="6324480" y="1940040"/>
            <a:chExt cx="2163600" cy="3165480"/>
          </a:xfrm>
        </p:grpSpPr>
        <p:sp>
          <p:nvSpPr>
            <p:cNvPr id="355" name=""/>
            <p:cNvSpPr/>
            <p:nvPr/>
          </p:nvSpPr>
          <p:spPr>
            <a:xfrm>
              <a:off x="6324480" y="2247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57960" y="2256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75240" y="4319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75240" y="2278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7068960" y="1940040"/>
              <a:ext cx="642960" cy="642960"/>
              <a:chOff x="7068960" y="1940040"/>
              <a:chExt cx="642960" cy="642960"/>
            </a:xfrm>
          </p:grpSpPr>
          <p:sp>
            <p:nvSpPr>
              <p:cNvPr id="360" name=""/>
              <p:cNvSpPr/>
              <p:nvPr/>
            </p:nvSpPr>
            <p:spPr>
              <a:xfrm>
                <a:off x="7068960" y="1940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075440" y="1944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083360" y="1948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089840" y="1954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123680" y="1969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7209000" y="203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00800" y="2702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962520" y="1940040"/>
            <a:ext cx="2163600" cy="3165480"/>
            <a:chOff x="3962520" y="1940040"/>
            <a:chExt cx="2163600" cy="3165480"/>
          </a:xfrm>
        </p:grpSpPr>
        <p:sp>
          <p:nvSpPr>
            <p:cNvPr id="368" name=""/>
            <p:cNvSpPr/>
            <p:nvPr/>
          </p:nvSpPr>
          <p:spPr>
            <a:xfrm>
              <a:off x="3962520" y="2247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96000" y="2256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13280" y="4319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13280" y="2278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07000" y="1940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13480" y="19447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721400" y="19479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27520" y="19544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62800" y="19702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47040" y="203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38840" y="2702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10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0" y="1969920"/>
            <a:ext cx="9144000" cy="4366080"/>
            <a:chOff x="0" y="1969920"/>
            <a:chExt cx="9144000" cy="4366080"/>
          </a:xfrm>
        </p:grpSpPr>
        <p:sp>
          <p:nvSpPr>
            <p:cNvPr id="381" name=""/>
            <p:cNvSpPr/>
            <p:nvPr/>
          </p:nvSpPr>
          <p:spPr>
            <a:xfrm>
              <a:off x="0" y="32590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0" y="331128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633240" y="2662200"/>
              <a:ext cx="2183040" cy="3600720"/>
              <a:chOff x="633240" y="2662200"/>
              <a:chExt cx="2183040" cy="360072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1110240" y="3581280"/>
                <a:ext cx="1706040" cy="2681640"/>
                <a:chOff x="1110240" y="3581280"/>
                <a:chExt cx="1706040" cy="268164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1110240" y="3760200"/>
                  <a:ext cx="1578600" cy="2502720"/>
                  <a:chOff x="1110240" y="3760200"/>
                  <a:chExt cx="1578600" cy="250272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3876600">
                    <a:off x="646560" y="47322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3876600">
                    <a:off x="2152440" y="57009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1604880" y="3581280"/>
                  <a:ext cx="1211400" cy="1920240"/>
                  <a:chOff x="1604880" y="3581280"/>
                  <a:chExt cx="1211400" cy="19202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flipV="1" rot="3876600">
                    <a:off x="1249200" y="43272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V="1" rot="3876600">
                    <a:off x="2387160" y="50785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1" name=""/>
              <p:cNvGrpSpPr/>
              <p:nvPr/>
            </p:nvGrpSpPr>
            <p:grpSpPr>
              <a:xfrm>
                <a:off x="633240" y="2662200"/>
                <a:ext cx="1441800" cy="1440720"/>
                <a:chOff x="633240" y="2662200"/>
                <a:chExt cx="1441800" cy="1440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33240" y="26622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33240" y="26622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28640" y="275580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28640" y="27590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90560" y="281952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807840" y="2836800"/>
                  <a:ext cx="1092240" cy="1092960"/>
                  <a:chOff x="807840" y="2836800"/>
                  <a:chExt cx="1092240" cy="109296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807840" y="283680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21880" y="284292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33040" y="285336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92440" y="288108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2" name=""/>
              <p:cNvSpPr/>
              <p:nvPr/>
            </p:nvSpPr>
            <p:spPr>
              <a:xfrm rot="3925800">
                <a:off x="1134360" y="4607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3925800">
                <a:off x="1638360" y="431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2616120" y="2662200"/>
              <a:ext cx="2183040" cy="3600720"/>
              <a:chOff x="2616120" y="2662200"/>
              <a:chExt cx="2183040" cy="360072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3093120" y="3581280"/>
                <a:ext cx="1706040" cy="2681640"/>
                <a:chOff x="3093120" y="3581280"/>
                <a:chExt cx="1706040" cy="268164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3093120" y="3760200"/>
                  <a:ext cx="1578600" cy="2502720"/>
                  <a:chOff x="3093120" y="3760200"/>
                  <a:chExt cx="1578600" cy="250272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rot="3876600">
                    <a:off x="2629440" y="47322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rot="3876600">
                    <a:off x="4135320" y="57009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3587760" y="3581280"/>
                  <a:ext cx="1211400" cy="1920240"/>
                  <a:chOff x="3587760" y="3581280"/>
                  <a:chExt cx="1211400" cy="19202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flipV="1" rot="3876600">
                    <a:off x="3232080" y="43272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V="1" rot="3876600">
                    <a:off x="4370040" y="50785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2" name=""/>
              <p:cNvGrpSpPr/>
              <p:nvPr/>
            </p:nvGrpSpPr>
            <p:grpSpPr>
              <a:xfrm>
                <a:off x="2616120" y="2662200"/>
                <a:ext cx="1441800" cy="1440720"/>
                <a:chOff x="2616120" y="2662200"/>
                <a:chExt cx="1441800" cy="14407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616120" y="26622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616120" y="26622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711520" y="275580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711520" y="27590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773440" y="281952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2790720" y="2836800"/>
                  <a:ext cx="1092240" cy="1092960"/>
                  <a:chOff x="2790720" y="2836800"/>
                  <a:chExt cx="1092240" cy="10929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2790720" y="283680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804760" y="284292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2815920" y="285336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875320" y="288108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3" name=""/>
              <p:cNvSpPr/>
              <p:nvPr/>
            </p:nvSpPr>
            <p:spPr>
              <a:xfrm rot="3925800">
                <a:off x="3111480" y="4607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3925800">
                <a:off x="3614760" y="431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4664160" y="2662200"/>
              <a:ext cx="2182680" cy="3600720"/>
              <a:chOff x="4664160" y="2662200"/>
              <a:chExt cx="2182680" cy="360072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5140800" y="3581280"/>
                <a:ext cx="1706040" cy="2681640"/>
                <a:chOff x="5140800" y="3581280"/>
                <a:chExt cx="1706040" cy="2681640"/>
              </a:xfrm>
            </p:grpSpPr>
            <p:grpSp>
              <p:nvGrpSpPr>
                <p:cNvPr id="427" name=""/>
                <p:cNvGrpSpPr/>
                <p:nvPr/>
              </p:nvGrpSpPr>
              <p:grpSpPr>
                <a:xfrm>
                  <a:off x="5140800" y="3760200"/>
                  <a:ext cx="1578600" cy="2502720"/>
                  <a:chOff x="5140800" y="3760200"/>
                  <a:chExt cx="1578600" cy="250272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rot="3876600">
                    <a:off x="4677120" y="47322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rot="3876600">
                    <a:off x="6183000" y="57009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5635440" y="3581280"/>
                  <a:ext cx="1211400" cy="1920240"/>
                  <a:chOff x="5635440" y="3581280"/>
                  <a:chExt cx="1211400" cy="192024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flipV="1" rot="3876600">
                    <a:off x="5279760" y="43272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V="1" rot="3876600">
                    <a:off x="6417720" y="50785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4664160" y="2662200"/>
                <a:ext cx="1441440" cy="1440720"/>
                <a:chOff x="4664160" y="2662200"/>
                <a:chExt cx="1441440" cy="14407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664160" y="26622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664160" y="26622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759560" y="275580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759560" y="275904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821480" y="281952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9" name=""/>
                <p:cNvGrpSpPr/>
                <p:nvPr/>
              </p:nvGrpSpPr>
              <p:grpSpPr>
                <a:xfrm>
                  <a:off x="4838760" y="2836800"/>
                  <a:ext cx="1091880" cy="1092960"/>
                  <a:chOff x="4838760" y="2836800"/>
                  <a:chExt cx="1091880" cy="109296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4838760" y="283680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4852800" y="284292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4863960" y="285336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923360" y="288108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4" name=""/>
              <p:cNvSpPr/>
              <p:nvPr/>
            </p:nvSpPr>
            <p:spPr>
              <a:xfrm rot="3925800">
                <a:off x="5168520" y="4607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3925800">
                <a:off x="5672160" y="431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678720" y="2503440"/>
              <a:ext cx="2399760" cy="3832560"/>
              <a:chOff x="6678720" y="2503440"/>
              <a:chExt cx="2399760" cy="383256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7372800" y="3654360"/>
                <a:ext cx="1705680" cy="2681640"/>
                <a:chOff x="7372800" y="3654360"/>
                <a:chExt cx="1705680" cy="2681640"/>
              </a:xfrm>
            </p:grpSpPr>
            <p:grpSp>
              <p:nvGrpSpPr>
                <p:cNvPr id="448" name=""/>
                <p:cNvGrpSpPr/>
                <p:nvPr/>
              </p:nvGrpSpPr>
              <p:grpSpPr>
                <a:xfrm>
                  <a:off x="7372800" y="3833280"/>
                  <a:ext cx="1578600" cy="2502720"/>
                  <a:chOff x="7372800" y="3833280"/>
                  <a:chExt cx="1578600" cy="25027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 rot="3876600">
                    <a:off x="6909120" y="48052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rot="3876600">
                    <a:off x="8415000" y="57740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7867080" y="3654360"/>
                  <a:ext cx="1211400" cy="1920240"/>
                  <a:chOff x="7867080" y="3654360"/>
                  <a:chExt cx="1211400" cy="192024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flipV="1" rot="3876600">
                    <a:off x="7511400" y="44002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V="1" rot="3876600">
                    <a:off x="8649360" y="515196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4" name=""/>
              <p:cNvSpPr/>
              <p:nvPr/>
            </p:nvSpPr>
            <p:spPr>
              <a:xfrm>
                <a:off x="6678720" y="250344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678720" y="250344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794640" y="261612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796080" y="261936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869160" y="269244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6889680" y="2712960"/>
                <a:ext cx="1312920" cy="1310400"/>
                <a:chOff x="6889680" y="2712960"/>
                <a:chExt cx="1312920" cy="131040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6889680" y="271296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906240" y="272016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919920" y="273276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991200" y="276624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 rot="3925800">
                <a:off x="7383600" y="4766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3925800">
                <a:off x="7886160" y="4474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1014480" y="20127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04920" y="20127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86360" y="20127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31520" y="19699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0" name=""/>
            <p:cNvCxnSpPr>
              <a:stCxn id="466" idx="3"/>
              <a:endCxn id="467" idx="1"/>
            </p:cNvCxnSpPr>
            <p:nvPr/>
          </p:nvCxnSpPr>
          <p:spPr>
            <a:xfrm>
              <a:off x="1750680" y="2196720"/>
              <a:ext cx="1222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7" idx="3"/>
              <a:endCxn id="468" idx="1"/>
            </p:cNvCxnSpPr>
            <p:nvPr/>
          </p:nvCxnSpPr>
          <p:spPr>
            <a:xfrm>
              <a:off x="3741480" y="2196720"/>
              <a:ext cx="121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2" name=""/>
            <p:cNvCxnSpPr>
              <a:stCxn id="468" idx="3"/>
              <a:endCxn id="469" idx="1"/>
            </p:cNvCxnSpPr>
            <p:nvPr/>
          </p:nvCxnSpPr>
          <p:spPr>
            <a:xfrm>
              <a:off x="5722560" y="2197080"/>
              <a:ext cx="1220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73" name=""/>
          <p:cNvSpPr/>
          <p:nvPr/>
        </p:nvSpPr>
        <p:spPr>
          <a:xfrm>
            <a:off x="1447920" y="1295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cb092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10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8390e"/>
              </a:gs>
              <a:gs pos="100000">
                <a:srgbClr val="e27c2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b5143"/>
              </a:gs>
              <a:gs pos="100000">
                <a:srgbClr val="3cb09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74060"/>
              </a:gs>
              <a:gs pos="100000">
                <a:srgbClr val="338dd1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74060"/>
              </a:gs>
              <a:gs pos="100000">
                <a:srgbClr val="338dd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b5143"/>
              </a:gs>
              <a:gs pos="100000">
                <a:srgbClr val="3cb09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8390e"/>
              </a:gs>
              <a:gs pos="100000">
                <a:srgbClr val="e27c2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10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62940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a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76920" y="3429000"/>
            <a:ext cx="1665000" cy="259092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9">
                <a:moveTo>
                  <a:pt x="2969" y="0"/>
                </a:moveTo>
                <a:arcTo wR="2969" hR="2969" stAng="16200000" swAng="-5400000"/>
                <a:lnTo>
                  <a:pt x="0" y="30640"/>
                </a:lnTo>
                <a:arcTo wR="2969" hR="2969" stAng="10800000" swAng="-5400000"/>
                <a:lnTo>
                  <a:pt x="18631" y="3360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a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137040" y="34290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a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7160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a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29560" y="1935000"/>
            <a:ext cx="6436800" cy="1387800"/>
            <a:chOff x="1429560" y="1935000"/>
            <a:chExt cx="6436800" cy="1387800"/>
          </a:xfrm>
        </p:grpSpPr>
        <p:sp>
          <p:nvSpPr>
            <p:cNvPr id="487" name=""/>
            <p:cNvSpPr/>
            <p:nvPr/>
          </p:nvSpPr>
          <p:spPr>
            <a:xfrm rot="3418800">
              <a:off x="1640160" y="21596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3cb092"/>
                </a:gs>
                <a:gs pos="100000">
                  <a:srgbClr val="1b514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2603880" y="2331720"/>
              <a:ext cx="932040" cy="131760"/>
              <a:chOff x="2603880" y="2331720"/>
              <a:chExt cx="932040" cy="131760"/>
            </a:xfrm>
          </p:grpSpPr>
          <p:sp>
            <p:nvSpPr>
              <p:cNvPr id="489" name=""/>
              <p:cNvSpPr/>
              <p:nvPr/>
            </p:nvSpPr>
            <p:spPr>
              <a:xfrm>
                <a:off x="260388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693160" y="23328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39480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47004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 rot="3418800">
              <a:off x="3361320" y="2093760"/>
              <a:ext cx="924120" cy="1003680"/>
            </a:xfrm>
            <a:prstGeom prst="rect">
              <a:avLst/>
            </a:prstGeom>
            <a:solidFill>
              <a:srgbClr val="0b3a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4325040" y="2331720"/>
              <a:ext cx="932040" cy="131760"/>
              <a:chOff x="4325040" y="2331720"/>
              <a:chExt cx="932040" cy="131760"/>
            </a:xfrm>
          </p:grpSpPr>
          <p:sp>
            <p:nvSpPr>
              <p:cNvPr id="495" name=""/>
              <p:cNvSpPr/>
              <p:nvPr/>
            </p:nvSpPr>
            <p:spPr>
              <a:xfrm>
                <a:off x="432504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414320" y="23328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11596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19120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 rot="3418800">
              <a:off x="5010120" y="20937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3cb092"/>
                </a:gs>
                <a:gs pos="100000">
                  <a:srgbClr val="1b514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046200" y="2331720"/>
              <a:ext cx="1218600" cy="131760"/>
              <a:chOff x="6046200" y="2331720"/>
              <a:chExt cx="1218600" cy="131760"/>
            </a:xfrm>
          </p:grpSpPr>
          <p:sp>
            <p:nvSpPr>
              <p:cNvPr id="501" name=""/>
              <p:cNvSpPr/>
              <p:nvPr/>
            </p:nvSpPr>
            <p:spPr>
              <a:xfrm>
                <a:off x="6046200" y="233172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62840" y="23328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80120" y="23338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178760" y="23749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 rot="3418800">
              <a:off x="6731280" y="2093760"/>
              <a:ext cx="924120" cy="1004040"/>
            </a:xfrm>
            <a:prstGeom prst="rect">
              <a:avLst/>
            </a:prstGeom>
            <a:solidFill>
              <a:srgbClr val="0b3a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176004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1252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1272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6556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6652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190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7148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2432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10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295280" y="1990800"/>
          <a:ext cx="6985080" cy="3495600"/>
        </p:xfrm>
        <a:graphic>
          <a:graphicData uri="http://schemas.openxmlformats.org/drawingml/2006/table">
            <a:tbl>
              <a:tblPr/>
              <a:tblGrid>
                <a:gridCol w="1395360"/>
                <a:gridCol w="1117800"/>
                <a:gridCol w="1117440"/>
                <a:gridCol w="1117440"/>
                <a:gridCol w="1119240"/>
                <a:gridCol w="1117800"/>
              </a:tblGrid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27c20"/>
                        </a:gs>
                        <a:gs pos="100000">
                          <a:srgbClr val="efba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27c20"/>
                        </a:gs>
                        <a:gs pos="100000">
                          <a:srgbClr val="efba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27c20"/>
                        </a:gs>
                        <a:gs pos="100000">
                          <a:srgbClr val="efba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27c20"/>
                        </a:gs>
                        <a:gs pos="100000">
                          <a:srgbClr val="efba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27c20"/>
                        </a:gs>
                        <a:gs pos="100000">
                          <a:srgbClr val="efba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27c20"/>
                        </a:gs>
                        <a:gs pos="100000">
                          <a:srgbClr val="efba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10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29560" y="1288800"/>
            <a:ext cx="7431480" cy="4917960"/>
            <a:chOff x="529560" y="1288800"/>
            <a:chExt cx="7431480" cy="4917960"/>
          </a:xfrm>
        </p:grpSpPr>
        <p:sp>
          <p:nvSpPr>
            <p:cNvPr id="518" name=""/>
            <p:cNvSpPr/>
            <p:nvPr/>
          </p:nvSpPr>
          <p:spPr>
            <a:xfrm>
              <a:off x="2187720" y="45417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8235"/>
                  </a:srgbClr>
                </a:gs>
                <a:gs pos="100000">
                  <a:srgbClr val="292929">
                    <a:alpha val="9725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20601600">
              <a:off x="1461960" y="2428560"/>
              <a:ext cx="576288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20601600">
              <a:off x="1517400" y="226692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0601600">
              <a:off x="1382760" y="2284920"/>
              <a:ext cx="5748840" cy="292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67" y="14960"/>
                  </a:moveTo>
                  <a:arcTo wR="10800" hR="10800" stAng="1359439" swAng="2520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67" y="14960"/>
                  </a:moveTo>
                  <a:arcTo wR="10800" hR="10800" stAng="1359439" swAng="2520569"/>
                </a:path>
              </a:pathLst>
            </a:custGeom>
            <a:solidFill>
              <a:srgbClr val="d9a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0601600">
              <a:off x="1434960" y="2252160"/>
              <a:ext cx="569844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rot="20602200">
              <a:off x="1438200" y="226584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20601600">
              <a:off x="1440000" y="2264400"/>
              <a:ext cx="56826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rot="20602200">
              <a:off x="1423800" y="22712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0601600">
              <a:off x="4506840" y="3587760"/>
              <a:ext cx="1220760" cy="1498680"/>
            </a:xfrm>
            <a:custGeom>
              <a:avLst/>
              <a:gdLst/>
              <a:ahLst/>
              <a:rect l="l" t="t" r="r" b="b"/>
              <a:pathLst>
                <a:path w="480" h="716">
                  <a:moveTo>
                    <a:pt x="480" y="716"/>
                  </a:moveTo>
                  <a:lnTo>
                    <a:pt x="480" y="60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6a93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0601600">
              <a:off x="4400280" y="3335040"/>
              <a:ext cx="2562120" cy="809640"/>
            </a:xfrm>
            <a:custGeom>
              <a:avLst/>
              <a:gdLst/>
              <a:ahLst/>
              <a:rect l="l" t="t" r="r" b="b"/>
              <a:pathLst>
                <a:path w="1008" h="388">
                  <a:moveTo>
                    <a:pt x="1008" y="388"/>
                  </a:moveTo>
                  <a:lnTo>
                    <a:pt x="1000" y="28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529560" y="1586160"/>
              <a:ext cx="6918480" cy="4356720"/>
              <a:chOff x="529560" y="1586160"/>
              <a:chExt cx="6918480" cy="4356720"/>
            </a:xfrm>
          </p:grpSpPr>
          <p:sp>
            <p:nvSpPr>
              <p:cNvPr id="529" name=""/>
              <p:cNvSpPr/>
              <p:nvPr/>
            </p:nvSpPr>
            <p:spPr>
              <a:xfrm rot="20712600">
                <a:off x="782280" y="2357640"/>
                <a:ext cx="6412680" cy="281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20712600">
                <a:off x="4186080" y="3555720"/>
                <a:ext cx="1377360" cy="153648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2973"/>
                  </a:gs>
                  <a:gs pos="100000">
                    <a:srgbClr val="696097"/>
                  </a:gs>
                </a:gsLst>
                <a:lin ang="14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20712600">
                <a:off x="5562000" y="3723840"/>
                <a:ext cx="1579320" cy="97956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1003680" y="1288800"/>
              <a:ext cx="6957360" cy="4863240"/>
              <a:chOff x="1003680" y="1288800"/>
              <a:chExt cx="6957360" cy="4863240"/>
            </a:xfrm>
          </p:grpSpPr>
          <p:sp>
            <p:nvSpPr>
              <p:cNvPr id="533" name=""/>
              <p:cNvSpPr/>
              <p:nvPr/>
            </p:nvSpPr>
            <p:spPr>
              <a:xfrm rot="20601600">
                <a:off x="6073560" y="3627000"/>
                <a:ext cx="1555560" cy="109224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b88a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20539200">
                <a:off x="1323720" y="2174760"/>
                <a:ext cx="6316920" cy="30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20601600">
                <a:off x="4757760" y="3457080"/>
                <a:ext cx="1332000" cy="168912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dd3"/>
                  </a:gs>
                  <a:gs pos="100000">
                    <a:srgbClr val="5007a1"/>
                  </a:gs>
                </a:gsLst>
                <a:lin ang="144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 rot="20601600">
              <a:off x="2979720" y="2980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0601600">
              <a:off x="3056040" y="3215880"/>
              <a:ext cx="2624040" cy="109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16080" y="28018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15880" y="23446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87080" y="31068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058480" y="44020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10960" y="46306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92400" y="37926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10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316160" y="1619280"/>
            <a:ext cx="7390800" cy="4156200"/>
            <a:chOff x="1316160" y="1619280"/>
            <a:chExt cx="7390800" cy="4156200"/>
          </a:xfrm>
        </p:grpSpPr>
        <p:sp>
          <p:nvSpPr>
            <p:cNvPr id="546" name=""/>
            <p:cNvSpPr/>
            <p:nvPr/>
          </p:nvSpPr>
          <p:spPr>
            <a:xfrm>
              <a:off x="2306520" y="2381400"/>
              <a:ext cx="553032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e5e5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77920" y="1619280"/>
              <a:ext cx="579060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b3a7f"/>
                </a:gs>
                <a:gs pos="50000">
                  <a:srgbClr val="617fac"/>
                </a:gs>
                <a:gs pos="100000">
                  <a:srgbClr val="0b3a7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057200" y="29908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1316160" y="4254480"/>
              <a:ext cx="1485720" cy="1514520"/>
              <a:chOff x="1316160" y="4254480"/>
              <a:chExt cx="1485720" cy="1514520"/>
            </a:xfrm>
          </p:grpSpPr>
          <p:grpSp>
            <p:nvGrpSpPr>
              <p:cNvPr id="550" name=""/>
              <p:cNvGrpSpPr/>
              <p:nvPr/>
            </p:nvGrpSpPr>
            <p:grpSpPr>
              <a:xfrm>
                <a:off x="1316160" y="4254480"/>
                <a:ext cx="1485720" cy="1514520"/>
                <a:chOff x="1316160" y="4254480"/>
                <a:chExt cx="1485720" cy="151452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316160" y="4254480"/>
                  <a:ext cx="148572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27c20"/>
                    </a:gs>
                    <a:gs pos="100000">
                      <a:srgbClr val="8f4e1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85720" y="42793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27c2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"/>
              <p:cNvSpPr/>
              <p:nvPr/>
            </p:nvSpPr>
            <p:spPr>
              <a:xfrm>
                <a:off x="1473840" y="50256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3220920" y="4254480"/>
              <a:ext cx="1523520" cy="1521000"/>
              <a:chOff x="3220920" y="4254480"/>
              <a:chExt cx="1523520" cy="1521000"/>
            </a:xfrm>
          </p:grpSpPr>
          <p:grpSp>
            <p:nvGrpSpPr>
              <p:cNvPr id="555" name=""/>
              <p:cNvGrpSpPr/>
              <p:nvPr/>
            </p:nvGrpSpPr>
            <p:grpSpPr>
              <a:xfrm>
                <a:off x="3220920" y="4254480"/>
                <a:ext cx="1523520" cy="1521000"/>
                <a:chOff x="3220920" y="4254480"/>
                <a:chExt cx="1523520" cy="152100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3220920" y="4254480"/>
                  <a:ext cx="152352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b092"/>
                    </a:gs>
                    <a:gs pos="100000">
                      <a:srgbClr val="1e5a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394800" y="42796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cb09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3296880" y="4984560"/>
                <a:ext cx="137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278320" y="4210200"/>
              <a:ext cx="1523520" cy="1520640"/>
              <a:chOff x="5278320" y="4210200"/>
              <a:chExt cx="1523520" cy="152064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5278320" y="4210200"/>
                <a:ext cx="1523520" cy="1520640"/>
                <a:chOff x="5278320" y="4210200"/>
                <a:chExt cx="1523520" cy="152064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5278320" y="4210200"/>
                  <a:ext cx="152352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8dd1"/>
                    </a:gs>
                    <a:gs pos="100000">
                      <a:srgbClr val="1a48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452200" y="423540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38dd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5354280" y="4939920"/>
                <a:ext cx="137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7183080" y="4210200"/>
              <a:ext cx="1523880" cy="1531800"/>
              <a:chOff x="7183080" y="4210200"/>
              <a:chExt cx="1523880" cy="153180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7183080" y="4210200"/>
                <a:ext cx="1523880" cy="1531800"/>
                <a:chOff x="7183080" y="4210200"/>
                <a:chExt cx="1523880" cy="153180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7183080" y="421020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d458"/>
                    </a:gs>
                    <a:gs pos="100000">
                      <a:srgbClr val="26331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357320" y="423540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fd4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732600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"/>
          <p:cNvSpPr/>
          <p:nvPr/>
        </p:nvSpPr>
        <p:spPr>
          <a:xfrm>
            <a:off x="1752480" y="1371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cb092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10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828800" y="1990800"/>
            <a:ext cx="5029200" cy="609480"/>
            <a:chOff x="1828800" y="1990800"/>
            <a:chExt cx="5029200" cy="609480"/>
          </a:xfrm>
        </p:grpSpPr>
        <p:sp>
          <p:nvSpPr>
            <p:cNvPr id="108" name=""/>
            <p:cNvSpPr/>
            <p:nvPr/>
          </p:nvSpPr>
          <p:spPr>
            <a:xfrm>
              <a:off x="1828800" y="1990800"/>
              <a:ext cx="5029200" cy="609480"/>
            </a:xfrm>
            <a:prstGeom prst="roundRect">
              <a:avLst>
                <a:gd name="adj" fmla="val 46875"/>
              </a:avLst>
            </a:prstGeom>
            <a:gradFill rotWithShape="0">
              <a:gsLst>
                <a:gs pos="0">
                  <a:srgbClr val="205984"/>
                </a:gs>
                <a:gs pos="50000">
                  <a:srgbClr val="338dd1"/>
                </a:gs>
                <a:gs pos="100000">
                  <a:srgbClr val="20598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75040" y="2079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828800" y="2852640"/>
            <a:ext cx="5029200" cy="609480"/>
            <a:chOff x="1828800" y="2852640"/>
            <a:chExt cx="5029200" cy="609480"/>
          </a:xfrm>
        </p:grpSpPr>
        <p:sp>
          <p:nvSpPr>
            <p:cNvPr id="111" name=""/>
            <p:cNvSpPr/>
            <p:nvPr/>
          </p:nvSpPr>
          <p:spPr>
            <a:xfrm>
              <a:off x="1828800" y="2852640"/>
              <a:ext cx="5029200" cy="609480"/>
            </a:xfrm>
            <a:prstGeom prst="roundRect">
              <a:avLst>
                <a:gd name="adj" fmla="val 46875"/>
              </a:avLst>
            </a:prstGeom>
            <a:gradFill rotWithShape="0">
              <a:gsLst>
                <a:gs pos="0">
                  <a:srgbClr val="256f5c"/>
                </a:gs>
                <a:gs pos="50000">
                  <a:srgbClr val="3cb092"/>
                </a:gs>
                <a:gs pos="100000">
                  <a:srgbClr val="256f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63880" y="29080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828800" y="3733920"/>
            <a:ext cx="5029200" cy="609480"/>
            <a:chOff x="1828800" y="3733920"/>
            <a:chExt cx="5029200" cy="609480"/>
          </a:xfrm>
        </p:grpSpPr>
        <p:sp>
          <p:nvSpPr>
            <p:cNvPr id="114" name=""/>
            <p:cNvSpPr/>
            <p:nvPr/>
          </p:nvSpPr>
          <p:spPr>
            <a:xfrm>
              <a:off x="1828800" y="3733920"/>
              <a:ext cx="5029200" cy="609480"/>
            </a:xfrm>
            <a:prstGeom prst="roundRect">
              <a:avLst>
                <a:gd name="adj" fmla="val 46875"/>
              </a:avLst>
            </a:prstGeom>
            <a:gradFill rotWithShape="0">
              <a:gsLst>
                <a:gs pos="0">
                  <a:srgbClr val="8f4e14"/>
                </a:gs>
                <a:gs pos="50000">
                  <a:srgbClr val="e27c20"/>
                </a:gs>
                <a:gs pos="100000">
                  <a:srgbClr val="8f4e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75040" y="38181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28800" y="4648320"/>
            <a:ext cx="5029200" cy="609480"/>
            <a:chOff x="1828800" y="4648320"/>
            <a:chExt cx="5029200" cy="609480"/>
          </a:xfrm>
        </p:grpSpPr>
        <p:sp>
          <p:nvSpPr>
            <p:cNvPr id="117" name=""/>
            <p:cNvSpPr/>
            <p:nvPr/>
          </p:nvSpPr>
          <p:spPr>
            <a:xfrm>
              <a:off x="1828800" y="4648320"/>
              <a:ext cx="5029200" cy="609480"/>
            </a:xfrm>
            <a:prstGeom prst="roundRect">
              <a:avLst>
                <a:gd name="adj" fmla="val 46875"/>
              </a:avLst>
            </a:prstGeom>
            <a:gradFill rotWithShape="0">
              <a:gsLst>
                <a:gs pos="0">
                  <a:srgbClr val="648637"/>
                </a:gs>
                <a:gs pos="50000">
                  <a:srgbClr val="9fd458"/>
                </a:gs>
                <a:gs pos="100000">
                  <a:srgbClr val="6486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75040" y="46785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cb092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28457-7290-4EB9-967E-0896E05620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1981080" y="3505320"/>
            <a:ext cx="4953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cb092"/>
                    </a:gs>
                    <a:gs pos="100000">
                      <a:srgbClr val="0b3a7f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cb092"/>
                  </a:gs>
                  <a:gs pos="100000">
                    <a:srgbClr val="0b3a7f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837720" y="422604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10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fd45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3a7f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2400" spc="-1" strike="noStrike">
                <a:solidFill>
                  <a:srgbClr val="0b3a7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27c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0b3a7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0b3a7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0b3a7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0b3a7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541008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2362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cb092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10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43600" y="3276720"/>
            <a:ext cx="2286000" cy="2666880"/>
            <a:chOff x="5943600" y="3276720"/>
            <a:chExt cx="2286000" cy="2666880"/>
          </a:xfrm>
        </p:grpSpPr>
        <p:sp>
          <p:nvSpPr>
            <p:cNvPr id="125" name=""/>
            <p:cNvSpPr/>
            <p:nvPr/>
          </p:nvSpPr>
          <p:spPr>
            <a:xfrm>
              <a:off x="5943600" y="32767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5880" y="3471840"/>
              <a:ext cx="2057400" cy="16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one of aligned company with Microsoft Ltd, and we develop and provide the design templates for Office 97, 2000, and X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523880" y="3276720"/>
            <a:ext cx="2286000" cy="2666880"/>
            <a:chOff x="1523880" y="3276720"/>
            <a:chExt cx="2286000" cy="2666880"/>
          </a:xfrm>
        </p:grpSpPr>
        <p:sp>
          <p:nvSpPr>
            <p:cNvPr id="128" name=""/>
            <p:cNvSpPr/>
            <p:nvPr/>
          </p:nvSpPr>
          <p:spPr>
            <a:xfrm>
              <a:off x="1523880" y="32767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9280" y="34768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6036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4d4b7"/>
              </a:gs>
              <a:gs pos="100000">
                <a:srgbClr val="e27c2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25564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d9ef"/>
              </a:gs>
              <a:gs pos="100000">
                <a:srgbClr val="338dd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429000" y="1552680"/>
            <a:ext cx="2998440" cy="1601280"/>
            <a:chOff x="3429000" y="1552680"/>
            <a:chExt cx="2998440" cy="1601280"/>
          </a:xfrm>
        </p:grpSpPr>
        <p:grpSp>
          <p:nvGrpSpPr>
            <p:cNvPr id="133" name=""/>
            <p:cNvGrpSpPr/>
            <p:nvPr/>
          </p:nvGrpSpPr>
          <p:grpSpPr>
            <a:xfrm>
              <a:off x="3429000" y="1552680"/>
              <a:ext cx="2998440" cy="1601280"/>
              <a:chOff x="3429000" y="1552680"/>
              <a:chExt cx="2998440" cy="160128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429000" y="1695600"/>
                <a:ext cx="2998440" cy="1458360"/>
                <a:chOff x="3429000" y="1695600"/>
                <a:chExt cx="2998440" cy="14583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461760" y="174204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d5546"/>
                    </a:gs>
                    <a:gs pos="100000">
                      <a:srgbClr val="3cb09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429000" y="169560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b092"/>
                    </a:gs>
                    <a:gs pos="100000">
                      <a:srgbClr val="a7dbc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3570120" y="15526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338dd1"/>
                  </a:gs>
                  <a:gs pos="100000">
                    <a:srgbClr val="17406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605040" y="156060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7d6ee"/>
                  </a:gs>
                  <a:gs pos="100000">
                    <a:srgbClr val="338dd1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632040" y="157320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338dd1">
                      <a:alpha val="48235"/>
                    </a:srgbClr>
                  </a:gs>
                  <a:gs pos="100000">
                    <a:srgbClr val="286fa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63800" y="160020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338dd1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4263840" y="1752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10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83680" y="1403640"/>
            <a:ext cx="7404120" cy="5225400"/>
            <a:chOff x="1183680" y="1403640"/>
            <a:chExt cx="7404120" cy="5225400"/>
          </a:xfrm>
        </p:grpSpPr>
        <p:sp>
          <p:nvSpPr>
            <p:cNvPr id="144" name=""/>
            <p:cNvSpPr/>
            <p:nvPr/>
          </p:nvSpPr>
          <p:spPr>
            <a:xfrm rot="20241600">
              <a:off x="1459080" y="2614680"/>
              <a:ext cx="685296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6f6f6">
                    <a:alpha val="40000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91120" y="1752480"/>
              <a:ext cx="1284120" cy="1274760"/>
            </a:xfrm>
            <a:prstGeom prst="ellipse">
              <a:avLst/>
            </a:prstGeom>
            <a:gradFill rotWithShape="0">
              <a:gsLst>
                <a:gs pos="0">
                  <a:srgbClr val="3cb092"/>
                </a:gs>
                <a:gs pos="100000">
                  <a:srgbClr val="143c3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6520" y="3276720"/>
              <a:ext cx="1284120" cy="1274760"/>
            </a:xfrm>
            <a:prstGeom prst="ellipse">
              <a:avLst/>
            </a:prstGeom>
            <a:gradFill rotWithShape="0">
              <a:gsLst>
                <a:gs pos="0">
                  <a:srgbClr val="338dd1"/>
                </a:gs>
                <a:gs pos="100000">
                  <a:srgbClr val="0f2c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58880" y="4973760"/>
              <a:ext cx="1283040" cy="1274760"/>
            </a:xfrm>
            <a:prstGeom prst="ellipse">
              <a:avLst/>
            </a:prstGeom>
            <a:gradFill rotWithShape="0">
              <a:gsLst>
                <a:gs pos="0">
                  <a:srgbClr val="e27c20"/>
                </a:gs>
                <a:gs pos="100000">
                  <a:srgbClr val="502c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4120" y="4343400"/>
              <a:ext cx="1284120" cy="1274760"/>
            </a:xfrm>
            <a:prstGeom prst="ellipse">
              <a:avLst/>
            </a:prstGeom>
            <a:gradFill rotWithShape="0">
              <a:gsLst>
                <a:gs pos="0">
                  <a:srgbClr val="692aa2"/>
                </a:gs>
                <a:gs pos="100000">
                  <a:srgbClr val="3c18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62920" y="198108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9fd458"/>
                </a:gs>
                <a:gs pos="100000">
                  <a:srgbClr val="3648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03400" y="37339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20520" y="2209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52720" y="2487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62800" y="4800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1840" y="54244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9880" y="37386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54440" y="2039760"/>
              <a:ext cx="1793880" cy="16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04560" y="16002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10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295280" y="1676520"/>
            <a:ext cx="7010280" cy="4343400"/>
            <a:chOff x="1295280" y="1676520"/>
            <a:chExt cx="7010280" cy="4343400"/>
          </a:xfrm>
        </p:grpSpPr>
        <p:sp>
          <p:nvSpPr>
            <p:cNvPr id="160" name=""/>
            <p:cNvSpPr/>
            <p:nvPr/>
          </p:nvSpPr>
          <p:spPr>
            <a:xfrm>
              <a:off x="3962160" y="411480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060"/>
                </a:gs>
                <a:gs pos="50000">
                  <a:srgbClr val="338dd1"/>
                </a:gs>
                <a:gs pos="100000">
                  <a:srgbClr val="174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62160" y="358164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060"/>
                </a:gs>
                <a:gs pos="50000">
                  <a:srgbClr val="338dd1"/>
                </a:gs>
                <a:gs pos="100000">
                  <a:srgbClr val="174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62160" y="304812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060"/>
                </a:gs>
                <a:gs pos="50000">
                  <a:srgbClr val="338dd1"/>
                </a:gs>
                <a:gs pos="100000">
                  <a:srgbClr val="174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3600" y="3278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03600" y="3811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03600" y="4345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76360" y="281952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95280" y="228600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b3a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71600" y="251460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76760" y="228600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b3a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53080" y="251460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94200" y="281952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00400" y="1676520"/>
              <a:ext cx="304776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b5143"/>
                </a:gs>
                <a:gs pos="50000">
                  <a:srgbClr val="3cb092"/>
                </a:gs>
                <a:gs pos="100000">
                  <a:srgbClr val="1b51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29040" y="2438640"/>
              <a:ext cx="1752480" cy="533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79480" y="1909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6360" y="5410440"/>
              <a:ext cx="304812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79480" y="5643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06720" y="4800600"/>
              <a:ext cx="1755720" cy="525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10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219320" y="2057400"/>
            <a:ext cx="7390800" cy="3581280"/>
            <a:chOff x="1219320" y="2057400"/>
            <a:chExt cx="7390800" cy="3581280"/>
          </a:xfrm>
        </p:grpSpPr>
        <p:grpSp>
          <p:nvGrpSpPr>
            <p:cNvPr id="180" name=""/>
            <p:cNvGrpSpPr/>
            <p:nvPr/>
          </p:nvGrpSpPr>
          <p:grpSpPr>
            <a:xfrm>
              <a:off x="3276360" y="2057400"/>
              <a:ext cx="3196440" cy="2890800"/>
              <a:chOff x="3276360" y="2057400"/>
              <a:chExt cx="3196440" cy="2890800"/>
            </a:xfrm>
          </p:grpSpPr>
          <p:sp>
            <p:nvSpPr>
              <p:cNvPr id="181" name=""/>
              <p:cNvSpPr/>
              <p:nvPr/>
            </p:nvSpPr>
            <p:spPr>
              <a:xfrm flipH="1" rot="16200000">
                <a:off x="3194280" y="317088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eb1cc"/>
                  </a:gs>
                  <a:gs pos="100000">
                    <a:srgbClr val="0b3a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rot="5400000">
                <a:off x="6063840" y="311652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eb1cc"/>
                  </a:gs>
                  <a:gs pos="100000">
                    <a:srgbClr val="0b3a7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rot="10800000">
                <a:off x="4631400" y="462132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eb1cc"/>
                  </a:gs>
                  <a:gs pos="100000">
                    <a:srgbClr val="0b3a7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603240" y="2057400"/>
                <a:ext cx="256608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749760" y="2201760"/>
                <a:ext cx="227196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83320" y="233676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cb092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83320" y="233676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15080" y="246852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205e4e"/>
                  </a:gs>
                  <a:gs pos="50000">
                    <a:srgbClr val="3cb092"/>
                  </a:gs>
                  <a:gs pos="100000">
                    <a:srgbClr val="205e4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015080" y="246852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219320" y="3657600"/>
              <a:ext cx="182844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5143"/>
                </a:gs>
                <a:gs pos="50000">
                  <a:srgbClr val="3cb092"/>
                </a:gs>
                <a:gs pos="100000">
                  <a:srgbClr val="1b51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19320" y="3124080"/>
              <a:ext cx="182844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5143"/>
                </a:gs>
                <a:gs pos="50000">
                  <a:srgbClr val="3cb092"/>
                </a:gs>
                <a:gs pos="100000">
                  <a:srgbClr val="1b51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9320" y="2590920"/>
              <a:ext cx="182844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5143"/>
                </a:gs>
                <a:gs pos="50000">
                  <a:srgbClr val="3cb092"/>
                </a:gs>
                <a:gs pos="100000">
                  <a:srgbClr val="1b51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05360" y="3657600"/>
              <a:ext cx="190476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060"/>
                </a:gs>
                <a:gs pos="50000">
                  <a:srgbClr val="338dd1"/>
                </a:gs>
                <a:gs pos="100000">
                  <a:srgbClr val="174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05360" y="3124080"/>
              <a:ext cx="190476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060"/>
                </a:gs>
                <a:gs pos="50000">
                  <a:srgbClr val="338dd1"/>
                </a:gs>
                <a:gs pos="100000">
                  <a:srgbClr val="174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05360" y="2590920"/>
              <a:ext cx="190476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060"/>
                </a:gs>
                <a:gs pos="50000">
                  <a:srgbClr val="338dd1"/>
                </a:gs>
                <a:gs pos="100000">
                  <a:srgbClr val="174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92920" y="31240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38320" y="5105520"/>
              <a:ext cx="388584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8dd1"/>
                </a:gs>
                <a:gs pos="50000">
                  <a:srgbClr val="f7fafc"/>
                </a:gs>
                <a:gs pos="100000">
                  <a:srgbClr val="338dd1"/>
                </a:gs>
              </a:gsLst>
              <a:lin ang="10800000"/>
            </a:gradFill>
            <a:ln w="38160">
              <a:solidFill>
                <a:srgbClr val="0b3a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5356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5356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5356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7316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7316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7316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10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66320" y="1905120"/>
            <a:ext cx="7467840" cy="3885840"/>
            <a:chOff x="1066320" y="1905120"/>
            <a:chExt cx="7467840" cy="3885840"/>
          </a:xfrm>
        </p:grpSpPr>
        <p:sp>
          <p:nvSpPr>
            <p:cNvPr id="206" name=""/>
            <p:cNvSpPr/>
            <p:nvPr/>
          </p:nvSpPr>
          <p:spPr>
            <a:xfrm>
              <a:off x="7913880" y="190512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73760" y="190512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95760" y="287928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88880" y="2879280"/>
              <a:ext cx="3827520" cy="626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76920" y="3844080"/>
              <a:ext cx="610560" cy="979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61680" y="480996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29920" y="481536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066320" y="578412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066320" y="480996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066320" y="384804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066680" y="2887560"/>
              <a:ext cx="39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066320" y="1911960"/>
              <a:ext cx="479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57120" y="1905120"/>
              <a:ext cx="0" cy="10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57120" y="291528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57120" y="386208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57120" y="480996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60280" y="2094480"/>
              <a:ext cx="195732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79160" y="2532600"/>
              <a:ext cx="2948400" cy="35172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89960" y="350568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10480" y="3844080"/>
              <a:ext cx="408384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13360" y="4474440"/>
              <a:ext cx="3477240" cy="3452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28480" y="544320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4200" y="22809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94200" y="3238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4200" y="4240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94200" y="5174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752480" y="1295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cb092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10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828800"/>
            <a:ext cx="5410080" cy="4495680"/>
          </a:xfrm>
          <a:prstGeom prst="rightArrow">
            <a:avLst>
              <a:gd name="adj1" fmla="val 79306"/>
              <a:gd name="adj2" fmla="val 29806"/>
            </a:avLst>
          </a:prstGeom>
          <a:gradFill rotWithShape="0">
            <a:gsLst>
              <a:gs pos="0">
                <a:srgbClr val="fefefe"/>
              </a:gs>
              <a:gs pos="100000">
                <a:srgbClr val="c0c0c0">
                  <a:alpha val="4117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2438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8dd1"/>
              </a:gs>
              <a:gs pos="100000">
                <a:srgbClr val="17406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3581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4724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27c20"/>
              </a:gs>
              <a:gs pos="100000">
                <a:srgbClr val="68390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3526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22:24:0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52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