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F9D-7A3E-4908-8916-CFBD16B2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D6F-C519-4AEB-A582-B091C90F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352-8150-4E2F-AE93-FFF055AF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0CF-65EA-40B2-825E-EE70BEF9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5F4-52ED-45C4-9CCC-6D88A1B0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7AD-0CBB-4F75-AB8D-C90AAE43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778-F502-43A7-A514-F911F127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679-B466-4A3C-81F3-37463562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C30-D286-4945-990F-5FE6FA0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DA6-CD6B-4B1D-B842-B01E81B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012-7340-47D2-AD45-EA0D62D2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B84-C712-45DE-A9D2-1FE75249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25000"/>
              <a:buFont typeface="Georgia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SzPct val="25000"/>
              <a:buFont typeface="Georgia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SzPct val="25000"/>
              <a:buFont typeface="Georgia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SzPct val="25000"/>
              <a:buFont typeface="Georgia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SzPct val="25000"/>
              <a:buFont typeface="Georgia"/>
              <a:buChar char="»"/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SzPct val="25000"/>
              <a:buFont typeface="Georgia"/>
              <a:buChar char="»"/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SzPct val="25000"/>
              <a:buFont typeface="Georgia"/>
              <a:buChar char="»"/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C9D4-BE7C-4196-BED7-AB3F83B385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42667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Got Mail?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525780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A Presentation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Your Main Point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Georgia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Sub Poin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24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 rot="21214800">
            <a:off x="1828440" y="2590560"/>
            <a:ext cx="5486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Georgia"/>
                <a:ea typeface="宋体"/>
              </a:rPr>
              <a:t>Transition P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Documents and Settings\eclipse\Local Settings\Temp\ug007551.gif"/>
          <p:cNvPicPr/>
          <p:nvPr/>
        </p:nvPicPr>
        <p:blipFill>
          <a:blip r:embed="rId2"/>
          <a:stretch/>
        </p:blipFill>
        <p:spPr>
          <a:xfrm>
            <a:off x="4368960" y="1295280"/>
            <a:ext cx="4405320" cy="5181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04920" y="4876920"/>
            <a:ext cx="5486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Georgia"/>
                <a:ea typeface="宋体"/>
              </a:rPr>
              <a:t>Transition P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Georgia"/>
              </a:rPr>
              <a:t>使用规范说明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站点介绍：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模板下载网站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www.eeppt.com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为您提供免费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模板下载，有好看的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模板，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背景图片，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素材，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图表，动态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模板大全，幻灯片模板，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owe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rPoint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模板等各类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模板免费下载。助您轻松制作出精美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模板！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i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特别说明：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该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栏目推荐：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B64-76CB-4432-816F-23768DEBDF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590920" y="4572000"/>
            <a:ext cx="3504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Element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Z:\newtek\_backgrounds_1.02\Art\power_point\17-\got_mail\got_mail_qx.jpg"/>
          <p:cNvPicPr/>
          <p:nvPr/>
        </p:nvPicPr>
        <p:blipFill>
          <a:blip r:embed="rId1"/>
          <a:stretch/>
        </p:blipFill>
        <p:spPr>
          <a:xfrm>
            <a:off x="228600" y="22860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Z:\newtek\_backgrounds_1.02\Art\power_point\17-\got_mail\got_mail_sld.jpg"/>
          <p:cNvPicPr/>
          <p:nvPr/>
        </p:nvPicPr>
        <p:blipFill>
          <a:blip r:embed="rId2"/>
          <a:stretch/>
        </p:blipFill>
        <p:spPr>
          <a:xfrm>
            <a:off x="228600" y="233208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Z:\newtek\_backgrounds_1.02\Art\power_point\17-\got_mail\got_mail_prt.jpg"/>
          <p:cNvPicPr/>
          <p:nvPr/>
        </p:nvPicPr>
        <p:blipFill>
          <a:blip r:embed="rId3"/>
          <a:stretch/>
        </p:blipFill>
        <p:spPr>
          <a:xfrm>
            <a:off x="304920" y="4451400"/>
            <a:ext cx="2438280" cy="194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Z:\newtek\_backgrounds_1.02\Art\power_point\17-\got_mail\got_mail_trs.jpg"/>
          <p:cNvPicPr/>
          <p:nvPr/>
        </p:nvPicPr>
        <p:blipFill>
          <a:blip r:embed="rId4"/>
          <a:stretch/>
        </p:blipFill>
        <p:spPr>
          <a:xfrm>
            <a:off x="2819520" y="22860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Z:\newtek\_backgrounds_1.02\Art\power_point\17-\got_mail\got_mail_trs2.jpg"/>
          <p:cNvPicPr/>
          <p:nvPr/>
        </p:nvPicPr>
        <p:blipFill>
          <a:blip r:embed="rId5"/>
          <a:stretch/>
        </p:blipFill>
        <p:spPr>
          <a:xfrm>
            <a:off x="2819520" y="236232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Z:\newtek\_backgrounds_1.02\Art\power_point\17-\got_mail\mailbox.png"/>
          <p:cNvPicPr/>
          <p:nvPr/>
        </p:nvPicPr>
        <p:blipFill>
          <a:blip r:embed="rId6"/>
          <a:stretch/>
        </p:blipFill>
        <p:spPr>
          <a:xfrm>
            <a:off x="4262400" y="0"/>
            <a:ext cx="4881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5:0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46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