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21C-73A6-4D2E-8549-E5483F7A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01-8E77-4C16-B986-8479F89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FBB-B0A2-4838-AA21-0F5EECB0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E74-ABAD-4598-A77C-D2F052BC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DBC-AA61-40D9-BBE9-A38730A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03A-3487-47AF-9B6E-7E6B731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368-FA5C-4FDE-B4DA-0276CD32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239-472A-4F73-8AF0-DFB7C0C9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447-1F97-4D62-9A70-A43D4605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219-74E3-4EEA-B67F-154A53E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834-EEF2-4990-A732-02D71599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6E6-DF81-4BD4-9A72-FDBF3E5B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A39-5D3D-41E0-8F4C-061DD18832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F988-967C-4583-A3F1-C63C86FB17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5831" t="6250" r="0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953800" y="765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医院方案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效果图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22320" t="0" r="0" b="0"/>
          <a:stretch/>
        </p:blipFill>
        <p:spPr>
          <a:xfrm>
            <a:off x="0" y="0"/>
            <a:ext cx="6629400" cy="68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847-012E-4B68-882B-0DE9D72926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22320" t="0" r="-29462" b="0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研究策划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2D6-D6C7-4382-B4B0-FDE550F86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21877" t="0" r="0" b="3407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总体规划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467-EFF4-43C0-895C-9D2F5E551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22320" t="0" r="0" b="0"/>
          <a:stretch/>
        </p:blipFill>
        <p:spPr>
          <a:xfrm>
            <a:off x="0" y="0"/>
            <a:ext cx="6629400" cy="682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建筑设计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200-D88D-4D8A-B1C6-1AAC32013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540-EC5D-45B2-A6B3-9BABA98F0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内容占位符 3" descr="400环境设计篇(硫酸).jpg"/>
          <p:cNvPicPr/>
          <p:nvPr/>
        </p:nvPicPr>
        <p:blipFill>
          <a:blip r:embed="rId2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772400" y="3048120"/>
            <a:ext cx="13716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环境设计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3941280" y="3244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医院 设计 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EFA-BFF1-41A8-9BB0-15FBE7461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9:1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7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