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0DE-D640-44D7-87AF-7FA62CE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2BA-025C-4F4D-84E4-FD96A440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1BF1-9829-41E0-B12A-30AE33E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25D2D-26C6-4B08-BAA1-805E8A16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8054F-9292-4BF1-859C-EEB573A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0A8E-8C1B-4BB2-91AE-72F9D5A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B3243-AF88-4EA6-8E27-5A60BA0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E383-5C50-4277-95F2-542C9ED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85957-62E3-4A39-B01A-B60F0BC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4E22-8133-4607-9933-635CC221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66E6B-24EC-41F8-A46D-DF7E702C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FA0F8-6BEE-4BB9-8738-7D9A3188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BB6-ECFE-473E-8AC0-588ED1EE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A00A-C3CD-4D23-8E5F-988C9FE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C4F80-6476-49D6-BD0D-91D0412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B2136-C436-493F-B971-EB459A7C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6D2B7-8F6D-4E0D-9BDA-E8F728A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09E7F-454A-4FDF-8031-00EB9EA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5354B-3019-46DA-9683-675A143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50C4-9770-4352-80F4-E4274EB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0F25F-10D8-442A-9C9E-1A3560A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6A184-1422-4B7E-9B19-5589783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E7A4-A767-47C9-BE7B-74EB225C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AEE-1260-4C0C-A565-C90673D4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27341-0A22-416F-97E3-5E479895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C8E1F-633C-4A73-A39E-13F290D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9084-FBBC-4A98-AC98-49EF4D5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14613-6441-4D55-936F-0D51C5AD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B4AC4-F20C-4826-B19F-DAA8CB0E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F31A-61C7-42FA-97C5-93AE722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A754-1437-4F93-8C0A-01A2B52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AE32F-C6FB-4117-A640-5782373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EB66B-92E4-45C3-952B-7A47841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BC735-2083-4574-9A27-56E5FE7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13F-9EEA-4F6B-8025-8E36CFE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DB6BC-0B3D-46D1-815E-242E7EE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94D4-BE18-4389-9AAD-89E4BA3C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E750-1E94-41D1-B2A3-12B62648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BEAB5-8C6A-4B39-8331-67C4E068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E4053-03E3-4AEE-A36C-E516702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84EA-6EA5-4E6D-9D01-9EDE3F32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F4CB-A701-481D-B970-6E3C3529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ED665-C990-4A5F-9971-326EC452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138C9-5E9C-4D20-8BF5-4F482EC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20CF-AF1B-4460-A1F7-BED3AA6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A07-FA6E-46C3-B3AA-3E56044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74AA5-E4F1-47C9-BAD8-E75B285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DFB8C-94D6-4AC1-BD07-4EEAB39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7F766-C1AB-4377-B5D2-85B937FB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1DE4E-7018-41E5-B201-4F2E6FC2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4E0DB-E164-47FA-B7F5-B2B7D112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FB5-23CE-474D-88D0-A19706B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B26-CB4A-46BE-AF31-C5CBD50D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B06D-788F-4BBA-8310-A279B54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08D6-8980-486B-A17C-07B23CE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57AF-078D-4546-B9DA-F50A393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BB2-24AA-4F8F-B0DF-22EBDE4F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5C4F-4A9B-43B4-A0B0-DD8612F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EE4-BD72-47C4-9AE4-E476E45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336-40ED-4A09-B2CD-2BAFD908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2876-CB0E-4A5A-B2F0-0024F62C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FB94-BC77-496F-B24C-256827DF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E154-8CC3-4960-9EEB-10B63C7E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CBCD-6294-4831-8FAA-2CB60F1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E85D-BFB9-4DB5-840C-02F9F8AE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9F39-69F9-4E70-A1E7-501D7F1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9139-4313-4827-B30E-1E0AD2B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01C-1408-4CDA-9F53-9C6770D6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0F8C-A9CA-4B41-89FD-6CD0E9C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F558-28C5-4D06-BCD6-B3E2979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F61C-4EC7-4AF9-BDFD-414116DD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5FFA-16B1-465B-A243-CA80810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D4C0-880B-4B47-BC93-A7E2DC50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AE7D-D915-4F3C-A51B-61452012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131F-5C8A-40A7-ADEC-C0B9281C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0961-5466-4D21-AA32-F9B3BD2F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37E0-B12F-4A14-B19F-C86FB3E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7494-92F7-4B68-BABA-85F9002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DA1-6C78-4DA3-8F08-88CBFB3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57CB-B81E-45D7-B782-30EF615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29EC-EA90-4C03-BAEE-FAD7ED8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F018-0483-4449-B841-2F075D8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5C06-AC24-4FE5-A56F-06F03B9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4AE7-FEA5-4A97-AB65-97C6166F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878A-5CFA-4875-A0FB-2E5BD51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92E9-908E-479D-AB1B-0F31851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3509-4618-43EC-A89C-CC0F5D4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6450-5FFB-4EC9-A9A7-4387C413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6316-670C-495A-B3F1-7D31F014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687-E2B9-463E-AC1A-DECDE813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5F7E-AAEA-4AA9-A035-4007F14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3BF8-6B19-480B-97DB-CE8F6AA3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97F7-20EC-4421-A5CC-7E8AA78B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8673-D5BC-4512-8329-8A15E37E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B755-357E-4B4B-8A92-723DEBC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204B-FA20-4920-A829-1E665E5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24E2-49F0-42BD-A4AD-26C8D31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5011-422B-42AB-A5B8-01C6005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BC06-1D15-4FDF-80F8-13FC0627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F3A8-DB90-478E-9138-D36C5314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0F6-505C-4A18-ACD7-81C3785A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696F-EFBA-4370-AAB4-28657901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E38F-57C1-4AB0-9064-872B6E31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190CA-E73F-4C76-AFF6-4324F6A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7B01-185B-41AC-94F4-A644565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B57D-9A55-4EA1-B0AB-BD6D233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3C16-0FAB-42A2-B824-5ED059B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8928-C34F-48C5-B03A-9434AB54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5EC3-52DF-431C-A9AE-4AC1407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9078-FA75-47EE-AF77-1516D93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9CFA-3299-4003-9C17-BDB3AED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4BA-3146-48DE-9987-A47F896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1470-C77C-4177-B572-1AC93A93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F7351-06C8-413A-8228-F69E47F1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A1C3-80D3-4203-8FAD-88627296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E15D-0AD7-4506-ADCE-66D73D6B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8777-95E8-438F-AFC4-C059DD1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6164-BC66-4FA3-B763-9E26F38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AEE0-AB96-46CC-A8D6-239042F2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FAC8-1673-4C1B-AF90-D4F21FC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6EFF-5347-40AC-9FF0-30223B4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5B9A-AB2F-4BD8-9D2E-A8AFBA0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4B0-4F37-4D05-A870-0829EE43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927D1-9C1B-461E-B697-019E8A0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CFA5-4B2F-4B4B-950D-F8DF15B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3A5E-2827-4147-9871-A31EEF6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DE2F-4C77-4FFD-9E8D-45AA9CAF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A3491-6FE3-486B-93B5-E4FAF86D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21C5-6D88-4F90-85F7-29F12580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5891-77FD-4B6A-9BC1-84C499E9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BA18B-9DFE-4484-AAEF-9FA87707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0EEB-A0AB-4554-A927-6FFC05E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C3BCF-2BC4-4EC5-8F34-4EAA1B0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405-7DC2-4D84-8977-269F7C9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896F-5FD6-4BE8-BACA-05D3A0F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FE3F9-EC8E-4005-AE5D-EEA139E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DFD63-F55F-4F8F-A495-AD9151D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3F0E-1198-4809-88EA-B830D29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26C6F-41DD-4897-B45D-0DFA045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AF3A-5F24-4ED4-92C7-F537F4F4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F050-84C5-45DB-8EF7-A61A2420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16D5-ED7C-456C-AB1F-B0AF07E4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6DF21-C647-4B78-939F-03C9AC75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1AF88-D466-4C82-BCE5-E0BB8D9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CF7-EA27-4DFD-B4C1-EE98AF62F1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EB35-806D-4A37-A37E-8033660D4C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1E9-31C2-4824-8E16-5D63595399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C21-C171-4E10-9152-7F1C28D052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7"/>
          <p:cNvSpPr/>
          <p:nvPr/>
        </p:nvSpPr>
        <p:spPr>
          <a:xfrm rot="5400000">
            <a:off x="824688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8"/>
          <p:cNvSpPr/>
          <p:nvPr/>
        </p:nvSpPr>
        <p:spPr>
          <a:xfrm rot="5400000">
            <a:off x="2199960" y="480060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9"/>
          <p:cNvSpPr/>
          <p:nvPr/>
        </p:nvSpPr>
        <p:spPr>
          <a:xfrm rot="5400000">
            <a:off x="2700000" y="44244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10"/>
          <p:cNvSpPr/>
          <p:nvPr/>
        </p:nvSpPr>
        <p:spPr>
          <a:xfrm rot="5400000">
            <a:off x="7531920" y="1182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0" y="1857240"/>
            <a:ext cx="9144000" cy="321480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0" y="5072040"/>
            <a:ext cx="9144000" cy="14292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0" y="1714680"/>
            <a:ext cx="9144000" cy="14256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六边形 14"/>
          <p:cNvSpPr/>
          <p:nvPr/>
        </p:nvSpPr>
        <p:spPr>
          <a:xfrm rot="5400000">
            <a:off x="1746000" y="968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15"/>
          <p:cNvSpPr/>
          <p:nvPr/>
        </p:nvSpPr>
        <p:spPr>
          <a:xfrm rot="5400000">
            <a:off x="108360" y="1832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16"/>
          <p:cNvSpPr/>
          <p:nvPr/>
        </p:nvSpPr>
        <p:spPr>
          <a:xfrm rot="5400000">
            <a:off x="2602800" y="253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六边形 17"/>
          <p:cNvSpPr/>
          <p:nvPr/>
        </p:nvSpPr>
        <p:spPr>
          <a:xfrm rot="5400000">
            <a:off x="8603640" y="39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六边形 18"/>
          <p:cNvSpPr/>
          <p:nvPr/>
        </p:nvSpPr>
        <p:spPr>
          <a:xfrm rot="5400000">
            <a:off x="8246880" y="6112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六边形 19"/>
          <p:cNvSpPr/>
          <p:nvPr/>
        </p:nvSpPr>
        <p:spPr>
          <a:xfrm rot="5400000">
            <a:off x="6960960" y="3250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六边形 20"/>
          <p:cNvSpPr/>
          <p:nvPr/>
        </p:nvSpPr>
        <p:spPr>
          <a:xfrm rot="5400000">
            <a:off x="7272000" y="853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BK-037"/>
          <p:cNvPicPr/>
          <p:nvPr/>
        </p:nvPicPr>
        <p:blipFill>
          <a:blip r:embed="rId2"/>
          <a:stretch/>
        </p:blipFill>
        <p:spPr>
          <a:xfrm>
            <a:off x="5857920" y="1857240"/>
            <a:ext cx="3538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六边形 22"/>
          <p:cNvSpPr/>
          <p:nvPr/>
        </p:nvSpPr>
        <p:spPr>
          <a:xfrm rot="5400000">
            <a:off x="110304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六边形 23"/>
          <p:cNvSpPr/>
          <p:nvPr/>
        </p:nvSpPr>
        <p:spPr>
          <a:xfrm rot="5400000">
            <a:off x="1387800" y="61124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六边形 24"/>
          <p:cNvSpPr/>
          <p:nvPr/>
        </p:nvSpPr>
        <p:spPr>
          <a:xfrm rot="5400000">
            <a:off x="745560" y="611172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六边形 25"/>
          <p:cNvSpPr/>
          <p:nvPr/>
        </p:nvSpPr>
        <p:spPr>
          <a:xfrm rot="5400000">
            <a:off x="5317560" y="546876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六边形 26"/>
          <p:cNvSpPr/>
          <p:nvPr/>
        </p:nvSpPr>
        <p:spPr>
          <a:xfrm rot="5400000">
            <a:off x="4245840" y="5968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六边形 27"/>
          <p:cNvSpPr/>
          <p:nvPr/>
        </p:nvSpPr>
        <p:spPr>
          <a:xfrm rot="5400000">
            <a:off x="3414240" y="5443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DD0-04B4-4B9F-950F-C16B5F5084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5840" y="428760"/>
            <a:ext cx="576000" cy="663480"/>
          </a:xfrm>
          <a:prstGeom prst="rect">
            <a:avLst/>
          </a:prstGeom>
          <a:ln w="0">
            <a:noFill/>
          </a:ln>
        </p:spPr>
      </p:pic>
      <p:sp>
        <p:nvSpPr>
          <p:cNvPr id="107" name="六边形 9"/>
          <p:cNvSpPr/>
          <p:nvPr/>
        </p:nvSpPr>
        <p:spPr>
          <a:xfrm rot="5400000">
            <a:off x="12780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六边形 10"/>
          <p:cNvSpPr/>
          <p:nvPr/>
        </p:nvSpPr>
        <p:spPr>
          <a:xfrm rot="5400000">
            <a:off x="770760" y="4300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六边形 11"/>
          <p:cNvSpPr/>
          <p:nvPr/>
        </p:nvSpPr>
        <p:spPr>
          <a:xfrm rot="5400000">
            <a:off x="141372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0CAF-667C-4663-B7B4-254ADA3312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A916-4E7C-47E2-A087-81B8C4A39F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708-62C7-482F-A0A1-046373A47C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CB0-E4F9-4E2F-81E6-8439B20923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9E7-74D8-4A7A-BF7C-57E6D22FB3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C15-0DE5-43EB-9D4C-1F6D6DFBAC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E61-A752-4E5C-8676-91DE1F0A3D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1280" y="3286080"/>
            <a:ext cx="59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职场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0F00-A4F7-400C-80AB-30D7738E9D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23"/>
          <p:cNvGrpSpPr/>
          <p:nvPr/>
        </p:nvGrpSpPr>
        <p:grpSpPr>
          <a:xfrm>
            <a:off x="242280" y="1676160"/>
            <a:ext cx="8382960" cy="4825440"/>
            <a:chOff x="242280" y="1676160"/>
            <a:chExt cx="8382960" cy="4825440"/>
          </a:xfrm>
        </p:grpSpPr>
        <p:sp>
          <p:nvSpPr>
            <p:cNvPr id="699" name="Text Box 4"/>
            <p:cNvSpPr/>
            <p:nvPr/>
          </p:nvSpPr>
          <p:spPr>
            <a:xfrm>
              <a:off x="6719400" y="31798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9"/>
            <p:cNvGrpSpPr/>
            <p:nvPr/>
          </p:nvGrpSpPr>
          <p:grpSpPr>
            <a:xfrm>
              <a:off x="1038600" y="2384280"/>
              <a:ext cx="1344600" cy="1321200"/>
              <a:chOff x="1038600" y="2384280"/>
              <a:chExt cx="1344600" cy="1321200"/>
            </a:xfrm>
          </p:grpSpPr>
          <p:sp>
            <p:nvSpPr>
              <p:cNvPr id="701" name="Rectangle 5"/>
              <p:cNvSpPr/>
              <p:nvPr/>
            </p:nvSpPr>
            <p:spPr>
              <a:xfrm rot="3418800">
                <a:off x="1248840" y="25430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50742f"/>
                  </a:gs>
                  <a:gs pos="100000">
                    <a:srgbClr val="25361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6"/>
              <p:cNvSpPr/>
              <p:nvPr/>
            </p:nvSpPr>
            <p:spPr>
              <a:xfrm>
                <a:off x="1365480" y="29019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0"/>
            <p:cNvGrpSpPr/>
            <p:nvPr/>
          </p:nvGrpSpPr>
          <p:grpSpPr>
            <a:xfrm>
              <a:off x="2473920" y="4289040"/>
              <a:ext cx="1344600" cy="1321200"/>
              <a:chOff x="2473920" y="4289040"/>
              <a:chExt cx="1344600" cy="1321200"/>
            </a:xfrm>
          </p:grpSpPr>
          <p:sp>
            <p:nvSpPr>
              <p:cNvPr id="704" name="Rectangle 7"/>
              <p:cNvSpPr/>
              <p:nvPr/>
            </p:nvSpPr>
            <p:spPr>
              <a:xfrm rot="3418800">
                <a:off x="2684160" y="444780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268868"/>
                  </a:gs>
                  <a:gs pos="100000">
                    <a:srgbClr val="123f3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8"/>
              <p:cNvSpPr/>
              <p:nvPr/>
            </p:nvSpPr>
            <p:spPr>
              <a:xfrm>
                <a:off x="2800800" y="480672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1"/>
            <p:cNvGrpSpPr/>
            <p:nvPr/>
          </p:nvGrpSpPr>
          <p:grpSpPr>
            <a:xfrm>
              <a:off x="4543920" y="3136680"/>
              <a:ext cx="1344600" cy="1321200"/>
              <a:chOff x="4543920" y="3136680"/>
              <a:chExt cx="1344600" cy="1321200"/>
            </a:xfrm>
          </p:grpSpPr>
          <p:sp>
            <p:nvSpPr>
              <p:cNvPr id="707" name="Rectangle 9"/>
              <p:cNvSpPr/>
              <p:nvPr/>
            </p:nvSpPr>
            <p:spPr>
              <a:xfrm rot="3418800">
                <a:off x="4754160" y="32954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d9be02"/>
                  </a:gs>
                  <a:gs pos="100000">
                    <a:srgbClr val="645801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0"/>
              <p:cNvSpPr/>
              <p:nvPr/>
            </p:nvSpPr>
            <p:spPr>
              <a:xfrm>
                <a:off x="4870800" y="36543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2"/>
            <p:cNvGrpSpPr/>
            <p:nvPr/>
          </p:nvGrpSpPr>
          <p:grpSpPr>
            <a:xfrm>
              <a:off x="6893280" y="1676160"/>
              <a:ext cx="1344600" cy="1321200"/>
              <a:chOff x="6893280" y="1676160"/>
              <a:chExt cx="1344600" cy="1321200"/>
            </a:xfrm>
          </p:grpSpPr>
          <p:sp>
            <p:nvSpPr>
              <p:cNvPr id="710" name="Rectangle 3"/>
              <p:cNvSpPr/>
              <p:nvPr/>
            </p:nvSpPr>
            <p:spPr>
              <a:xfrm rot="3418800">
                <a:off x="7103520" y="183492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f900f9"/>
                  </a:gs>
                  <a:gs pos="100000">
                    <a:srgbClr val="730073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11"/>
              <p:cNvSpPr/>
              <p:nvPr/>
            </p:nvSpPr>
            <p:spPr>
              <a:xfrm>
                <a:off x="7220160" y="2193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2"/>
            <p:cNvSpPr/>
            <p:nvPr/>
          </p:nvSpPr>
          <p:spPr>
            <a:xfrm>
              <a:off x="2048040" y="3497400"/>
              <a:ext cx="76176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 flipV="1">
              <a:off x="3648240" y="4030560"/>
              <a:ext cx="106668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4"/>
            <p:cNvSpPr/>
            <p:nvPr/>
          </p:nvSpPr>
          <p:spPr>
            <a:xfrm flipV="1">
              <a:off x="5781600" y="2646360"/>
              <a:ext cx="129564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2352600" y="2081160"/>
              <a:ext cx="41148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6"/>
            <p:cNvSpPr/>
            <p:nvPr/>
          </p:nvSpPr>
          <p:spPr>
            <a:xfrm>
              <a:off x="2376000" y="57704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4662000" y="47037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242280" y="38656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57120" y="164304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圆角矩形 48"/>
          <p:cNvSpPr/>
          <p:nvPr/>
        </p:nvSpPr>
        <p:spPr>
          <a:xfrm>
            <a:off x="642960" y="2071800"/>
            <a:ext cx="7643880" cy="3571920"/>
          </a:xfrm>
          <a:prstGeom prst="roundRect">
            <a:avLst>
              <a:gd name="adj" fmla="val 8065"/>
            </a:avLst>
          </a:prstGeom>
          <a:solidFill>
            <a:srgbClr val="e9ece8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00080" y="2643120"/>
          <a:ext cx="7072200" cy="278604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009440"/>
                <a:gridCol w="1011240"/>
                <a:gridCol w="1009800"/>
                <a:gridCol w="1011240"/>
                <a:gridCol w="1009440"/>
              </a:tblGrid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</a:tbl>
          </a:graphicData>
        </a:graphic>
      </p:graphicFrame>
      <p:sp>
        <p:nvSpPr>
          <p:cNvPr id="545" name="TextBox 49"/>
          <p:cNvSpPr/>
          <p:nvPr/>
        </p:nvSpPr>
        <p:spPr>
          <a:xfrm>
            <a:off x="1643040" y="2143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组合 46"/>
          <p:cNvGrpSpPr/>
          <p:nvPr/>
        </p:nvGrpSpPr>
        <p:grpSpPr>
          <a:xfrm>
            <a:off x="785880" y="3005280"/>
            <a:ext cx="7143840" cy="761760"/>
            <a:chOff x="785880" y="3005280"/>
            <a:chExt cx="7143840" cy="761760"/>
          </a:xfrm>
        </p:grpSpPr>
        <p:sp>
          <p:nvSpPr>
            <p:cNvPr id="548" name="矩形 4"/>
            <p:cNvSpPr/>
            <p:nvPr/>
          </p:nvSpPr>
          <p:spPr>
            <a:xfrm>
              <a:off x="785880" y="3005280"/>
              <a:ext cx="7143840" cy="761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5"/>
            <p:cNvSpPr/>
            <p:nvPr/>
          </p:nvSpPr>
          <p:spPr>
            <a:xfrm>
              <a:off x="785880" y="3005280"/>
              <a:ext cx="844560" cy="7617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45"/>
          <p:cNvGrpSpPr/>
          <p:nvPr/>
        </p:nvGrpSpPr>
        <p:grpSpPr>
          <a:xfrm>
            <a:off x="785880" y="2022480"/>
            <a:ext cx="7143840" cy="763560"/>
            <a:chOff x="785880" y="2022480"/>
            <a:chExt cx="7143840" cy="763560"/>
          </a:xfrm>
        </p:grpSpPr>
        <p:sp>
          <p:nvSpPr>
            <p:cNvPr id="551" name="矩形 7"/>
            <p:cNvSpPr/>
            <p:nvPr/>
          </p:nvSpPr>
          <p:spPr>
            <a:xfrm>
              <a:off x="785880" y="20224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8"/>
            <p:cNvSpPr/>
            <p:nvPr/>
          </p:nvSpPr>
          <p:spPr>
            <a:xfrm>
              <a:off x="785880" y="20224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47"/>
          <p:cNvGrpSpPr/>
          <p:nvPr/>
        </p:nvGrpSpPr>
        <p:grpSpPr>
          <a:xfrm>
            <a:off x="785880" y="4000680"/>
            <a:ext cx="7143840" cy="763560"/>
            <a:chOff x="785880" y="4000680"/>
            <a:chExt cx="7143840" cy="763560"/>
          </a:xfrm>
        </p:grpSpPr>
        <p:sp>
          <p:nvSpPr>
            <p:cNvPr id="554" name="矩形 10"/>
            <p:cNvSpPr/>
            <p:nvPr/>
          </p:nvSpPr>
          <p:spPr>
            <a:xfrm>
              <a:off x="785880" y="40006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1"/>
            <p:cNvSpPr/>
            <p:nvPr/>
          </p:nvSpPr>
          <p:spPr>
            <a:xfrm>
              <a:off x="785880" y="40006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48"/>
          <p:cNvGrpSpPr/>
          <p:nvPr/>
        </p:nvGrpSpPr>
        <p:grpSpPr>
          <a:xfrm>
            <a:off x="785880" y="5072040"/>
            <a:ext cx="7143840" cy="763560"/>
            <a:chOff x="785880" y="5072040"/>
            <a:chExt cx="7143840" cy="763560"/>
          </a:xfrm>
        </p:grpSpPr>
        <p:sp>
          <p:nvSpPr>
            <p:cNvPr id="557" name="矩形 13"/>
            <p:cNvSpPr/>
            <p:nvPr/>
          </p:nvSpPr>
          <p:spPr>
            <a:xfrm>
              <a:off x="785880" y="507204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14"/>
            <p:cNvSpPr/>
            <p:nvPr/>
          </p:nvSpPr>
          <p:spPr>
            <a:xfrm>
              <a:off x="785880" y="507204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Box 50"/>
          <p:cNvSpPr/>
          <p:nvPr/>
        </p:nvSpPr>
        <p:spPr>
          <a:xfrm>
            <a:off x="2419200" y="216864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6"/>
          <p:cNvSpPr/>
          <p:nvPr/>
        </p:nvSpPr>
        <p:spPr>
          <a:xfrm>
            <a:off x="2438280" y="4179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7"/>
          <p:cNvSpPr/>
          <p:nvPr/>
        </p:nvSpPr>
        <p:spPr>
          <a:xfrm>
            <a:off x="2438280" y="5214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8"/>
          <p:cNvSpPr/>
          <p:nvPr/>
        </p:nvSpPr>
        <p:spPr>
          <a:xfrm>
            <a:off x="2419200" y="313200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71360" y="34596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10"/>
          <p:cNvGrpSpPr/>
          <p:nvPr/>
        </p:nvGrpSpPr>
        <p:grpSpPr>
          <a:xfrm>
            <a:off x="357120" y="2500200"/>
            <a:ext cx="8030880" cy="2281320"/>
            <a:chOff x="357120" y="2500200"/>
            <a:chExt cx="8030880" cy="2281320"/>
          </a:xfrm>
        </p:grpSpPr>
        <p:sp>
          <p:nvSpPr>
            <p:cNvPr id="565" name="AutoShape 15"/>
            <p:cNvSpPr/>
            <p:nvPr/>
          </p:nvSpPr>
          <p:spPr>
            <a:xfrm rot="10800000">
              <a:off x="5293800" y="300384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>
                    <a:alpha val="14117"/>
                  </a:srgbClr>
                </a:gs>
                <a:gs pos="100000">
                  <a:srgbClr val="ddddd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3"/>
            <p:cNvSpPr/>
            <p:nvPr/>
          </p:nvSpPr>
          <p:spPr>
            <a:xfrm>
              <a:off x="357120" y="30024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>
                    <a:alpha val="14117"/>
                  </a:srgbClr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"/>
            <p:cNvSpPr/>
            <p:nvPr/>
          </p:nvSpPr>
          <p:spPr>
            <a:xfrm>
              <a:off x="2732760" y="3488400"/>
              <a:ext cx="3225960" cy="1291680"/>
            </a:xfrm>
            <a:prstGeom prst="ellipse">
              <a:avLst/>
            </a:prstGeom>
            <a:gradFill rotWithShape="0">
              <a:gsLst>
                <a:gs pos="0">
                  <a:srgbClr val="6c6c6c">
                    <a:alpha val="70196"/>
                  </a:srgbClr>
                </a:gs>
                <a:gs pos="100000">
                  <a:srgbClr val="eaeae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4"/>
            <p:cNvSpPr/>
            <p:nvPr/>
          </p:nvSpPr>
          <p:spPr>
            <a:xfrm>
              <a:off x="3589200" y="2500200"/>
              <a:ext cx="1580400" cy="1580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"/>
            <p:cNvSpPr/>
            <p:nvPr/>
          </p:nvSpPr>
          <p:spPr>
            <a:xfrm>
              <a:off x="3713760" y="2500200"/>
              <a:ext cx="1317600" cy="116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7"/>
            <p:cNvSpPr/>
            <p:nvPr/>
          </p:nvSpPr>
          <p:spPr>
            <a:xfrm>
              <a:off x="357120" y="254196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9"/>
            <p:cNvSpPr/>
            <p:nvPr/>
          </p:nvSpPr>
          <p:spPr>
            <a:xfrm rot="10800000">
              <a:off x="5356440" y="25416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solidFill>
              <a:srgbClr val="006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Box 9"/>
          <p:cNvSpPr/>
          <p:nvPr/>
        </p:nvSpPr>
        <p:spPr>
          <a:xfrm>
            <a:off x="571680" y="442908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5500800" y="442260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3071880" y="171468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직사각형 45"/>
          <p:cNvSpPr/>
          <p:nvPr/>
        </p:nvSpPr>
        <p:spPr>
          <a:xfrm>
            <a:off x="2205000" y="4468680"/>
            <a:ext cx="1503360" cy="11937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오른쪽 화살표 47"/>
          <p:cNvGrpSpPr/>
          <p:nvPr/>
        </p:nvGrpSpPr>
        <p:grpSpPr>
          <a:xfrm>
            <a:off x="2511360" y="4651200"/>
            <a:ext cx="1165320" cy="938160"/>
            <a:chOff x="2511360" y="4651200"/>
            <a:chExt cx="1165320" cy="938160"/>
          </a:xfrm>
        </p:grpSpPr>
        <p:pic>
          <p:nvPicPr>
            <p:cNvPr id="578" name="오른쪽 화살표 47" descr=""/>
            <p:cNvPicPr/>
            <p:nvPr/>
          </p:nvPicPr>
          <p:blipFill>
            <a:blip r:embed="rId1"/>
            <a:stretch/>
          </p:blipFill>
          <p:spPr>
            <a:xfrm>
              <a:off x="2511360" y="4651200"/>
              <a:ext cx="11653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516040" y="4897440"/>
              <a:ext cx="920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직사각형 44"/>
          <p:cNvSpPr/>
          <p:nvPr/>
        </p:nvSpPr>
        <p:spPr>
          <a:xfrm>
            <a:off x="2205000" y="2292480"/>
            <a:ext cx="1503360" cy="11919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오른쪽 화살표 46"/>
          <p:cNvGrpSpPr/>
          <p:nvPr/>
        </p:nvGrpSpPr>
        <p:grpSpPr>
          <a:xfrm>
            <a:off x="2511360" y="2419200"/>
            <a:ext cx="1165320" cy="939960"/>
            <a:chOff x="2511360" y="2419200"/>
            <a:chExt cx="1165320" cy="939960"/>
          </a:xfrm>
        </p:grpSpPr>
        <p:pic>
          <p:nvPicPr>
            <p:cNvPr id="582" name="오른쪽 화살표 46" descr=""/>
            <p:cNvPicPr/>
            <p:nvPr/>
          </p:nvPicPr>
          <p:blipFill>
            <a:blip r:embed="rId2"/>
            <a:stretch/>
          </p:blipFill>
          <p:spPr>
            <a:xfrm>
              <a:off x="2511360" y="2419200"/>
              <a:ext cx="1165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2516040" y="2666880"/>
              <a:ext cx="920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타원 3"/>
          <p:cNvSpPr/>
          <p:nvPr/>
        </p:nvSpPr>
        <p:spPr>
          <a:xfrm>
            <a:off x="909720" y="3587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857160" y="1928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그룹 25"/>
          <p:cNvGrpSpPr/>
          <p:nvPr/>
        </p:nvGrpSpPr>
        <p:grpSpPr>
          <a:xfrm>
            <a:off x="960480" y="2031840"/>
            <a:ext cx="1658880" cy="1659240"/>
            <a:chOff x="960480" y="2031840"/>
            <a:chExt cx="1658880" cy="1659240"/>
          </a:xfrm>
        </p:grpSpPr>
        <p:sp>
          <p:nvSpPr>
            <p:cNvPr id="587" name="Oval 4"/>
            <p:cNvSpPr/>
            <p:nvPr/>
          </p:nvSpPr>
          <p:spPr>
            <a:xfrm>
              <a:off x="960480" y="2031840"/>
              <a:ext cx="1658880" cy="165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"/>
            <p:cNvSpPr/>
            <p:nvPr/>
          </p:nvSpPr>
          <p:spPr>
            <a:xfrm>
              <a:off x="1012320" y="20836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3" descr="C:\Documents and Settings\HANA\바탕 화면\김성태\업무\파워포인트\자료\그림3.png"/>
          <p:cNvPicPr/>
          <p:nvPr/>
        </p:nvPicPr>
        <p:blipFill>
          <a:blip r:embed="rId3"/>
          <a:stretch/>
        </p:blipFill>
        <p:spPr>
          <a:xfrm>
            <a:off x="1000080" y="3224160"/>
            <a:ext cx="1560600" cy="420840"/>
          </a:xfrm>
          <a:prstGeom prst="rect">
            <a:avLst/>
          </a:prstGeom>
          <a:ln w="0">
            <a:noFill/>
          </a:ln>
        </p:spPr>
      </p:pic>
      <p:sp>
        <p:nvSpPr>
          <p:cNvPr id="590" name="타원 29"/>
          <p:cNvSpPr/>
          <p:nvPr/>
        </p:nvSpPr>
        <p:spPr>
          <a:xfrm>
            <a:off x="909720" y="5765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"/>
          <p:cNvSpPr/>
          <p:nvPr/>
        </p:nvSpPr>
        <p:spPr>
          <a:xfrm>
            <a:off x="857160" y="4106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그룹 31"/>
          <p:cNvGrpSpPr/>
          <p:nvPr/>
        </p:nvGrpSpPr>
        <p:grpSpPr>
          <a:xfrm>
            <a:off x="960480" y="4210200"/>
            <a:ext cx="1658880" cy="1658880"/>
            <a:chOff x="960480" y="4210200"/>
            <a:chExt cx="1658880" cy="1658880"/>
          </a:xfrm>
        </p:grpSpPr>
        <p:sp>
          <p:nvSpPr>
            <p:cNvPr id="593" name="Oval 4"/>
            <p:cNvSpPr/>
            <p:nvPr/>
          </p:nvSpPr>
          <p:spPr>
            <a:xfrm>
              <a:off x="960480" y="4210200"/>
              <a:ext cx="1658880" cy="165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"/>
            <p:cNvSpPr/>
            <p:nvPr/>
          </p:nvSpPr>
          <p:spPr>
            <a:xfrm>
              <a:off x="1012320" y="4262040"/>
              <a:ext cx="1555200" cy="155520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118"/>
          <p:cNvSpPr/>
          <p:nvPr/>
        </p:nvSpPr>
        <p:spPr>
          <a:xfrm>
            <a:off x="1220760" y="4262400"/>
            <a:ext cx="113976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타원 36"/>
          <p:cNvGrpSpPr/>
          <p:nvPr/>
        </p:nvGrpSpPr>
        <p:grpSpPr>
          <a:xfrm>
            <a:off x="1103400" y="3121200"/>
            <a:ext cx="1377720" cy="188640"/>
            <a:chOff x="1103400" y="3121200"/>
            <a:chExt cx="1377720" cy="188640"/>
          </a:xfrm>
        </p:grpSpPr>
        <p:pic>
          <p:nvPicPr>
            <p:cNvPr id="597" name="타원 36" descr=""/>
            <p:cNvPicPr/>
            <p:nvPr/>
          </p:nvPicPr>
          <p:blipFill>
            <a:blip r:embed="rId4"/>
            <a:stretch/>
          </p:blipFill>
          <p:spPr>
            <a:xfrm>
              <a:off x="1103400" y="3121200"/>
              <a:ext cx="13777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303200" y="3149280"/>
              <a:ext cx="974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4" descr="C:\Documents and Settings\HANA\바탕 화면\김성태\업무\파워포인트\자료\그림3.png"/>
          <p:cNvPicPr/>
          <p:nvPr/>
        </p:nvPicPr>
        <p:blipFill>
          <a:blip r:embed="rId5"/>
          <a:stretch/>
        </p:blipFill>
        <p:spPr>
          <a:xfrm>
            <a:off x="1006560" y="5041800"/>
            <a:ext cx="1560600" cy="779400"/>
          </a:xfrm>
          <a:prstGeom prst="rect">
            <a:avLst/>
          </a:prstGeom>
          <a:ln w="0">
            <a:noFill/>
          </a:ln>
        </p:spPr>
      </p:pic>
      <p:sp>
        <p:nvSpPr>
          <p:cNvPr id="600" name="Oval 118"/>
          <p:cNvSpPr/>
          <p:nvPr/>
        </p:nvSpPr>
        <p:spPr>
          <a:xfrm>
            <a:off x="1220760" y="2084400"/>
            <a:ext cx="1139760" cy="83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타원 39"/>
          <p:cNvGrpSpPr/>
          <p:nvPr/>
        </p:nvGrpSpPr>
        <p:grpSpPr>
          <a:xfrm>
            <a:off x="1011240" y="4937040"/>
            <a:ext cx="1555920" cy="189000"/>
            <a:chOff x="1011240" y="4937040"/>
            <a:chExt cx="1555920" cy="189000"/>
          </a:xfrm>
        </p:grpSpPr>
        <p:pic>
          <p:nvPicPr>
            <p:cNvPr id="602" name="타원 39" descr=""/>
            <p:cNvPicPr/>
            <p:nvPr/>
          </p:nvPicPr>
          <p:blipFill>
            <a:blip r:embed="rId6"/>
            <a:stretch/>
          </p:blipFill>
          <p:spPr>
            <a:xfrm>
              <a:off x="1011240" y="4937040"/>
              <a:ext cx="15559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239840" y="4964040"/>
              <a:ext cx="1100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34"/>
          <p:cNvGrpSpPr/>
          <p:nvPr/>
        </p:nvGrpSpPr>
        <p:grpSpPr>
          <a:xfrm>
            <a:off x="3760920" y="2290680"/>
            <a:ext cx="4668840" cy="1193760"/>
            <a:chOff x="3760920" y="2290680"/>
            <a:chExt cx="4668840" cy="1193760"/>
          </a:xfrm>
        </p:grpSpPr>
        <p:sp>
          <p:nvSpPr>
            <p:cNvPr id="605" name="Rectangle 52"/>
            <p:cNvSpPr/>
            <p:nvPr/>
          </p:nvSpPr>
          <p:spPr>
            <a:xfrm>
              <a:off x="3760920" y="2290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3c5723"/>
                </a:gs>
                <a:gs pos="100000">
                  <a:srgbClr val="61d3ae"/>
                </a:gs>
              </a:gsLst>
              <a:lin ang="81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3760920" y="2550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35"/>
          <p:cNvGrpSpPr/>
          <p:nvPr/>
        </p:nvGrpSpPr>
        <p:grpSpPr>
          <a:xfrm>
            <a:off x="3760920" y="4468680"/>
            <a:ext cx="4668840" cy="1193760"/>
            <a:chOff x="3760920" y="4468680"/>
            <a:chExt cx="4668840" cy="1193760"/>
          </a:xfrm>
        </p:grpSpPr>
        <p:sp>
          <p:nvSpPr>
            <p:cNvPr id="608" name="Rectangle 52"/>
            <p:cNvSpPr/>
            <p:nvPr/>
          </p:nvSpPr>
          <p:spPr>
            <a:xfrm>
              <a:off x="3760920" y="4468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3c5723"/>
                </a:gs>
                <a:gs pos="100000">
                  <a:srgbClr val="61d3ae"/>
                </a:gs>
              </a:gsLst>
              <a:lin ang="81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3"/>
            <p:cNvSpPr/>
            <p:nvPr/>
          </p:nvSpPr>
          <p:spPr>
            <a:xfrm>
              <a:off x="3760920" y="4728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6"/>
          <p:cNvSpPr/>
          <p:nvPr/>
        </p:nvSpPr>
        <p:spPr>
          <a:xfrm>
            <a:off x="4071960" y="2786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7"/>
          <p:cNvSpPr/>
          <p:nvPr/>
        </p:nvSpPr>
        <p:spPr>
          <a:xfrm>
            <a:off x="4000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614" name="Freeform 4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3761640" y="2495520"/>
              <a:ext cx="3619800" cy="1786320"/>
            </a:xfrm>
            <a:custGeom>
              <a:avLst/>
              <a:gdLst>
                <a:gd name="textAreaLeft" fmla="*/ 0 w 3619800"/>
                <a:gd name="textAreaRight" fmla="*/ 3620160 w 361980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2133720" y="2891880"/>
              <a:ext cx="1977840" cy="201276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7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618" name="Freeform 8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0742f"/>
                </a:gs>
                <a:gs pos="100000">
                  <a:srgbClr val="2536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3708720" y="24192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23f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2057400" y="2805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e3d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AutoShape 11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006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2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50742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3"/>
          <p:cNvSpPr/>
          <p:nvPr/>
        </p:nvSpPr>
        <p:spPr>
          <a:xfrm>
            <a:off x="285840" y="1733400"/>
            <a:ext cx="2592360" cy="965520"/>
          </a:xfrm>
          <a:noFill/>
          <a:ln w="9360">
            <a:solidFill>
              <a:srgbClr val="00464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Group 41"/>
          <p:cNvGrpSpPr/>
          <p:nvPr/>
        </p:nvGrpSpPr>
        <p:grpSpPr>
          <a:xfrm>
            <a:off x="1000080" y="1828800"/>
            <a:ext cx="6781680" cy="4114800"/>
            <a:chOff x="1000080" y="1828800"/>
            <a:chExt cx="6781680" cy="4114800"/>
          </a:xfrm>
        </p:grpSpPr>
        <p:sp>
          <p:nvSpPr>
            <p:cNvPr id="626" name="AutoShape 2"/>
            <p:cNvSpPr/>
            <p:nvPr/>
          </p:nvSpPr>
          <p:spPr>
            <a:xfrm>
              <a:off x="350352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3"/>
            <p:cNvSpPr/>
            <p:nvPr/>
          </p:nvSpPr>
          <p:spPr>
            <a:xfrm>
              <a:off x="100008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602928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6"/>
            <p:cNvSpPr/>
            <p:nvPr/>
          </p:nvSpPr>
          <p:spPr>
            <a:xfrm>
              <a:off x="293220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07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"/>
            <p:cNvSpPr/>
            <p:nvPr/>
          </p:nvSpPr>
          <p:spPr>
            <a:xfrm>
              <a:off x="539424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60022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d9be02"/>
                </a:gs>
                <a:gs pos="50000">
                  <a:srgbClr val="ffffff"/>
                </a:gs>
                <a:gs pos="100000">
                  <a:srgbClr val="d9be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60022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9be02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0"/>
            <p:cNvSpPr/>
            <p:nvPr/>
          </p:nvSpPr>
          <p:spPr>
            <a:xfrm>
              <a:off x="611352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d9be02"/>
                </a:gs>
                <a:gs pos="50000">
                  <a:srgbClr val="756701"/>
                </a:gs>
                <a:gs pos="100000">
                  <a:srgbClr val="d9be0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1"/>
            <p:cNvSpPr/>
            <p:nvPr/>
          </p:nvSpPr>
          <p:spPr>
            <a:xfrm>
              <a:off x="613872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9be02">
                    <a:alpha val="0"/>
                  </a:srgbClr>
                </a:gs>
                <a:gs pos="100000">
                  <a:srgbClr val="8a79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2"/>
            <p:cNvSpPr/>
            <p:nvPr/>
          </p:nvSpPr>
          <p:spPr>
            <a:xfrm>
              <a:off x="619272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3"/>
            <p:cNvSpPr/>
            <p:nvPr/>
          </p:nvSpPr>
          <p:spPr>
            <a:xfrm>
              <a:off x="107640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900f9"/>
                </a:gs>
                <a:gs pos="50000">
                  <a:srgbClr val="ffffff"/>
                </a:gs>
                <a:gs pos="100000">
                  <a:srgbClr val="f900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4"/>
            <p:cNvSpPr/>
            <p:nvPr/>
          </p:nvSpPr>
          <p:spPr>
            <a:xfrm>
              <a:off x="107640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900f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5"/>
            <p:cNvSpPr/>
            <p:nvPr/>
          </p:nvSpPr>
          <p:spPr>
            <a:xfrm>
              <a:off x="118728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900f9"/>
                </a:gs>
                <a:gs pos="50000">
                  <a:srgbClr val="870087"/>
                </a:gs>
                <a:gs pos="100000">
                  <a:srgbClr val="f90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6"/>
            <p:cNvSpPr/>
            <p:nvPr/>
          </p:nvSpPr>
          <p:spPr>
            <a:xfrm>
              <a:off x="118908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900f9">
                    <a:alpha val="0"/>
                  </a:srgbClr>
                </a:gs>
                <a:gs pos="100000">
                  <a:srgbClr val="9e009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7"/>
            <p:cNvSpPr/>
            <p:nvPr/>
          </p:nvSpPr>
          <p:spPr>
            <a:xfrm>
              <a:off x="126216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18"/>
            <p:cNvGrpSpPr/>
            <p:nvPr/>
          </p:nvGrpSpPr>
          <p:grpSpPr>
            <a:xfrm>
              <a:off x="1282680" y="2031840"/>
              <a:ext cx="1290600" cy="1278000"/>
              <a:chOff x="1282680" y="2031840"/>
              <a:chExt cx="1290600" cy="1278000"/>
            </a:xfrm>
          </p:grpSpPr>
          <p:sp>
            <p:nvSpPr>
              <p:cNvPr id="642" name="Oval 19"/>
              <p:cNvSpPr/>
              <p:nvPr/>
            </p:nvSpPr>
            <p:spPr>
              <a:xfrm>
                <a:off x="128268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20"/>
              <p:cNvSpPr/>
              <p:nvPr/>
            </p:nvSpPr>
            <p:spPr>
              <a:xfrm>
                <a:off x="129924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21"/>
              <p:cNvSpPr/>
              <p:nvPr/>
            </p:nvSpPr>
            <p:spPr>
              <a:xfrm>
                <a:off x="131256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22"/>
              <p:cNvSpPr/>
              <p:nvPr/>
            </p:nvSpPr>
            <p:spPr>
              <a:xfrm>
                <a:off x="138240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Oval 23"/>
            <p:cNvSpPr/>
            <p:nvPr/>
          </p:nvSpPr>
          <p:spPr>
            <a:xfrm>
              <a:off x="354024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0742f"/>
                </a:gs>
                <a:gs pos="50000">
                  <a:srgbClr val="ffffff"/>
                </a:gs>
                <a:gs pos="100000">
                  <a:srgbClr val="5074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4"/>
            <p:cNvSpPr/>
            <p:nvPr/>
          </p:nvSpPr>
          <p:spPr>
            <a:xfrm>
              <a:off x="354024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3616"/>
                </a:gs>
                <a:gs pos="100000">
                  <a:srgbClr val="50742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5"/>
            <p:cNvSpPr/>
            <p:nvPr/>
          </p:nvSpPr>
          <p:spPr>
            <a:xfrm>
              <a:off x="365112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0742f"/>
                </a:gs>
                <a:gs pos="50000">
                  <a:srgbClr val="2b3f19"/>
                </a:gs>
                <a:gs pos="100000">
                  <a:srgbClr val="5074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6"/>
            <p:cNvSpPr/>
            <p:nvPr/>
          </p:nvSpPr>
          <p:spPr>
            <a:xfrm>
              <a:off x="365292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0742f">
                    <a:alpha val="0"/>
                  </a:srgbClr>
                </a:gs>
                <a:gs pos="100000">
                  <a:srgbClr val="334a1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7"/>
            <p:cNvSpPr/>
            <p:nvPr/>
          </p:nvSpPr>
          <p:spPr>
            <a:xfrm>
              <a:off x="372420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28"/>
            <p:cNvGrpSpPr/>
            <p:nvPr/>
          </p:nvGrpSpPr>
          <p:grpSpPr>
            <a:xfrm>
              <a:off x="3746520" y="2031840"/>
              <a:ext cx="1290600" cy="1278000"/>
              <a:chOff x="3746520" y="2031840"/>
              <a:chExt cx="1290600" cy="1278000"/>
            </a:xfrm>
          </p:grpSpPr>
          <p:sp>
            <p:nvSpPr>
              <p:cNvPr id="652" name="Oval 29"/>
              <p:cNvSpPr/>
              <p:nvPr/>
            </p:nvSpPr>
            <p:spPr>
              <a:xfrm>
                <a:off x="37465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30"/>
              <p:cNvSpPr/>
              <p:nvPr/>
            </p:nvSpPr>
            <p:spPr>
              <a:xfrm>
                <a:off x="37630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31"/>
              <p:cNvSpPr/>
              <p:nvPr/>
            </p:nvSpPr>
            <p:spPr>
              <a:xfrm>
                <a:off x="37764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32"/>
              <p:cNvSpPr/>
              <p:nvPr/>
            </p:nvSpPr>
            <p:spPr>
              <a:xfrm>
                <a:off x="38462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33"/>
            <p:cNvGrpSpPr/>
            <p:nvPr/>
          </p:nvGrpSpPr>
          <p:grpSpPr>
            <a:xfrm>
              <a:off x="6216480" y="2031840"/>
              <a:ext cx="1292400" cy="1278000"/>
              <a:chOff x="6216480" y="2031840"/>
              <a:chExt cx="1292400" cy="1278000"/>
            </a:xfrm>
          </p:grpSpPr>
          <p:sp>
            <p:nvSpPr>
              <p:cNvPr id="657" name="Oval 34"/>
              <p:cNvSpPr/>
              <p:nvPr/>
            </p:nvSpPr>
            <p:spPr>
              <a:xfrm>
                <a:off x="621648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35"/>
              <p:cNvSpPr/>
              <p:nvPr/>
            </p:nvSpPr>
            <p:spPr>
              <a:xfrm>
                <a:off x="623304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36"/>
              <p:cNvSpPr/>
              <p:nvPr/>
            </p:nvSpPr>
            <p:spPr>
              <a:xfrm>
                <a:off x="624636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37"/>
              <p:cNvSpPr/>
              <p:nvPr/>
            </p:nvSpPr>
            <p:spPr>
              <a:xfrm>
                <a:off x="631656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Text Box 38"/>
            <p:cNvSpPr/>
            <p:nvPr/>
          </p:nvSpPr>
          <p:spPr>
            <a:xfrm>
              <a:off x="157500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39"/>
            <p:cNvSpPr/>
            <p:nvPr/>
          </p:nvSpPr>
          <p:spPr>
            <a:xfrm>
              <a:off x="40435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40"/>
            <p:cNvSpPr/>
            <p:nvPr/>
          </p:nvSpPr>
          <p:spPr>
            <a:xfrm>
              <a:off x="65102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4360" y="15573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Group 35"/>
          <p:cNvGrpSpPr/>
          <p:nvPr/>
        </p:nvGrpSpPr>
        <p:grpSpPr>
          <a:xfrm>
            <a:off x="1219320" y="1219320"/>
            <a:ext cx="5786280" cy="5077800"/>
            <a:chOff x="1219320" y="1219320"/>
            <a:chExt cx="5786280" cy="5077800"/>
          </a:xfrm>
        </p:grpSpPr>
        <p:sp>
          <p:nvSpPr>
            <p:cNvPr id="667" name="Oval 34"/>
            <p:cNvSpPr/>
            <p:nvPr/>
          </p:nvSpPr>
          <p:spPr>
            <a:xfrm>
              <a:off x="5133960" y="2079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33"/>
            <p:cNvSpPr/>
            <p:nvPr/>
          </p:nvSpPr>
          <p:spPr>
            <a:xfrm>
              <a:off x="3848400" y="3765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32"/>
            <p:cNvSpPr/>
            <p:nvPr/>
          </p:nvSpPr>
          <p:spPr>
            <a:xfrm>
              <a:off x="5181840" y="5790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1"/>
            <p:cNvSpPr/>
            <p:nvPr/>
          </p:nvSpPr>
          <p:spPr>
            <a:xfrm>
              <a:off x="1447920" y="4427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 rot="13770000">
              <a:off x="4681440" y="3656520"/>
              <a:ext cx="96012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 rot="20856000">
              <a:off x="2695320" y="3207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9"/>
            <p:cNvGrpSpPr/>
            <p:nvPr/>
          </p:nvGrpSpPr>
          <p:grpSpPr>
            <a:xfrm>
              <a:off x="3633840" y="1901880"/>
              <a:ext cx="1702440" cy="1835640"/>
              <a:chOff x="3633840" y="1901880"/>
              <a:chExt cx="1702440" cy="1835640"/>
            </a:xfrm>
          </p:grpSpPr>
          <p:sp>
            <p:nvSpPr>
              <p:cNvPr id="674" name="Rectangle 10"/>
              <p:cNvSpPr/>
              <p:nvPr/>
            </p:nvSpPr>
            <p:spPr>
              <a:xfrm rot="18394200">
                <a:off x="4808160" y="2113920"/>
                <a:ext cx="5954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1"/>
              <p:cNvGrpSpPr/>
              <p:nvPr/>
            </p:nvGrpSpPr>
            <p:grpSpPr>
              <a:xfrm>
                <a:off x="3633840" y="2149920"/>
                <a:ext cx="1609560" cy="1587600"/>
                <a:chOff x="3633840" y="2149920"/>
                <a:chExt cx="1609560" cy="1587600"/>
              </a:xfrm>
            </p:grpSpPr>
            <p:sp>
              <p:nvSpPr>
                <p:cNvPr id="676" name="Oval 12"/>
                <p:cNvSpPr/>
                <p:nvPr/>
              </p:nvSpPr>
              <p:spPr>
                <a:xfrm>
                  <a:off x="3633840" y="2149920"/>
                  <a:ext cx="1609560" cy="158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00f9"/>
                    </a:gs>
                    <a:gs pos="100000">
                      <a:srgbClr val="3d00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3"/>
                <p:cNvSpPr/>
                <p:nvPr/>
              </p:nvSpPr>
              <p:spPr>
                <a:xfrm>
                  <a:off x="3817800" y="2176200"/>
                  <a:ext cx="1241640" cy="59904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599040"/>
                    <a:gd name="textAreaBottom" fmla="*/ 599400 h 599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900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 Box 14"/>
              <p:cNvSpPr/>
              <p:nvPr/>
            </p:nvSpPr>
            <p:spPr>
              <a:xfrm>
                <a:off x="3720600" y="2840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5"/>
            <p:cNvGrpSpPr/>
            <p:nvPr/>
          </p:nvGrpSpPr>
          <p:grpSpPr>
            <a:xfrm>
              <a:off x="5043600" y="1219320"/>
              <a:ext cx="891720" cy="861480"/>
              <a:chOff x="5043600" y="1219320"/>
              <a:chExt cx="891720" cy="861480"/>
            </a:xfrm>
          </p:grpSpPr>
          <p:grpSp>
            <p:nvGrpSpPr>
              <p:cNvPr id="680" name="Group 16"/>
              <p:cNvGrpSpPr/>
              <p:nvPr/>
            </p:nvGrpSpPr>
            <p:grpSpPr>
              <a:xfrm>
                <a:off x="5043600" y="1219320"/>
                <a:ext cx="871560" cy="861480"/>
                <a:chOff x="5043600" y="1219320"/>
                <a:chExt cx="871560" cy="861480"/>
              </a:xfrm>
            </p:grpSpPr>
            <p:sp>
              <p:nvSpPr>
                <p:cNvPr id="681" name="Oval 17"/>
                <p:cNvSpPr/>
                <p:nvPr/>
              </p:nvSpPr>
              <p:spPr>
                <a:xfrm>
                  <a:off x="5043600" y="1219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742f"/>
                    </a:gs>
                    <a:gs pos="100000">
                      <a:srgbClr val="2435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074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20"/>
            <p:cNvGrpSpPr/>
            <p:nvPr/>
          </p:nvGrpSpPr>
          <p:grpSpPr>
            <a:xfrm>
              <a:off x="1219320" y="2544480"/>
              <a:ext cx="1744560" cy="1790280"/>
              <a:chOff x="1219320" y="2544480"/>
              <a:chExt cx="1744560" cy="1790280"/>
            </a:xfrm>
          </p:grpSpPr>
          <p:grpSp>
            <p:nvGrpSpPr>
              <p:cNvPr id="685" name="Group 21"/>
              <p:cNvGrpSpPr/>
              <p:nvPr/>
            </p:nvGrpSpPr>
            <p:grpSpPr>
              <a:xfrm>
                <a:off x="1219320" y="2544480"/>
                <a:ext cx="1744560" cy="1790280"/>
                <a:chOff x="1219320" y="2544480"/>
                <a:chExt cx="1744560" cy="1790280"/>
              </a:xfrm>
            </p:grpSpPr>
            <p:sp>
              <p:nvSpPr>
                <p:cNvPr id="686" name="Oval 22"/>
                <p:cNvSpPr/>
                <p:nvPr/>
              </p:nvSpPr>
              <p:spPr>
                <a:xfrm>
                  <a:off x="1219320" y="2544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8868"/>
                    </a:gs>
                    <a:gs pos="100000">
                      <a:srgbClr val="1c634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3"/>
                <p:cNvSpPr/>
                <p:nvPr/>
              </p:nvSpPr>
              <p:spPr>
                <a:xfrm>
                  <a:off x="1418760" y="257400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8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Text Box 24"/>
              <p:cNvSpPr/>
              <p:nvPr/>
            </p:nvSpPr>
            <p:spPr>
              <a:xfrm>
                <a:off x="1313640" y="3339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25"/>
            <p:cNvGrpSpPr/>
            <p:nvPr/>
          </p:nvGrpSpPr>
          <p:grpSpPr>
            <a:xfrm>
              <a:off x="4975200" y="3804840"/>
              <a:ext cx="2013120" cy="1989000"/>
              <a:chOff x="4975200" y="3804840"/>
              <a:chExt cx="2013120" cy="1989000"/>
            </a:xfrm>
          </p:grpSpPr>
          <p:grpSp>
            <p:nvGrpSpPr>
              <p:cNvPr id="690" name="Group 26"/>
              <p:cNvGrpSpPr/>
              <p:nvPr/>
            </p:nvGrpSpPr>
            <p:grpSpPr>
              <a:xfrm>
                <a:off x="4975200" y="3804840"/>
                <a:ext cx="2013120" cy="1989000"/>
                <a:chOff x="4975200" y="3804840"/>
                <a:chExt cx="2013120" cy="1989000"/>
              </a:xfrm>
            </p:grpSpPr>
            <p:sp>
              <p:nvSpPr>
                <p:cNvPr id="691" name="Oval 27"/>
                <p:cNvSpPr/>
                <p:nvPr/>
              </p:nvSpPr>
              <p:spPr>
                <a:xfrm>
                  <a:off x="4975200" y="3804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be02"/>
                    </a:gs>
                    <a:gs pos="100000">
                      <a:srgbClr val="7668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8"/>
                <p:cNvSpPr/>
                <p:nvPr/>
              </p:nvSpPr>
              <p:spPr>
                <a:xfrm>
                  <a:off x="5205240" y="3837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be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Text Box 29"/>
              <p:cNvSpPr/>
              <p:nvPr/>
            </p:nvSpPr>
            <p:spPr>
              <a:xfrm>
                <a:off x="5263560" y="4666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20:49Z</dcterms:created>
  <dc:creator>幻灯片之家：www.eeppt.com</dc:creator>
  <dc:description/>
  <cp:keywords>幻灯片之家：www.eeppt.com</cp:keywords>
  <dc:language>en-US</dc:language>
  <cp:lastModifiedBy/>
  <dcterms:modified xsi:type="dcterms:W3CDTF">2015-09-18T13:24:2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