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9F17-83D1-4BDF-974F-648AADA16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2C4D-AD5D-417E-BA87-E164E0649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3FC8-320E-487B-A2E6-50432FF59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DA93-CF69-4218-B4C3-8D31F2A42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A306-96A9-4BA5-B948-787014FE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E24B-8BC0-4535-8FC6-3F21FA77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8B0D-FC72-4A5C-8AED-063CED3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3650-101D-4BBC-A1C0-A241BAE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1B0FB-B0BF-4555-9280-E373AD4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188640"/>
            <a:ext cx="82184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FC26-2B2A-48F5-9880-8624C18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BFFC2-75D1-409E-BFC7-B1D4FC9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AD40-C78A-43EB-844A-8DF96FF7F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DB44B-63FC-422C-8613-4598BD1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6F73D-67D3-49CD-97F7-8DFCA72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38E8D-510F-4BEE-B997-7366F878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6DD37-D090-44D2-9765-F41AB2F8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2099E-25B7-485A-9B6B-1D1EDDFD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4C0E-2F7B-4439-B28C-A6A2AC4BD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9C5F-89B3-48B9-AB45-F1BE2C63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4FB1-7735-4181-BE90-33E7F0EE8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88640"/>
            <a:ext cx="82184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26D0-3697-4E94-938E-5AE7CEE9B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D233-2735-428E-95FF-A8FF80A17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48A3-CDD5-4594-9CC5-3A6400919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5F94-2F14-488B-90F3-C9E392008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9E2-1305-4C94-8387-79EC74D423B2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819520"/>
            <a:ext cx="9144000" cy="761760"/>
          </a:xfrm>
          <a:prstGeom prst="rect">
            <a:avLst/>
          </a:prstGeom>
          <a:gradFill rotWithShape="0">
            <a:gsLst>
              <a:gs pos="0">
                <a:srgbClr val="000b0b"/>
              </a:gs>
              <a:gs pos="50000">
                <a:srgbClr val="004e4c"/>
              </a:gs>
              <a:gs pos="100000">
                <a:srgbClr val="000b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352680" y="2133720"/>
            <a:ext cx="2590920" cy="609480"/>
            <a:chOff x="3352680" y="2133720"/>
            <a:chExt cx="2590920" cy="609480"/>
          </a:xfrm>
        </p:grpSpPr>
        <p:sp>
          <p:nvSpPr>
            <p:cNvPr id="42" name=""/>
            <p:cNvSpPr/>
            <p:nvPr/>
          </p:nvSpPr>
          <p:spPr>
            <a:xfrm>
              <a:off x="5715000" y="2406960"/>
              <a:ext cx="0" cy="336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3600" y="2449080"/>
              <a:ext cx="0" cy="294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52680" y="2449080"/>
              <a:ext cx="0" cy="294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22680" y="2406960"/>
              <a:ext cx="0" cy="336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98800" y="2343960"/>
              <a:ext cx="0" cy="3992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73480" y="2281320"/>
              <a:ext cx="0" cy="4618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9600" y="2196360"/>
              <a:ext cx="0" cy="5468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24280" y="213372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29200" y="2196720"/>
              <a:ext cx="0" cy="546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7800" y="2259720"/>
              <a:ext cx="0" cy="483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2322720"/>
              <a:ext cx="0" cy="4204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360" y="278100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CD3-AEF1-4E2A-92B6-235627DE4A6F}" type="slidenum">
              <a:rPr b="0" lang="ko-KR" sz="1400" spc="-1" strike="noStrike">
                <a:solidFill>
                  <a:srgbClr val="ffffcc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360" y="278100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震撼企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幻灯片打包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644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Click to add tit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Competitor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Strength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Gulim"/>
              </a:rPr>
              <a:t>Weaknes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002E-DA8B-49AC-9F0B-F849A3B44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Related Docu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3836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7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