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-3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-3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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CF23CF0-907B-4BEE-9C5E-F0A0D5706E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Kostenlose Vorlage Fussball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5126040"/>
            <a:ext cx="748512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63640" y="5786280"/>
            <a:ext cx="75103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7920" y="58428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足球场球门运动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eader WM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9520" y="9324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1152360" y="2970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Kostenlose Vorlage Fussball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126040"/>
            <a:ext cx="748512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5:21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4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