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9C50-6418-42A4-A82D-BBD21557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617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71440" y="3766680"/>
            <a:ext cx="617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D9D-60E7-4D4D-A630-28CA4A45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340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71440" y="376668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34040" y="376668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4D9-1432-4540-A6F5-58696977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8360" y="121932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45280" y="121932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71440" y="376668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058360" y="376668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45280" y="3766680"/>
            <a:ext cx="198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F09-77CC-4ED9-A915-6D726204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71440" y="12193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E7B-CD7F-4D24-A763-CD0B3B12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B2B-A77C-4EAE-A904-5736C12D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3011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34040" y="1219320"/>
            <a:ext cx="3011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9EA-7381-4718-B493-9293A708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0B5-A764-44C8-9D9C-24A0E0E5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71440" y="-360"/>
            <a:ext cx="6172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29F-8E4E-412A-9B32-210C9FAA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34040" y="1219320"/>
            <a:ext cx="3011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71440" y="376668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377-C985-4EC1-BD34-3A3C943E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3011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340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34040" y="376668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7ED-42A7-4001-B364-B47C01AA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34040" y="1219320"/>
            <a:ext cx="301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71440" y="3766680"/>
            <a:ext cx="617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535-904F-400E-82EC-E44B5954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71440" y="12193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6D03-FF54-4964-8B69-283A6F08EF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971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d817"/>
                </a:solidFill>
                <a:latin typeface="Arial"/>
                <a:ea typeface="宋体"/>
              </a:rPr>
              <a:t>4●4●2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42667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526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5080" y="162864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足球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71440" y="12193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263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AFC-0F50-46B9-83E8-FC9E48B2B8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590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Transitional Page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2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31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