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FE7-B76B-4DFE-9758-BC0B4F0B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E4B-0634-47A2-B9B6-57CA9B7F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0DEF6-EF17-4007-9623-1994AA20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5A384-9F08-45DD-921C-624AEB36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6F33D-A9A6-4939-AF0F-1955BF64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9D050-7136-4598-BD67-6DFCC3B2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80333-239A-40CF-9C2E-1F5A7338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76E58-78EA-496E-8563-C2949DE8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34FDC-CCC9-4F24-BF1F-870E3085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A8A4B-9C75-4422-8EE5-2D593DA6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6649F-2BF4-4626-B735-F112583B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A9CD9-52DB-4291-8646-23FF3A79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CED-DB72-4C59-93E3-1A4B81C7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0E848-5FC4-4203-9C3B-D0B79C7E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ED030-1000-47AE-815C-19C512AF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58B69-C78B-4C52-87B2-CEFAAF1F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C2B8E-836A-48CE-AC30-69F140F8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2D75B-0F77-4F14-9048-0D05A0B6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28AD7-178C-4449-A459-14D8613C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0A36B-646D-400C-B4ED-CC09779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656AD-257E-4D90-A98E-EFF783B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6E803-D44E-485C-BDE3-6B436008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43B64-B706-4904-B353-C5205269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8F5-85E4-4753-B680-1FE487CB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D5ECE-BEF6-4DA7-A29C-FB84EF80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6C0E6-ECE2-4DC2-8087-A8B6F1B8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A7261-DC2C-4CC3-9C4B-6C9C1DA7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5B2FB-C74A-44E4-A2BF-68DE47CB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182F5-0AE0-4CDC-A171-D000D6EF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61624-6679-46F8-9519-215325A1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15025-CC6E-431B-9296-DDF2C057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E2E9-2059-47AF-8BD3-394097A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5C68A-E444-41DC-A8AC-C5C3BB91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32281-196B-408D-A29A-3C2CF7A1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D23F-DD5A-4ADE-98E2-D3B002B4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68C57-2A5E-4696-8035-8D3DE4C4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BFA32-FAB3-4F8F-BA73-A30AE977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50DD6-8ABC-4033-A0E0-E014B0C5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5D0A0-3905-467A-B750-82519A8E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F27FF-84C7-4EF9-8F3A-07B1C7F8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E1E78-1736-4D8D-875F-EE869367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C1335-F917-4B69-BE7F-62E86A8D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DE686-F3F7-42C0-8693-0B1CC5C9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25353-ACC9-4BD4-A161-E1973E55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C0073-C389-4226-AB85-2DE08253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8036-5E97-432B-AE41-3E859E92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5C13A-F3D7-4C19-B79A-219A8271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E058A-D1FA-4DB4-81D5-ED3F65C3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831EC-0F50-470C-9C91-EBEE628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D3BC0-0D8B-4A30-8C5B-BE241AA5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19685-E20E-4259-A7E1-80470CCA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87449-F403-4AF9-A865-C4ADF0EF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9B9B1-9BB4-4ED5-AB7C-9C676F4C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C0D93-35CF-4A91-8B33-2078FDEA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2CFD6-DD63-4625-B34E-9068AAC6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340E5-965A-4311-A0B6-E779E9EC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C146-6DC1-40FC-9CEB-22BB8DFD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B648E-C681-47E0-88F3-F9AB3FF3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42F1C-A465-45AF-9616-AFA5F91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D17CC-71C2-44E8-B98D-1B7A13EA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72E51-E9F4-4ED5-A412-E55D19C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CE86B-E48B-4F90-B914-32098CAD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CFDAA-FA8D-4D39-8D84-1FB337B1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BF364-BE69-4497-B620-3ADDF2CD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B783-3BC0-4B30-A494-67F81657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510F-B159-4810-8D9C-E7C4F217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441C-B216-4805-A3E7-CCD6922F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26D1-9B8E-4144-96FF-85CC4AB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E79-DD4C-4F1B-9276-4B496F86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BEF6-CF2B-4FC8-9F7B-783853A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6255-C65A-48CA-9A01-B0F4582B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F6D9-4CB5-456B-B658-EE39FBA8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3200-6293-4AEE-9B55-26C81EDB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D883-09FC-4D9B-824E-1F10B8B9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2FB2-9B9A-4D56-BF6F-C052D85C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ED65-4079-4D7D-BDCB-8ADC0824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571A-FEE6-406F-A83E-7B602995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D515-4BF9-4534-813B-9DC4C655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FA6A-D6DA-42AE-916A-E3DEF9FB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A0B-1EE7-4596-B8B4-7AE4FD79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5FA0-436D-47A9-A2E4-7CB3605E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15DA-6D17-4CAF-BABC-87D47D77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D352-55D4-4070-9A9A-85F26001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334D-903E-4A49-B019-53C2CDA2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0964-E36B-44E5-928A-863D1AA2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EAE2-F318-406A-A933-08E81BDE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981E-146F-4AB7-A2C6-18704C96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9B74C-96F0-406A-90DD-FF991FFC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89111-AEDF-4B5D-874E-E1C0AE7F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B1B43-4168-479D-BB96-213BF5A5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CBF-870A-409C-B056-4BDE14F3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CF164-8F71-4581-8469-61CDF375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2A306-B4FE-4079-94F1-A9CF5EF5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2BA87-7115-4E7D-9552-34564529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622B8-730D-4BB1-9841-F7DFF7BC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D1D81-512B-4911-A330-F94EF1AB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CDDD1-3338-400E-A5BB-82BA5CEF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408A1-6B81-4E37-8608-1F4371AE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88C0-41B4-4B5B-A758-3726C332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02AC-BA0C-43DD-9BBB-2F10DC1B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A457-8062-4BF1-A02E-863A0F80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3B8-D4FE-4B90-9F2B-B9E63FD6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A80A-28A2-4399-8DCA-D4C9DB57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DFA74-5203-497A-A9B0-29050E4B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5C180-C4B3-4DA0-8ADC-A8A2A99A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48F4A-3FE5-47B7-AD86-AC75B9E0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A9E6-AF8A-4B41-8499-961D9305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688B8-CB06-4697-890B-A93229A2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5AEA4-DEF7-417A-8B90-1ABA97AB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71448-D237-4FEA-AF9F-3C4001E1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CEB3-0097-414D-B436-4A83A8EC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0147A-BE32-4F13-B562-FB9558D6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239-A8E8-43EE-BA16-A5D07414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B9425-490B-4F83-94B4-FD4F4C8D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3429B-F7E3-4EFF-ACA2-B4044CDC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CF661-CE36-4A7D-8111-7013BE6F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D5BA6-6BD3-4147-B586-0F908811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FE044-5FD4-4192-BBF3-E9562B92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B6555-16CD-4E79-ACE1-C81F119C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0F810-0A5B-4A0D-8794-806110BB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7D916-4040-4EBB-9129-1486E386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0B682-D3EC-4FF1-A8DC-603792E9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9F2D9-2FAB-4C91-8603-0C40ABDA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3F8-C0D6-4E59-946F-BF62ECDD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A27F7-F092-4CFD-9FE6-58E4FF7E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3E6C-6A4A-45FE-BE63-DA9E4A3A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86E42-F9B3-49E7-B545-26217E4F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65E4C-63CB-4A12-8AD1-C563EDB5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D813E-8CF4-4F35-A883-20D7974F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6EDB5-BFCE-4955-B047-5BC2A336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47224-CEA8-45F4-B778-448870D6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3C4B5-E5CE-43E7-A3AE-65781660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3FB29-923F-45ED-944A-BF4923BF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8507B-0CDC-4F8A-950D-A41620B1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D82-BD4B-4739-A721-31FD276D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E1A51-4B56-4137-AB28-E8B3DAB2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0407F-ADA5-403D-BB96-E461206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97853-7803-422A-873D-25CD9A8A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C5DE8-792F-4C2C-B128-AA1AD783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6A134-47CC-4C36-B19A-FE6BE1A8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028B0-16DD-4DF1-BD38-2808ADF7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ABB64-45F9-4534-BA68-44431929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31304-8B48-4CD8-B6D1-6A4AC8B7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BDCED-82EE-461D-9648-6EE941F5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0D0E2-3CCF-4995-92BD-835F7F6B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87F-095D-459A-8319-12F71BB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53840" y="262080"/>
            <a:ext cx="7489800" cy="40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653BC-85EC-44FD-83DF-32A8D09A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7A848-8EC6-4E98-843F-EE4AC09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FF9EA-B8BD-4C48-BD64-BA2A658E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CB6B2-4E4C-4912-AA0C-825BB0BC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5619A-C7D4-4AB5-813B-663E4763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D61DE-E265-4E00-9427-D5A3D06F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E9A3B-71C0-4E0B-A00B-4628A7C3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E13C8-BB49-436A-87E1-A903D103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549B5-6F76-4C95-8153-C8C945B4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E1A55-6249-460E-82B2-B284B27E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素彩网</a:t>
            </a: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http://www.sc115.com-ppt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81DE-9F4B-4CB8-BB23-14D0DEC2813D}" type="slidenum">
              <a:rPr b="1" lang="zh-CN" sz="14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94EE-1E95-4482-9F90-39AE1E4E3FDE}" type="slidenum">
              <a:rPr b="1" lang="zh-CN" sz="14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7167-C1F9-4479-97C1-C3B6F908DA19}" type="slidenum">
              <a:rPr b="1" lang="zh-CN" sz="14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B692-A2E2-44EF-BEE2-A68CABC4EA48}" type="slidenum">
              <a:rPr b="1" lang="zh-CN" sz="14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858A-ABB6-455C-8756-CB6A991EC8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176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5900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764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B8ED-6AE7-41D6-A729-B57F48548277}" type="slidenum">
              <a:rPr b="1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F096-2D5F-4B9E-92A4-3FB03CB6CB9D}" type="slidenum">
              <a:rPr b="1" lang="zh-CN" sz="14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082C-E1CC-4CDA-9CB3-90136C44C5DA}" type="slidenum">
              <a:rPr b="1" lang="zh-CN" sz="14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BD89-0018-4892-982A-88E5FCEF7C89}" type="slidenum">
              <a:rPr b="1" lang="zh-CN" sz="14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E403-437F-4BAF-9AC2-58403542EFBA}" type="slidenum">
              <a:rPr b="1" lang="zh-CN" sz="14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61A2-CC5C-404D-B674-79796C4D24BB}" type="slidenum">
              <a:rPr b="1" lang="zh-CN" sz="14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BCA5-9089-4D4D-8001-ABAAA0712EAE}" type="slidenum">
              <a:rPr b="1" lang="zh-CN" sz="14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53840" y="262080"/>
            <a:ext cx="74898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0e5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305e4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C55A-6882-402C-9489-B5BFF5B18C35}" type="slidenum">
              <a:rPr b="1" lang="zh-CN" sz="14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pt-B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pt-B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pt-B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pt-B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pt-B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pt-B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pt-B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pt-B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pt-B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0A59C-D3A0-470C-A794-A813688509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6360" y="2638080"/>
            <a:ext cx="633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46464"/>
                </a:solidFill>
                <a:latin typeface="Arial"/>
              </a:rPr>
              <a:t>足球体育运动</a:t>
            </a:r>
            <a:r>
              <a:rPr b="1" lang="zh-CN" sz="4000" spc="-1" strike="noStrike">
                <a:solidFill>
                  <a:srgbClr val="646464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646464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0:48:0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101083862052</vt:lpwstr>
  </property>
</Properties>
</file>