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EE5E-9645-4BAF-9B8E-3C47F00C9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6D58-0395-4CDC-8421-916341B8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8478-468B-43B0-901B-E89101CB4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A133-F82E-44E0-B651-59B4EE1F5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DDCF-B4F7-438F-8866-2B99DB7CE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2D94-9C2D-49C5-9A0A-99FF8A30B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5E08-AF1C-416C-BA3E-69C47712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84EC-E60A-4202-9952-EB5EBF56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2D4B-28AA-4BB3-8E36-97E54266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C3D3-9F19-4D80-B59E-EC9A6EDB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6245-5B7E-4DD0-AC36-303EE3F2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6D51-0FF4-444E-A65E-00AA2585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D:\SLIDEtoME\TP模板\新建文件夹 (8)\bg2-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457200" indent="4572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3" marL="1371600" indent="-4572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4" marL="1828800" indent="-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5" marL="1828800" indent="-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6" marL="1828800" indent="-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949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C024-6407-4FDE-9FE1-80FFDE5FD0AF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此处添加公司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2FE20-9A0B-4D82-B8A9-7479AE23FCA9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矩形 14"/>
          <p:cNvSpPr/>
          <p:nvPr/>
        </p:nvSpPr>
        <p:spPr>
          <a:xfrm>
            <a:off x="7380360" y="334800"/>
            <a:ext cx="1368360" cy="5050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D:\SLIDEtoME\TP模板\新建文件夹 (8)\bg2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4" name="矩形 9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778040"/>
            <a:ext cx="83534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11111"/>
                </a:solidFill>
                <a:latin typeface="Arial Black"/>
              </a:rPr>
              <a:t>紫色黄色相间工作总结</a:t>
            </a:r>
            <a:r>
              <a:rPr b="1" lang="en-US" sz="4000" spc="-1" strike="noStrike">
                <a:solidFill>
                  <a:srgbClr val="111111"/>
                </a:solidFill>
                <a:latin typeface="Arial Black"/>
              </a:rPr>
              <a:t>PPT</a:t>
            </a:r>
            <a:r>
              <a:rPr b="1" lang="zh-CN" sz="4000" spc="-1" strike="noStrike">
                <a:solidFill>
                  <a:srgbClr val="111111"/>
                </a:solidFill>
                <a:latin typeface="Arial Black"/>
              </a:rPr>
              <a:t>模板</a:t>
            </a:r>
            <a:endParaRPr b="0" lang="en-US" sz="40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95280" y="2568600"/>
            <a:ext cx="835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</a:rPr>
              <a:t>点击此处添加幻灯副标题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7333-5BB0-4107-9EDB-9BF9C3F6F2CD}" type="slidenum">
              <a:rPr b="0" lang="zh-CN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53440" cy="37436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168" name="图片占位符 11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37436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sp>
        <p:nvSpPr>
          <p:cNvPr id="169" name=""/>
          <p:cNvSpPr txBox="1"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</a:rPr>
              <a:t>单击此处添加图片描述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3151-E53A-47C2-B026-5875CA5A6FF6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70CB-DE81-4F32-ADED-FD7BD5C128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64"/>
          <p:cNvGrpSpPr/>
          <p:nvPr/>
        </p:nvGrpSpPr>
        <p:grpSpPr>
          <a:xfrm>
            <a:off x="480960" y="1631880"/>
            <a:ext cx="8340480" cy="3236760"/>
            <a:chOff x="480960" y="1631880"/>
            <a:chExt cx="8340480" cy="3236760"/>
          </a:xfrm>
        </p:grpSpPr>
        <p:sp>
          <p:nvSpPr>
            <p:cNvPr id="172" name="Freeform 65"/>
            <p:cNvSpPr/>
            <p:nvPr/>
          </p:nvSpPr>
          <p:spPr>
            <a:xfrm>
              <a:off x="676800" y="1631880"/>
              <a:ext cx="4841640" cy="1862640"/>
            </a:xfrm>
            <a:prstGeom prst="pie">
              <a:avLst/>
            </a:prstGeom>
            <a:solidFill>
              <a:srgbClr val="481f6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73" name="Freeform 66"/>
            <p:cNvSpPr/>
            <p:nvPr/>
          </p:nvSpPr>
          <p:spPr>
            <a:xfrm>
              <a:off x="4049640" y="2203920"/>
              <a:ext cx="558720" cy="570600"/>
            </a:xfrm>
            <a:prstGeom prst="pie">
              <a:avLst/>
            </a:prstGeom>
            <a:solidFill>
              <a:srgbClr val="481f6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74" name="Freeform 67"/>
            <p:cNvSpPr/>
            <p:nvPr/>
          </p:nvSpPr>
          <p:spPr>
            <a:xfrm>
              <a:off x="480960" y="2618280"/>
              <a:ext cx="1681200" cy="1762920"/>
            </a:xfrm>
            <a:prstGeom prst="pie">
              <a:avLst/>
            </a:prstGeom>
            <a:solidFill>
              <a:srgbClr val="481f6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75" name="Freeform 68"/>
            <p:cNvSpPr/>
            <p:nvPr/>
          </p:nvSpPr>
          <p:spPr>
            <a:xfrm>
              <a:off x="3627360" y="3769200"/>
              <a:ext cx="1011600" cy="694080"/>
            </a:xfrm>
            <a:prstGeom prst="pie">
              <a:avLst/>
            </a:prstGeom>
            <a:solidFill>
              <a:srgbClr val="481f6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76" name="Freeform 69"/>
            <p:cNvSpPr/>
            <p:nvPr/>
          </p:nvSpPr>
          <p:spPr>
            <a:xfrm>
              <a:off x="5547600" y="1708920"/>
              <a:ext cx="3273840" cy="3159720"/>
            </a:xfrm>
            <a:prstGeom prst="pie">
              <a:avLst/>
            </a:prstGeom>
            <a:solidFill>
              <a:srgbClr val="481f6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77" name="Freeform 70"/>
            <p:cNvSpPr/>
            <p:nvPr/>
          </p:nvSpPr>
          <p:spPr>
            <a:xfrm>
              <a:off x="659520" y="2083320"/>
              <a:ext cx="299520" cy="227880"/>
            </a:xfrm>
            <a:prstGeom prst="pie">
              <a:avLst/>
            </a:prstGeom>
            <a:solidFill>
              <a:srgbClr val="481f6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78" name="Freeform 71"/>
            <p:cNvSpPr/>
            <p:nvPr/>
          </p:nvSpPr>
          <p:spPr>
            <a:xfrm>
              <a:off x="1951200" y="3810600"/>
              <a:ext cx="187200" cy="327600"/>
            </a:xfrm>
            <a:prstGeom prst="pie">
              <a:avLst/>
            </a:prstGeom>
            <a:solidFill>
              <a:srgbClr val="481f6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79" name="Freeform 72"/>
            <p:cNvSpPr/>
            <p:nvPr/>
          </p:nvSpPr>
          <p:spPr>
            <a:xfrm>
              <a:off x="3203280" y="3378240"/>
              <a:ext cx="785160" cy="409680"/>
            </a:xfrm>
            <a:prstGeom prst="pie">
              <a:avLst/>
            </a:prstGeom>
            <a:solidFill>
              <a:srgbClr val="481f6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0" name="Freeform 73"/>
            <p:cNvSpPr/>
            <p:nvPr/>
          </p:nvSpPr>
          <p:spPr>
            <a:xfrm>
              <a:off x="3547440" y="3351600"/>
              <a:ext cx="416880" cy="317160"/>
            </a:xfrm>
            <a:prstGeom prst="pie">
              <a:avLst/>
            </a:prstGeom>
            <a:solidFill>
              <a:srgbClr val="481f6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1" name="Freeform 74"/>
            <p:cNvSpPr/>
            <p:nvPr/>
          </p:nvSpPr>
          <p:spPr>
            <a:xfrm>
              <a:off x="3957840" y="3463560"/>
              <a:ext cx="671400" cy="327600"/>
            </a:xfrm>
            <a:prstGeom prst="pie">
              <a:avLst/>
            </a:prstGeom>
            <a:solidFill>
              <a:srgbClr val="481f6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2" name="Freeform 75"/>
            <p:cNvSpPr/>
            <p:nvPr/>
          </p:nvSpPr>
          <p:spPr>
            <a:xfrm>
              <a:off x="3737880" y="3051720"/>
              <a:ext cx="238680" cy="341280"/>
            </a:xfrm>
            <a:prstGeom prst="pie">
              <a:avLst/>
            </a:prstGeom>
            <a:solidFill>
              <a:srgbClr val="481f6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3" name="Freeform 76"/>
            <p:cNvSpPr/>
            <p:nvPr/>
          </p:nvSpPr>
          <p:spPr>
            <a:xfrm>
              <a:off x="4404240" y="4481280"/>
              <a:ext cx="112320" cy="101160"/>
            </a:xfrm>
            <a:prstGeom prst="pie">
              <a:avLst/>
            </a:prstGeom>
            <a:solidFill>
              <a:srgbClr val="481f6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4" name="Freeform 77"/>
            <p:cNvSpPr/>
            <p:nvPr/>
          </p:nvSpPr>
          <p:spPr>
            <a:xfrm>
              <a:off x="4920480" y="4347360"/>
              <a:ext cx="318240" cy="315360"/>
            </a:xfrm>
            <a:prstGeom prst="pie">
              <a:avLst/>
            </a:prstGeom>
            <a:solidFill>
              <a:srgbClr val="481f6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5" name="Freeform 78"/>
            <p:cNvSpPr/>
            <p:nvPr/>
          </p:nvSpPr>
          <p:spPr>
            <a:xfrm>
              <a:off x="7583040" y="2955240"/>
              <a:ext cx="456480" cy="151920"/>
            </a:xfrm>
            <a:prstGeom prst="pie">
              <a:avLst/>
            </a:prstGeom>
            <a:solidFill>
              <a:srgbClr val="481f6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6" name="Oval 79"/>
            <p:cNvSpPr/>
            <p:nvPr/>
          </p:nvSpPr>
          <p:spPr>
            <a:xfrm>
              <a:off x="3642480" y="2943360"/>
              <a:ext cx="39240" cy="33840"/>
            </a:xfrm>
            <a:prstGeom prst="ellipse">
              <a:avLst/>
            </a:prstGeom>
            <a:solidFill>
              <a:srgbClr val="481f6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4A74-AA91-46D4-AEFF-200403890F78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9" name="矩形 7"/>
          <p:cNvSpPr/>
          <p:nvPr/>
        </p:nvSpPr>
        <p:spPr>
          <a:xfrm>
            <a:off x="63180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0" name="矩形 8"/>
          <p:cNvSpPr/>
          <p:nvPr/>
        </p:nvSpPr>
        <p:spPr>
          <a:xfrm>
            <a:off x="268272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1" name="矩形 9"/>
          <p:cNvSpPr/>
          <p:nvPr/>
        </p:nvSpPr>
        <p:spPr>
          <a:xfrm>
            <a:off x="473400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2" name="矩形 10"/>
          <p:cNvSpPr/>
          <p:nvPr/>
        </p:nvSpPr>
        <p:spPr>
          <a:xfrm>
            <a:off x="6784920" y="138744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3" name="矩形 18"/>
          <p:cNvSpPr/>
          <p:nvPr/>
        </p:nvSpPr>
        <p:spPr>
          <a:xfrm>
            <a:off x="63180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4" name="矩形 19"/>
          <p:cNvSpPr/>
          <p:nvPr/>
        </p:nvSpPr>
        <p:spPr>
          <a:xfrm>
            <a:off x="268272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5" name="矩形 20"/>
          <p:cNvSpPr/>
          <p:nvPr/>
        </p:nvSpPr>
        <p:spPr>
          <a:xfrm>
            <a:off x="473400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6" name="矩形 21"/>
          <p:cNvSpPr/>
          <p:nvPr/>
        </p:nvSpPr>
        <p:spPr>
          <a:xfrm>
            <a:off x="6784920" y="226836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7" name="矩形 23"/>
          <p:cNvSpPr/>
          <p:nvPr/>
        </p:nvSpPr>
        <p:spPr>
          <a:xfrm>
            <a:off x="63180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8" name="矩形 24"/>
          <p:cNvSpPr/>
          <p:nvPr/>
        </p:nvSpPr>
        <p:spPr>
          <a:xfrm>
            <a:off x="268272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9" name="矩形 25"/>
          <p:cNvSpPr/>
          <p:nvPr/>
        </p:nvSpPr>
        <p:spPr>
          <a:xfrm>
            <a:off x="473400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0" name="矩形 26"/>
          <p:cNvSpPr/>
          <p:nvPr/>
        </p:nvSpPr>
        <p:spPr>
          <a:xfrm>
            <a:off x="6784920" y="3149640"/>
            <a:ext cx="1735200" cy="6303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1" name="矩形 28"/>
          <p:cNvSpPr/>
          <p:nvPr/>
        </p:nvSpPr>
        <p:spPr>
          <a:xfrm>
            <a:off x="63180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2" name="矩形 29"/>
          <p:cNvSpPr/>
          <p:nvPr/>
        </p:nvSpPr>
        <p:spPr>
          <a:xfrm>
            <a:off x="268272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3" name="矩形 30"/>
          <p:cNvSpPr/>
          <p:nvPr/>
        </p:nvSpPr>
        <p:spPr>
          <a:xfrm>
            <a:off x="473400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4" name="矩形 31"/>
          <p:cNvSpPr/>
          <p:nvPr/>
        </p:nvSpPr>
        <p:spPr>
          <a:xfrm>
            <a:off x="6784920" y="4032360"/>
            <a:ext cx="1735200" cy="628560"/>
          </a:xfrm>
          <a:prstGeom prst="rect">
            <a:avLst/>
          </a:prstGeom>
          <a:solidFill>
            <a:srgbClr val="848484">
              <a:alpha val="20000"/>
            </a:srgbClr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Arial"/>
              </a:rPr>
              <a:t>LOGO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5" name="标题 6"/>
          <p:cNvSpPr/>
          <p:nvPr/>
        </p:nvSpPr>
        <p:spPr>
          <a:xfrm>
            <a:off x="395280" y="4956120"/>
            <a:ext cx="83534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6" name="文本占位符 8"/>
          <p:cNvSpPr/>
          <p:nvPr/>
        </p:nvSpPr>
        <p:spPr>
          <a:xfrm>
            <a:off x="395280" y="5522760"/>
            <a:ext cx="835344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使用规范说明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373737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EC51-9E8F-47E2-9B40-CBEEB13573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D:\SLIDEtoME\TP模板\新建文件夹 (8)\bg2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11" name="矩形 12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395280" y="2708280"/>
            <a:ext cx="83534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</a:rPr>
              <a:t>单击此处添加公司信息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1AE7-FC9B-46C9-820E-B550FAA3A136}" type="slidenum">
              <a:rPr b="0" lang="zh-CN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使用说明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7381-8313-4955-A175-3FB193B827FA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395280" y="1565280"/>
            <a:ext cx="696960" cy="38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矩形 12"/>
          <p:cNvSpPr/>
          <p:nvPr/>
        </p:nvSpPr>
        <p:spPr>
          <a:xfrm>
            <a:off x="1092240" y="1565280"/>
            <a:ext cx="696960" cy="38412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" name="矩形 13"/>
          <p:cNvSpPr/>
          <p:nvPr/>
        </p:nvSpPr>
        <p:spPr>
          <a:xfrm>
            <a:off x="1789200" y="1565280"/>
            <a:ext cx="696960" cy="384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4" name="矩形 14"/>
          <p:cNvSpPr/>
          <p:nvPr/>
        </p:nvSpPr>
        <p:spPr>
          <a:xfrm>
            <a:off x="2482920" y="1565280"/>
            <a:ext cx="696960" cy="38412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矩形 16"/>
          <p:cNvSpPr/>
          <p:nvPr/>
        </p:nvSpPr>
        <p:spPr>
          <a:xfrm>
            <a:off x="3179880" y="1565280"/>
            <a:ext cx="696960" cy="384120"/>
          </a:xfrm>
          <a:prstGeom prst="rect">
            <a:avLst/>
          </a:prstGeom>
          <a:solidFill>
            <a:srgbClr val="481f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矩形 17"/>
          <p:cNvSpPr/>
          <p:nvPr/>
        </p:nvSpPr>
        <p:spPr>
          <a:xfrm>
            <a:off x="3876840" y="1565280"/>
            <a:ext cx="684000" cy="3841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" name="矩形 18"/>
          <p:cNvSpPr/>
          <p:nvPr/>
        </p:nvSpPr>
        <p:spPr>
          <a:xfrm>
            <a:off x="4560840" y="1565280"/>
            <a:ext cx="709560" cy="3841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" name="矩形 19"/>
          <p:cNvSpPr/>
          <p:nvPr/>
        </p:nvSpPr>
        <p:spPr>
          <a:xfrm>
            <a:off x="5267160" y="1565280"/>
            <a:ext cx="696960" cy="384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矩形 22"/>
          <p:cNvSpPr/>
          <p:nvPr/>
        </p:nvSpPr>
        <p:spPr>
          <a:xfrm>
            <a:off x="5964120" y="1565280"/>
            <a:ext cx="696960" cy="384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矩形 23"/>
          <p:cNvSpPr/>
          <p:nvPr/>
        </p:nvSpPr>
        <p:spPr>
          <a:xfrm>
            <a:off x="6661080" y="1565280"/>
            <a:ext cx="696960" cy="3841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1" name="矩形 24"/>
          <p:cNvSpPr/>
          <p:nvPr/>
        </p:nvSpPr>
        <p:spPr>
          <a:xfrm>
            <a:off x="7358040" y="1565280"/>
            <a:ext cx="696960" cy="384120"/>
          </a:xfrm>
          <a:prstGeom prst="rect">
            <a:avLst/>
          </a:prstGeom>
          <a:solidFill>
            <a:srgbClr val="3737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" name="矩形 25"/>
          <p:cNvSpPr/>
          <p:nvPr/>
        </p:nvSpPr>
        <p:spPr>
          <a:xfrm>
            <a:off x="8051760" y="1565280"/>
            <a:ext cx="696960" cy="3841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直接连接符 31"/>
          <p:cNvSpPr/>
          <p:nvPr/>
        </p:nvSpPr>
        <p:spPr>
          <a:xfrm>
            <a:off x="395280" y="156528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4" name="TextBox 2057"/>
          <p:cNvSpPr/>
          <p:nvPr/>
        </p:nvSpPr>
        <p:spPr>
          <a:xfrm>
            <a:off x="519120" y="2227320"/>
            <a:ext cx="93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背景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5" name="TextBox 115"/>
          <p:cNvSpPr/>
          <p:nvPr/>
        </p:nvSpPr>
        <p:spPr>
          <a:xfrm>
            <a:off x="3265200" y="222732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填充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TextBox 116"/>
          <p:cNvSpPr/>
          <p:nvPr/>
        </p:nvSpPr>
        <p:spPr>
          <a:xfrm>
            <a:off x="7484760" y="222732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超链接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TextBox 117"/>
          <p:cNvSpPr/>
          <p:nvPr/>
        </p:nvSpPr>
        <p:spPr>
          <a:xfrm>
            <a:off x="449640" y="1965240"/>
            <a:ext cx="614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浅 </a:t>
            </a:r>
            <a:r>
              <a:rPr b="0" lang="en-US" sz="1100" spc="-1" strike="noStrike">
                <a:solidFill>
                  <a:srgbClr val="777777"/>
                </a:solidFill>
                <a:latin typeface="Arial"/>
                <a:ea typeface="微软雅黑"/>
              </a:rPr>
              <a:t>/ </a:t>
            </a: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深色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TextBox 124"/>
          <p:cNvSpPr/>
          <p:nvPr/>
        </p:nvSpPr>
        <p:spPr>
          <a:xfrm>
            <a:off x="3394080" y="1965240"/>
            <a:ext cx="32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一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9" name="TextBox 125"/>
          <p:cNvSpPr/>
          <p:nvPr/>
        </p:nvSpPr>
        <p:spPr>
          <a:xfrm>
            <a:off x="7445880" y="1965240"/>
            <a:ext cx="43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未访问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0" name="TextBox 126"/>
          <p:cNvSpPr/>
          <p:nvPr/>
        </p:nvSpPr>
        <p:spPr>
          <a:xfrm>
            <a:off x="4684680" y="19652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二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TextBox 127"/>
          <p:cNvSpPr/>
          <p:nvPr/>
        </p:nvSpPr>
        <p:spPr>
          <a:xfrm>
            <a:off x="6080760" y="196524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三级填充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TextBox 128"/>
          <p:cNvSpPr/>
          <p:nvPr/>
        </p:nvSpPr>
        <p:spPr>
          <a:xfrm>
            <a:off x="8139600" y="1965240"/>
            <a:ext cx="43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已访问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直接连接符 133"/>
          <p:cNvSpPr/>
          <p:nvPr/>
        </p:nvSpPr>
        <p:spPr>
          <a:xfrm flipV="1">
            <a:off x="874872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直接连接符 134"/>
          <p:cNvSpPr/>
          <p:nvPr/>
        </p:nvSpPr>
        <p:spPr>
          <a:xfrm flipV="1">
            <a:off x="39528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直接连接符 132"/>
          <p:cNvSpPr/>
          <p:nvPr/>
        </p:nvSpPr>
        <p:spPr>
          <a:xfrm>
            <a:off x="395280" y="2563920"/>
            <a:ext cx="8353440" cy="14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6" name="直接连接符 141"/>
          <p:cNvSpPr/>
          <p:nvPr/>
        </p:nvSpPr>
        <p:spPr>
          <a:xfrm>
            <a:off x="395280" y="219852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" name="直接连接符 145"/>
          <p:cNvSpPr/>
          <p:nvPr/>
        </p:nvSpPr>
        <p:spPr>
          <a:xfrm flipV="1">
            <a:off x="317988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8" name="直接连接符 146"/>
          <p:cNvSpPr/>
          <p:nvPr/>
        </p:nvSpPr>
        <p:spPr>
          <a:xfrm flipV="1">
            <a:off x="7358040" y="1565280"/>
            <a:ext cx="1440" cy="10000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9" name="直接连接符 142"/>
          <p:cNvSpPr/>
          <p:nvPr/>
        </p:nvSpPr>
        <p:spPr>
          <a:xfrm flipV="1">
            <a:off x="456084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" name="直接连接符 147"/>
          <p:cNvSpPr/>
          <p:nvPr/>
        </p:nvSpPr>
        <p:spPr>
          <a:xfrm flipV="1">
            <a:off x="5964120" y="1564920"/>
            <a:ext cx="180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1" name="直接连接符 152"/>
          <p:cNvSpPr/>
          <p:nvPr/>
        </p:nvSpPr>
        <p:spPr>
          <a:xfrm flipV="1">
            <a:off x="805176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2" name="TextBox 135"/>
          <p:cNvSpPr/>
          <p:nvPr/>
        </p:nvSpPr>
        <p:spPr>
          <a:xfrm>
            <a:off x="2510280" y="1965240"/>
            <a:ext cx="3484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描边</a:t>
            </a:r>
            <a:endParaRPr b="0" lang="en-US" sz="11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3" name="矩形 2061"/>
          <p:cNvSpPr/>
          <p:nvPr/>
        </p:nvSpPr>
        <p:spPr>
          <a:xfrm>
            <a:off x="403200" y="3370320"/>
            <a:ext cx="2082960" cy="379440"/>
          </a:xfrm>
          <a:prstGeom prst="rect">
            <a:avLst/>
          </a:prstGeom>
          <a:solidFill>
            <a:srgbClr val="481f67"/>
          </a:solidFill>
          <a:ln w="9360">
            <a:solidFill>
              <a:srgbClr val="240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矩形 155"/>
          <p:cNvSpPr/>
          <p:nvPr/>
        </p:nvSpPr>
        <p:spPr>
          <a:xfrm>
            <a:off x="403200" y="3821040"/>
            <a:ext cx="2082960" cy="379440"/>
          </a:xfrm>
          <a:prstGeom prst="rect">
            <a:avLst/>
          </a:prstGeom>
          <a:solidFill>
            <a:srgbClr val="c00000"/>
          </a:solidFill>
          <a:ln w="9360">
            <a:solidFill>
              <a:srgbClr val="6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5" name="矩形 156"/>
          <p:cNvSpPr/>
          <p:nvPr/>
        </p:nvSpPr>
        <p:spPr>
          <a:xfrm>
            <a:off x="403200" y="4273560"/>
            <a:ext cx="2082960" cy="377640"/>
          </a:xfrm>
          <a:prstGeom prst="rect">
            <a:avLst/>
          </a:prstGeom>
          <a:solidFill>
            <a:srgbClr val="ff6600"/>
          </a:solidFill>
          <a:ln w="9360">
            <a:solidFill>
              <a:srgbClr val="7f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6" name="矩形 157"/>
          <p:cNvSpPr/>
          <p:nvPr/>
        </p:nvSpPr>
        <p:spPr>
          <a:xfrm>
            <a:off x="403200" y="4724280"/>
            <a:ext cx="2082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一般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7" name="矩形 158"/>
          <p:cNvSpPr/>
          <p:nvPr/>
        </p:nvSpPr>
        <p:spPr>
          <a:xfrm>
            <a:off x="403200" y="5175360"/>
            <a:ext cx="1386000" cy="379440"/>
          </a:xfrm>
          <a:prstGeom prst="rect">
            <a:avLst/>
          </a:prstGeom>
          <a:solidFill>
            <a:srgbClr val="777777"/>
          </a:solidFill>
          <a:ln w="9360">
            <a:solidFill>
              <a:srgbClr val="1d1d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文本样式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8" name="TextBox 161"/>
          <p:cNvSpPr/>
          <p:nvPr/>
        </p:nvSpPr>
        <p:spPr>
          <a:xfrm>
            <a:off x="7763400" y="537516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注释文字样式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9" name="矩形 2063"/>
          <p:cNvSpPr/>
          <p:nvPr/>
        </p:nvSpPr>
        <p:spPr>
          <a:xfrm>
            <a:off x="554400" y="1200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配色方案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0" name="矩形 163"/>
          <p:cNvSpPr/>
          <p:nvPr/>
        </p:nvSpPr>
        <p:spPr>
          <a:xfrm>
            <a:off x="595800" y="3000240"/>
            <a:ext cx="13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填充样式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1" name="矩形 164"/>
          <p:cNvSpPr/>
          <p:nvPr/>
        </p:nvSpPr>
        <p:spPr>
          <a:xfrm>
            <a:off x="3369240" y="30002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数据图表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92" name="内容占位符 6" descr=""/>
          <p:cNvPicPr/>
          <p:nvPr/>
        </p:nvPicPr>
        <p:blipFill>
          <a:blip r:embed="rId1"/>
          <a:stretch/>
        </p:blipFill>
        <p:spPr>
          <a:xfrm>
            <a:off x="3179880" y="3332160"/>
            <a:ext cx="5568840" cy="2052720"/>
          </a:xfrm>
          <a:prstGeom prst="rect">
            <a:avLst/>
          </a:prstGeom>
          <a:ln w="0">
            <a:noFill/>
          </a:ln>
        </p:spPr>
      </p:pic>
      <p:sp>
        <p:nvSpPr>
          <p:cNvPr id="93" name="直接连接符 149"/>
          <p:cNvSpPr/>
          <p:nvPr/>
        </p:nvSpPr>
        <p:spPr>
          <a:xfrm flipV="1">
            <a:off x="2482920" y="1564920"/>
            <a:ext cx="0" cy="6332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4" name="直接连接符 150"/>
          <p:cNvSpPr/>
          <p:nvPr/>
        </p:nvSpPr>
        <p:spPr>
          <a:xfrm>
            <a:off x="395280" y="1944720"/>
            <a:ext cx="8353440" cy="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5" name="矩形 2053"/>
          <p:cNvSpPr/>
          <p:nvPr/>
        </p:nvSpPr>
        <p:spPr>
          <a:xfrm>
            <a:off x="1948320" y="5210280"/>
            <a:ext cx="500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</a:rPr>
              <a:t>超链接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D:\SLIDEtoME\TP模板\新建文件夹 (8)\bg2-2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矩形 12"/>
          <p:cNvSpPr/>
          <p:nvPr/>
        </p:nvSpPr>
        <p:spPr>
          <a:xfrm>
            <a:off x="395280" y="271440"/>
            <a:ext cx="1368360" cy="503280"/>
          </a:xfrm>
          <a:prstGeom prst="rect">
            <a:avLst/>
          </a:prstGeom>
          <a:solidFill>
            <a:srgbClr val="f8f8f8"/>
          </a:solidFill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Arial"/>
              </a:rPr>
              <a:t>LOGO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2BC1-F090-48A5-8FC2-E8E1B41620E6}" type="slidenum">
              <a:rPr b="0" lang="zh-CN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2714400"/>
            <a:ext cx="8353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</a:rPr>
              <a:t>点击此处添加幻灯节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2311560"/>
            <a:ext cx="835344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</a:rPr>
              <a:t>第一节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272520"/>
            <a:ext cx="83534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995720" cy="51152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pic>
        <p:nvPicPr>
          <p:cNvPr id="103" name="内容占位符 8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4995720" cy="5115240"/>
          </a:xfrm>
          <a:prstGeom prst="rect">
            <a:avLst/>
          </a:prstGeom>
          <a:ln w="9360">
            <a:solidFill>
              <a:srgbClr val="777777"/>
            </a:solidFill>
            <a:miter/>
          </a:ln>
        </p:spPr>
      </p:pic>
      <p:sp>
        <p:nvSpPr>
          <p:cNvPr id="104" name=""/>
          <p:cNvSpPr txBox="1"/>
          <p:nvPr/>
        </p:nvSpPr>
        <p:spPr>
          <a:xfrm>
            <a:off x="5651640" y="1125360"/>
            <a:ext cx="3070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2915-6558-41B2-B1FA-AB863543476E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阵列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A0C5-BBF8-40F7-AB44-8D55DA7BE8D7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95280" y="1339920"/>
            <a:ext cx="8353080" cy="4610160"/>
            <a:chOff x="395280" y="1339920"/>
            <a:chExt cx="8353080" cy="4610160"/>
          </a:xfrm>
        </p:grpSpPr>
        <p:sp>
          <p:nvSpPr>
            <p:cNvPr id="110" name=""/>
            <p:cNvSpPr/>
            <p:nvPr/>
          </p:nvSpPr>
          <p:spPr>
            <a:xfrm rot="5400000">
              <a:off x="5386320" y="-540000"/>
              <a:ext cx="29592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ecbd3">
                  <a:alpha val="8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6200000">
              <a:off x="4183200" y="2354040"/>
              <a:ext cx="26683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t" anchorCtr="1" vert="eaVer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5280" y="2489040"/>
              <a:ext cx="1925640" cy="369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8480" y="2507040"/>
              <a:ext cx="183924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1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5386320" y="-151560"/>
              <a:ext cx="29592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ecbd3">
                  <a:alpha val="8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6200000">
              <a:off x="4183200" y="2742120"/>
              <a:ext cx="26683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t" anchorCtr="1" vert="eaVer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5280" y="2877480"/>
              <a:ext cx="1925640" cy="369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8480" y="2895480"/>
              <a:ext cx="183924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2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5400000">
              <a:off x="5386320" y="236520"/>
              <a:ext cx="29592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ecbd3">
                  <a:alpha val="8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6200000">
              <a:off x="4183200" y="3130560"/>
              <a:ext cx="26683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t" anchorCtr="1" vert="eaVer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95280" y="3265920"/>
              <a:ext cx="1925640" cy="369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38480" y="3283920"/>
              <a:ext cx="183924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3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5400000">
              <a:off x="5386320" y="624960"/>
              <a:ext cx="29592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ecbd3">
                  <a:alpha val="8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0000">
              <a:off x="4183200" y="3519000"/>
              <a:ext cx="26683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t" anchorCtr="1" vert="eaVer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5280" y="3654360"/>
              <a:ext cx="1925640" cy="369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8480" y="3672360"/>
              <a:ext cx="183924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4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5400000">
              <a:off x="5386320" y="1013400"/>
              <a:ext cx="29592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ecbd3">
                  <a:alpha val="8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6200000">
              <a:off x="4183200" y="3907440"/>
              <a:ext cx="26683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t" anchorCtr="1" vert="eaVer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5280" y="4042800"/>
              <a:ext cx="1925640" cy="369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38480" y="4060800"/>
              <a:ext cx="183924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5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5386320" y="1401840"/>
              <a:ext cx="295920" cy="642780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cecbd3">
                  <a:alpha val="8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4183200" y="4295880"/>
              <a:ext cx="26683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47680" rIns="247680" tIns="123840" bIns="123840" anchor="t" anchorCtr="1" vert="eaVert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00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1c1c1c"/>
                  </a:solidFill>
                  <a:latin typeface="Arial"/>
                </a:rPr>
                <a:t>单击此处添加内容文本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5280" y="4431240"/>
              <a:ext cx="1925640" cy="369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38480" y="4449240"/>
              <a:ext cx="183924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8680" rIns="148680" tIns="74160" bIns="74160" anchor="ctr">
              <a:noAutofit/>
            </a:bodyPr>
            <a:p>
              <a:pPr algn="ctr">
                <a:lnSpc>
                  <a:spcPct val="90000"/>
                </a:lnSpc>
                <a:spcAft>
                  <a:spcPts val="17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900" spc="-1" strike="noStrike">
                  <a:solidFill>
                    <a:srgbClr val="ffffff"/>
                  </a:solidFill>
                  <a:latin typeface="Arial"/>
                  <a:ea typeface="Arial"/>
                </a:rPr>
                <a:t>6</a:t>
              </a:r>
              <a:endParaRPr b="0" lang="en-US" sz="39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流程图示 </a:t>
            </a:r>
            <a:r>
              <a:rPr b="0" lang="en-US" sz="2000" spc="-1" strike="noStrike">
                <a:solidFill>
                  <a:srgbClr val="111111"/>
                </a:solidFill>
                <a:latin typeface="Arial Black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 Black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906480" y="1339920"/>
            <a:ext cx="7332480" cy="4487760"/>
            <a:chOff x="906480" y="1339920"/>
            <a:chExt cx="7332480" cy="4487760"/>
          </a:xfrm>
        </p:grpSpPr>
        <p:sp>
          <p:nvSpPr>
            <p:cNvPr id="136" name=""/>
            <p:cNvSpPr/>
            <p:nvPr/>
          </p:nvSpPr>
          <p:spPr>
            <a:xfrm>
              <a:off x="906480" y="2583000"/>
              <a:ext cx="2031840" cy="2082960"/>
            </a:xfrm>
            <a:custGeom>
              <a:avLst/>
              <a:gdLst>
                <a:gd name="textAreaLeft" fmla="*/ 59400 w 2031840"/>
                <a:gd name="textAreaRight" fmla="*/ 1972440 w 2031840"/>
                <a:gd name="textAreaTop" fmla="*/ 59400 h 2082960"/>
                <a:gd name="textAreaBottom" fmla="*/ 2023560 h 2082960"/>
              </a:gdLst>
              <a:ahLst/>
              <a:rect l="textAreaLeft" t="textAreaTop" r="textAreaRight" b="textAreaBottom"/>
              <a:pathLst>
                <a:path w="21600" h="22143">
                  <a:moveTo>
                    <a:pt x="2160" y="0"/>
                  </a:moveTo>
                  <a:arcTo wR="2160" hR="2160" stAng="16200000" swAng="-5400000"/>
                  <a:lnTo>
                    <a:pt x="0" y="19983"/>
                  </a:lnTo>
                  <a:arcTo wR="2160" hR="2160" stAng="10800000" swAng="-5400000"/>
                  <a:lnTo>
                    <a:pt x="19440" y="2214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>
                <a:alpha val="89000"/>
              </a:srgbClr>
            </a:solidFill>
            <a:ln w="9360">
              <a:solidFill>
                <a:srgbClr val="481e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45000" y="2630880"/>
              <a:ext cx="1954800" cy="15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3840" rIns="123840" tIns="123840" bIns="123840" anchor="t">
              <a:noAutofit/>
            </a:bodyPr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065680" y="3156480"/>
              <a:ext cx="2149200" cy="2671200"/>
            </a:xfrm>
            <a:custGeom>
              <a:avLst/>
              <a:gdLst>
                <a:gd name="textAreaLeft" fmla="*/ 0 w 2149200"/>
                <a:gd name="textAreaRight" fmla="*/ 2149560 w 2149200"/>
                <a:gd name="textAreaTop" fmla="*/ 0 h 2671200"/>
                <a:gd name="textAreaBottom" fmla="*/ 2671560 h 2671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450" y="4923"/>
                  </a:moveTo>
                  <a:arcTo wR="-10211" hR="-10211" stAng="-8691767" swAng="-14683745"/>
                  <a:lnTo>
                    <a:pt x="1409" y="16133"/>
                  </a:lnTo>
                  <a:arcTo wR="10800" hR="10800" stAng="9024489" swAng="14683745"/>
                  <a:lnTo>
                    <a:pt x="21840" y="18570"/>
                  </a:lnTo>
                  <a:lnTo>
                    <a:pt x="17668" y="19295"/>
                  </a:lnTo>
                  <a:lnTo>
                    <a:pt x="16942" y="1512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57920" y="4219920"/>
              <a:ext cx="1806120" cy="8928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78800" y="4245840"/>
              <a:ext cx="1764000" cy="8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标题</a:t>
              </a:r>
              <a:endParaRPr b="0" lang="en-US" sz="2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443760" y="2583000"/>
              <a:ext cx="2031840" cy="2082960"/>
            </a:xfrm>
            <a:custGeom>
              <a:avLst/>
              <a:gdLst>
                <a:gd name="textAreaLeft" fmla="*/ 59400 w 2031840"/>
                <a:gd name="textAreaRight" fmla="*/ 1972440 w 2031840"/>
                <a:gd name="textAreaTop" fmla="*/ 59400 h 2082960"/>
                <a:gd name="textAreaBottom" fmla="*/ 2023560 h 2082960"/>
              </a:gdLst>
              <a:ahLst/>
              <a:rect l="textAreaLeft" t="textAreaTop" r="textAreaRight" b="textAreaBottom"/>
              <a:pathLst>
                <a:path w="21600" h="22143">
                  <a:moveTo>
                    <a:pt x="2160" y="0"/>
                  </a:moveTo>
                  <a:arcTo wR="2160" hR="2160" stAng="16200000" swAng="-5400000"/>
                  <a:lnTo>
                    <a:pt x="0" y="19983"/>
                  </a:lnTo>
                  <a:arcTo wR="2160" hR="2160" stAng="10800000" swAng="-5400000"/>
                  <a:lnTo>
                    <a:pt x="19440" y="2214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>
                <a:alpha val="89000"/>
              </a:srgbClr>
            </a:solidFill>
            <a:ln w="9360">
              <a:solidFill>
                <a:srgbClr val="481e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482280" y="3077280"/>
              <a:ext cx="1954800" cy="15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3840" rIns="123840" tIns="123840" bIns="123840" anchor="t">
              <a:noAutofit/>
            </a:bodyPr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86040" y="1339920"/>
              <a:ext cx="2408760" cy="2994120"/>
            </a:xfrm>
            <a:custGeom>
              <a:avLst/>
              <a:gdLst>
                <a:gd name="textAreaLeft" fmla="*/ 0 w 2408760"/>
                <a:gd name="textAreaRight" fmla="*/ 2409120 w 2408760"/>
                <a:gd name="textAreaTop" fmla="*/ 0 h 2994120"/>
                <a:gd name="textAreaBottom" fmla="*/ 2994480 h 299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334" y="16620"/>
                  </a:moveTo>
                  <a:arcTo wR="-10274" hR="-10274" stAng="8729652" swAng="-6954142"/>
                  <a:lnTo>
                    <a:pt x="1409" y="5467"/>
                  </a:lnTo>
                  <a:arcTo wR="10800" hR="10800" stAng="-9024489" swAng="6954142"/>
                  <a:lnTo>
                    <a:pt x="21925" y="3152"/>
                  </a:lnTo>
                  <a:lnTo>
                    <a:pt x="21162" y="7273"/>
                  </a:lnTo>
                  <a:lnTo>
                    <a:pt x="17041" y="650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95200" y="2136600"/>
              <a:ext cx="1806120" cy="8928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6440" y="2162880"/>
              <a:ext cx="1764000" cy="8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标题</a:t>
              </a:r>
              <a:endParaRPr b="0" lang="en-US" sz="2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81040" y="2583000"/>
              <a:ext cx="2031840" cy="2082960"/>
            </a:xfrm>
            <a:custGeom>
              <a:avLst/>
              <a:gdLst>
                <a:gd name="textAreaLeft" fmla="*/ 59400 w 2031840"/>
                <a:gd name="textAreaRight" fmla="*/ 1972440 w 2031840"/>
                <a:gd name="textAreaTop" fmla="*/ 59400 h 2082960"/>
                <a:gd name="textAreaBottom" fmla="*/ 2023560 h 2082960"/>
              </a:gdLst>
              <a:ahLst/>
              <a:rect l="textAreaLeft" t="textAreaTop" r="textAreaRight" b="textAreaBottom"/>
              <a:pathLst>
                <a:path w="21600" h="22143">
                  <a:moveTo>
                    <a:pt x="2160" y="0"/>
                  </a:moveTo>
                  <a:arcTo wR="2160" hR="2160" stAng="16200000" swAng="-5400000"/>
                  <a:lnTo>
                    <a:pt x="0" y="19983"/>
                  </a:lnTo>
                  <a:arcTo wR="2160" hR="2160" stAng="10800000" swAng="-5400000"/>
                  <a:lnTo>
                    <a:pt x="19440" y="22143"/>
                  </a:lnTo>
                  <a:arcTo wR="2160" hR="2160" stAng="5400000" swAng="-5400000"/>
                  <a:lnTo>
                    <a:pt x="21600" y="2160"/>
                  </a:lnTo>
                  <a:arcTo wR="2160" hR="2160" stAng="0" swAng="-5400000"/>
                  <a:close/>
                </a:path>
              </a:pathLst>
            </a:custGeom>
            <a:solidFill>
              <a:srgbClr val="ffffff">
                <a:alpha val="89000"/>
              </a:srgbClr>
            </a:solidFill>
            <a:ln w="9360">
              <a:solidFill>
                <a:srgbClr val="481e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019920" y="2630880"/>
              <a:ext cx="1954800" cy="154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3840" rIns="123840" tIns="123840" bIns="123840" anchor="t">
              <a:noAutofit/>
            </a:bodyPr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  <a:p>
              <a:pPr lvl="1" marL="114480" indent="-114480">
                <a:lnSpc>
                  <a:spcPct val="90000"/>
                </a:lnSpc>
                <a:spcAft>
                  <a:spcPts val="264"/>
                </a:spcAft>
                <a:buClr>
                  <a:srgbClr val="1c1c1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1c1c1c"/>
                  </a:solidFill>
                  <a:latin typeface="Arial"/>
                </a:rPr>
                <a:t>单击此处添加文本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32840" y="4219920"/>
              <a:ext cx="1806120" cy="892800"/>
            </a:xfrm>
            <a:prstGeom prst="roundRect">
              <a:avLst>
                <a:gd name="adj" fmla="val 1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53720" y="4245840"/>
              <a:ext cx="1764000" cy="8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30600" bIns="3060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标题</a:t>
              </a:r>
              <a:endParaRPr b="0" lang="en-US" sz="24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50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C416-8912-447F-94EE-4BD5ACD8A66C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表格样式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95280" y="1413000"/>
          <a:ext cx="8353440" cy="4392360"/>
        </p:xfrm>
        <a:graphic>
          <a:graphicData uri="http://schemas.openxmlformats.org/drawingml/2006/table">
            <a:tbl>
              <a:tblPr/>
              <a:tblGrid>
                <a:gridCol w="1670040"/>
                <a:gridCol w="1671480"/>
                <a:gridCol w="1670040"/>
                <a:gridCol w="1671840"/>
                <a:gridCol w="167004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481f6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481f6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481f6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481f6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481f67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1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2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3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4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5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6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7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4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</a:t>
                      </a: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8</a:t>
                      </a:r>
                      <a:endParaRPr b="0" lang="en-US" sz="16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77777"/>
                      </a:solidFill>
                    </a:lnT>
                    <a:lnB w="576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23FF-3760-4BE5-8C5A-15C2E24E50A8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4" name="TextBox 10"/>
          <p:cNvSpPr/>
          <p:nvPr/>
        </p:nvSpPr>
        <p:spPr>
          <a:xfrm>
            <a:off x="7338960" y="581976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A69C-6DA2-45FF-A78C-E41D1C1FF24A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7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8" name="TextBox 8"/>
          <p:cNvSpPr/>
          <p:nvPr/>
        </p:nvSpPr>
        <p:spPr>
          <a:xfrm>
            <a:off x="3090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159" name="内容占位符 6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4105440" cy="4753080"/>
          </a:xfrm>
          <a:prstGeom prst="rect">
            <a:avLst/>
          </a:prstGeom>
          <a:ln w="0">
            <a:noFill/>
          </a:ln>
        </p:spPr>
      </p:pic>
      <p:pic>
        <p:nvPicPr>
          <p:cNvPr id="160" name="内容占位符 6" descr=""/>
          <p:cNvPicPr/>
          <p:nvPr/>
        </p:nvPicPr>
        <p:blipFill>
          <a:blip r:embed="rId2"/>
          <a:stretch/>
        </p:blipFill>
        <p:spPr>
          <a:xfrm>
            <a:off x="4635360" y="1197000"/>
            <a:ext cx="4105440" cy="4753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96720" y="836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 Black"/>
              </a:rPr>
              <a:t>数据图表样式</a:t>
            </a:r>
            <a:endParaRPr b="0" lang="en-US" sz="3200" spc="-1" strike="noStrike">
              <a:solidFill>
                <a:srgbClr val="111111"/>
              </a:solidFill>
              <a:latin typeface="Arial Black"/>
            </a:endParaRPr>
          </a:p>
        </p:txBody>
      </p:sp>
      <p:pic>
        <p:nvPicPr>
          <p:cNvPr id="163" name="内容占位符 6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353440" cy="4753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041A-8A98-440D-89CF-2BE5A640ABEF}" type="slidenum">
              <a:rPr b="0" lang="zh-CN" sz="1800" spc="-1" strike="noStrike">
                <a:solidFill>
                  <a:srgbClr val="111111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7338960" y="596412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10:42:00Z</dcterms:created>
  <dc:creator>www.eeppt.com</dc:creator>
  <dc:description>www.eeppt.com</dc:description>
  <cp:keywords>www.eeppt.com</cp:keywords>
  <dc:language>en-US</dc:language>
  <cp:lastModifiedBy>微软用户</cp:lastModifiedBy>
  <dcterms:modified xsi:type="dcterms:W3CDTF">2015-09-18T13:23:45Z</dcterms:modified>
  <cp:revision>1</cp:revision>
  <dc:subject>TP-通用纹理</dc:subject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