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46BD-57D0-40FA-95D3-FB92DDF2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25EB-19BB-4DD9-B692-504E7DB5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F6E1-CAD8-436B-97CF-9A5785CF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C740-57E7-4821-AFA2-B50FBBEB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B4A2-1AF5-4B39-8AEF-F39A885D9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8D9D-706E-4AA1-B890-3E0B06F2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8C10-FFF0-4E2A-9B76-A1C331B6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48B7-3EC1-476E-98C5-C5020657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4462-BF6D-45D4-9B5F-A199B680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6382-A39D-40FD-993D-6430CA58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6D4B-9D83-4FC4-BCD6-CE55109B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2C87-0D4E-4502-8E86-5A967470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E63B-DB81-4CC4-AABF-AF8721DC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2863-A6CE-4502-8A2F-D4E53B41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E4E6-B985-4FAB-8DDA-2A2B9F15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BB98-474D-4C28-9D09-302845EF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1A43-9468-46D5-95C4-7D0CA7E4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1B3C-5E63-411C-9DD4-0FF1B1DD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AAB5-5585-47FF-BE6D-FD42BAC8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DEA3-A388-4187-84B0-25DC61E2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CDFD-3625-4970-9E97-A172E355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5293-4A77-4876-BD54-33890580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EDAC-0F8E-4C82-80F0-0D2BC3D5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C6FB-FB2D-4EED-A878-A926B96C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E0B5-243C-4293-8026-2E5242342D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0CEC-404E-4917-88A4-0D81AB6EDE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560" y="1357200"/>
            <a:ext cx="72867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27EB-6329-402A-A879-F1EBF5F7D9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" descr="模块1.png"/>
          <p:cNvPicPr/>
          <p:nvPr/>
        </p:nvPicPr>
        <p:blipFill>
          <a:blip r:embed="rId2"/>
          <a:srcRect l="16882" t="0" r="0" b="0"/>
          <a:stretch/>
        </p:blipFill>
        <p:spPr>
          <a:xfrm>
            <a:off x="0" y="1785960"/>
            <a:ext cx="9144000" cy="4422600"/>
          </a:xfrm>
          <a:prstGeom prst="rect">
            <a:avLst/>
          </a:prstGeom>
          <a:ln w="0">
            <a:noFill/>
          </a:ln>
        </p:spPr>
      </p:pic>
      <p:pic>
        <p:nvPicPr>
          <p:cNvPr id="89" name="矩形 3" descr=""/>
          <p:cNvPicPr/>
          <p:nvPr/>
        </p:nvPicPr>
        <p:blipFill>
          <a:blip r:embed="rId3"/>
          <a:stretch/>
        </p:blipFill>
        <p:spPr>
          <a:xfrm>
            <a:off x="2567160" y="2822400"/>
            <a:ext cx="415764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03:38:30Z</dcterms:created>
  <dc:creator>幻灯片之家:www.eeppt.com</dc:creator>
  <dc:description>幻灯片之家:www.eeppt.com</dc:description>
  <cp:keywords>幻灯片之家:www.eeppt.com</cp:keywords>
  <dc:language>en-US</dc:language>
  <cp:lastModifiedBy/>
  <dcterms:modified xsi:type="dcterms:W3CDTF">2015-09-18T13:20:51Z</dcterms:modified>
  <cp:revision>90</cp:revision>
  <dc:subject>幻灯片之家:www.eeppt.com</dc:subject>
  <dc:title>幻灯片之家: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