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B550-8459-4649-A305-CA5A9F22F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F1A4-9311-44D2-8ADD-9ACCFFCC5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EF7C-30DC-43AE-B49A-317A6EE00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7860-50C9-4672-A811-BAEF5EF69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A015-DB28-4267-9058-0BEC90B51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27E4-7D12-4DFD-8F9D-EAD49B988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B913-0B1A-4FFC-B1C2-3D7E65866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D5C4-E1BD-42E1-B3D2-0D60C7893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9801-B553-4856-92D1-8784F43D4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6A09-CA30-48C0-A3F4-38E33EE5F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882B-171F-4A2C-AB45-1BD0EEBEE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2C95-5A09-4BBD-B3F0-E49A975E3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219320" y="1143000"/>
            <a:ext cx="7696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19051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31400" cy="68454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0" y="0"/>
            <a:ext cx="1039680" cy="6845400"/>
          </a:xfrm>
          <a:prstGeom prst="rect">
            <a:avLst/>
          </a:prstGeom>
          <a:gradFill rotWithShape="0">
            <a:gsLst>
              <a:gs pos="0">
                <a:srgbClr val="009183"/>
              </a:gs>
              <a:gs pos="100000">
                <a:srgbClr val="00b7a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94920" y="30492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71600" y="198072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ecece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Monotype Sort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onotype Sort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onotype Sort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219320" y="1143000"/>
            <a:ext cx="7696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19051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31400" cy="6845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0"/>
            <a:ext cx="1039680" cy="6845400"/>
          </a:xfrm>
          <a:prstGeom prst="rect">
            <a:avLst/>
          </a:prstGeom>
          <a:gradFill rotWithShape="0">
            <a:gsLst>
              <a:gs pos="0">
                <a:srgbClr val="009183"/>
              </a:gs>
              <a:gs pos="100000">
                <a:srgbClr val="00b7a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Monotype Sort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Monotype Sorts" charset="2"/>
              <a:buChar char="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Monotype Sort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Monotype Sort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A0F4A-ED86-4AB0-A6D8-BB8649F3BE5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6318-D3FE-421C-AF99-651C29F7BED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54880" y="1230840"/>
            <a:ext cx="606960" cy="299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某某求职简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04240" y="3645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姓名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704240" y="41497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专业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02480" y="404640"/>
            <a:ext cx="556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专业背景绿色简历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4:41Z</dcterms:modified>
  <cp:revision>5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