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C1B-363E-4C3D-9E38-052FD60D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8B4-668B-45BD-BA47-99DC112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362-AF17-4AB9-A774-F84C3AD1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06C-6CF3-4586-8A59-2BDEF6C2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22E-4E4B-40A5-95F5-43464DED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82F-03B5-47C7-928B-5990392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141-F311-4B12-BCB2-18B68A79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A9E-7B9D-48E6-8BAF-39B6144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53C-EC87-4089-8FE6-01D4D1B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764-CBF4-4664-97F1-C267626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DDF-BB9D-4738-8ADA-06499A4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7B5-296F-443B-B332-0DA2949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548-A8E9-4240-B088-EFFBC769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13.png"/><Relationship Id="rId10" Type="http://schemas.openxmlformats.org/officeDocument/2006/relationships/image" Target="../media/image8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64080" y="3564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89280" y="35640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351120" y="35640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120" y="41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药医学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68800" y="613800"/>
            <a:ext cx="76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yin and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244600" y="2225520"/>
            <a:ext cx="1941480" cy="1941840"/>
          </a:xfrm>
          <a:prstGeom prst="ellipse">
            <a:avLst/>
          </a:prstGeom>
          <a:blipFill rotWithShape="0">
            <a:blip r:embed="rId3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4122720" y="1943280"/>
            <a:ext cx="1682640" cy="1684080"/>
          </a:xfrm>
          <a:prstGeom prst="ellipse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751280" y="2933640"/>
            <a:ext cx="2135160" cy="2135160"/>
          </a:xfrm>
          <a:prstGeom prst="ellipse">
            <a:avLst/>
          </a:prstGeom>
          <a:blipFill rotWithShape="0">
            <a:blip r:embed="rId5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3311640" y="3564000"/>
            <a:ext cx="1747800" cy="1747800"/>
          </a:xfrm>
          <a:prstGeom prst="ellipse">
            <a:avLst/>
          </a:prstGeom>
          <a:blipFill rotWithShape="0">
            <a:blip r:embed="rId6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 rot="993000">
            <a:off x="1646280" y="5228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riations  of the four s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 rot="993000">
            <a:off x="1962000" y="55890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equilibr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34F-122D-4386-9340-C4BB07F23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4"/>
          <p:cNvSpPr/>
          <p:nvPr/>
        </p:nvSpPr>
        <p:spPr>
          <a:xfrm>
            <a:off x="1889280" y="990720"/>
            <a:ext cx="4105080" cy="4967280"/>
          </a:xfrm>
          <a:prstGeom prst="pi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353453543"/>
          <p:cNvPicPr/>
          <p:nvPr/>
        </p:nvPicPr>
        <p:blipFill>
          <a:blip r:embed="rId1"/>
          <a:stretch/>
        </p:blipFill>
        <p:spPr>
          <a:xfrm>
            <a:off x="2104920" y="552600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"/>
          <p:cNvPicPr/>
          <p:nvPr/>
        </p:nvPicPr>
        <p:blipFill>
          <a:blip r:embed="rId2"/>
          <a:stretch/>
        </p:blipFill>
        <p:spPr>
          <a:xfrm>
            <a:off x="1015920" y="4238640"/>
            <a:ext cx="1887480" cy="141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"/>
          <p:cNvPicPr/>
          <p:nvPr/>
        </p:nvPicPr>
        <p:blipFill>
          <a:blip r:embed="rId3"/>
          <a:stretch/>
        </p:blipFill>
        <p:spPr>
          <a:xfrm>
            <a:off x="1736640" y="3564000"/>
            <a:ext cx="1752840" cy="13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54353453543"/>
          <p:cNvPicPr/>
          <p:nvPr/>
        </p:nvPicPr>
        <p:blipFill>
          <a:blip r:embed="rId4"/>
          <a:stretch/>
        </p:blipFill>
        <p:spPr>
          <a:xfrm>
            <a:off x="3132000" y="486900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3"/>
          <p:cNvPicPr/>
          <p:nvPr/>
        </p:nvPicPr>
        <p:blipFill>
          <a:blip r:embed="rId5"/>
          <a:stretch/>
        </p:blipFill>
        <p:spPr>
          <a:xfrm>
            <a:off x="2727360" y="2979720"/>
            <a:ext cx="1573200" cy="118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54353453543"/>
          <p:cNvPicPr/>
          <p:nvPr/>
        </p:nvPicPr>
        <p:blipFill>
          <a:blip r:embed="rId6"/>
          <a:stretch/>
        </p:blipFill>
        <p:spPr>
          <a:xfrm>
            <a:off x="3808440" y="410364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4"/>
          <p:cNvPicPr/>
          <p:nvPr/>
        </p:nvPicPr>
        <p:blipFill>
          <a:blip r:embed="rId7"/>
          <a:stretch/>
        </p:blipFill>
        <p:spPr>
          <a:xfrm rot="20367600">
            <a:off x="3132000" y="2123640"/>
            <a:ext cx="1933560" cy="145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4353453543"/>
          <p:cNvPicPr/>
          <p:nvPr/>
        </p:nvPicPr>
        <p:blipFill>
          <a:blip r:embed="rId8"/>
          <a:stretch/>
        </p:blipFill>
        <p:spPr>
          <a:xfrm>
            <a:off x="4483080" y="320364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5"/>
          <p:cNvPicPr/>
          <p:nvPr/>
        </p:nvPicPr>
        <p:blipFill>
          <a:blip r:embed="rId9"/>
          <a:stretch/>
        </p:blipFill>
        <p:spPr>
          <a:xfrm>
            <a:off x="3313080" y="907920"/>
            <a:ext cx="2249640" cy="16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54353453543"/>
          <p:cNvPicPr/>
          <p:nvPr/>
        </p:nvPicPr>
        <p:blipFill>
          <a:blip r:embed="rId10"/>
          <a:stretch/>
        </p:blipFill>
        <p:spPr>
          <a:xfrm>
            <a:off x="5157720" y="1944720"/>
            <a:ext cx="371520" cy="447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5474520" y="1853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g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286240" y="2123280"/>
            <a:ext cx="26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Cao Gang M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4844880" y="3118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-682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4608720" y="3337920"/>
            <a:ext cx="33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Ji Qian Jin Yao F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3405960" y="4823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 Dyna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4124880" y="4058640"/>
            <a:ext cx="23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Jin Dyna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3934080" y="4284000"/>
            <a:ext cx="27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hen Jiu Jia Yi J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3213360" y="5049000"/>
            <a:ext cx="23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ng Han L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2415960" y="558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00 years 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2180160" y="5814360"/>
            <a:ext cx="25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ang Di Nei j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772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1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