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0C2-CA5F-475B-8643-56122E4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FDB-9AE7-475D-831C-B8048CC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DD9-7F6E-4C80-B771-AE89A366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97F-8214-4CD7-A0DA-7766E1DE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06C-EF44-4102-B5C3-47AC578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1A7-5E32-4CCB-A670-90FAEDFE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7BC-B63F-41F1-8F91-5766848E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532-785F-48B5-8E56-154D4BB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CE6-4C7C-4969-905B-B6578ACB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CE5-1D30-418A-AFF6-D14C71C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75F-3ACE-44A2-8E8B-2E726C2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CFB-8D0D-4A89-9453-D007DB0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B11-606E-4D8F-8238-AFA3BA4C17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5000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2246400"/>
            <a:ext cx="21337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>
            <a:off x="1295280" y="5542560"/>
            <a:ext cx="6282000" cy="74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3184560" y="2390760"/>
            <a:ext cx="4761000" cy="2414880"/>
            <a:chOff x="3184560" y="2390760"/>
            <a:chExt cx="4761000" cy="2414880"/>
          </a:xfrm>
        </p:grpSpPr>
        <p:sp>
          <p:nvSpPr>
            <p:cNvPr id="45" name="Line 6"/>
            <p:cNvSpPr/>
            <p:nvPr/>
          </p:nvSpPr>
          <p:spPr>
            <a:xfrm>
              <a:off x="3184560" y="239076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7"/>
            <p:cNvSpPr/>
            <p:nvPr/>
          </p:nvSpPr>
          <p:spPr>
            <a:xfrm>
              <a:off x="3184560" y="27961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3184560" y="318960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3184560" y="35953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184560" y="398916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3184560" y="43945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>
              <a:off x="3184560" y="48052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759760" y="2131920"/>
            <a:ext cx="636480" cy="2670480"/>
            <a:chOff x="2759760" y="2131920"/>
            <a:chExt cx="636480" cy="2670480"/>
          </a:xfrm>
        </p:grpSpPr>
        <p:sp>
          <p:nvSpPr>
            <p:cNvPr id="53" name="Rectangle 14"/>
            <p:cNvSpPr/>
            <p:nvPr/>
          </p:nvSpPr>
          <p:spPr>
            <a:xfrm>
              <a:off x="2790000" y="4495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2783880" y="41212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783880" y="3694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2759760" y="3288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2759760" y="2913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2759760" y="2486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2759760" y="2131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1"/>
          <p:cNvSpPr/>
          <p:nvPr/>
        </p:nvSpPr>
        <p:spPr>
          <a:xfrm flipV="1">
            <a:off x="2465280" y="5019840"/>
            <a:ext cx="135108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4362480" y="5043600"/>
            <a:ext cx="857160" cy="49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V="1">
            <a:off x="5221440" y="5186160"/>
            <a:ext cx="757080" cy="439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V="1">
            <a:off x="6145200" y="5229000"/>
            <a:ext cx="730440" cy="48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 flipV="1">
            <a:off x="7061040" y="5256360"/>
            <a:ext cx="71280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095560" y="55213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 flipV="1">
            <a:off x="3430440" y="5000760"/>
            <a:ext cx="1009800" cy="449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2949480" y="2438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8ffe7">
                  <a:alpha val="80000"/>
                </a:srgbClr>
              </a:gs>
              <a:gs pos="100000">
                <a:srgbClr val="b6ff01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2765520" y="368604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aee5f6">
                  <a:alpha val="90196"/>
                </a:srgbClr>
              </a:gs>
              <a:gs pos="100000">
                <a:srgbClr val="00ace2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3044880" y="5607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9625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4853160" y="581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765760" y="588816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691320" y="5987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6004080" y="314964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3589200" y="4356000"/>
            <a:ext cx="14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3759120" y="30780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00ace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>
            <a:off x="6324480" y="1941480"/>
            <a:ext cx="1981440" cy="355680"/>
          </a:xfrm>
          <a:prstGeom prst="wedgeRectCallout">
            <a:avLst>
              <a:gd name="adj1" fmla="val -31328"/>
              <a:gd name="adj2" fmla="val 122768"/>
            </a:avLst>
          </a:prstGeom>
          <a:solidFill>
            <a:srgbClr val="66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533520" y="234792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e5f6">
                  <a:alpha val="90196"/>
                </a:srgbClr>
              </a:gs>
              <a:gs pos="100000">
                <a:srgbClr val="00ace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533520" y="270360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fe7">
                  <a:alpha val="80000"/>
                </a:srgbClr>
              </a:gs>
              <a:gs pos="100000">
                <a:srgbClr val="b6ff0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61760" y="2322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761760" y="2658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304920" y="3200400"/>
            <a:ext cx="246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0" t="600" r="0" b="0"/>
          <a:stretch/>
        </p:blipFill>
        <p:spPr>
          <a:xfrm>
            <a:off x="0" y="0"/>
            <a:ext cx="915660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80880" y="224640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 flipV="1">
            <a:off x="1295280" y="5542560"/>
            <a:ext cx="6282000" cy="74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3184560" y="2390760"/>
            <a:ext cx="4761000" cy="2414880"/>
            <a:chOff x="3184560" y="2390760"/>
            <a:chExt cx="4761000" cy="2414880"/>
          </a:xfrm>
        </p:grpSpPr>
        <p:sp>
          <p:nvSpPr>
            <p:cNvPr id="89" name="Line 7"/>
            <p:cNvSpPr/>
            <p:nvPr/>
          </p:nvSpPr>
          <p:spPr>
            <a:xfrm>
              <a:off x="3184560" y="239076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"/>
            <p:cNvSpPr/>
            <p:nvPr/>
          </p:nvSpPr>
          <p:spPr>
            <a:xfrm>
              <a:off x="3184560" y="27961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"/>
            <p:cNvSpPr/>
            <p:nvPr/>
          </p:nvSpPr>
          <p:spPr>
            <a:xfrm>
              <a:off x="3184560" y="318960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3184560" y="35953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3184560" y="398916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3184560" y="43945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3184560" y="480528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2759760" y="2131920"/>
            <a:ext cx="636480" cy="2670480"/>
            <a:chOff x="2759760" y="2131920"/>
            <a:chExt cx="636480" cy="2670480"/>
          </a:xfrm>
        </p:grpSpPr>
        <p:sp>
          <p:nvSpPr>
            <p:cNvPr id="97" name="Rectangle 15"/>
            <p:cNvSpPr/>
            <p:nvPr/>
          </p:nvSpPr>
          <p:spPr>
            <a:xfrm>
              <a:off x="2790000" y="4495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2783880" y="41212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2783880" y="3694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8"/>
            <p:cNvSpPr/>
            <p:nvPr/>
          </p:nvSpPr>
          <p:spPr>
            <a:xfrm>
              <a:off x="2759760" y="3288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2759760" y="2913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0"/>
            <p:cNvSpPr/>
            <p:nvPr/>
          </p:nvSpPr>
          <p:spPr>
            <a:xfrm>
              <a:off x="2759760" y="2486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"/>
            <p:cNvSpPr/>
            <p:nvPr/>
          </p:nvSpPr>
          <p:spPr>
            <a:xfrm>
              <a:off x="2759760" y="2131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22"/>
          <p:cNvSpPr/>
          <p:nvPr/>
        </p:nvSpPr>
        <p:spPr>
          <a:xfrm flipV="1">
            <a:off x="2465280" y="5019840"/>
            <a:ext cx="135108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V="1">
            <a:off x="4362480" y="5043600"/>
            <a:ext cx="857160" cy="49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V="1">
            <a:off x="5221440" y="5186160"/>
            <a:ext cx="757080" cy="439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 flipV="1">
            <a:off x="6145200" y="5229000"/>
            <a:ext cx="730440" cy="48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 flipV="1">
            <a:off x="7061040" y="5256360"/>
            <a:ext cx="71280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095560" y="55213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3430440" y="5000760"/>
            <a:ext cx="1009800" cy="449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9"/>
          <p:cNvSpPr/>
          <p:nvPr/>
        </p:nvSpPr>
        <p:spPr>
          <a:xfrm>
            <a:off x="2949480" y="2438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8eafa">
                  <a:alpha val="80000"/>
                </a:srgbClr>
              </a:gs>
              <a:gs pos="100000">
                <a:srgbClr val="b51bc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0"/>
          <p:cNvSpPr/>
          <p:nvPr/>
        </p:nvSpPr>
        <p:spPr>
          <a:xfrm>
            <a:off x="2765520" y="368604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fddab2">
                  <a:alpha val="90196"/>
                </a:srgbClr>
              </a:gs>
              <a:gs pos="100000">
                <a:srgbClr val="fa8a0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044880" y="5607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9625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4853160" y="581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5765760" y="588816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6691320" y="5987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004080" y="314964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3886200" y="43434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3759120" y="30780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ffffff"/>
          </a:solidFill>
          <a:ln w="28440">
            <a:solidFill>
              <a:srgbClr val="fa8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8190a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6324480" y="1941480"/>
            <a:ext cx="1981440" cy="355680"/>
          </a:xfrm>
          <a:prstGeom prst="wedgeRectCallout">
            <a:avLst>
              <a:gd name="adj1" fmla="val -31328"/>
              <a:gd name="adj2" fmla="val 122768"/>
            </a:avLst>
          </a:prstGeom>
          <a:solidFill>
            <a:srgbClr val="ffffff"/>
          </a:solidFill>
          <a:ln w="28440">
            <a:solidFill>
              <a:srgbClr val="b51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8190a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533520" y="2347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fa8a0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1"/>
          <p:cNvSpPr/>
          <p:nvPr/>
        </p:nvSpPr>
        <p:spPr>
          <a:xfrm>
            <a:off x="533520" y="27036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b51b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761760" y="2322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61760" y="2658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304920" y="3200400"/>
            <a:ext cx="246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563-6B51-4BFD-A108-EDD0F708E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5:06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