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40.jpeg" ContentType="image/jpeg"/>
  <Override PartName="/ppt/media/image8.jpeg" ContentType="image/jpeg"/>
  <Override PartName="/ppt/media/image38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91F-9BB5-4454-AA08-3B8188C8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32C-D909-45D9-80F8-613B37AB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685-C2EE-48D7-A244-47C61CD3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AB1-9299-44A7-9A63-E8458BB3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CBF-E75E-4E04-8F77-A7CA9024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581-1646-4E08-8F65-796E7BBF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C4F3-4453-406A-A218-80CE101E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1A92-C830-4FD4-A3D5-ED7ECECB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BCFF-DA5B-4C46-8ECD-FA8897EE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1A2-678B-4127-A6C5-6B91B616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B358-3637-4873-BE4B-D25CD539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68CC-458E-4E80-988A-4068A12D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31F3-9E95-461C-89D9-ECE8372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7679-2246-4E65-89EE-B34ED7D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8163-B42B-4355-8316-2B37352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F081-23D8-4C45-B80C-2B47D732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E5EF-8567-4133-8450-DF1CF1D7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9CA7-4764-4BB6-8EF1-324F7A24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7697-3909-4C74-BFB4-226CA1B8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C21-AB89-4FD2-9C4C-F2580842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253-339C-4FBE-90D8-D6C7B16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09B-A35C-467F-9248-D44A9AC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1C9-4EA7-49D7-BAEE-64A683DC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13C-A7A9-4638-8CDF-4A7E48B6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1340-2A33-46D4-9A2E-07BC600D7C5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E363-9722-4042-8686-4EF6CC8240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1B17-7784-41DA-B81A-7FEEEC31893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C943-40E7-4335-A320-2A2EF0AC3C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26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/>
            <a:ahLst/>
            <a:rect l="l" t="t" r="r" b="b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167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13" descr=""/>
          <p:cNvPicPr/>
          <p:nvPr/>
        </p:nvPicPr>
        <p:blipFill>
          <a:blip r:embed="rId4"/>
          <a:stretch/>
        </p:blipFill>
        <p:spPr>
          <a:xfrm>
            <a:off x="1162080" y="382680"/>
            <a:ext cx="2206440" cy="493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5"/>
          <a:stretch/>
        </p:blipFill>
        <p:spPr>
          <a:xfrm>
            <a:off x="6084720" y="4022640"/>
            <a:ext cx="2273400" cy="10987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513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5134"/>
          <p:cNvSpPr/>
          <p:nvPr/>
        </p:nvSpPr>
        <p:spPr>
          <a:xfrm>
            <a:off x="1934280" y="9079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答辩分析报告幻灯片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258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267" name="文本框 14350"/>
          <p:cNvSpPr/>
          <p:nvPr/>
        </p:nvSpPr>
        <p:spPr>
          <a:xfrm>
            <a:off x="539640" y="2421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270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组合 15365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273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组合 15368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276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7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组合 15371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279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0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9EF4-46E7-47C5-8A8A-A4670170F5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/>
            <a:ahLst/>
            <a:rect l="l" t="t" r="r" b="b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303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13" descr=""/>
          <p:cNvPicPr/>
          <p:nvPr/>
        </p:nvPicPr>
        <p:blipFill>
          <a:blip r:embed="rId4"/>
          <a:stretch/>
        </p:blipFill>
        <p:spPr>
          <a:xfrm>
            <a:off x="1162080" y="382680"/>
            <a:ext cx="2206440" cy="4935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/>
            <a:ahLst/>
            <a:rect l="l" t="t" r="r" b="b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188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8204"/>
          <p:cNvSpPr/>
          <p:nvPr/>
        </p:nvSpPr>
        <p:spPr>
          <a:xfrm>
            <a:off x="1547640" y="458136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等腰三角形 6"/>
          <p:cNvSpPr/>
          <p:nvPr/>
        </p:nvSpPr>
        <p:spPr>
          <a:xfrm rot="1873800">
            <a:off x="2333160" y="5165640"/>
            <a:ext cx="187560" cy="7686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等腰三角形 5"/>
          <p:cNvSpPr/>
          <p:nvPr/>
        </p:nvSpPr>
        <p:spPr>
          <a:xfrm rot="3513000">
            <a:off x="3050640" y="462276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等腰三角形 5"/>
          <p:cNvSpPr/>
          <p:nvPr/>
        </p:nvSpPr>
        <p:spPr>
          <a:xfrm rot="21548400">
            <a:off x="2522160" y="432576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sp>
        <p:nvSpPr>
          <p:cNvPr id="225" name="等腰三角形 6"/>
          <p:cNvSpPr/>
          <p:nvPr/>
        </p:nvSpPr>
        <p:spPr>
          <a:xfrm rot="21528600">
            <a:off x="2552760" y="3675240"/>
            <a:ext cx="18720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等腰三角形 6"/>
          <p:cNvSpPr/>
          <p:nvPr/>
        </p:nvSpPr>
        <p:spPr>
          <a:xfrm rot="3418800">
            <a:off x="3501720" y="4233600"/>
            <a:ext cx="18576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等腰三角形 5"/>
          <p:cNvSpPr/>
          <p:nvPr/>
        </p:nvSpPr>
        <p:spPr>
          <a:xfrm rot="5479200">
            <a:off x="4441320" y="405432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等腰三角形 5"/>
          <p:cNvSpPr/>
          <p:nvPr/>
        </p:nvSpPr>
        <p:spPr>
          <a:xfrm rot="1914600">
            <a:off x="4157640" y="351900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sp>
        <p:nvSpPr>
          <p:cNvPr id="230" name="等腰三角形 6"/>
          <p:cNvSpPr/>
          <p:nvPr/>
        </p:nvSpPr>
        <p:spPr>
          <a:xfrm rot="5385000">
            <a:off x="4964760" y="3926520"/>
            <a:ext cx="18756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等腰三角形 5"/>
          <p:cNvSpPr/>
          <p:nvPr/>
        </p:nvSpPr>
        <p:spPr>
          <a:xfrm rot="2116200">
            <a:off x="2869920" y="281304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等腰三角形 5"/>
          <p:cNvSpPr/>
          <p:nvPr/>
        </p:nvSpPr>
        <p:spPr>
          <a:xfrm rot="20151000">
            <a:off x="2266920" y="274968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sp>
        <p:nvSpPr>
          <p:cNvPr id="234" name="等腰三角形 6"/>
          <p:cNvSpPr/>
          <p:nvPr/>
        </p:nvSpPr>
        <p:spPr>
          <a:xfrm rot="2021400">
            <a:off x="3186000" y="2284560"/>
            <a:ext cx="1857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5"/>
          <p:cNvSpPr/>
          <p:nvPr/>
        </p:nvSpPr>
        <p:spPr>
          <a:xfrm rot="7364400">
            <a:off x="5903280" y="44668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等腰三角形 5"/>
          <p:cNvSpPr/>
          <p:nvPr/>
        </p:nvSpPr>
        <p:spPr>
          <a:xfrm rot="3799200">
            <a:off x="5940000" y="38620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sp>
        <p:nvSpPr>
          <p:cNvPr id="238" name="等腰三角形 6"/>
          <p:cNvSpPr/>
          <p:nvPr/>
        </p:nvSpPr>
        <p:spPr>
          <a:xfrm rot="3780000">
            <a:off x="6446880" y="3494160"/>
            <a:ext cx="187200" cy="7682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6"/>
          <p:cNvSpPr/>
          <p:nvPr/>
        </p:nvSpPr>
        <p:spPr>
          <a:xfrm rot="7269600">
            <a:off x="6355800" y="4592520"/>
            <a:ext cx="1857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等腰三角形 5"/>
          <p:cNvSpPr/>
          <p:nvPr/>
        </p:nvSpPr>
        <p:spPr>
          <a:xfrm rot="3513000">
            <a:off x="3944520" y="16732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等腰三角形 5"/>
          <p:cNvSpPr/>
          <p:nvPr/>
        </p:nvSpPr>
        <p:spPr>
          <a:xfrm rot="21548400">
            <a:off x="3416040" y="137628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6"/>
          <p:cNvSpPr/>
          <p:nvPr/>
        </p:nvSpPr>
        <p:spPr>
          <a:xfrm rot="3418800">
            <a:off x="4393080" y="1283400"/>
            <a:ext cx="18720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等腰三角形 5"/>
          <p:cNvSpPr/>
          <p:nvPr/>
        </p:nvSpPr>
        <p:spPr>
          <a:xfrm rot="4596600">
            <a:off x="5218560" y="951480"/>
            <a:ext cx="271440" cy="5083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等腰三角形 5"/>
          <p:cNvSpPr/>
          <p:nvPr/>
        </p:nvSpPr>
        <p:spPr>
          <a:xfrm rot="1030800">
            <a:off x="4808160" y="506160"/>
            <a:ext cx="271440" cy="5061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sp>
        <p:nvSpPr>
          <p:cNvPr id="247" name="等腰三角形 5"/>
          <p:cNvSpPr/>
          <p:nvPr/>
        </p:nvSpPr>
        <p:spPr>
          <a:xfrm rot="4868400">
            <a:off x="7343280" y="331920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等腰三角形 5"/>
          <p:cNvSpPr/>
          <p:nvPr/>
        </p:nvSpPr>
        <p:spPr>
          <a:xfrm rot="1303800">
            <a:off x="6970320" y="2841120"/>
            <a:ext cx="27000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sp>
        <p:nvSpPr>
          <p:cNvPr id="250" name="等腰三角形 5"/>
          <p:cNvSpPr/>
          <p:nvPr/>
        </p:nvSpPr>
        <p:spPr>
          <a:xfrm rot="8340000">
            <a:off x="7100640" y="540792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等腰三角形 5"/>
          <p:cNvSpPr/>
          <p:nvPr/>
        </p:nvSpPr>
        <p:spPr>
          <a:xfrm rot="4775400">
            <a:off x="7305480" y="4835520"/>
            <a:ext cx="2696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7:14Z</dcterms:modified>
  <cp:revision>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