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FC7-0ADD-4B27-82F1-4BB00D89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396-2213-4BD0-8DAC-5BE7189F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8363-A8A8-4701-8B35-BE9425DA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52BD-0ACA-4AF1-8D72-87F26B41C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642-E811-4E8C-A449-83016329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7FF-C62C-404C-BF61-A55D23B4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166A-F709-473C-832E-4A8E0D76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FD3-4567-4933-A44C-6D3B2579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59FF-13DC-4BC1-A82D-63941D90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159D-D4A7-496F-95DD-69A78C85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F501-4188-43B6-8FAF-3CDECAA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86C-8359-4ECA-81E8-F9B34772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5A5E-CA92-4DDE-8AB6-33526737A0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 rot="19620000">
            <a:off x="598320" y="1322280"/>
            <a:ext cx="2694240" cy="503280"/>
          </a:xfrm>
          <a:custGeom>
            <a:avLst/>
            <a:gdLst>
              <a:gd name="textAreaLeft" fmla="*/ 0 w 2694240"/>
              <a:gd name="textAreaRight" fmla="*/ 2694240 w 26942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 rot="19620000">
            <a:off x="647280" y="24321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8"/>
          <p:cNvSpPr/>
          <p:nvPr/>
        </p:nvSpPr>
        <p:spPr>
          <a:xfrm rot="19620000">
            <a:off x="64116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9933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 rot="19620000">
            <a:off x="641160" y="4851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0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1"/>
          <p:cNvSpPr/>
          <p:nvPr/>
        </p:nvSpPr>
        <p:spPr>
          <a:xfrm rot="19620000">
            <a:off x="3881160" y="1179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eeece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"/>
          <p:cNvSpPr/>
          <p:nvPr/>
        </p:nvSpPr>
        <p:spPr>
          <a:xfrm rot="19620000">
            <a:off x="3954240" y="240336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8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3"/>
          <p:cNvSpPr/>
          <p:nvPr/>
        </p:nvSpPr>
        <p:spPr>
          <a:xfrm rot="19620000">
            <a:off x="3790440" y="507528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4"/>
          <p:cNvSpPr/>
          <p:nvPr/>
        </p:nvSpPr>
        <p:spPr>
          <a:xfrm rot="19620000">
            <a:off x="3954240" y="3700440"/>
            <a:ext cx="2520720" cy="503280"/>
          </a:xfrm>
          <a:custGeom>
            <a:avLst/>
            <a:gdLst>
              <a:gd name="textAreaLeft" fmla="*/ 0 w 2520720"/>
              <a:gd name="textAreaRight" fmla="*/ 2521080 w 2520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00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5"/>
          <p:cNvSpPr/>
          <p:nvPr/>
        </p:nvSpPr>
        <p:spPr>
          <a:xfrm rot="19620000">
            <a:off x="6436800" y="1179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80008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6"/>
          <p:cNvSpPr/>
          <p:nvPr/>
        </p:nvSpPr>
        <p:spPr>
          <a:xfrm rot="19620000">
            <a:off x="6436800" y="247644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7"/>
          <p:cNvSpPr/>
          <p:nvPr/>
        </p:nvSpPr>
        <p:spPr>
          <a:xfrm rot="19620000">
            <a:off x="6617880" y="3843360"/>
            <a:ext cx="2521080" cy="503280"/>
          </a:xfrm>
          <a:custGeom>
            <a:avLst/>
            <a:gdLst>
              <a:gd name="textAreaLeft" fmla="*/ 0 w 2521080"/>
              <a:gd name="textAreaRight" fmla="*/ 2521440 w 25210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836" h="940">
                <a:moveTo>
                  <a:pt x="6" y="4"/>
                </a:moveTo>
                <a:cubicBezTo>
                  <a:pt x="454" y="6"/>
                  <a:pt x="932" y="0"/>
                  <a:pt x="1380" y="10"/>
                </a:cubicBezTo>
                <a:cubicBezTo>
                  <a:pt x="1374" y="10"/>
                  <a:pt x="1338" y="26"/>
                  <a:pt x="1332" y="34"/>
                </a:cubicBezTo>
                <a:cubicBezTo>
                  <a:pt x="1314" y="59"/>
                  <a:pt x="1284" y="112"/>
                  <a:pt x="1284" y="112"/>
                </a:cubicBezTo>
                <a:cubicBezTo>
                  <a:pt x="1302" y="139"/>
                  <a:pt x="1323" y="160"/>
                  <a:pt x="1350" y="178"/>
                </a:cubicBezTo>
                <a:cubicBezTo>
                  <a:pt x="1338" y="182"/>
                  <a:pt x="1326" y="186"/>
                  <a:pt x="1314" y="190"/>
                </a:cubicBezTo>
                <a:cubicBezTo>
                  <a:pt x="1300" y="195"/>
                  <a:pt x="1278" y="214"/>
                  <a:pt x="1278" y="214"/>
                </a:cubicBezTo>
                <a:cubicBezTo>
                  <a:pt x="1253" y="265"/>
                  <a:pt x="1286" y="298"/>
                  <a:pt x="1326" y="328"/>
                </a:cubicBezTo>
                <a:cubicBezTo>
                  <a:pt x="1296" y="348"/>
                  <a:pt x="1279" y="381"/>
                  <a:pt x="1254" y="406"/>
                </a:cubicBezTo>
                <a:cubicBezTo>
                  <a:pt x="1236" y="460"/>
                  <a:pt x="1286" y="477"/>
                  <a:pt x="1314" y="514"/>
                </a:cubicBezTo>
                <a:cubicBezTo>
                  <a:pt x="1295" y="542"/>
                  <a:pt x="1266" y="568"/>
                  <a:pt x="1242" y="592"/>
                </a:cubicBezTo>
                <a:cubicBezTo>
                  <a:pt x="1253" y="638"/>
                  <a:pt x="1238" y="596"/>
                  <a:pt x="1272" y="634"/>
                </a:cubicBezTo>
                <a:cubicBezTo>
                  <a:pt x="1276" y="639"/>
                  <a:pt x="1337" y="707"/>
                  <a:pt x="1344" y="718"/>
                </a:cubicBezTo>
                <a:cubicBezTo>
                  <a:pt x="1306" y="724"/>
                  <a:pt x="1278" y="736"/>
                  <a:pt x="1242" y="748"/>
                </a:cubicBezTo>
                <a:cubicBezTo>
                  <a:pt x="1240" y="754"/>
                  <a:pt x="1234" y="760"/>
                  <a:pt x="1236" y="766"/>
                </a:cubicBezTo>
                <a:cubicBezTo>
                  <a:pt x="1239" y="774"/>
                  <a:pt x="1248" y="778"/>
                  <a:pt x="1254" y="784"/>
                </a:cubicBezTo>
                <a:cubicBezTo>
                  <a:pt x="1280" y="814"/>
                  <a:pt x="1316" y="805"/>
                  <a:pt x="1338" y="838"/>
                </a:cubicBezTo>
                <a:cubicBezTo>
                  <a:pt x="1380" y="940"/>
                  <a:pt x="1836" y="918"/>
                  <a:pt x="0" y="910"/>
                </a:cubicBezTo>
                <a:cubicBezTo>
                  <a:pt x="36" y="883"/>
                  <a:pt x="65" y="846"/>
                  <a:pt x="108" y="832"/>
                </a:cubicBezTo>
                <a:cubicBezTo>
                  <a:pt x="112" y="826"/>
                  <a:pt x="120" y="821"/>
                  <a:pt x="120" y="814"/>
                </a:cubicBezTo>
                <a:cubicBezTo>
                  <a:pt x="120" y="804"/>
                  <a:pt x="65" y="758"/>
                  <a:pt x="54" y="742"/>
                </a:cubicBezTo>
                <a:cubicBezTo>
                  <a:pt x="58" y="736"/>
                  <a:pt x="60" y="728"/>
                  <a:pt x="66" y="724"/>
                </a:cubicBezTo>
                <a:cubicBezTo>
                  <a:pt x="90" y="709"/>
                  <a:pt x="141" y="697"/>
                  <a:pt x="168" y="688"/>
                </a:cubicBezTo>
                <a:cubicBezTo>
                  <a:pt x="158" y="659"/>
                  <a:pt x="126" y="636"/>
                  <a:pt x="102" y="616"/>
                </a:cubicBezTo>
                <a:cubicBezTo>
                  <a:pt x="84" y="601"/>
                  <a:pt x="60" y="562"/>
                  <a:pt x="60" y="562"/>
                </a:cubicBezTo>
                <a:cubicBezTo>
                  <a:pt x="90" y="560"/>
                  <a:pt x="122" y="568"/>
                  <a:pt x="150" y="556"/>
                </a:cubicBezTo>
                <a:cubicBezTo>
                  <a:pt x="159" y="552"/>
                  <a:pt x="139" y="540"/>
                  <a:pt x="132" y="532"/>
                </a:cubicBezTo>
                <a:cubicBezTo>
                  <a:pt x="55" y="444"/>
                  <a:pt x="165" y="579"/>
                  <a:pt x="84" y="478"/>
                </a:cubicBezTo>
                <a:cubicBezTo>
                  <a:pt x="80" y="465"/>
                  <a:pt x="61" y="454"/>
                  <a:pt x="66" y="442"/>
                </a:cubicBezTo>
                <a:cubicBezTo>
                  <a:pt x="72" y="426"/>
                  <a:pt x="130" y="426"/>
                  <a:pt x="150" y="424"/>
                </a:cubicBezTo>
                <a:cubicBezTo>
                  <a:pt x="113" y="401"/>
                  <a:pt x="103" y="403"/>
                  <a:pt x="84" y="370"/>
                </a:cubicBezTo>
                <a:cubicBezTo>
                  <a:pt x="75" y="355"/>
                  <a:pt x="60" y="322"/>
                  <a:pt x="60" y="322"/>
                </a:cubicBezTo>
                <a:cubicBezTo>
                  <a:pt x="96" y="298"/>
                  <a:pt x="145" y="302"/>
                  <a:pt x="186" y="298"/>
                </a:cubicBezTo>
                <a:cubicBezTo>
                  <a:pt x="175" y="287"/>
                  <a:pt x="160" y="280"/>
                  <a:pt x="150" y="268"/>
                </a:cubicBezTo>
                <a:cubicBezTo>
                  <a:pt x="125" y="240"/>
                  <a:pt x="114" y="210"/>
                  <a:pt x="84" y="190"/>
                </a:cubicBezTo>
                <a:cubicBezTo>
                  <a:pt x="107" y="184"/>
                  <a:pt x="214" y="191"/>
                  <a:pt x="156" y="172"/>
                </a:cubicBezTo>
                <a:cubicBezTo>
                  <a:pt x="135" y="151"/>
                  <a:pt x="119" y="143"/>
                  <a:pt x="90" y="136"/>
                </a:cubicBezTo>
                <a:cubicBezTo>
                  <a:pt x="119" y="117"/>
                  <a:pt x="178" y="127"/>
                  <a:pt x="132" y="112"/>
                </a:cubicBezTo>
                <a:cubicBezTo>
                  <a:pt x="128" y="106"/>
                  <a:pt x="125" y="99"/>
                  <a:pt x="120" y="94"/>
                </a:cubicBezTo>
                <a:cubicBezTo>
                  <a:pt x="109" y="85"/>
                  <a:pt x="84" y="70"/>
                  <a:pt x="84" y="70"/>
                </a:cubicBezTo>
                <a:cubicBezTo>
                  <a:pt x="69" y="47"/>
                  <a:pt x="66" y="33"/>
                  <a:pt x="42" y="22"/>
                </a:cubicBezTo>
                <a:cubicBezTo>
                  <a:pt x="4" y="5"/>
                  <a:pt x="6" y="23"/>
                  <a:pt x="6" y="4"/>
                </a:cubicBezTo>
                <a:close/>
              </a:path>
            </a:pathLst>
          </a:custGeom>
          <a:solidFill>
            <a:srgbClr val="ff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5440" y="26028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便签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记事贴05"/>
          <p:cNvPicPr/>
          <p:nvPr/>
        </p:nvPicPr>
        <p:blipFill>
          <a:blip r:embed="rId1"/>
          <a:stretch/>
        </p:blipFill>
        <p:spPr>
          <a:xfrm>
            <a:off x="324000" y="549360"/>
            <a:ext cx="1890720" cy="1884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记事贴06"/>
          <p:cNvPicPr/>
          <p:nvPr/>
        </p:nvPicPr>
        <p:blipFill>
          <a:blip r:embed="rId2"/>
          <a:stretch/>
        </p:blipFill>
        <p:spPr>
          <a:xfrm>
            <a:off x="2357280" y="57168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记事贴07"/>
          <p:cNvPicPr/>
          <p:nvPr/>
        </p:nvPicPr>
        <p:blipFill>
          <a:blip r:embed="rId3"/>
          <a:stretch/>
        </p:blipFill>
        <p:spPr>
          <a:xfrm>
            <a:off x="7000920" y="500040"/>
            <a:ext cx="1917720" cy="1712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记事贴08"/>
          <p:cNvPicPr/>
          <p:nvPr/>
        </p:nvPicPr>
        <p:blipFill>
          <a:blip r:embed="rId4"/>
          <a:stretch/>
        </p:blipFill>
        <p:spPr>
          <a:xfrm>
            <a:off x="4786200" y="571680"/>
            <a:ext cx="2051280" cy="2000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记事贴01"/>
          <p:cNvPicPr/>
          <p:nvPr/>
        </p:nvPicPr>
        <p:blipFill>
          <a:blip r:embed="rId5"/>
          <a:stretch/>
        </p:blipFill>
        <p:spPr>
          <a:xfrm>
            <a:off x="500040" y="2786040"/>
            <a:ext cx="1623960" cy="165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记事贴02"/>
          <p:cNvPicPr/>
          <p:nvPr/>
        </p:nvPicPr>
        <p:blipFill>
          <a:blip r:embed="rId6"/>
          <a:stretch/>
        </p:blipFill>
        <p:spPr>
          <a:xfrm>
            <a:off x="2571840" y="2714760"/>
            <a:ext cx="2090520" cy="1998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记事贴03"/>
          <p:cNvPicPr/>
          <p:nvPr/>
        </p:nvPicPr>
        <p:blipFill>
          <a:blip r:embed="rId7"/>
          <a:stretch/>
        </p:blipFill>
        <p:spPr>
          <a:xfrm>
            <a:off x="357120" y="4929120"/>
            <a:ext cx="1814760" cy="1689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记事贴04"/>
          <p:cNvPicPr/>
          <p:nvPr/>
        </p:nvPicPr>
        <p:blipFill>
          <a:blip r:embed="rId8"/>
          <a:stretch/>
        </p:blipFill>
        <p:spPr>
          <a:xfrm>
            <a:off x="2714760" y="4857840"/>
            <a:ext cx="1695240" cy="1749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记事贴09"/>
          <p:cNvPicPr/>
          <p:nvPr/>
        </p:nvPicPr>
        <p:blipFill>
          <a:blip r:embed="rId9"/>
          <a:stretch/>
        </p:blipFill>
        <p:spPr>
          <a:xfrm>
            <a:off x="5143680" y="2928960"/>
            <a:ext cx="1558800" cy="1519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记事贴10"/>
          <p:cNvPicPr/>
          <p:nvPr/>
        </p:nvPicPr>
        <p:blipFill>
          <a:blip r:embed="rId10"/>
          <a:stretch/>
        </p:blipFill>
        <p:spPr>
          <a:xfrm>
            <a:off x="7715160" y="4929120"/>
            <a:ext cx="1000080" cy="73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记事贴11"/>
          <p:cNvPicPr/>
          <p:nvPr/>
        </p:nvPicPr>
        <p:blipFill>
          <a:blip r:embed="rId11"/>
          <a:stretch/>
        </p:blipFill>
        <p:spPr>
          <a:xfrm>
            <a:off x="7572240" y="3071880"/>
            <a:ext cx="1062000" cy="787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记事贴12"/>
          <p:cNvPicPr/>
          <p:nvPr/>
        </p:nvPicPr>
        <p:blipFill>
          <a:blip r:embed="rId12"/>
          <a:stretch/>
        </p:blipFill>
        <p:spPr>
          <a:xfrm>
            <a:off x="7715160" y="5857920"/>
            <a:ext cx="1094040" cy="806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记事贴13"/>
          <p:cNvPicPr/>
          <p:nvPr/>
        </p:nvPicPr>
        <p:blipFill>
          <a:blip r:embed="rId13"/>
          <a:stretch/>
        </p:blipFill>
        <p:spPr>
          <a:xfrm>
            <a:off x="7643880" y="4000680"/>
            <a:ext cx="10936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5A9-C1F2-4F59-8951-2F6D439F9C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pic.nipic.com/2008-06-16/2008616122636409_2.jpg"/>
          <p:cNvPicPr/>
          <p:nvPr/>
        </p:nvPicPr>
        <p:blipFill>
          <a:blip r:embed="rId1"/>
          <a:srcRect l="11053" t="8338" r="7865" b="4995"/>
          <a:stretch/>
        </p:blipFill>
        <p:spPr>
          <a:xfrm>
            <a:off x="1785960" y="500040"/>
            <a:ext cx="1390680" cy="1643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http://pic.nipic.com/2008-03-10/2008310171959455_2.jpg"/>
          <p:cNvPicPr/>
          <p:nvPr/>
        </p:nvPicPr>
        <p:blipFill>
          <a:blip r:embed="rId2"/>
          <a:stretch/>
        </p:blipFill>
        <p:spPr>
          <a:xfrm>
            <a:off x="357120" y="357120"/>
            <a:ext cx="1279440" cy="185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http://pic.nipic.com/2008-03-13/200831311616584_2.jpg"/>
          <p:cNvPicPr/>
          <p:nvPr/>
        </p:nvPicPr>
        <p:blipFill>
          <a:blip r:embed="rId3"/>
          <a:srcRect l="0" t="0" r="3326" b="0"/>
          <a:stretch/>
        </p:blipFill>
        <p:spPr>
          <a:xfrm>
            <a:off x="642960" y="3571920"/>
            <a:ext cx="2163600" cy="1566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http://pic.nipic.com/2008-03-13/200831311616584_2.jpg"/>
          <p:cNvPicPr/>
          <p:nvPr/>
        </p:nvPicPr>
        <p:blipFill>
          <a:blip r:embed="rId4"/>
          <a:srcRect l="0" t="0" r="0" b="3325"/>
          <a:stretch/>
        </p:blipFill>
        <p:spPr>
          <a:xfrm>
            <a:off x="3286080" y="500040"/>
            <a:ext cx="1189080" cy="1643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F:\ppt素材与模板\装饰元素\古典卷轴图\羊皮卷轴3(322x174).jpg"/>
          <p:cNvPicPr/>
          <p:nvPr/>
        </p:nvPicPr>
        <p:blipFill>
          <a:blip r:embed="rId5"/>
          <a:stretch/>
        </p:blipFill>
        <p:spPr>
          <a:xfrm>
            <a:off x="428760" y="2357280"/>
            <a:ext cx="2246040" cy="1214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F:\ppt素材与模板\装饰元素\古典卷轴图\圣旨卷轴(1024x650).jpg"/>
          <p:cNvPicPr/>
          <p:nvPr/>
        </p:nvPicPr>
        <p:blipFill>
          <a:blip r:embed="rId6"/>
          <a:stretch/>
        </p:blipFill>
        <p:spPr>
          <a:xfrm>
            <a:off x="428760" y="5214960"/>
            <a:ext cx="225108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F:\ppt素材与模板\装饰元素\墨印花纹边框\0520120040.jpg"/>
          <p:cNvPicPr/>
          <p:nvPr/>
        </p:nvPicPr>
        <p:blipFill>
          <a:blip r:embed="rId7"/>
          <a:stretch/>
        </p:blipFill>
        <p:spPr>
          <a:xfrm>
            <a:off x="3143160" y="2286000"/>
            <a:ext cx="1598760" cy="1214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F:\ppt素材与模板\装饰元素\墨印花纹边框\0520120031.jpg"/>
          <p:cNvPicPr/>
          <p:nvPr/>
        </p:nvPicPr>
        <p:blipFill>
          <a:blip r:embed="rId8"/>
          <a:stretch/>
        </p:blipFill>
        <p:spPr>
          <a:xfrm>
            <a:off x="3286080" y="3643200"/>
            <a:ext cx="1285920" cy="1360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F:\ppt素材与模板\装饰元素\墨印花纹边框\0520120054.jpg"/>
          <p:cNvPicPr/>
          <p:nvPr/>
        </p:nvPicPr>
        <p:blipFill>
          <a:blip r:embed="rId9"/>
          <a:stretch/>
        </p:blipFill>
        <p:spPr>
          <a:xfrm>
            <a:off x="3357720" y="5286240"/>
            <a:ext cx="100008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7:32:5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42Z</dcterms:modified>
  <cp:revision>1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