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A49-AF19-49FF-813D-579E438C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8DD-736D-4BE1-A873-9E8D718A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033-4492-4C01-9D91-64056AFB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373-DA3E-4E5A-A41B-958E1C72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B74-99E1-4220-8525-BFDE789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64B-88EA-423E-8E5A-DDF372C8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FB5-CCAD-40FA-88E0-6A0822E6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6C4-4A0A-4D19-B484-8143FA4D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39F-B968-421A-A827-79C479A9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0A6-CD30-440B-B9B2-BF517501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71A-7485-4FCB-A994-F55C2F2F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C11-D85C-4235-9148-9C7AC6AF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CC69-38C7-4E82-B0E1-CCAB0FC8E7A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D4F-8C77-40AC-A885-609ABD5E7C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9"/>
          <p:cNvGrpSpPr/>
          <p:nvPr/>
        </p:nvGrpSpPr>
        <p:grpSpPr>
          <a:xfrm>
            <a:off x="682560" y="2060640"/>
            <a:ext cx="3778200" cy="3178080"/>
            <a:chOff x="682560" y="2060640"/>
            <a:chExt cx="3778200" cy="3178080"/>
          </a:xfrm>
        </p:grpSpPr>
        <p:sp>
          <p:nvSpPr>
            <p:cNvPr id="43" name="饼形 20"/>
            <p:cNvSpPr/>
            <p:nvPr/>
          </p:nvSpPr>
          <p:spPr>
            <a:xfrm>
              <a:off x="682560" y="2284200"/>
              <a:ext cx="2954880" cy="295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饼形 21"/>
            <p:cNvSpPr/>
            <p:nvPr/>
          </p:nvSpPr>
          <p:spPr>
            <a:xfrm>
              <a:off x="1402200" y="2060640"/>
              <a:ext cx="2954880" cy="295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egoe UI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饼形 22"/>
            <p:cNvSpPr/>
            <p:nvPr/>
          </p:nvSpPr>
          <p:spPr>
            <a:xfrm>
              <a:off x="1505880" y="2090520"/>
              <a:ext cx="2954880" cy="295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饼形 23"/>
            <p:cNvSpPr/>
            <p:nvPr/>
          </p:nvSpPr>
          <p:spPr>
            <a:xfrm>
              <a:off x="1505880" y="2164320"/>
              <a:ext cx="2954880" cy="2954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24"/>
          <p:cNvGrpSpPr/>
          <p:nvPr/>
        </p:nvGrpSpPr>
        <p:grpSpPr>
          <a:xfrm>
            <a:off x="4861080" y="1987560"/>
            <a:ext cx="3816360" cy="3457440"/>
            <a:chOff x="4861080" y="1987560"/>
            <a:chExt cx="3816360" cy="3457440"/>
          </a:xfrm>
        </p:grpSpPr>
        <p:sp>
          <p:nvSpPr>
            <p:cNvPr id="48" name="饼形 25"/>
            <p:cNvSpPr/>
            <p:nvPr/>
          </p:nvSpPr>
          <p:spPr>
            <a:xfrm>
              <a:off x="4861080" y="2491200"/>
              <a:ext cx="2954520" cy="295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饼形 26"/>
            <p:cNvSpPr/>
            <p:nvPr/>
          </p:nvSpPr>
          <p:spPr>
            <a:xfrm>
              <a:off x="4933080" y="2203200"/>
              <a:ext cx="2954520" cy="295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egoe UI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饼形 27"/>
            <p:cNvSpPr/>
            <p:nvPr/>
          </p:nvSpPr>
          <p:spPr>
            <a:xfrm>
              <a:off x="5722920" y="1987560"/>
              <a:ext cx="2954520" cy="295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饼形 28"/>
            <p:cNvSpPr/>
            <p:nvPr/>
          </p:nvSpPr>
          <p:spPr>
            <a:xfrm>
              <a:off x="5149080" y="2491200"/>
              <a:ext cx="2954520" cy="295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5240" y="11736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半圆饼图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55" name="饼形 21"/>
          <p:cNvSpPr/>
          <p:nvPr/>
        </p:nvSpPr>
        <p:spPr>
          <a:xfrm>
            <a:off x="5411880" y="1413000"/>
            <a:ext cx="2976480" cy="297648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饼形 22"/>
          <p:cNvSpPr/>
          <p:nvPr/>
        </p:nvSpPr>
        <p:spPr>
          <a:xfrm>
            <a:off x="5772240" y="3213000"/>
            <a:ext cx="2976480" cy="297684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UI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饼形 23"/>
          <p:cNvSpPr/>
          <p:nvPr/>
        </p:nvSpPr>
        <p:spPr>
          <a:xfrm>
            <a:off x="5337000" y="3284640"/>
            <a:ext cx="2976840" cy="2976480"/>
          </a:xfrm>
          <a:prstGeom prst="pi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24"/>
          <p:cNvSpPr/>
          <p:nvPr/>
        </p:nvSpPr>
        <p:spPr>
          <a:xfrm>
            <a:off x="1211400" y="1457280"/>
            <a:ext cx="2976480" cy="2976480"/>
          </a:xfrm>
          <a:prstGeom prst="pi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饼形 25"/>
          <p:cNvSpPr/>
          <p:nvPr/>
        </p:nvSpPr>
        <p:spPr>
          <a:xfrm>
            <a:off x="1666800" y="2612880"/>
            <a:ext cx="2978280" cy="2978280"/>
          </a:xfrm>
          <a:prstGeom prst="pi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7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UI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饼形 26"/>
          <p:cNvSpPr/>
          <p:nvPr/>
        </p:nvSpPr>
        <p:spPr>
          <a:xfrm>
            <a:off x="-60480" y="2038320"/>
            <a:ext cx="2976840" cy="2976480"/>
          </a:xfrm>
          <a:prstGeom prst="pi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a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27"/>
          <p:cNvSpPr/>
          <p:nvPr/>
        </p:nvSpPr>
        <p:spPr>
          <a:xfrm>
            <a:off x="4111560" y="1989000"/>
            <a:ext cx="2978280" cy="2976840"/>
          </a:xfrm>
          <a:prstGeom prst="pi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8a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饼形 28"/>
          <p:cNvSpPr/>
          <p:nvPr/>
        </p:nvSpPr>
        <p:spPr>
          <a:xfrm>
            <a:off x="1235160" y="2973240"/>
            <a:ext cx="2976480" cy="2976840"/>
          </a:xfrm>
          <a:prstGeom prst="pi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CDB-3CB6-4A6A-9295-56B6BB46DB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355-2A71-43A6-BB02-718FAD0A42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2Z</dcterms:modified>
  <cp:revision>15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