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23B-2E7C-4A1D-961F-FF93C4DC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B56-845A-49F6-8799-D4DA32A8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6E3-B214-451F-AAB9-EA5E47EA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716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184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716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184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A60-E0B5-4CA2-BF5A-DBC70805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7093-BA6F-4D73-BD90-90728D4B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D9B9-5BF6-4ECC-8CE6-7DCB4A99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3639-66C0-4F22-B79A-F09F866E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CFBE-C9F5-4394-807A-0C9A1675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BBC8-FEFA-49D7-A932-C17AA597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6367-C2CE-4892-B371-59FB51A1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1957-3339-4975-A5E7-8811667C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AF0-7C59-429F-9336-231F11AE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92D1-FEE0-4394-BA3C-628CA672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F9E0-E66C-4148-885A-3302D662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96E3-0276-4027-8ED0-937AD4B0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109C-C594-4F79-AB10-87A9FD74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716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184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716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184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3D51-A9C5-432A-9456-B2374D2E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19A4-9C26-4ACF-AC33-5B1E2F35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D840-C589-426F-B389-DD77BF9A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D081C-FCB3-417A-B0BF-1EC09C34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38443-9DCC-45EC-8745-5DA80363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5DADE-E8F8-4464-8E3A-FC1F462C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F7B-CF35-407E-B4B0-40D64F31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827B-594C-46CC-8228-543A7F64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E844C-7E84-4D41-B9BB-B093B5B6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9C18-222F-4DB0-B3A1-2EAE4B56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51EB-2BB3-4C5F-BFC5-D2A1DC49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9A80-C85B-4B29-ADF4-03BAAE51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D7544-C134-45BB-B3C8-792BD292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9716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4184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48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9716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4184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71B99-A21B-49FC-A03E-915D79C0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81B-FBC1-4CC6-B23C-DB1D63C7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FA72-C807-42DE-9F4F-CB3EBF07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E7D-B272-4547-8237-4CB0FBD1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AB4-7620-4B4C-8F0D-52E21551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D1B-A98A-42F5-8322-5BFDE53F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806-1EC9-4170-BC95-82F5D6B8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BCF9-DCD5-4F96-B65C-C8A8A9C500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BF09-9CEC-482A-8B8D-C2CD8C87E42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A3F7-8CF5-46BF-9D4A-CCB12C5007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F4DA-7B3A-41C6-8586-DE66A73DAA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彩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报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99"/>
              </a:solidFill>
              <a:latin typeface="Arial"/>
              <a:ea typeface="宋体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6147"/>
          <p:cNvSpPr/>
          <p:nvPr/>
        </p:nvSpPr>
        <p:spPr>
          <a:xfrm>
            <a:off x="685800" y="328608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FDE1-519D-467F-9875-EF586B4A3D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2:01:46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5:1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