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BA36-457A-4DE7-819C-0CCEB9E6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5D57-EA55-4A7D-AC15-BCA1FF38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6412-A393-434B-A3BD-5549A977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4BEE-B9C9-4ECF-92DD-BE5273C2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BD26-A9C9-4644-8AA9-5CD5A779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63F6-3481-4A13-A42A-5D518BC0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BAF6-7310-43D5-979D-53564245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A02B-14F4-4EE9-892D-4A038EB8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DF5A-4220-4696-99DD-C03E18D9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71EE-17C0-4053-97D4-721F241A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A53C-3F47-4D3B-B1A7-4B386669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F10C-5EEC-4011-B354-C1A01671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9186-E4C3-45D7-8DD2-5F993D84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0785-C68D-4E3B-9FD7-2957071D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BC8C-7281-46D8-84E8-0EC3BFBD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269A-0288-497C-9BFA-93A020DA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6178-4E6E-4EA4-BC03-99739A48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A54B-CF41-407D-B256-76D396D2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4A8E-AC07-427C-B2E7-AA26C5B7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844B-AD98-4032-9339-1AEEB8E1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21CE-6BA9-4BB3-BB9C-D9F932C2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396E-1D3F-4640-99A0-10E1FE47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7E20-A8C4-4AD7-92A2-88CEAA22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EA82-A808-47CA-AF27-65FF59F1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41FA-006F-4EA4-AF80-3EBCBE9ED95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AF23-A1DF-4FDF-80E9-A708BBF1CF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111E-292A-49F8-8462-78314C92A55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EDDD-E65E-418B-8BDC-72B406D00B8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3073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3074"/>
          <p:cNvSpPr/>
          <p:nvPr/>
        </p:nvSpPr>
        <p:spPr>
          <a:xfrm>
            <a:off x="1579320" y="6922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橙色工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E806-0705-410A-82E6-D3BF3C5B47D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8:05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6:06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