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47CF-2DAB-448B-9A49-13389752D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D00C-DE0A-4A12-978D-260CED3F3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17FB-A4A6-4657-8414-6CEBF03C3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9C2A-244B-4A0F-A6E6-112485347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BA9B3-59AA-4D04-99F4-91788B3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9B91B-3C6D-482E-8623-37255F7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DD1C0-49D7-470D-AA65-A22B38D7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09F00-3ABB-4096-BB1D-ED8ACD1C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19456-3E1C-4121-8D53-8FBC9497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3B5CC-625E-4A1F-8EE9-5A7575FC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BE4AF-6F60-4DA8-AFAE-5DFBB49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072C-5105-4291-9ABC-4EC197A81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54F35-A34B-4550-8D47-0533006E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EC7AF-CD0A-46BC-87ED-9C222760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1CDC5-609F-4AA1-AD01-6EBC07EC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4D810-86A2-4E1C-AF38-11365156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6A38B-FBC9-4558-BA4A-C7D7917E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27DC9-948D-462E-9F0E-C73878B381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B7A47-81A0-4715-A653-78FF0A121F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3AA88-D4CD-40C1-890F-D61B69AA79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377B-5E61-4F46-94B0-878E55FB37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CF73D-A766-4FC9-BB12-B62979B72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1A20-2966-4D5C-AEF1-EC008B095E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3D10F-AC2C-40FB-8F38-3EC0EE7670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D12B9-2209-47C4-872C-F12CF64A01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61DEC-F0CE-46E8-BC7A-0C2B28E136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00960-0914-43A9-998F-4CD84347A5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0CB45-F5A1-48B2-9283-C81394900A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8294-CC7E-42F6-AEB9-4A450452A0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4224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3560" y="12949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1128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4224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3560" y="38422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BB3D2-66E0-44CB-A10B-4FDF2AFFC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FEF9-4978-4714-BA35-3A90B0240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3B7D-07E2-491D-8574-A572AC42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16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38C9-44AE-4D00-92DF-8DC4A8F91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5D21-9CFD-4DC7-8CC0-5267F12B0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9840" y="384228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3F15-80F4-4B75-898D-59289AC75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9840" y="1294920"/>
            <a:ext cx="3941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1280" y="3842280"/>
            <a:ext cx="80769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8C38-74D6-462A-BCD3-59BE7CF14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2320" y="642456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F9E-D751-43DA-A9DB-4EF95BCD114B}" type="slidenum">
              <a:rPr b="1" lang="ko-KR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矩形 1030"/>
          <p:cNvSpPr/>
          <p:nvPr/>
        </p:nvSpPr>
        <p:spPr>
          <a:xfrm>
            <a:off x="7086600" y="609480"/>
            <a:ext cx="2057400" cy="3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矩形 1031"/>
          <p:cNvSpPr/>
          <p:nvPr/>
        </p:nvSpPr>
        <p:spPr>
          <a:xfrm>
            <a:off x="7162920" y="627120"/>
            <a:ext cx="1904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7B0A-C235-43CD-925C-A17637A16E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9997-FDE8-4B4B-9269-21086C0ACF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049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椭圆 2053"/>
          <p:cNvSpPr/>
          <p:nvPr/>
        </p:nvSpPr>
        <p:spPr>
          <a:xfrm>
            <a:off x="7848720" y="838080"/>
            <a:ext cx="833400" cy="83340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椭圆 2054"/>
          <p:cNvSpPr/>
          <p:nvPr/>
        </p:nvSpPr>
        <p:spPr>
          <a:xfrm>
            <a:off x="5715000" y="2057400"/>
            <a:ext cx="496800" cy="49680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椭圆 2055"/>
          <p:cNvSpPr/>
          <p:nvPr/>
        </p:nvSpPr>
        <p:spPr>
          <a:xfrm>
            <a:off x="6858000" y="1143000"/>
            <a:ext cx="676440" cy="67644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椭圆 2056"/>
          <p:cNvSpPr/>
          <p:nvPr/>
        </p:nvSpPr>
        <p:spPr>
          <a:xfrm>
            <a:off x="7543800" y="1752480"/>
            <a:ext cx="349200" cy="349200"/>
          </a:xfrm>
          <a:prstGeom prst="ellips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椭圆 2057"/>
          <p:cNvSpPr/>
          <p:nvPr/>
        </p:nvSpPr>
        <p:spPr>
          <a:xfrm>
            <a:off x="7620120" y="2209680"/>
            <a:ext cx="433440" cy="43344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矩形 2058"/>
          <p:cNvSpPr/>
          <p:nvPr/>
        </p:nvSpPr>
        <p:spPr>
          <a:xfrm>
            <a:off x="0" y="3352680"/>
            <a:ext cx="9144000" cy="1526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8485200" y="6552720"/>
            <a:ext cx="65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C5AF-CAEC-414A-B820-41EEA834C2FA}" type="slidenum">
              <a:rPr b="1" lang="ko-K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8195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굴림"/>
              </a:rPr>
              <a:t>橙色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宋体"/>
              </a:rPr>
              <a:t>青春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굴림"/>
              </a:rPr>
              <a:t>活力企业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660033"/>
                </a:solidFill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600" y="6248160"/>
            <a:ext cx="8686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5121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520" y="221760"/>
            <a:ext cx="88092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1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2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3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4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5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6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7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8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9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Competitors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want to allocate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Strengths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t Documents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图表占位符 7170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83600" cy="445932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cc99"/>
                </a:solidFill>
                <a:uFillTx/>
                <a:latin typeface="굴림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굴림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t Documents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图表占位符 8194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154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五边形 9218"/>
          <p:cNvSpPr/>
          <p:nvPr/>
        </p:nvSpPr>
        <p:spPr>
          <a:xfrm>
            <a:off x="533520" y="167652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燕尾形 9219"/>
          <p:cNvSpPr/>
          <p:nvPr/>
        </p:nvSpPr>
        <p:spPr>
          <a:xfrm>
            <a:off x="190512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1" y="0"/>
                </a:lnTo>
                <a:lnTo>
                  <a:pt x="21600" y="10800"/>
                </a:lnTo>
                <a:lnTo>
                  <a:pt x="17851" y="21600"/>
                </a:lnTo>
                <a:lnTo>
                  <a:pt x="0" y="21600"/>
                </a:lnTo>
                <a:lnTo>
                  <a:pt x="3749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燕尾形 9220"/>
          <p:cNvSpPr/>
          <p:nvPr/>
        </p:nvSpPr>
        <p:spPr>
          <a:xfrm>
            <a:off x="403848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1" y="0"/>
                </a:lnTo>
                <a:lnTo>
                  <a:pt x="21600" y="10800"/>
                </a:lnTo>
                <a:lnTo>
                  <a:pt x="17851" y="21600"/>
                </a:lnTo>
                <a:lnTo>
                  <a:pt x="0" y="21600"/>
                </a:lnTo>
                <a:lnTo>
                  <a:pt x="3749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燕尾形 9221"/>
          <p:cNvSpPr/>
          <p:nvPr/>
        </p:nvSpPr>
        <p:spPr>
          <a:xfrm>
            <a:off x="617220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1" y="0"/>
                </a:lnTo>
                <a:lnTo>
                  <a:pt x="21600" y="10800"/>
                </a:lnTo>
                <a:lnTo>
                  <a:pt x="17851" y="21600"/>
                </a:lnTo>
                <a:lnTo>
                  <a:pt x="0" y="21600"/>
                </a:lnTo>
                <a:lnTo>
                  <a:pt x="3749" y="10800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9933"/>
              </a:gs>
            </a:gsLst>
            <a:lin ang="0"/>
          </a:gradFill>
          <a:ln w="316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바탕"/>
              </a:rPr>
              <a:t>TITLE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33520" y="2209680"/>
            <a:ext cx="360" cy="3276720"/>
            <a:chOff x="533520" y="2209680"/>
            <a:chExt cx="360" cy="3276720"/>
          </a:xfrm>
        </p:grpSpPr>
        <p:sp>
          <p:nvSpPr>
            <p:cNvPr id="149" name="直接连接符 9222"/>
            <p:cNvSpPr/>
            <p:nvPr/>
          </p:nvSpPr>
          <p:spPr>
            <a:xfrm>
              <a:off x="53352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3352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981080" y="2209680"/>
            <a:ext cx="360" cy="3276720"/>
            <a:chOff x="1981080" y="2209680"/>
            <a:chExt cx="360" cy="3276720"/>
          </a:xfrm>
        </p:grpSpPr>
        <p:sp>
          <p:nvSpPr>
            <p:cNvPr id="152" name="直接连接符 9223"/>
            <p:cNvSpPr/>
            <p:nvPr/>
          </p:nvSpPr>
          <p:spPr>
            <a:xfrm>
              <a:off x="198108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98108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038480" y="2209680"/>
            <a:ext cx="360" cy="3276720"/>
            <a:chOff x="4038480" y="2209680"/>
            <a:chExt cx="360" cy="3276720"/>
          </a:xfrm>
        </p:grpSpPr>
        <p:sp>
          <p:nvSpPr>
            <p:cNvPr id="155" name="直接连接符 9224"/>
            <p:cNvSpPr/>
            <p:nvPr/>
          </p:nvSpPr>
          <p:spPr>
            <a:xfrm>
              <a:off x="403848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03848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72200" y="2209680"/>
            <a:ext cx="360" cy="3276720"/>
            <a:chOff x="6172200" y="2209680"/>
            <a:chExt cx="360" cy="3276720"/>
          </a:xfrm>
        </p:grpSpPr>
        <p:sp>
          <p:nvSpPr>
            <p:cNvPr id="158" name="直接连接符 9225"/>
            <p:cNvSpPr/>
            <p:nvPr/>
          </p:nvSpPr>
          <p:spPr>
            <a:xfrm>
              <a:off x="6172200" y="2209680"/>
              <a:ext cx="0" cy="32767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172200" y="2209680"/>
              <a:ext cx="360" cy="32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686800" y="1981080"/>
            <a:ext cx="360" cy="3505320"/>
            <a:chOff x="8686800" y="1981080"/>
            <a:chExt cx="360" cy="3505320"/>
          </a:xfrm>
        </p:grpSpPr>
        <p:sp>
          <p:nvSpPr>
            <p:cNvPr id="161" name="直接连接符 9226"/>
            <p:cNvSpPr/>
            <p:nvPr/>
          </p:nvSpPr>
          <p:spPr>
            <a:xfrm>
              <a:off x="8686800" y="1981080"/>
              <a:ext cx="0" cy="3505320"/>
            </a:xfrm>
            <a:prstGeom prst="line">
              <a:avLst/>
            </a:prstGeom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8686800" y="1981080"/>
              <a:ext cx="360" cy="350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3" name="文本框 9227"/>
          <p:cNvSpPr/>
          <p:nvPr/>
        </p:nvSpPr>
        <p:spPr>
          <a:xfrm>
            <a:off x="762120" y="2362320"/>
            <a:ext cx="106668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文本框 9228"/>
          <p:cNvSpPr/>
          <p:nvPr/>
        </p:nvSpPr>
        <p:spPr>
          <a:xfrm>
            <a:off x="220968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文本框 9229"/>
          <p:cNvSpPr/>
          <p:nvPr/>
        </p:nvSpPr>
        <p:spPr>
          <a:xfrm>
            <a:off x="426708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文本框 9230"/>
          <p:cNvSpPr/>
          <p:nvPr/>
        </p:nvSpPr>
        <p:spPr>
          <a:xfrm>
            <a:off x="638640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5562720"/>
            <a:ext cx="8153280" cy="360"/>
            <a:chOff x="533520" y="5562720"/>
            <a:chExt cx="8153280" cy="360"/>
          </a:xfrm>
        </p:grpSpPr>
        <p:sp>
          <p:nvSpPr>
            <p:cNvPr id="168" name="直接连接符 9231"/>
            <p:cNvSpPr/>
            <p:nvPr/>
          </p:nvSpPr>
          <p:spPr>
            <a:xfrm>
              <a:off x="533520" y="5562720"/>
              <a:ext cx="8153280" cy="0"/>
            </a:xfrm>
            <a:prstGeom prst="line">
              <a:avLst/>
            </a:prstGeom>
            <a:ln w="255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33520" y="556272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16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椭圆 10242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ff99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椭圆 10243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solidFill>
            <a:srgbClr val="660033"/>
          </a:solidFill>
          <a:ln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椭圆 10244"/>
          <p:cNvSpPr/>
          <p:nvPr/>
        </p:nvSpPr>
        <p:spPr>
          <a:xfrm>
            <a:off x="2514600" y="3809880"/>
            <a:ext cx="1447920" cy="1447920"/>
          </a:xfrm>
          <a:prstGeom prst="ellipse">
            <a:avLst/>
          </a:prstGeom>
          <a:solidFill>
            <a:srgbClr val="660033"/>
          </a:solidFill>
          <a:ln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椭圆 10245"/>
          <p:cNvSpPr/>
          <p:nvPr/>
        </p:nvSpPr>
        <p:spPr>
          <a:xfrm>
            <a:off x="4952880" y="3809880"/>
            <a:ext cx="1447920" cy="1447920"/>
          </a:xfrm>
          <a:prstGeom prst="ellipse">
            <a:avLst/>
          </a:prstGeom>
          <a:solidFill>
            <a:srgbClr val="660033"/>
          </a:solidFill>
          <a:ln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文本框 10246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文本框 10247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文本框 10248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文本框 10249"/>
          <p:cNvSpPr/>
          <p:nvPr/>
        </p:nvSpPr>
        <p:spPr>
          <a:xfrm>
            <a:off x="5257800" y="205740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文本框 10250"/>
          <p:cNvSpPr/>
          <p:nvPr/>
        </p:nvSpPr>
        <p:spPr>
          <a:xfrm>
            <a:off x="228600" y="48610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文本框 10251"/>
          <p:cNvSpPr/>
          <p:nvPr/>
        </p:nvSpPr>
        <p:spPr>
          <a:xfrm>
            <a:off x="6400800" y="48610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文本框 1025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cc99"/>
                </a:solidFill>
                <a:uFillTx/>
                <a:latin typeface="굴림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굴림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62C1-A0C2-4B7D-91BA-56F1A8D28F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9933"/>
            </a:gs>
            <a:gs pos="100000">
              <a:srgbClr val="6600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11265"/>
          <p:cNvSpPr/>
          <p:nvPr/>
        </p:nvSpPr>
        <p:spPr>
          <a:xfrm>
            <a:off x="2286000" y="3657600"/>
            <a:ext cx="4897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E-mail : 00@00.00.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Verdana"/>
              </a:rPr>
              <a:t>Office : 00- 0000-000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文本框 11266"/>
          <p:cNvSpPr/>
          <p:nvPr/>
        </p:nvSpPr>
        <p:spPr>
          <a:xfrm>
            <a:off x="2957400" y="2590920"/>
            <a:ext cx="35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04:36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0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