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1F4-D689-4F67-9B55-12793A2A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A04-F7C3-4C4F-9530-7B7CB91A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99F-D99B-4CD0-9E6D-74818CF1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902-6BAE-4D5D-9E03-25DD4CB3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6D9-5F33-4D9A-8091-AD15E235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DD8-8059-4D94-B36A-8888A1E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4BC2-E60C-4085-8DD6-F113BF9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3A0-F551-452E-B63B-AC0EC70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3F8B-4F8E-4FBF-9625-0DB71E6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6920" y="117000"/>
            <a:ext cx="5770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2039-C2B6-4210-90E1-32C1C59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8B06-91DC-474F-BE50-3BED1DD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CF8-1F17-4B5B-83E9-87AF0A4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FFF-4A71-49E7-B7F4-E0ACECF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461F-8F35-443F-A091-0215295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D90-4295-468E-B4F1-B25BD8CB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F06-C42F-48A1-9496-EBA625AF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088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4560" y="83628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088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4560" y="3882600"/>
            <a:ext cx="266976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9B26-B385-457F-95F2-058BBD3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E2B-07EC-435D-8C8F-C9137BB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551-2F80-4C2A-911F-3F384821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508-1EC6-44A4-A146-953A133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626920" y="117000"/>
            <a:ext cx="577044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28F-DD71-4813-AA93-D6313C42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1FD-3EC1-4890-9FD3-F3E2FD3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388260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F6C-617F-4C09-BBBE-31891BA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836280"/>
            <a:ext cx="4046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915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BF2-691D-452A-B1FA-19A94E8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117000"/>
            <a:ext cx="5770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4732"/>
                </a:solidFill>
                <a:latin typeface="Adobe Caslon Pro Bold"/>
              </a:rPr>
              <a:t>Click to edit the title text format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D53-FEC3-4E92-BAB4-7B04B0F62954}" type="datetime">
              <a:rPr b="0" lang="en-US" sz="1200" spc="-1" strike="noStrike">
                <a:solidFill>
                  <a:srgbClr val="8b8b8b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D77F-AEB6-41F8-B778-79718663E599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rcRect l="0" t="25780" r="21366" b="0"/>
          <a:stretch/>
        </p:blipFill>
        <p:spPr>
          <a:xfrm>
            <a:off x="7812000" y="0"/>
            <a:ext cx="1332000" cy="90792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B8B-578D-4C86-B427-AB2D3623DD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588-0017-42A6-ADCA-F7948F111E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7067520" y="0"/>
            <a:ext cx="2077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096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1214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0" y="65120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571480" y="25480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抽象花瓣主题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284-F544-437E-B42E-8F5CF10AC510}" type="slidenum">
              <a:rPr b="0" lang="zh-CN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17000"/>
            <a:ext cx="5770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e4732"/>
                </a:solidFill>
                <a:latin typeface="Adobe Caslon Pro Bold"/>
              </a:rPr>
              <a:t>单击此处添加标题</a:t>
            </a:r>
            <a:endParaRPr b="0" lang="en-US" sz="28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7"/>
          <p:cNvSpPr/>
          <p:nvPr/>
        </p:nvSpPr>
        <p:spPr>
          <a:xfrm>
            <a:off x="2195640" y="3429000"/>
            <a:ext cx="4752720" cy="0"/>
          </a:xfrm>
          <a:prstGeom prst="line">
            <a:avLst/>
          </a:prstGeom>
          <a:ln w="76320">
            <a:solidFill>
              <a:srgbClr val="8e4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" name="图片 8" descr=""/>
          <p:cNvPicPr/>
          <p:nvPr/>
        </p:nvPicPr>
        <p:blipFill>
          <a:blip r:embed="rId1"/>
          <a:srcRect l="-3006" t="0" r="0" b="-4560"/>
          <a:stretch/>
        </p:blipFill>
        <p:spPr>
          <a:xfrm>
            <a:off x="1892160" y="2227320"/>
            <a:ext cx="1743120" cy="1238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360" y="2773080"/>
            <a:ext cx="439128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4732"/>
                </a:solidFill>
                <a:latin typeface="Adobe Caslon Pro Bold"/>
              </a:rPr>
              <a:t>您的章节标题</a:t>
            </a:r>
            <a:endParaRPr b="0" lang="en-US" sz="3600" spc="-1" strike="noStrike">
              <a:solidFill>
                <a:srgbClr val="8e4732"/>
              </a:solidFill>
              <a:latin typeface="Adobe Caslon Pro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1280" y="3499920"/>
            <a:ext cx="5329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4732"/>
                </a:solidFill>
                <a:latin typeface="Adobe Caslon Pro"/>
              </a:rPr>
              <a:t>章节副标题章节副标题章节副标题章节副标题</a:t>
            </a:r>
            <a:endParaRPr b="0" lang="en-US" sz="14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71600" y="63244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13Z</dcterms:modified>
  <cp:revision>0</cp:revision>
  <dc:subject/>
  <dc:title/>
</cp:coreProperties>
</file>