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5E83-6687-4EF1-8A94-F3F2CF2B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8425-8FE8-4179-83A7-0BDCD9CF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885-BF76-49EF-ABF6-751657B1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0FC6-C4FF-4F51-82CD-CCB4EC9AD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DDF3-B451-4C42-B6E1-2C9C1B04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F919-E784-4AC7-88F7-ACA134D4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9985-A79F-454B-8FEF-DCCF350E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4191-6958-4E4D-A7D1-EBA45AFB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B264-7411-4EF9-BCA9-1727159F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8E18-3D36-4F30-8C42-DF9070E0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6379-FB8F-443F-9FA3-DEE3F001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9AE-736C-4F13-BD23-9D9C0726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C95A-1553-4E62-972A-7CBAE25A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040F-8966-4BE9-829A-107F6182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4D0A-0A1C-43AA-8D2F-06E2798A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E739-2E1F-4364-9FEB-4369DBD9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930B-0D8D-423A-8592-5C41C421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2FE-0403-4B0A-BB17-141C4289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283-9399-4AA1-8C54-957F5E55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042-B5CF-440D-A0E9-6BF80D51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451-B479-4DC5-A50B-3D74EB1C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473D-A79C-4EF1-B87A-8080D78A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1442-A79A-4527-B323-8601AF67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BDC4-5914-4D41-9010-03DD4401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565A-EE31-4BCA-99FD-B1EE01D07B5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2CE7-2497-40F9-92FE-E7241DF5BB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292B-3868-4743-9D36-D7E2C237E8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21DD-76D2-46B7-B24C-3EF0C147B4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1692360" y="126828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长相思</a:t>
            </a:r>
            <a:r>
              <a:rPr b="1" lang="en-US" sz="40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方正北魏楷书简体"/>
                <a:ea typeface="方正北魏楷书简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5"/>
          <p:cNvSpPr txBox="1"/>
          <p:nvPr/>
        </p:nvSpPr>
        <p:spPr>
          <a:xfrm>
            <a:off x="684360" y="907920"/>
            <a:ext cx="23335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latin typeface="华文彩云"/>
              </a:rPr>
              <a:t>我们比一比</a:t>
            </a:r>
            <a:endParaRPr b="1" lang="en-US" sz="18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latin typeface="华文彩云"/>
              <a:ea typeface="华文彩云"/>
            </a:endParaRPr>
          </a:p>
        </p:txBody>
      </p:sp>
      <p:pic>
        <p:nvPicPr>
          <p:cNvPr id="134" name="Object 8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6553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rcRect l="0" t="2698" r="2945" b="4052"/>
          <a:stretch/>
        </p:blipFill>
        <p:spPr>
          <a:xfrm>
            <a:off x="457200" y="609480"/>
            <a:ext cx="6324480" cy="5791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5"/>
          <p:cNvSpPr txBox="1"/>
          <p:nvPr/>
        </p:nvSpPr>
        <p:spPr>
          <a:xfrm>
            <a:off x="684360" y="907920"/>
            <a:ext cx="23335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latin typeface="华文彩云"/>
              </a:rPr>
              <a:t>我们看一看</a:t>
            </a:r>
            <a:endParaRPr b="1" lang="en-US" sz="18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latin typeface="华文彩云"/>
              <a:ea typeface="华文彩云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80880" y="2514600"/>
            <a:ext cx="649152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菩萨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纳兰性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问君何事轻离别，一年能几团圆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杨柳乍如丝，故园春尽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春归归不得，两桨松花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旧事逐寒潮，啼鹃恨未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900000" y="4762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交流与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752480" y="31240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通过这三首诗词的阅读学习，使学生对诗词的诵读来体会作者的思乡之情；通过三首诗词的对比体会，揣摩作者是怎样表达自己的感情的；同时，积累古诗词，增强对祖国语言文字的热爱之情，厚实文化积淀。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16"/>
          <p:cNvPicPr/>
          <p:nvPr/>
        </p:nvPicPr>
        <p:blipFill>
          <a:blip r:embed="rId2"/>
          <a:stretch/>
        </p:blipFill>
        <p:spPr>
          <a:xfrm>
            <a:off x="539640" y="5400720"/>
            <a:ext cx="3859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395280" y="5877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BJ_001"/>
          <p:cNvPicPr/>
          <p:nvPr/>
        </p:nvPicPr>
        <p:blipFill>
          <a:blip r:embed="rId3"/>
          <a:stretch/>
        </p:blipFill>
        <p:spPr>
          <a:xfrm>
            <a:off x="380880" y="1143000"/>
            <a:ext cx="1295640" cy="5029200"/>
          </a:xfrm>
          <a:prstGeom prst="rect">
            <a:avLst/>
          </a:prstGeom>
          <a:ln w="9360">
            <a:solidFill>
              <a:srgbClr val="335363"/>
            </a:solidFill>
            <a:miter/>
          </a:ln>
        </p:spPr>
      </p:pic>
      <p:sp>
        <p:nvSpPr>
          <p:cNvPr id="147" name="Text Box 10"/>
          <p:cNvSpPr/>
          <p:nvPr/>
        </p:nvSpPr>
        <p:spPr>
          <a:xfrm>
            <a:off x="1752480" y="12193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首诗写出了边塞军旅途中的思乡寄情。现在请和同桌互相说一说：在你脑海中出现了怎样的景色呢？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2057400" y="609480"/>
            <a:ext cx="6781680" cy="4305240"/>
          </a:xfrm>
          <a:prstGeom prst="rect">
            <a:avLst/>
          </a:prstGeom>
          <a:noFill/>
          <a:ln w="57240">
            <a:solidFill>
              <a:srgbClr val="af34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古诗学习交流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自学古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求：小组合作，借助学习资料或插图等，自由选择古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塞下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登飞来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的一首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合作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小组为单位，将各自对古诗的理解、体会等展示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评选出最佳自学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BJ_023"/>
          <p:cNvPicPr/>
          <p:nvPr/>
        </p:nvPicPr>
        <p:blipFill>
          <a:blip r:embed="rId2"/>
          <a:stretch/>
        </p:blipFill>
        <p:spPr>
          <a:xfrm>
            <a:off x="762120" y="838080"/>
            <a:ext cx="1143000" cy="5105520"/>
          </a:xfrm>
          <a:prstGeom prst="rect">
            <a:avLst/>
          </a:prstGeom>
          <a:ln w="57240">
            <a:solidFill>
              <a:srgbClr val="af3403"/>
            </a:solidFill>
            <a:miter/>
          </a:ln>
        </p:spPr>
      </p:pic>
      <p:sp>
        <p:nvSpPr>
          <p:cNvPr id="151" name="Text Box 5"/>
          <p:cNvSpPr/>
          <p:nvPr/>
        </p:nvSpPr>
        <p:spPr>
          <a:xfrm>
            <a:off x="1106640" y="611820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8"/>
          <p:cNvSpPr/>
          <p:nvPr/>
        </p:nvSpPr>
        <p:spPr>
          <a:xfrm>
            <a:off x="6012000" y="72216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438280" y="838080"/>
            <a:ext cx="27590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长相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]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纳兰性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2814480"/>
            <a:ext cx="6324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山一程，水一程，身向榆关那畔行，夜深千帐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风一更，雪一更，聒碎乡心梦不成，故园无此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4110480" y="4114800"/>
            <a:ext cx="1204200" cy="368280"/>
            <a:chOff x="4110480" y="4114800"/>
            <a:chExt cx="1204200" cy="368280"/>
          </a:xfrm>
        </p:grpSpPr>
        <p:sp>
          <p:nvSpPr>
            <p:cNvPr id="89" name="Text Box 7"/>
            <p:cNvSpPr/>
            <p:nvPr/>
          </p:nvSpPr>
          <p:spPr>
            <a:xfrm>
              <a:off x="4110480" y="4114800"/>
              <a:ext cx="72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ē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4713480" y="4114800"/>
              <a:ext cx="6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u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2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"/>
          <p:cNvSpPr/>
          <p:nvPr/>
        </p:nvSpPr>
        <p:spPr>
          <a:xfrm>
            <a:off x="304920" y="990720"/>
            <a:ext cx="64767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长相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仿宋_GB2312"/>
              </a:rPr>
              <a:t>纳兰性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山一程，水一程，身向榆关那畔行，夜深千帐灯。     风一更，雪一更，聒碎乡心梦不成，故园无此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 flipH="1">
            <a:off x="1371240" y="3276720"/>
            <a:ext cx="144360" cy="57600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1600200" y="3962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2209680" y="3962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2666880" y="39625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 flipH="1">
            <a:off x="4419360" y="3352680"/>
            <a:ext cx="144360" cy="57636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4724280" y="4038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9"/>
          <p:cNvSpPr/>
          <p:nvPr/>
        </p:nvSpPr>
        <p:spPr>
          <a:xfrm>
            <a:off x="5257800" y="4038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5791320" y="40384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6400440" y="4343400"/>
            <a:ext cx="144360" cy="57636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2"/>
          <p:cNvSpPr/>
          <p:nvPr/>
        </p:nvSpPr>
        <p:spPr>
          <a:xfrm>
            <a:off x="609480" y="5715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1143000" y="5715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1523880" y="56386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5"/>
          <p:cNvSpPr/>
          <p:nvPr/>
        </p:nvSpPr>
        <p:spPr>
          <a:xfrm flipH="1">
            <a:off x="3428640" y="5105520"/>
            <a:ext cx="144360" cy="576000"/>
          </a:xfrm>
          <a:prstGeom prst="line">
            <a:avLst/>
          </a:prstGeom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6"/>
          <p:cNvSpPr/>
          <p:nvPr/>
        </p:nvSpPr>
        <p:spPr>
          <a:xfrm>
            <a:off x="3657600" y="5715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3"/>
          <p:cNvSpPr/>
          <p:nvPr/>
        </p:nvSpPr>
        <p:spPr>
          <a:xfrm>
            <a:off x="4191120" y="5715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4"/>
          <p:cNvSpPr/>
          <p:nvPr/>
        </p:nvSpPr>
        <p:spPr>
          <a:xfrm>
            <a:off x="4724280" y="5715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286000" y="83808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**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诗人简介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*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印"/>
          <p:cNvPicPr/>
          <p:nvPr/>
        </p:nvPicPr>
        <p:blipFill>
          <a:blip r:embed="rId2"/>
          <a:stretch/>
        </p:blipFill>
        <p:spPr>
          <a:xfrm>
            <a:off x="990720" y="914400"/>
            <a:ext cx="914400" cy="762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648036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纳兰性德（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5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8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，字容若，康熙时宰相明珠之子，正黄旗人。康熙十五年进士，不久晋升一等侍卫，文武双全，尤长于词，为清初词坛巨擘，被誉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满清第一词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宋后第一真词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朱彝尊、陈维崧并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清词三大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词风接近李煜，清新自然，隽永超逸。有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通志堂集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饮水词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4"/>
          <p:cNvSpPr txBox="1"/>
          <p:nvPr/>
        </p:nvSpPr>
        <p:spPr>
          <a:xfrm>
            <a:off x="755640" y="907920"/>
            <a:ext cx="2286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latin typeface="华文彩云"/>
              </a:rPr>
              <a:t>我们读一读</a:t>
            </a:r>
            <a:endParaRPr b="1" lang="en-US" sz="18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latin typeface="华文彩云"/>
              <a:ea typeface="华文彩云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63480" y="2570040"/>
            <a:ext cx="61945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仔仔细细地读上四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前两遍的时候注意词当中的生字和多音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争取把它念得字正腔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后两遍的时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争取把它念通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注意词句内部的停顿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684360" y="907920"/>
            <a:ext cx="23335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latin typeface="华文彩云"/>
              </a:rPr>
              <a:t>我们写一写</a:t>
            </a:r>
            <a:endParaRPr b="1" lang="en-US" sz="18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latin typeface="华文彩云"/>
              <a:ea typeface="华文彩云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84360" y="2637000"/>
            <a:ext cx="60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学们，在纳兰性德的心中，在纳兰性德的记忆里面，在他的家乡，在他的故园，又应该是怎样的画面，怎样的情景呢？展开你的想象，把你在作者的家乡，在作者的故园看到的画面写下来。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一个陌生女人的来信.mp3" descr=""/>
          <p:cNvPicPr/>
          <p:nvPr/>
        </p:nvPicPr>
        <p:blipFill>
          <a:blip r:embed="rId2"/>
          <a:stretch/>
        </p:blipFill>
        <p:spPr>
          <a:xfrm>
            <a:off x="59436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1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521520" y="2743200"/>
            <a:ext cx="5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问君何事轻离别，一年能几团圆月？</a:t>
            </a:r>
            <a:r>
              <a:rPr b="0" lang="zh-CN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521720" y="3429000"/>
            <a:ext cx="4182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山一程，水一程，程程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长相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风一更，雪一更，更更唤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长相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爱故园，爱祖国，字字化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长相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6"/>
          <p:cNvSpPr txBox="1"/>
          <p:nvPr/>
        </p:nvSpPr>
        <p:spPr>
          <a:xfrm>
            <a:off x="684360" y="907920"/>
            <a:ext cx="23335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latin typeface="华文彩云"/>
              </a:rPr>
              <a:t>我们想一想</a:t>
            </a:r>
            <a:endParaRPr b="1" lang="en-US" sz="18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630576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alibri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cc0000"/>
                </a:solidFill>
                <a:latin typeface="Calibri"/>
                <a:ea typeface="隶书"/>
              </a:rPr>
              <a:t>有人认为“夜深千帐灯”与“大漠孤烟直，长河落日圆”的境界接近，你认为呢？请简要分析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623736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二者都显出恢宏壮阔的气势，壮阔中透露出苍凉与孤寂之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前者侧重写相思之愁苦，此情深挚婉丽；较“大漠、长河”一句的雄浑壮阔的景象和充满张力的内涵，则相对纤细、单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684360" y="907920"/>
            <a:ext cx="23335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latin typeface="华文彩云"/>
              </a:rPr>
              <a:t>我们说一说</a:t>
            </a:r>
            <a:endParaRPr b="1" lang="en-US" sz="18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06:32:00Z</dcterms:created>
  <dc:creator/>
  <dc:description/>
  <cp:keywords>幻灯片之家 http:/www.eeppt.com</cp:keywords>
  <dc:language>en-US</dc:language>
  <cp:lastModifiedBy/>
  <dcterms:modified xsi:type="dcterms:W3CDTF">2015-07-20T06:12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