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0B5-8EDD-433D-947B-119A9FFF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B331-2467-4104-8237-550CBC74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CF4-568F-449E-8E7F-2E184027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E7AC-57A7-4376-BA2F-F3E14A14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ADF0-D8E3-43A4-B2B3-A2C447D9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AD34-5A96-4307-ADA8-D3ECE19B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6D1E-FA64-4E57-8CF1-56FCEC60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CD0B-8D6C-4089-BADA-8B5D3FD8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205E-FAAA-425F-8297-5F2AED5B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6F63-EA7C-4395-B294-EAD8A1FC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3EB8-3BD7-4F4C-A655-DC660826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C836-C867-4194-9A44-2C4341FC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6B95-E833-4BE5-ADCB-F5C12611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6587-1A1B-40F2-82FD-50E90542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40C8-F91C-4280-BDDC-B4406A76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B74F-8440-466C-B8AB-78E32F7A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7B10-5350-4CDE-A6DB-8EF99BEB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B0E8F-0BBC-4377-9AF3-E7697F5A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0F8C0-8286-4211-A8E0-065B344D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A925F-16EB-414F-BC06-12A15D09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1F85D-F84A-4E51-A202-EA5A96B9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40EA9-7694-4006-B7D4-D57175BA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0DA7-4DD4-4577-9477-9BB067AB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8C164-A880-441A-BB05-2D9E2A06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720D7-857B-4922-929E-3C8CBD95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B01A8-FA93-4D4C-B573-112D2BCD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33AF0-4B2A-447A-9E35-B99F4485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5569D-D2DF-4625-9DAB-99608AA2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F3B7A-7166-4F0A-AEAA-6E352B94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5907E-15E5-47DB-9348-0144EE98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B3B0-A417-44FA-913B-1A54DBBA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7914-4BA5-487F-A360-13A1F87A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09F5-54D6-403E-986E-D12BC083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2C10-60E2-42EF-ADCC-5F2038D7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B885-AD47-40B0-8105-4E08BE24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5EE2-CE56-4CE5-A83A-B96E66D4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480" y="63723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92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4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24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000" y="5869080"/>
              <a:ext cx="43668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400" y="5888160"/>
              <a:ext cx="33840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360" y="6248520"/>
              <a:ext cx="26532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2080"/>
              <a:ext cx="263520" cy="47592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520"/>
              <a:ext cx="376200" cy="44748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840"/>
              <a:ext cx="311040" cy="37116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360"/>
              <a:ext cx="14112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1B44-D1F5-4E3B-9473-FC1D853E253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B321-F75E-4A9B-9A96-01B2BD871D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94C3-1114-47B0-A6ED-3134184F3CF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hyperlink" Target="274,1,&#24187;&#28783;&#29255; 1" TargetMode="External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274,1,&#24187;&#28783;&#29255; 1" TargetMode="External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</a:rPr>
              <a:t>长相思幻灯片在线下载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aea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eaeaea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99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99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99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99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026" descr="2755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026" descr="sTgZ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026" descr="xin_35060121084576513988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5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ec85e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ec85e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5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E9E7B-6483-45E4-8DBC-BBE1006245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Img223052030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324000" y="5516640"/>
            <a:ext cx="3614760" cy="916920"/>
          </a:xfrm>
          <a:prstGeom prst="rect">
            <a:avLst/>
          </a:prstGeom>
          <a:solidFill>
            <a:srgbClr val="5e85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华文行楷"/>
                <a:ea typeface="华文行楷"/>
              </a:rPr>
              <a:t>夜深千帐灯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305920" y="4572000"/>
            <a:ext cx="838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eec85e"/>
                </a:solidFill>
                <a:uFillTx/>
                <a:latin typeface="Times New Roman"/>
                <a:ea typeface="华文行楷"/>
                <a:hlinkClick r:id="rId3"/>
              </a:rPr>
              <a:t>返回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</a:rPr>
              <a:t>五、预习指导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作者在词中描绘了什么样的景物，你能确定是哪里的景物吗？</a:t>
            </a:r>
            <a:br>
              <a:rPr sz="3200"/>
            </a:b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体会出这词中蕴含的思想感情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83552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六、感知理解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Verdana"/>
              </a:rPr>
              <a:t>纳兰性德推崇南唐李煜，词风清丽自然， 缠绵悱恻， 反映到这首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《</a:t>
            </a:r>
            <a:r>
              <a:rPr b="0" lang="zh-CN" sz="2800" spc="-1" strike="noStrike">
                <a:solidFill>
                  <a:srgbClr val="eaeaea"/>
                </a:solidFill>
                <a:latin typeface="Verdana"/>
              </a:rPr>
              <a:t>长相思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》</a:t>
            </a:r>
            <a:r>
              <a:rPr b="0" lang="zh-CN" sz="2800" spc="-1" strike="noStrike">
                <a:solidFill>
                  <a:srgbClr val="eaeaea"/>
                </a:solidFill>
                <a:latin typeface="Verdana"/>
              </a:rPr>
              <a:t>上，虽然 写旅途思乡，也写得悠长动情。</a:t>
            </a:r>
            <a:br>
              <a:rPr sz="2800"/>
            </a:br>
            <a:r>
              <a:rPr b="0" lang="zh-CN" sz="2800" spc="-1" strike="noStrike">
                <a:solidFill>
                  <a:srgbClr val="eaeaea"/>
                </a:solidFill>
                <a:latin typeface="Arial"/>
              </a:rPr>
              <a:t>   </a:t>
            </a:r>
            <a:r>
              <a:rPr b="0" lang="zh-CN" sz="2800" spc="-1" strike="noStrike">
                <a:solidFill>
                  <a:srgbClr val="eaeaea"/>
                </a:solidFill>
                <a:latin typeface="Verdana"/>
              </a:rPr>
              <a:t> 词的上片从</a:t>
            </a:r>
            <a:r>
              <a:rPr b="0" lang="zh-CN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eaeaea"/>
                </a:solidFill>
                <a:latin typeface="Verdana"/>
              </a:rPr>
              <a:t>山一程，水一程</a:t>
            </a:r>
            <a:r>
              <a:rPr b="0" lang="zh-CN" sz="28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eaeaea"/>
                </a:solidFill>
                <a:latin typeface="Verdana"/>
              </a:rPr>
              <a:t>的叠用，来说明身离故乡之远。下片以</a:t>
            </a:r>
            <a:r>
              <a:rPr b="0" lang="zh-CN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eaeaea"/>
                </a:solidFill>
                <a:latin typeface="Verdana"/>
              </a:rPr>
              <a:t>风一更，雪一更</a:t>
            </a:r>
            <a:r>
              <a:rPr b="0" lang="zh-CN" sz="28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eaeaea"/>
                </a:solidFill>
                <a:latin typeface="Verdana"/>
              </a:rPr>
              <a:t>气候上的转变来渲染作者此时孤寂情怀。风雪打断了他思乡之梦，懊丧之余，他更加怀念故园的宁静详和，作者于清丽哀婉之中又不乏边寨之雄奇风情的描述，这两者结合到一起，就升华了羁旅怀乡的主题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七、赏析加点字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一</a:t>
            </a: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字赏析：上下片的前两句均用</a:t>
            </a: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一</a:t>
            </a: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字，不但对仗工整，使文字呈连续不绝之势，词风更加缠绵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身</a:t>
            </a: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字赏析：点明身处之地及方向，</a:t>
            </a: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身</a:t>
            </a: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与心相对，身向榆关，而心却在关内，表明作者心系故园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八、知识归纳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长相思，词牌名。内容多写男女或朋友久别思念之情，故名。双调三十六字，平韵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九、拓展练习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</a:t>
            </a:r>
            <a:r>
              <a:rPr b="0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长相思</a:t>
            </a:r>
            <a:br>
              <a:rPr sz="2000"/>
            </a:br>
            <a:r>
              <a:rPr b="0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李白</a:t>
            </a:r>
            <a:br>
              <a:rPr sz="2000"/>
            </a:br>
            <a:r>
              <a:rPr b="0" lang="zh-CN" sz="2000" spc="-1" strike="noStrike">
                <a:solidFill>
                  <a:srgbClr val="ff0000"/>
                </a:solidFill>
                <a:latin typeface="Verdana"/>
              </a:rPr>
              <a:t>　　</a:t>
            </a:r>
            <a:r>
              <a:rPr b="0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长相思，在长安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络纬秋啼金井阑， 微霜凄凄簟色寒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孤灯不明思欲绝， 卷帷望月空长叹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人如花隔云端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上有青冥之高天， 下有渌水之波澜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天长路远魂飞苦， 梦魂不到关山难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长相思，摧心肝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隶书"/>
              </a:rPr>
              <a:t>李白此诗表达了怎样的思想感情？感情基调与纳兰词有何不同？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1"/>
          <p:cNvSpPr/>
          <p:nvPr/>
        </p:nvSpPr>
        <p:spPr>
          <a:xfrm>
            <a:off x="1908000" y="765000"/>
            <a:ext cx="590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00"/>
                </a:solidFill>
                <a:latin typeface="Verdana"/>
              </a:rPr>
              <a:t>一、教 学 目 标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i="1" lang="zh-CN" sz="2800" spc="-1" strike="noStrike">
                <a:solidFill>
                  <a:srgbClr val="ffff00"/>
                </a:solidFill>
                <a:latin typeface="Verdana"/>
              </a:rPr>
              <a:t>了解作者的身世经历及生活时代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i="1" lang="zh-CN" sz="2800" spc="-1" strike="noStrike">
                <a:solidFill>
                  <a:srgbClr val="ffff00"/>
                </a:solidFill>
                <a:latin typeface="Verdana"/>
              </a:rPr>
              <a:t>掌握词的内容，体会词的意境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i="1" lang="zh-CN" sz="2800" spc="-1" strike="noStrike">
                <a:solidFill>
                  <a:srgbClr val="ffff00"/>
                </a:solidFill>
                <a:latin typeface="Verdana"/>
              </a:rPr>
              <a:t>领会词中作者流露的思想感情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eaeaea"/>
                </a:solidFill>
                <a:latin typeface="Arial"/>
              </a:rPr>
              <a:t>二、导 入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Verdana"/>
              </a:rPr>
              <a:t>王国维曰：明月照积雪、大江流日夜、澄江静如练、山气日夕佳、落日大旗中、中天悬明月、大漠孤烟直、长河落日圆，此等境界可谓千古奇观。求之于词，则纳兰容若塞上之作，如</a:t>
            </a: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《</a:t>
            </a:r>
            <a:r>
              <a:rPr b="0" i="1" lang="zh-CN" sz="3200" spc="-1" strike="noStrike">
                <a:solidFill>
                  <a:srgbClr val="ff0000"/>
                </a:solidFill>
                <a:latin typeface="Verdana"/>
              </a:rPr>
              <a:t>长相思</a:t>
            </a: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》“</a:t>
            </a:r>
            <a:r>
              <a:rPr b="0" i="1" lang="zh-CN" sz="3200" spc="-1" strike="noStrike">
                <a:solidFill>
                  <a:srgbClr val="ff0000"/>
                </a:solidFill>
                <a:latin typeface="Verdana"/>
              </a:rPr>
              <a:t>夜深千帐灯”</a:t>
            </a: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……</a:t>
            </a:r>
            <a:r>
              <a:rPr b="0" i="1" lang="zh-CN" sz="3200" spc="-1" strike="noStrike">
                <a:solidFill>
                  <a:srgbClr val="ff0000"/>
                </a:solidFill>
                <a:latin typeface="Verdana"/>
              </a:rPr>
              <a:t>差近之。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9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hangye/ </a:t>
            </a:r>
            <a:endParaRPr b="0" lang="en-US" sz="1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ucai/</a:t>
            </a:r>
            <a:endParaRPr b="0" lang="en-US" sz="1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tubiao/      </a:t>
            </a:r>
            <a:endParaRPr b="0" lang="en-US" sz="1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powerpoint/      </a:t>
            </a:r>
            <a:endParaRPr b="0" lang="en-US" sz="1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excel/  </a:t>
            </a:r>
            <a:endParaRPr b="0" lang="en-US" sz="1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kejian/ </a:t>
            </a:r>
            <a:endParaRPr b="0" lang="en-US" sz="1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hiti/  </a:t>
            </a:r>
            <a:endParaRPr b="0" lang="en-US" sz="1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aoan/  </a:t>
            </a:r>
            <a:endParaRPr b="0" lang="en-US" sz="1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Picture 1026" descr="118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27" descr="sz607-a"/>
          <p:cNvPicPr/>
          <p:nvPr/>
        </p:nvPicPr>
        <p:blipFill>
          <a:blip r:embed="rId3"/>
          <a:stretch/>
        </p:blipFill>
        <p:spPr>
          <a:xfrm>
            <a:off x="228600" y="1600200"/>
            <a:ext cx="3352680" cy="4800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28"/>
          <p:cNvSpPr/>
          <p:nvPr/>
        </p:nvSpPr>
        <p:spPr>
          <a:xfrm>
            <a:off x="1523880" y="304920"/>
            <a:ext cx="579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e855b"/>
                </a:solidFill>
                <a:latin typeface="Times New Roman"/>
                <a:ea typeface="华文行楷"/>
              </a:rPr>
              <a:t>作者介绍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Text Box 1029"/>
          <p:cNvSpPr/>
          <p:nvPr/>
        </p:nvSpPr>
        <p:spPr>
          <a:xfrm>
            <a:off x="3733920" y="1676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e855b"/>
                </a:solidFill>
                <a:latin typeface="华文新魏"/>
                <a:ea typeface="华文新魏"/>
              </a:rPr>
              <a:t>纳兰性德：本名成德，避太子讳改性德。字容若，满洲正黄旗人。</a:t>
            </a:r>
            <a:r>
              <a:rPr b="0" lang="en-US" sz="3200" spc="-1" strike="noStrike">
                <a:solidFill>
                  <a:srgbClr val="5e855b"/>
                </a:solidFill>
                <a:latin typeface="华文新魏"/>
                <a:ea typeface="华文新魏"/>
              </a:rPr>
              <a:t>21</a:t>
            </a:r>
            <a:r>
              <a:rPr b="0" lang="zh-CN" sz="3200" spc="-1" strike="noStrike">
                <a:solidFill>
                  <a:srgbClr val="5e855b"/>
                </a:solidFill>
                <a:latin typeface="华文新魏"/>
                <a:ea typeface="华文新魏"/>
              </a:rPr>
              <a:t>岁中进士，官至一等侍卫。生平避谈世事，故词也主要写离别相思及怨夏悲秋等个人生活感受。词的风格直抒胸怀，婉约清新；但过多哀思，情调消沉。被人称为</a:t>
            </a:r>
            <a:r>
              <a:rPr b="0" lang="zh-CN" sz="3200" spc="-1" strike="noStrike">
                <a:solidFill>
                  <a:srgbClr val="5e855b"/>
                </a:solidFill>
                <a:latin typeface="Times New Roman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5e855b"/>
                </a:solidFill>
                <a:latin typeface="华文新魏"/>
                <a:ea typeface="华文新魏"/>
              </a:rPr>
              <a:t>清代第一词人</a:t>
            </a:r>
            <a:r>
              <a:rPr b="0" lang="zh-CN" sz="3200" spc="-1" strike="noStrike">
                <a:solidFill>
                  <a:srgbClr val="5e855b"/>
                </a:solidFill>
                <a:latin typeface="Times New Roman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5e855b"/>
                </a:solidFill>
                <a:latin typeface="华文新魏"/>
                <a:ea typeface="华文新魏"/>
              </a:rPr>
              <a:t>。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Text Box 1030"/>
          <p:cNvSpPr/>
          <p:nvPr/>
        </p:nvSpPr>
        <p:spPr>
          <a:xfrm>
            <a:off x="8305920" y="4572000"/>
            <a:ext cx="838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eec85e"/>
                </a:solidFill>
                <a:uFillTx/>
                <a:latin typeface="Times New Roman"/>
                <a:ea typeface="华文行楷"/>
                <a:hlinkClick r:id="rId4"/>
              </a:rPr>
              <a:t>返回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1028"/>
          <p:cNvSpPr txBox="1"/>
          <p:nvPr/>
        </p:nvSpPr>
        <p:spPr>
          <a:xfrm>
            <a:off x="539640" y="765000"/>
            <a:ext cx="7272360" cy="322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朗读及讲解欣赏</a:t>
            </a:r>
            <a:endParaRPr b="1" lang="en-US" sz="2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51" name="长相思.mp3" descr=""/>
          <p:cNvPicPr/>
          <p:nvPr/>
        </p:nvPicPr>
        <p:blipFill>
          <a:blip r:embed="rId2"/>
          <a:stretch/>
        </p:blipFill>
        <p:spPr>
          <a:xfrm>
            <a:off x="4859280" y="3141720"/>
            <a:ext cx="5842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25493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长     相     思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ffffcc"/>
                </a:solidFill>
                <a:latin typeface="Arial"/>
              </a:rPr>
              <a:t>纳兰性德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山一程，水一程，身向榆关那畔行，夜深千帐灯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风一更，雪一更，聒碎乡心梦不成，故园无此声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身 向 榆 关 那 畔 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5" name="Picture 4" descr="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风一更，雪一更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8" name="Picture 4" descr="r_DSCF017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026" descr="09201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05:30:37Z</dcterms:created>
  <dc:creator/>
  <dc:description/>
  <cp:keywords>幻灯片之家 http:/www.eeppt.com</cp:keywords>
  <dc:language>en-US</dc:language>
  <cp:lastModifiedBy/>
  <dcterms:modified xsi:type="dcterms:W3CDTF">2015-07-20T03:06:30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