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B6F-5C8D-4DF2-89C9-96B8CA20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3F8-2D21-4385-8702-6C44D0E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394-0C40-4C12-B5F1-1E4016BC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1AF-BBA2-4D2A-96C3-1E01EDE8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D647-5417-4DA4-8444-565C8C9F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4DC-EB1B-4381-87E6-235935A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A2B-7FF3-4BB4-AA02-CCF7BA81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914-EC51-4AAA-8C3F-3FE5184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67D1-76EC-4E8E-AB5B-21E3C60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499-D6F3-4599-89F3-275A5D7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8105-CA72-40EB-8D17-FA82854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107-B9AC-4EE5-BE30-AC15EBC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5A2F-BA82-4CB2-B119-6B84E0E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CF68-EDF8-4C26-B9AD-D120A3E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2AB9-B7DA-4001-A900-839ABBA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7882-54DD-4356-BB54-74972E3F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37D-151D-4A28-A2EC-FAE29144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A83-43DA-4612-B1BE-84BBD2F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EB9-7E0C-457D-8D92-2D0F6CD7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8A3-C771-49EB-9E27-A93151A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0E2-5A80-4D05-8091-9C73E6FE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8C3-AFB6-49E0-90CD-3684EA3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642-0731-47BF-8926-D3716A3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75A-11AD-4AC1-9A99-F729333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C71-0571-4087-9096-DD1CB21511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660-9C30-4739-962B-1C1C0E2E83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F69E-CF70-48FD-A6FA-D148F86D23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6262-CD5A-411D-81AA-11FE5B9D0C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857160" y="1700280"/>
            <a:ext cx="5286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928800" y="2357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手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5"/>
          <p:cNvSpPr/>
          <p:nvPr/>
        </p:nvSpPr>
        <p:spPr>
          <a:xfrm>
            <a:off x="1000080" y="2357280"/>
            <a:ext cx="32148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87416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插画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4AD9-5BC5-4E99-B8A1-FEAA727191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1783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6498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711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6783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283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2926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2836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26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711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283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497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997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569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1926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6569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712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855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246"/>
          <p:cNvSpPr/>
          <p:nvPr/>
        </p:nvSpPr>
        <p:spPr>
          <a:xfrm>
            <a:off x="2482920" y="54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568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2568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783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6Z</dcterms:modified>
  <cp:revision>10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