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97B-4E64-4CE1-8BD6-C5F13BB2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06E-1F05-4F8A-91F1-A874D552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E6F-87E3-4D01-B9E4-78E4FB5D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E61-8379-4BBA-811D-A06AEAC7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860C-1967-4384-9220-B073EBF2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FCB-6D89-431B-9BC8-046E5E0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196-CECE-4097-8EE3-009B1AE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9859-49AB-4F90-94B2-8992C58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C789-940C-41CB-898D-C68C1D6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CCE-71A2-4F95-A3E5-92C0E389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BA2-8D45-4F99-87AE-CD63892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456-37B0-4B2B-9484-C8B991D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FDAB-D449-4C37-B3B9-C9BB98C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07BC-78C8-4AD7-ABA1-2AE7DD19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26A-B783-4648-AE9B-78CC796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B5C-9384-4FFA-9FF2-A7B8F965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000-F6BE-4BC4-8895-D012AE20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5F2-9C7B-4DC9-AC5C-B5C8894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6BD-AB0B-4914-B068-8FF4D9B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7E7-7EF7-4ECD-AB07-87399B2E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85C-4540-42D7-8C2F-1CE82F60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39B-C1DD-4462-8FB9-02CDECD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C88-A152-463F-89C4-3FBA180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7E6-6D76-488A-AD71-1D49E89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960F-E005-41DC-974C-25B56C96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91440" y="35053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-476280" y="4149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-47628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866772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9"/>
          <a:stretch/>
        </p:blipFill>
        <p:spPr>
          <a:xfrm>
            <a:off x="8191440" y="98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0"/>
          <a:stretch/>
        </p:blipFill>
        <p:spPr>
          <a:xfrm>
            <a:off x="7093080" y="-171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1"/>
          <a:stretch/>
        </p:blipFill>
        <p:spPr>
          <a:xfrm>
            <a:off x="752472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2"/>
          <a:stretch/>
        </p:blipFill>
        <p:spPr>
          <a:xfrm rot="10800000">
            <a:off x="1332000" y="-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BD5-7BA9-46C8-8F83-4BBF0FC12C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5734080"/>
            <a:ext cx="59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8520" y="620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边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8D5D-5612-45DA-9B59-AAD22BDD63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06:28:26Z</dcterms:created>
  <dc:creator/>
  <dc:description/>
  <dc:language>en-US</dc:language>
  <cp:lastModifiedBy>GZB</cp:lastModifiedBy>
  <dcterms:modified xsi:type="dcterms:W3CDTF">2015-07-21T02:37:31Z</dcterms:modified>
  <cp:revision>4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