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B22-6507-4D27-A607-F08EA37D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D07-BBEB-422A-90F4-4E8FBBE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AC0-9818-4358-B258-D5947632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484-A030-4747-8C1E-798F33E8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290-639F-471F-AB76-E33BA37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E95-F4CB-454A-B369-E6A89A3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524-788B-4AE0-93DF-BCA87D7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CB-7156-4293-BD57-CE90C868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DF2-F417-450F-AA1E-35C322DD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562-A16F-4A15-A78F-700206DA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D06-8B7E-4E6C-B9FD-C4D0D4E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390-8771-42C4-B297-4B983C2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C0E3-5A0B-4BB9-B575-63937B740CF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6520" y="2709720"/>
            <a:ext cx="63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《邓小平爷爷植树》课件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W0201008182845472085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079640" y="9810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79640" y="1844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②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79640" y="4365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③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564000" y="1052640"/>
            <a:ext cx="1942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987640" y="1916280"/>
            <a:ext cx="2592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250920" y="2781360"/>
            <a:ext cx="1512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2124000" y="2708280"/>
            <a:ext cx="201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6588000" y="2781360"/>
            <a:ext cx="201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395280" y="3213000"/>
            <a:ext cx="576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5508720" y="3213000"/>
            <a:ext cx="2519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4140360" y="3573360"/>
            <a:ext cx="136836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1476360" y="4076640"/>
            <a:ext cx="144000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7812000" y="2349360"/>
            <a:ext cx="133200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8342640" y="2328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</a:t>
            </a:r>
            <a:endParaRPr b="1" lang="en-US" sz="2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W0201008182845465857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440000" y="1052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④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13080" y="2276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⑤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284720" y="260280"/>
            <a:ext cx="13669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635280" y="692280"/>
            <a:ext cx="14414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5292720" y="1413000"/>
            <a:ext cx="1081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76600" y="14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车</a:t>
            </a:r>
            <a:endParaRPr b="1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6156360" y="2421000"/>
            <a:ext cx="1295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7451640" y="2421000"/>
            <a:ext cx="12970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6a06503de9f9b1db9f3d62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24000" y="1844640"/>
            <a:ext cx="882000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邓小平  植树节   岁数  年龄</a:t>
            </a: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已经     休息     车站    不行</a:t>
            </a: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步行     扶手     栽树    亲手</a:t>
            </a: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9640" y="404640"/>
            <a:ext cx="453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395280" y="476280"/>
            <a:ext cx="244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我会读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76560" y="15429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1916280"/>
            <a:ext cx="943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邓  植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岁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龄  已  经</a:t>
            </a: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息  站 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扶  栽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亲</a:t>
            </a: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052640"/>
            <a:ext cx="104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èng  zhí  jié  suì  línɡ  yǐ  jīnɡ</a:t>
            </a:r>
            <a:endParaRPr b="1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11280" y="3068640"/>
            <a:ext cx="99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ī  zhàn xínɡ  fú  zāi  qīn</a:t>
            </a:r>
            <a:endParaRPr b="1" lang="en-US" sz="4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4360" y="692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9160" y="476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熟字加偏旁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82880" y="112536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178520" y="112536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8760" y="1687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99160" y="1700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熟字换部分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3816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95452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82760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69924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30480" y="3056040"/>
            <a:ext cx="19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熟字相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045080" y="365904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45440" y="35863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43880" y="413532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近字比较：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170520" y="422100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462960" y="501336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同部分记忆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009800" y="566100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4446720" y="560232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687760" y="1052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植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5783400" y="1052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扶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1140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节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405612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岁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592776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邓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779940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龄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3479760" y="350028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息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7080120" y="350028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的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4919760" y="422100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已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614680" y="558972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栽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6215040" y="558972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亲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7"/>
          <p:cNvSpPr/>
          <p:nvPr/>
        </p:nvSpPr>
        <p:spPr>
          <a:xfrm>
            <a:off x="395280" y="549360"/>
            <a:ext cx="2808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议一议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11280" y="1844640"/>
            <a:ext cx="7993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为什么要植树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怎样植树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学完这篇课文后你准备怎样做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06440" y="549360"/>
            <a:ext cx="2808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议一议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611280" y="14130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观察校园里的一种植物，把它画下来。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在爸爸妈妈的帮助下上网查找各个国家的植树节在什么时候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有条件的和爸爸妈妈一起种树。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5280" y="260280"/>
            <a:ext cx="583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826920" y="333360"/>
            <a:ext cx="24498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拓展学习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40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1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43" name="Text Box 6"/>
          <p:cNvSpPr/>
          <p:nvPr/>
        </p:nvSpPr>
        <p:spPr>
          <a:xfrm>
            <a:off x="2771640" y="21337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爷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522240" y="47160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yé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46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7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49" name="Text Box 6"/>
          <p:cNvSpPr/>
          <p:nvPr/>
        </p:nvSpPr>
        <p:spPr>
          <a:xfrm>
            <a:off x="2771640" y="21337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节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524040" y="471600"/>
            <a:ext cx="153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ié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52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55" name="Text Box 6"/>
          <p:cNvSpPr/>
          <p:nvPr/>
        </p:nvSpPr>
        <p:spPr>
          <a:xfrm>
            <a:off x="2771640" y="227664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岁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320640" y="471600"/>
            <a:ext cx="194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1692360" y="16606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44" name="Picture 5" descr="2007101015558437"/>
          <p:cNvPicPr/>
          <p:nvPr/>
        </p:nvPicPr>
        <p:blipFill>
          <a:blip r:embed="rId2"/>
          <a:stretch/>
        </p:blipFill>
        <p:spPr>
          <a:xfrm>
            <a:off x="684360" y="333360"/>
            <a:ext cx="540036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3635280" y="189000"/>
            <a:ext cx="5329440" cy="2305080"/>
          </a:xfrm>
          <a:prstGeom prst="cloudCallout">
            <a:avLst>
              <a:gd name="adj1" fmla="val -57476"/>
              <a:gd name="adj2" fmla="val 109023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邓小平爷爷是什么人呢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58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9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61" name="Text Box 6"/>
          <p:cNvSpPr/>
          <p:nvPr/>
        </p:nvSpPr>
        <p:spPr>
          <a:xfrm>
            <a:off x="2771640" y="206064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亲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285360" y="4716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īn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65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6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68" name="Text Box 6"/>
          <p:cNvSpPr/>
          <p:nvPr/>
        </p:nvSpPr>
        <p:spPr>
          <a:xfrm>
            <a:off x="2771640" y="21337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的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589200" y="4795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71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74" name="Text Box 6"/>
          <p:cNvSpPr/>
          <p:nvPr/>
        </p:nvSpPr>
        <p:spPr>
          <a:xfrm>
            <a:off x="2771640" y="206064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行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947320" y="471600"/>
            <a:ext cx="26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xínɡ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17400" y="476280"/>
            <a:ext cx="2009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会写的字</a:t>
            </a: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1042920" y="3141720"/>
            <a:ext cx="7345440" cy="1295280"/>
            <a:chOff x="1042920" y="3141720"/>
            <a:chExt cx="7345440" cy="1295280"/>
          </a:xfrm>
        </p:grpSpPr>
        <p:grpSp>
          <p:nvGrpSpPr>
            <p:cNvPr id="178" name="Group 6"/>
            <p:cNvGrpSpPr/>
            <p:nvPr/>
          </p:nvGrpSpPr>
          <p:grpSpPr>
            <a:xfrm>
              <a:off x="2268360" y="3213000"/>
              <a:ext cx="1224000" cy="1224000"/>
              <a:chOff x="2268360" y="3213000"/>
              <a:chExt cx="1224000" cy="122400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68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2268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80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"/>
            <p:cNvGrpSpPr/>
            <p:nvPr/>
          </p:nvGrpSpPr>
          <p:grpSpPr>
            <a:xfrm>
              <a:off x="3492360" y="3213000"/>
              <a:ext cx="1224000" cy="1224000"/>
              <a:chOff x="3492360" y="3213000"/>
              <a:chExt cx="1224000" cy="1224000"/>
            </a:xfrm>
          </p:grpSpPr>
          <p:sp>
            <p:nvSpPr>
              <p:cNvPr id="183" name="Rectangle 11"/>
              <p:cNvSpPr/>
              <p:nvPr/>
            </p:nvSpPr>
            <p:spPr>
              <a:xfrm>
                <a:off x="3492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3492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>
                <a:off x="4104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"/>
            <p:cNvGrpSpPr/>
            <p:nvPr/>
          </p:nvGrpSpPr>
          <p:grpSpPr>
            <a:xfrm>
              <a:off x="4716360" y="3213000"/>
              <a:ext cx="1224000" cy="1224000"/>
              <a:chOff x="4716360" y="3213000"/>
              <a:chExt cx="1224000" cy="1224000"/>
            </a:xfrm>
          </p:grpSpPr>
          <p:sp>
            <p:nvSpPr>
              <p:cNvPr id="187" name="Rectangle 15"/>
              <p:cNvSpPr/>
              <p:nvPr/>
            </p:nvSpPr>
            <p:spPr>
              <a:xfrm>
                <a:off x="4716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4716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>
                <a:off x="5328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8"/>
            <p:cNvGrpSpPr/>
            <p:nvPr/>
          </p:nvGrpSpPr>
          <p:grpSpPr>
            <a:xfrm>
              <a:off x="5940360" y="3213000"/>
              <a:ext cx="1224000" cy="1224000"/>
              <a:chOff x="5940360" y="3213000"/>
              <a:chExt cx="1224000" cy="1224000"/>
            </a:xfrm>
          </p:grpSpPr>
          <p:sp>
            <p:nvSpPr>
              <p:cNvPr id="191" name="Rectangle 19"/>
              <p:cNvSpPr/>
              <p:nvPr/>
            </p:nvSpPr>
            <p:spPr>
              <a:xfrm>
                <a:off x="5940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5940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>
                <a:off x="6552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2"/>
            <p:cNvGrpSpPr/>
            <p:nvPr/>
          </p:nvGrpSpPr>
          <p:grpSpPr>
            <a:xfrm>
              <a:off x="7164360" y="3213000"/>
              <a:ext cx="1224000" cy="1224000"/>
              <a:chOff x="7164360" y="3213000"/>
              <a:chExt cx="1224000" cy="1224000"/>
            </a:xfrm>
          </p:grpSpPr>
          <p:sp>
            <p:nvSpPr>
              <p:cNvPr id="195" name="Rectangle 23"/>
              <p:cNvSpPr/>
              <p:nvPr/>
            </p:nvSpPr>
            <p:spPr>
              <a:xfrm>
                <a:off x="7164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7164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>
                <a:off x="7776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6"/>
            <p:cNvGrpSpPr/>
            <p:nvPr/>
          </p:nvGrpSpPr>
          <p:grpSpPr>
            <a:xfrm>
              <a:off x="1042920" y="3213000"/>
              <a:ext cx="1224000" cy="1224000"/>
              <a:chOff x="1042920" y="3213000"/>
              <a:chExt cx="1224000" cy="1224000"/>
            </a:xfrm>
          </p:grpSpPr>
          <p:sp>
            <p:nvSpPr>
              <p:cNvPr id="199" name="Rectangle 27"/>
              <p:cNvSpPr/>
              <p:nvPr/>
            </p:nvSpPr>
            <p:spPr>
              <a:xfrm>
                <a:off x="104292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00" name="Line 28"/>
              <p:cNvSpPr/>
              <p:nvPr/>
            </p:nvSpPr>
            <p:spPr>
              <a:xfrm flipH="1">
                <a:off x="104292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01" name="Line 29"/>
              <p:cNvSpPr/>
              <p:nvPr/>
            </p:nvSpPr>
            <p:spPr>
              <a:xfrm>
                <a:off x="165528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202" name="Text Box 30"/>
            <p:cNvSpPr/>
            <p:nvPr/>
          </p:nvSpPr>
          <p:spPr>
            <a:xfrm>
              <a:off x="1042920" y="3141720"/>
              <a:ext cx="734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爷节岁亲的行</a:t>
              </a:r>
              <a:endParaRPr b="1" lang="en-US" sz="72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1908000" y="285264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节日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节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时节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39640" y="2852640"/>
            <a:ext cx="15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爷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少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老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276720" y="2852640"/>
            <a:ext cx="151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岁月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岁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012000" y="2852640"/>
            <a:ext cx="151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好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他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4643280" y="285264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亲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亲手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双亲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7380360" y="2852640"/>
            <a:ext cx="15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行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行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行走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209" name="Picture 11" descr="W020100818284545791395"/>
          <p:cNvPicPr/>
          <p:nvPr/>
        </p:nvPicPr>
        <p:blipFill>
          <a:blip r:embed="rId2"/>
          <a:srcRect l="0" t="23596" r="0" b="44046"/>
          <a:stretch/>
        </p:blipFill>
        <p:spPr>
          <a:xfrm>
            <a:off x="0" y="0"/>
            <a:ext cx="9144000" cy="2778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908-2EF1-4816-A9E7-67B1BFA07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692280"/>
            <a:ext cx="8459640" cy="111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邓小平爷爷是我国社会主义改革开放和现代化建设的总设计师，因为有了他，中国才变的更加富强，我们的学习生活才会这么的快乐。</a:t>
            </a:r>
            <a:endParaRPr b="1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邓小平爷爷植树</a:t>
            </a:r>
            <a:endParaRPr b="1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73408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http://www.eeppt.com/moban/kejian/</a:t>
            </a:r>
            <a:endParaRPr b="1" lang="en-US" sz="1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765000"/>
            <a:ext cx="87487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为一名国家最高领导人，邓爷爷总是自己带头，不管大事，还是小事都那么的认真。今天我们就一起回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98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年的春天，去看看天坛公园里邓爷爷植树的情景吧！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邓小平爷爷植树</a:t>
            </a:r>
            <a:endParaRPr b="1" lang="en-US" sz="32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W0201008182845472085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1079640" y="9810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079640" y="1844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②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079640" y="4365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③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W0201008182845465857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440000" y="1052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④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513080" y="2276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⑤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W0201008182845472085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079640" y="9810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79640" y="1844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②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79640" y="4365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③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16360" y="134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|| 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0201008182845465857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440000" y="1052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④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13080" y="2276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⑤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174880" y="184428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|| 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0:51:37Z</dcterms:created>
  <dc:creator/>
  <dc:description/>
  <cp:keywords>幻灯片之家 http:/www.eeppt.com</cp:keywords>
  <dc:language>en-US</dc:language>
  <cp:lastModifiedBy/>
  <dcterms:modified xsi:type="dcterms:W3CDTF">2015-07-17T15:02:49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