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CB09-A38B-4508-AC86-31D20C1D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896-A430-40CB-9F92-9CE1E63C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F2CE-42F1-4A32-AA51-C186D8C4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56DB-092B-4AAE-812B-ECF861E0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3A0B-E8F6-4588-AFD7-7D399E24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410B-D268-4652-B640-98121147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4729-F576-489B-8B52-39F1387F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EA7B-66BC-42F2-854E-65BD96BC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64E6-F2AE-4C10-A9E2-8582FEFB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094F-6CDB-4EF1-AD5F-3116BA06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4D74-7AFB-4A85-AA37-301E6AAD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B97C-DB98-41E8-B9C3-0E8FCE62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C8BB-71A4-4B3A-8FA0-A9F166206A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6560" y="11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钓鱼岛幻灯片模板免费下载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42" name="Picture 4" descr="a1"/>
          <p:cNvPicPr/>
          <p:nvPr/>
        </p:nvPicPr>
        <p:blipFill>
          <a:blip r:embed="rId2"/>
          <a:stretch/>
        </p:blipFill>
        <p:spPr>
          <a:xfrm>
            <a:off x="9325080" y="1484280"/>
            <a:ext cx="1803240" cy="2070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b_1"/>
          <p:cNvPicPr/>
          <p:nvPr/>
        </p:nvPicPr>
        <p:blipFill>
          <a:blip r:embed="rId3"/>
          <a:stretch/>
        </p:blipFill>
        <p:spPr>
          <a:xfrm>
            <a:off x="9828360" y="4508640"/>
            <a:ext cx="1079280" cy="469800"/>
          </a:xfrm>
          <a:prstGeom prst="rect">
            <a:avLst/>
          </a:prstGeom>
          <a:ln w="0">
            <a:noFill/>
          </a:ln>
        </p:spPr>
      </p:pic>
      <p:sp>
        <p:nvSpPr>
          <p:cNvPr id="44" name="矩形 8"/>
          <p:cNvSpPr/>
          <p:nvPr/>
        </p:nvSpPr>
        <p:spPr>
          <a:xfrm>
            <a:off x="611280" y="662616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6237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03768 -0.27037 C -0.12674 -0.25533 -0.4257 -0.24005 -0.5724 -0.17963 C -0.7191 -0.11945 -0.84966 0.05162 -0.91823 0.09236 C -0.98681 0.13333 -0.96997 0.07199 -0.98351 0.06666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39809 0.01574 C 0.32032 0.02338 0.04862 0.06481 -0.06857 0.06088 C -0.18576 0.05694 -0.23802 -0.03125 -0.30468 -0.00741 C -0.37135 0.01643 -0.43437 0.15972 -0.46857 0.2037 E">
                                      <p:cBhvr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800"/>
                            </p:stCondLst>
                            <p:childTnLst>
                              <p:par>
                                <p:cTn id="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a1"/>
          <p:cNvPicPr/>
          <p:nvPr/>
        </p:nvPicPr>
        <p:blipFill>
          <a:blip r:embed="rId2"/>
          <a:stretch/>
        </p:blipFill>
        <p:spPr>
          <a:xfrm>
            <a:off x="9309240" y="0"/>
            <a:ext cx="1803240" cy="207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b_1"/>
          <p:cNvPicPr/>
          <p:nvPr/>
        </p:nvPicPr>
        <p:blipFill>
          <a:blip r:embed="rId3"/>
          <a:stretch/>
        </p:blipFill>
        <p:spPr>
          <a:xfrm>
            <a:off x="10188720" y="1968480"/>
            <a:ext cx="1079280" cy="469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4572000" y="630864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03541 -0.27365 C -0.12448 -0.25862 -0.42344 -0.24335 -0.57014 -0.18297 C -0.71684 -0.1226 -0.84739 0.04835 -0.91597 0.08929 C -0.98455 0.13023 -0.96771 0.0687 -0.98125 0.06338 E">
                                      <p:cBhvr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1.66667E-006 1.85185E-006 C -0.06302 0.00787 -0.28281 0.04861 -0.3776 0.04467 C -0.47239 0.04074 -0.51476 -0.0456 -0.56875 -0.02246 C -0.62257 0.00116 -0.67361 0.1419 -0.70121 0.18541 E">
                                      <p:cBhvr>
                                        <p:cTn id="21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C3E8-4EE0-4490-8EB9-F72AE84C9B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00Z</dcterms:created>
  <dc:creator>幻灯片之家 http://www.eeppt.com</dc:creator>
  <dc:description/>
  <cp:keywords>幻灯片之家 http:/www.eeppt.com</cp:keywords>
  <dc:language>en-US</dc:language>
  <cp:lastModifiedBy/>
  <cp:lastPrinted>2411-12-30T00:00:00Z</cp:lastPrinted>
  <dcterms:modified xsi:type="dcterms:W3CDTF">2015-07-20T01:48:39Z</dcterms:modified>
  <cp:revision>85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