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74426-1E7E-4834-ADD1-20DE7747D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01B5-7911-4894-A614-19EA6F3E0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0261-C289-422B-B9D5-ECDEE1EC0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23964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02208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5720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23964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602208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899A-3193-47BA-9659-537C0766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E2E45-8BF6-445C-B706-441DF2DE8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0A9C8-DF7D-436F-83B4-7E15681AE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F9B6-29AC-4C2F-9D08-A658212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9786-C101-4821-9BC2-AF2F5491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B3AC-89E4-439B-BF39-D17B35A5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E284-D7C8-4B50-A29A-EDA95D51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0ECAB-4EA7-4DDB-BEC5-9F44DD03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302-43AD-42EF-BF13-2C0ADF37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CFC48-D17C-471C-9583-0DC8DD19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6D9E2-4EA5-4AC3-B81C-956FA687F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DE57-E583-4701-B294-2AD9D0883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E919-156B-49F1-A900-FCF34044E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309852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680000"/>
            <a:ext cx="264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A0E11-873E-439C-9B91-4D3EF6FD5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D4BB-3AF3-4AFE-BF70-E1830C00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FD5C-D7F6-4DF4-80C6-4EA928FE0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F5A2-3E07-42C7-9E91-C4785CB30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34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9EF0-FC5F-4AFD-BD08-3FE099104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F20D-DDF5-4204-A172-94EE00A87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674240" y="468000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CD2C-263F-4F46-957B-D64899238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6604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098520"/>
            <a:ext cx="40158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680000"/>
            <a:ext cx="8229600" cy="144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C216F-0A6A-4557-A556-D381311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7"/>
          <p:cNvGrpSpPr/>
          <p:nvPr/>
        </p:nvGrpSpPr>
        <p:grpSpPr>
          <a:xfrm>
            <a:off x="457200" y="1015920"/>
            <a:ext cx="8229600" cy="3757680"/>
            <a:chOff x="457200" y="1015920"/>
            <a:chExt cx="8229600" cy="3757680"/>
          </a:xfrm>
        </p:grpSpPr>
        <p:sp>
          <p:nvSpPr>
            <p:cNvPr id="1" name="Rectangle 8"/>
            <p:cNvSpPr/>
            <p:nvPr/>
          </p:nvSpPr>
          <p:spPr>
            <a:xfrm>
              <a:off x="457200" y="1015920"/>
              <a:ext cx="8229600" cy="37576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9"/>
            <p:cNvSpPr/>
            <p:nvPr/>
          </p:nvSpPr>
          <p:spPr>
            <a:xfrm>
              <a:off x="457200" y="4570200"/>
              <a:ext cx="8229600" cy="2034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10"/>
            <p:cNvSpPr/>
            <p:nvPr/>
          </p:nvSpPr>
          <p:spPr>
            <a:xfrm>
              <a:off x="457200" y="1015920"/>
              <a:ext cx="8229600" cy="203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11"/>
            <p:cNvSpPr/>
            <p:nvPr/>
          </p:nvSpPr>
          <p:spPr>
            <a:xfrm>
              <a:off x="8458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2"/>
            <p:cNvSpPr/>
            <p:nvPr/>
          </p:nvSpPr>
          <p:spPr>
            <a:xfrm>
              <a:off x="457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79ED-D191-4F47-8653-379CD5D55CCA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 Box 13"/>
          <p:cNvSpPr/>
          <p:nvPr/>
        </p:nvSpPr>
        <p:spPr>
          <a:xfrm>
            <a:off x="2255040" y="133524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he next session will star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Rectangle 1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Rectangle 2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Rectangle 2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Rectangle 2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Rectangle 2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5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Rectangle 2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Rectangle 2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Rectangle 2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Rectangle 2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Rectangle 2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Rectangle 2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Rectangle 3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Rectangle 3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Rectangle 3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4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Rectangle 3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Rectangle 3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Rectangle 3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Rectangle 3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Rectangle 3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Rectangle 3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4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4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Rectangle 4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4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3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4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5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5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6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6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2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3"/>
          <p:cNvSpPr/>
          <p:nvPr/>
        </p:nvSpPr>
        <p:spPr>
          <a:xfrm>
            <a:off x="635004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13"/>
          <p:cNvSpPr/>
          <p:nvPr/>
        </p:nvSpPr>
        <p:spPr>
          <a:xfrm>
            <a:off x="2255040" y="1335240"/>
            <a:ext cx="463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宋体"/>
              </a:rPr>
              <a:t>The next session will start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3098520"/>
            <a:ext cx="8229600" cy="30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42160" indent="-208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34120" indent="-166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167840" indent="-1666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01560" indent="-1666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21E15-AF49-48F2-9A42-CFBE8609250D}" type="slidenum">
              <a:rPr b="0" lang="en-GB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2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5"/>
          <p:cNvSpPr/>
          <p:nvPr/>
        </p:nvSpPr>
        <p:spPr>
          <a:xfrm>
            <a:off x="1313640" y="5238720"/>
            <a:ext cx="635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his is an animated template, please view in slideshow mo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52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55720" y="554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电子倒计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9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1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62"/>
          <p:cNvSpPr/>
          <p:nvPr/>
        </p:nvSpPr>
        <p:spPr>
          <a:xfrm>
            <a:off x="6342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12840" y="6396120"/>
            <a:ext cx="418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69A9-2228-4CDE-9F53-63BF20F3163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457200" y="1015920"/>
            <a:ext cx="228600" cy="3757680"/>
          </a:xfrm>
          <a:prstGeom prst="rect">
            <a:avLst/>
          </a:prstGeom>
          <a:solidFill>
            <a:srgbClr val="333333"/>
          </a:solidFill>
          <a:ln w="0">
            <a:noFill/>
          </a:ln>
          <a:effectLst>
            <a:outerShdw dist="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5"/>
          <p:cNvSpPr/>
          <p:nvPr/>
        </p:nvSpPr>
        <p:spPr>
          <a:xfrm>
            <a:off x="5896080" y="3102120"/>
            <a:ext cx="12384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6"/>
          <p:cNvSpPr/>
          <p:nvPr/>
        </p:nvSpPr>
        <p:spPr>
          <a:xfrm>
            <a:off x="5896080" y="3711600"/>
            <a:ext cx="12384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6"/>
          <p:cNvGrpSpPr/>
          <p:nvPr/>
        </p:nvGrpSpPr>
        <p:grpSpPr>
          <a:xfrm>
            <a:off x="457200" y="1015920"/>
            <a:ext cx="8229600" cy="3757680"/>
            <a:chOff x="457200" y="1015920"/>
            <a:chExt cx="8229600" cy="3757680"/>
          </a:xfrm>
        </p:grpSpPr>
        <p:sp>
          <p:nvSpPr>
            <p:cNvPr id="207" name="Rectangle 2"/>
            <p:cNvSpPr/>
            <p:nvPr/>
          </p:nvSpPr>
          <p:spPr>
            <a:xfrm>
              <a:off x="457200" y="1015920"/>
              <a:ext cx="8229600" cy="3757680"/>
            </a:xfrm>
            <a:prstGeom prst="rect">
              <a:avLst/>
            </a:prstGeom>
            <a:solidFill>
              <a:srgbClr val="2323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4"/>
            <p:cNvSpPr/>
            <p:nvPr/>
          </p:nvSpPr>
          <p:spPr>
            <a:xfrm>
              <a:off x="457200" y="4570200"/>
              <a:ext cx="8229600" cy="20340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57200" y="1015920"/>
              <a:ext cx="8229600" cy="20304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38160" dir="54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458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457200" y="1015920"/>
              <a:ext cx="228600" cy="3757680"/>
            </a:xfrm>
            <a:prstGeom prst="rect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Rectangle 10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1"/>
          <p:cNvSpPr/>
          <p:nvPr/>
        </p:nvSpPr>
        <p:spPr>
          <a:xfrm>
            <a:off x="622620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2"/>
          <p:cNvSpPr/>
          <p:nvPr/>
        </p:nvSpPr>
        <p:spPr>
          <a:xfrm>
            <a:off x="3076560" y="3102120"/>
            <a:ext cx="12384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3"/>
          <p:cNvSpPr/>
          <p:nvPr/>
        </p:nvSpPr>
        <p:spPr>
          <a:xfrm>
            <a:off x="3076560" y="3711600"/>
            <a:ext cx="123840" cy="16524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14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5"/>
          <p:cNvSpPr/>
          <p:nvPr/>
        </p:nvSpPr>
        <p:spPr>
          <a:xfrm>
            <a:off x="1473120" y="1219320"/>
            <a:ext cx="61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next session is ready to st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8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7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6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5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4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3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3581280" y="2276640"/>
            <a:ext cx="195444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12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3"/>
          <p:cNvSpPr/>
          <p:nvPr/>
        </p:nvSpPr>
        <p:spPr>
          <a:xfrm>
            <a:off x="789120" y="2276640"/>
            <a:ext cx="1954080" cy="17856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fffff"/>
                </a:solidFill>
                <a:latin typeface="Arial"/>
                <a:ea typeface="Arial"/>
              </a:rPr>
              <a:t>00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12840" y="6396120"/>
            <a:ext cx="41878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6T14:23:16Z</dcterms:created>
  <dc:creator>Presentation Magazine</dc:creator>
  <dc:description/>
  <dc:language>en-US</dc:language>
  <cp:lastModifiedBy>for_yang@qq.com</cp:lastModifiedBy>
  <dcterms:modified xsi:type="dcterms:W3CDTF">2015-07-21T02:08:34Z</dcterms:modified>
  <cp:revision>8</cp:revision>
  <dc:subject/>
  <dc:title>Countdown Time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