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1.gif" ContentType="image/gif"/>
  <Override PartName="/ppt/media/image7.wmf" ContentType="image/x-wmf"/>
  <Override PartName="/ppt/media/image12.wmf" ContentType="image/x-wmf"/>
  <Override PartName="/ppt/media/image20.gif" ContentType="image/gif"/>
  <Override PartName="/ppt/media/image19.jpeg" ContentType="image/jpeg"/>
  <Override PartName="/ppt/media/image18.wmf" ContentType="image/x-wmf"/>
  <Override PartName="/ppt/media/image17.wmf" ContentType="image/x-wmf"/>
  <Override PartName="/ppt/media/type.wav" ContentType="audio/x-wav"/>
  <Override PartName="/ppt/media/image16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5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DB2-49E3-40F5-BC23-7396B1DD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A69-1AA4-4155-B14C-9D57ACE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FC26-401A-4906-BF0D-FA89964C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EBE7F-ECA1-4D77-AB08-3EA7376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19D6A-39B5-4036-8957-060C747B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3146C-80DB-487B-ACC6-F5647D2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F91E7-FEF4-41D7-9438-9F13726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2F16-AF39-441D-A75B-D237E01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96A9A-DD0D-4E79-9424-A0D3B0BD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FB77B-BBEE-453A-B30D-7E7FE352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07EC3-353C-48FE-9200-21EC7A35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78A2D-43D1-4B93-B328-90062F56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B86-EBF9-4C77-A44E-21BB1A98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4B79-6C5A-4FEC-B8B6-29D61DC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6503B-E0FF-493E-B245-6DB0586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CF475-E136-4015-96EA-A1AEB529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EBEFF-6ED5-4BBB-83DE-C3FAFE7B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ABF3-4AC6-4ACC-9F29-DED283A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D22BB-87C1-4C33-B7F0-A8E0C349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AF1F9-B6A4-4E6D-9106-DF7B965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519C-A5D0-4228-A78E-DF3492A0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4D072-457F-4341-B1EF-C1CCB751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18ADC-0A91-4FD6-BA0F-CE3BEDDB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965-1EFC-435E-94C0-EDA2DD13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F3AD-2C0D-411E-B5AB-FDBF338F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CF992-6A22-424A-ABDF-735F6C7E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0AE93-2B13-416D-B1E2-89ADE94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8E00F-8313-4310-ABFA-68287E2A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C0631-8BCA-4388-A9EC-587A80F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46A1-E13D-4E85-B527-30658CC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D5E64-7F04-4239-A0D9-B352A8D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49553-F301-4FD5-8C15-E174D8B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3BB6D-F74B-46BB-8662-F71FF01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569A-E08E-42E0-80FD-053A014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720-0B93-4E7B-AF65-90CE4513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511BC-49DD-4087-B52E-2D179EE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E0B2-A287-48F2-97AF-4D8CC646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88521-D287-434C-A291-EC1451FC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87254-6D31-4692-86E8-7DBE2F2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82402-9403-4D8C-B194-F04C941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829F3-97A8-4146-AD3E-AA74263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870F5-273A-4276-AF4F-E3F4EE3A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09788-7F70-4A52-AB49-CD8725B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0449B-35DB-4D90-93AD-5BC42ED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E5A19-360B-42AC-84E1-C5F39FA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3AB-5960-4644-B7DE-E2AFD5DB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E7B4E-260A-4B94-B66F-77E1158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B29B-7556-4807-9D7D-03A455F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3A483-1EDA-4167-8E73-F505BE41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6B4BB-D9F2-44B6-AF50-B10A1684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05097-9623-4376-BD96-A3498872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7F426-9AB3-4D7B-BEFC-D6C6FDAA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E648E-9FC6-44D1-9A65-AE3D966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B2B14-FD38-4877-8F9C-F8B706A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02039-C5DD-4BF0-A578-322CC3B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9C848-DDC1-4A6D-A888-6201FFD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B2A3-5585-4F45-B6A2-4BC7D518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8D6BE-D98C-446E-8FC1-32E51072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10625-189F-4EB1-8060-6C05A86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C856F-D396-40A9-A7A7-012E098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971A9-ADA1-45CE-8C3F-505862F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FA1A8-BB2A-462F-BCAF-F7406E4C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4BC1A-B0C2-452D-B3E3-CA61F4F8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C2B5A-BF08-48C1-A67A-DE6E2E39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60BBE-A51B-4EB4-BD41-C7C4521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2EAF9-2D13-4EDC-BBBE-FC5814C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3FEE9-29F3-4A32-A247-03596DC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3463-F51C-4CA9-B9F4-57CF8D0D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45AEA-9126-4C13-8137-D70EA3F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FEC0D-4C7C-4756-80F9-E8E4D92D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E01E4-9E51-45EB-9B95-9E7D843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099B8-7170-4E54-B3EA-93E7B13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582D4-9E65-47A1-9FFB-D69C41B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0C989-08A7-4EB9-8E0F-8A94D8A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195C1-D42D-448D-A5AF-768F36F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51F4F-0F7D-42A6-9C0E-050D2FDC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AB444-C59D-4A4E-93EF-33F28383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B266-EBA8-45D1-832F-E8DA36E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87E-061B-4657-A429-D5AEEE0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BB4D-53A3-43F4-A0A5-9686BA2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2B7-CCC7-4F99-A45F-8AC6C62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C67F-CB6F-4371-90A4-D430ECAD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A93-674B-4DDA-B1DF-FF472552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8C4-C7FD-44A5-B9B2-FE5715FA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45D-9097-4106-AE6B-647E1E46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91B2-28F7-408A-BE0D-89258123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864C-9EB8-401F-A98E-2E63233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BB3B-EF0F-4CC5-A4DA-FD6AB1C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2123-5C4B-491D-9A68-74C5B1FE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C7F1-8900-43E1-8922-9D3F647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AF54-0CD2-4EB4-8202-EF407AF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920-020A-4346-B171-9F8EE66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52C0-4FC5-4210-9B7E-6B94F42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51A7-2A0D-47C1-8BFA-2F25EF1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9D12-426A-452B-8395-B857144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A3AD-067A-4D6D-9202-802E1B6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A967-A6FA-402F-A149-FB18ACC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839C-8DA3-42DC-B288-D148C0B9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AF17-21C3-4A19-AB2A-32CD2C22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EA31-8B07-4C60-BD1B-18220BA5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FDF0-44F5-4319-8D42-9C6E8FC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37C3-1C12-45A7-8BA6-5CFC454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559-CA94-4256-B8C1-F969569B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B3AE-E8BD-495E-9B29-9BBE608C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887D-0732-4BC1-8766-AD7A6D1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26ED-C451-4957-B0D7-13C937E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610D-E06E-4464-8352-0B8AD49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FFD6-7DBA-4E8B-9078-69EB8B73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C160-46E1-477E-8993-B9A56B6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6E97-E8D8-4E73-8889-FFED05D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94ED-4A29-4B7F-A0AE-B4549AA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FF61-D2F4-4CF8-9C81-BAB3E48F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B788-4BAF-456D-AC51-6E8AA453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523-F7AE-4F73-9592-1E91847A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99B9-4E27-4AD7-A19F-79A1662E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6DD2-E5D9-4089-B4FD-6B6A84B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FB22-47FF-410B-8DA9-8E50AC1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6146-F1FD-4D03-A9BE-F64ECD15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20DB-7931-4FB4-A53C-008F4C3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3A93-9BAA-4B08-8F17-22B4964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1473-8C4B-4167-98BA-E3736C9F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BAF7-A8B1-4391-8480-3AFCEDA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C97A-8C7C-47DC-A7E0-5D32CFBF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4890-EF4E-44A0-8306-C837CCBE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225-15F3-468C-940B-FACAC4B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2C4D-842F-4484-AF35-84D57552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29376-892D-4283-8536-2756450F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20617-6F05-43FF-AFBB-F09241B6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526A-B695-4DE1-AD1D-1F3A767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C143-8583-4E64-9FFC-6F8812D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0334-A930-49D0-A04C-5A94FA1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3505-C8C1-42BB-8CCD-E2F5C88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A2AD-94D5-4E12-BA19-59A73E1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11AC-8B91-49FE-B73B-F8A753D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847E-357C-49A7-9D57-6ED12ADB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450-FF22-4E83-A8AF-8D0BFB0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C16CE-4DF0-437D-B716-ACC51084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06F7-ECD8-411F-B65A-8DAFC4D8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73A0-6867-4585-80B9-E2BA4B46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0E10-0560-4273-BA50-3A6AC880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3E34-03F2-452F-BABA-F1EB4F1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8205-8228-4395-87DD-3595895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A17E-4F67-4E30-8957-86F70F7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6BC9-AF16-464F-9414-D61EC4A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C881-CD49-4E0B-B616-9402640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C6794-4C5F-446A-98E4-B015D55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D9B-CC2A-4B48-868F-984F780B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08AB0-4522-43DB-A0FB-549C83A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84B1-4EA3-4382-9E71-9FA2C4B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494C9-B299-4A6E-8792-44F7B14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D173-7DDE-4F59-8CFC-4F3C0C95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6610-3B0A-4FF0-8260-F0FEE4C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8AF0-E7BC-48ED-A489-5C1CD072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D3CB-FFCA-4B25-9A5A-7086CAC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23D42-37B9-401F-8C5D-8F44744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FF3B4-6A56-467F-A947-9DA0C544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48550-090A-4BD0-9B70-48766A6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CBA-7773-47CD-A628-4B37633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48B6-EBBC-4B69-9D5E-155305B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4BCC-BDD7-44F6-9582-EA81DF9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9AEC-ACB8-49D6-AD84-7BE2535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9CA81-4873-41A4-8608-AC3E92E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6AAC-2B83-4B45-BF1E-41401105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984D-04FA-4F89-8A3A-0901CC7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9717-01D5-4A85-ADFB-09FB4069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3EEA8-C3FE-4C65-9059-A54F09D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BFAE6-4D34-4A93-BCDF-C3798AE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AFCE4-0A95-4E71-9770-EC6C793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9115-0A93-4F5E-B0BD-DBD6808F6E9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1B8-60CE-4939-B4AE-151E1B9A5F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61D-4407-4C31-BD70-E9FA6C16DF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F06-F999-4DB7-97EF-8C1746CF95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8F10-1271-4BCD-B613-72759A44CF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18FE-6C80-4305-A063-ED6E77F612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17A3-A034-44F1-864D-5B823EABAC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515-6BF6-4E47-AE77-D3ACF1C0871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D1A-0D83-456E-9188-51D749AF6C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9385-A026-4DD7-92D6-E6F086326C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C66A-AF05-4DD1-BCBF-E85ADDB198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DE6-1290-4E60-BD97-C53515D89F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C25-A437-4AF1-9035-FC2E5CD1C2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10D-C340-4B61-8427-CFF424FC51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04920" y="1066680"/>
            <a:ext cx="84582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课题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反比例函数的应用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            ——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一面积问题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4" name="Picture 3" descr="05-精灵"/>
          <p:cNvPicPr/>
          <p:nvPr/>
        </p:nvPicPr>
        <p:blipFill>
          <a:blip r:embed="rId1"/>
          <a:stretch/>
        </p:blipFill>
        <p:spPr>
          <a:xfrm>
            <a:off x="0" y="4800600"/>
            <a:ext cx="2627280" cy="1844640"/>
          </a:xfrm>
          <a:prstGeom prst="rect">
            <a:avLst/>
          </a:prstGeom>
          <a:ln w="0">
            <a:noFill/>
          </a:ln>
        </p:spPr>
      </p:pic>
      <p:sp>
        <p:nvSpPr>
          <p:cNvPr id="585" name="矩形 6"/>
          <p:cNvSpPr/>
          <p:nvPr/>
        </p:nvSpPr>
        <p:spPr>
          <a:xfrm>
            <a:off x="300240" y="64753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b5249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※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已知平面直角坐标系内有一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(3,4),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请问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的距离是多少？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4876920" y="5029200"/>
            <a:ext cx="3809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Line 4"/>
          <p:cNvSpPr/>
          <p:nvPr/>
        </p:nvSpPr>
        <p:spPr>
          <a:xfrm flipV="1">
            <a:off x="6705720" y="2514240"/>
            <a:ext cx="0" cy="43434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84582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6324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Line 7"/>
          <p:cNvSpPr/>
          <p:nvPr/>
        </p:nvSpPr>
        <p:spPr>
          <a:xfrm flipV="1">
            <a:off x="7238880" y="3124080"/>
            <a:ext cx="0" cy="190512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6705720" y="3124080"/>
            <a:ext cx="533160" cy="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6705720" y="4495680"/>
            <a:ext cx="1600200" cy="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Line 10"/>
          <p:cNvSpPr/>
          <p:nvPr/>
        </p:nvSpPr>
        <p:spPr>
          <a:xfrm flipV="1">
            <a:off x="8381880" y="4495680"/>
            <a:ext cx="0" cy="53352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5" name="Picture 11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1009800" cy="4395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2"/>
          <p:cNvSpPr/>
          <p:nvPr/>
        </p:nvSpPr>
        <p:spPr>
          <a:xfrm>
            <a:off x="6324480" y="4967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6705720" y="4495680"/>
            <a:ext cx="167616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6705720" y="3124080"/>
            <a:ext cx="533160" cy="1905120"/>
          </a:xfrm>
          <a:prstGeom prst="rect">
            <a:avLst/>
          </a:prstGeom>
          <a:solidFill>
            <a:srgbClr val="ff00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9" name="Picture 15" descr="兰花1"/>
          <p:cNvPicPr/>
          <p:nvPr/>
        </p:nvPicPr>
        <p:blipFill>
          <a:blip r:embed="rId2"/>
          <a:stretch/>
        </p:blipFill>
        <p:spPr>
          <a:xfrm>
            <a:off x="380880" y="4821120"/>
            <a:ext cx="3200400" cy="196056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6"/>
          <p:cNvGrpSpPr/>
          <p:nvPr/>
        </p:nvGrpSpPr>
        <p:grpSpPr>
          <a:xfrm>
            <a:off x="7467480" y="3505320"/>
            <a:ext cx="1066680" cy="459720"/>
            <a:chOff x="7467480" y="3505320"/>
            <a:chExt cx="1066680" cy="459720"/>
          </a:xfrm>
        </p:grpSpPr>
        <p:sp>
          <p:nvSpPr>
            <p:cNvPr id="601" name="AutoShape 17"/>
            <p:cNvSpPr/>
            <p:nvPr/>
          </p:nvSpPr>
          <p:spPr>
            <a:xfrm>
              <a:off x="7467480" y="3810240"/>
              <a:ext cx="76320" cy="75960"/>
            </a:xfrm>
            <a:prstGeom prst="flowChartConnector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2" name="Text Box 18"/>
            <p:cNvSpPr/>
            <p:nvPr/>
          </p:nvSpPr>
          <p:spPr>
            <a:xfrm>
              <a:off x="754380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P(3,4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603" name="Oval 19"/>
          <p:cNvSpPr/>
          <p:nvPr/>
        </p:nvSpPr>
        <p:spPr>
          <a:xfrm flipH="1">
            <a:off x="8305200" y="4495680"/>
            <a:ext cx="75960" cy="73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4" name="Group 20"/>
          <p:cNvGrpSpPr/>
          <p:nvPr/>
        </p:nvGrpSpPr>
        <p:grpSpPr>
          <a:xfrm>
            <a:off x="7238880" y="2666880"/>
            <a:ext cx="1147680" cy="530280"/>
            <a:chOff x="7238880" y="2666880"/>
            <a:chExt cx="1147680" cy="530280"/>
          </a:xfrm>
        </p:grpSpPr>
        <p:sp>
          <p:nvSpPr>
            <p:cNvPr id="605" name="Oval 21"/>
            <p:cNvSpPr/>
            <p:nvPr/>
          </p:nvSpPr>
          <p:spPr>
            <a:xfrm>
              <a:off x="7238880" y="3124080"/>
              <a:ext cx="76320" cy="730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06" name="Picture 22" descr=""/>
            <p:cNvPicPr/>
            <p:nvPr/>
          </p:nvPicPr>
          <p:blipFill>
            <a:blip r:embed="rId3"/>
            <a:stretch/>
          </p:blipFill>
          <p:spPr>
            <a:xfrm>
              <a:off x="7404120" y="2666880"/>
              <a:ext cx="982440" cy="4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23"/>
          <p:cNvGrpSpPr/>
          <p:nvPr/>
        </p:nvGrpSpPr>
        <p:grpSpPr>
          <a:xfrm>
            <a:off x="4800600" y="2666520"/>
            <a:ext cx="4038120" cy="4115160"/>
            <a:chOff x="4800600" y="2666520"/>
            <a:chExt cx="4038120" cy="4115160"/>
          </a:xfrm>
        </p:grpSpPr>
        <p:sp>
          <p:nvSpPr>
            <p:cNvPr id="608" name="Arc 24"/>
            <p:cNvSpPr/>
            <p:nvPr/>
          </p:nvSpPr>
          <p:spPr>
            <a:xfrm flipH="1" flipV="1">
              <a:off x="7238160" y="2666160"/>
              <a:ext cx="1600200" cy="1947960"/>
            </a:xfrm>
            <a:custGeom>
              <a:avLst/>
              <a:gdLst/>
              <a:ahLst/>
              <a:rect l="l" t="t" r="r" b="b"/>
              <a:pathLst>
                <a:path fill="none" w="21600" h="239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401"/>
                    <a:pt x="21555" y="23202"/>
                    <a:pt x="21466" y="23999"/>
                  </a:cubicBezTo>
                </a:path>
                <a:path stroke="0" w="21600" h="239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401"/>
                    <a:pt x="21555" y="23202"/>
                    <a:pt x="21466" y="2399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9" name="Arc 25"/>
            <p:cNvSpPr/>
            <p:nvPr/>
          </p:nvSpPr>
          <p:spPr>
            <a:xfrm>
              <a:off x="4800600" y="5486400"/>
              <a:ext cx="1371600" cy="129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10" name="Group 26"/>
          <p:cNvGrpSpPr/>
          <p:nvPr/>
        </p:nvGrpSpPr>
        <p:grpSpPr>
          <a:xfrm>
            <a:off x="692280" y="1600200"/>
            <a:ext cx="6165720" cy="1559160"/>
            <a:chOff x="692280" y="1600200"/>
            <a:chExt cx="6165720" cy="1559160"/>
          </a:xfrm>
        </p:grpSpPr>
        <p:pic>
          <p:nvPicPr>
            <p:cNvPr id="611" name="Picture 27" descr=""/>
            <p:cNvPicPr/>
            <p:nvPr/>
          </p:nvPicPr>
          <p:blipFill>
            <a:blip r:embed="rId4"/>
            <a:stretch/>
          </p:blipFill>
          <p:spPr>
            <a:xfrm>
              <a:off x="5873760" y="1600200"/>
              <a:ext cx="984240" cy="87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Group 28"/>
            <p:cNvGrpSpPr/>
            <p:nvPr/>
          </p:nvGrpSpPr>
          <p:grpSpPr>
            <a:xfrm>
              <a:off x="692280" y="1633680"/>
              <a:ext cx="6095880" cy="1525680"/>
              <a:chOff x="692280" y="1633680"/>
              <a:chExt cx="6095880" cy="1525680"/>
            </a:xfrm>
          </p:grpSpPr>
          <p:sp>
            <p:nvSpPr>
              <p:cNvPr id="613" name="Rectangle 29"/>
              <p:cNvSpPr/>
              <p:nvPr/>
            </p:nvSpPr>
            <p:spPr>
              <a:xfrm>
                <a:off x="692280" y="1785600"/>
                <a:ext cx="60958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99"/>
                    </a:solidFill>
                    <a:latin typeface="Times New Roman"/>
                  </a:rPr>
                  <a:t>※</a:t>
                </a:r>
                <a:r>
                  <a:rPr b="1" lang="zh-CN" sz="2800" spc="-1" strike="noStrike">
                    <a:solidFill>
                      <a:srgbClr val="ff3399"/>
                    </a:solidFill>
                    <a:latin typeface="Times New Roman"/>
                  </a:rPr>
                  <a:t>问题</a:t>
                </a:r>
                <a:r>
                  <a:rPr b="1" lang="zh-CN" sz="2800" spc="-1" strike="noStrike">
                    <a:solidFill>
                      <a:srgbClr val="ff3399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ff3399"/>
                    </a:solidFill>
                    <a:latin typeface="Times New Roman"/>
                  </a:rPr>
                  <a:t>：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如图：     是反比例函数            图象上的一点且     的横坐标为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那么     的纵坐标是多少？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614" name="Picture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3198960" y="163368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6480" y="247140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3283200" y="216684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7" name="Rectangle 33"/>
          <p:cNvSpPr/>
          <p:nvPr/>
        </p:nvSpPr>
        <p:spPr>
          <a:xfrm>
            <a:off x="1553400" y="3200400"/>
            <a:ext cx="40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※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这两个矩形的面积相等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Text Box 34"/>
          <p:cNvSpPr/>
          <p:nvPr/>
        </p:nvSpPr>
        <p:spPr>
          <a:xfrm>
            <a:off x="708660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Line 2"/>
          <p:cNvSpPr/>
          <p:nvPr/>
        </p:nvSpPr>
        <p:spPr>
          <a:xfrm>
            <a:off x="6019920" y="4952880"/>
            <a:ext cx="31240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Line 3"/>
          <p:cNvSpPr/>
          <p:nvPr/>
        </p:nvSpPr>
        <p:spPr>
          <a:xfrm flipV="1">
            <a:off x="7315200" y="3123720"/>
            <a:ext cx="0" cy="35053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Arc 4"/>
          <p:cNvSpPr/>
          <p:nvPr/>
        </p:nvSpPr>
        <p:spPr>
          <a:xfrm>
            <a:off x="5867280" y="5181480"/>
            <a:ext cx="1219320" cy="160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Arc 5"/>
          <p:cNvSpPr/>
          <p:nvPr/>
        </p:nvSpPr>
        <p:spPr>
          <a:xfrm flipH="1" flipV="1">
            <a:off x="7619400" y="3276720"/>
            <a:ext cx="106668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Line 6"/>
          <p:cNvSpPr/>
          <p:nvPr/>
        </p:nvSpPr>
        <p:spPr>
          <a:xfrm flipV="1">
            <a:off x="7315200" y="4191120"/>
            <a:ext cx="60948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7924680" y="4191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Line 8"/>
          <p:cNvSpPr/>
          <p:nvPr/>
        </p:nvSpPr>
        <p:spPr>
          <a:xfrm flipH="1">
            <a:off x="6705360" y="4952880"/>
            <a:ext cx="60948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6" name="Line 9"/>
          <p:cNvSpPr/>
          <p:nvPr/>
        </p:nvSpPr>
        <p:spPr>
          <a:xfrm flipV="1">
            <a:off x="6705720" y="4952520"/>
            <a:ext cx="121896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4008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77724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Line 12"/>
          <p:cNvSpPr/>
          <p:nvPr/>
        </p:nvSpPr>
        <p:spPr>
          <a:xfrm flipV="1">
            <a:off x="6705720" y="4952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647712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8763120" y="5119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69343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3" name="Picture 16" descr="兰花1"/>
          <p:cNvPicPr/>
          <p:nvPr/>
        </p:nvPicPr>
        <p:blipFill>
          <a:blip r:embed="rId1"/>
          <a:stretch/>
        </p:blipFill>
        <p:spPr>
          <a:xfrm>
            <a:off x="250920" y="5437080"/>
            <a:ext cx="2035080" cy="1247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7"/>
          <p:cNvSpPr/>
          <p:nvPr/>
        </p:nvSpPr>
        <p:spPr>
          <a:xfrm>
            <a:off x="6858000" y="4692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533520" y="1066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如图，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(a,b)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是反比例函数                       图象上的一点，从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的垂线，垂足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6" name="Picture 19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011320" cy="9586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0"/>
          <p:cNvSpPr/>
          <p:nvPr/>
        </p:nvSpPr>
        <p:spPr>
          <a:xfrm>
            <a:off x="715320" y="205740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试求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ΔAO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457200" y="25146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若延长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O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交图象的另一支于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试求△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457200" y="34290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过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的垂线，垂足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试求四边形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CB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0" name="Picture 23" descr=""/>
          <p:cNvPicPr/>
          <p:nvPr/>
        </p:nvPicPr>
        <p:blipFill>
          <a:blip r:embed="rId3"/>
          <a:stretch/>
        </p:blipFill>
        <p:spPr>
          <a:xfrm>
            <a:off x="7821720" y="3809880"/>
            <a:ext cx="1046160" cy="452520"/>
          </a:xfrm>
          <a:prstGeom prst="rect">
            <a:avLst/>
          </a:prstGeom>
          <a:ln w="0">
            <a:noFill/>
          </a:ln>
        </p:spPr>
      </p:pic>
      <p:sp>
        <p:nvSpPr>
          <p:cNvPr id="641" name="Line 24"/>
          <p:cNvSpPr/>
          <p:nvPr/>
        </p:nvSpPr>
        <p:spPr>
          <a:xfrm flipV="1">
            <a:off x="6705720" y="4191120"/>
            <a:ext cx="121896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457200" y="434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小结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3" name="Picture 26" descr=""/>
          <p:cNvPicPr/>
          <p:nvPr/>
        </p:nvPicPr>
        <p:blipFill>
          <a:blip r:embed="rId4"/>
          <a:stretch/>
        </p:blipFill>
        <p:spPr>
          <a:xfrm>
            <a:off x="1752480" y="4191120"/>
            <a:ext cx="41911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533520" y="0"/>
            <a:ext cx="18288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ddf1"/>
                </a:solidFill>
                <a:latin typeface="华文行楷"/>
              </a:rPr>
              <a:t>施展空间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9ddf1"/>
              </a:solidFill>
              <a:latin typeface="华文行楷"/>
              <a:ea typeface="华文行楷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457200" y="12193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１、已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反比例函数图象上的点，阴影部分的面积为５，则该反比例函数的解析式是</a:t>
            </a:r>
            <a:r>
              <a:rPr b="0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　   　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838080" y="3200400"/>
            <a:ext cx="687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57200" y="2666880"/>
            <a:ext cx="6705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正半轴上的一个动点，过点Ｑ作Ｘ轴的垂线交双曲线              于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当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沿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、的正方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运动时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Rt△OQ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   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逐渐增大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逐渐减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保持不变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无法确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8" name="Picture 6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1218960" cy="862200"/>
          </a:xfrm>
          <a:prstGeom prst="rect">
            <a:avLst/>
          </a:prstGeom>
          <a:ln w="0">
            <a:noFill/>
          </a:ln>
        </p:spPr>
      </p:pic>
      <p:sp>
        <p:nvSpPr>
          <p:cNvPr id="649" name="Line 7"/>
          <p:cNvSpPr/>
          <p:nvPr/>
        </p:nvSpPr>
        <p:spPr>
          <a:xfrm>
            <a:off x="6553080" y="4800600"/>
            <a:ext cx="22100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0" name="Line 8"/>
          <p:cNvSpPr/>
          <p:nvPr/>
        </p:nvSpPr>
        <p:spPr>
          <a:xfrm flipV="1">
            <a:off x="7238880" y="3733560"/>
            <a:ext cx="0" cy="28954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1" name="Arc 9"/>
          <p:cNvSpPr/>
          <p:nvPr/>
        </p:nvSpPr>
        <p:spPr>
          <a:xfrm flipH="1">
            <a:off x="7543800" y="5105520"/>
            <a:ext cx="990720" cy="952560"/>
          </a:xfrm>
          <a:custGeom>
            <a:avLst/>
            <a:gdLst/>
            <a:ahLst/>
            <a:rect l="l" t="t" r="r" b="b"/>
            <a:pathLst>
              <a:path fill="none" w="21600" h="20753">
                <a:moveTo>
                  <a:pt x="5990" y="0"/>
                </a:moveTo>
                <a:cubicBezTo>
                  <a:pt x="15235" y="2669"/>
                  <a:pt x="21600" y="11130"/>
                  <a:pt x="21600" y="20753"/>
                </a:cubicBezTo>
              </a:path>
              <a:path stroke="0" w="21600" h="20753">
                <a:moveTo>
                  <a:pt x="5990" y="0"/>
                </a:moveTo>
                <a:cubicBezTo>
                  <a:pt x="15235" y="2669"/>
                  <a:pt x="21600" y="11130"/>
                  <a:pt x="21600" y="20753"/>
                </a:cubicBezTo>
                <a:lnTo>
                  <a:pt x="0" y="20753"/>
                </a:lnTo>
                <a:lnTo>
                  <a:pt x="5990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7620120" y="5334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Line 11"/>
          <p:cNvSpPr/>
          <p:nvPr/>
        </p:nvSpPr>
        <p:spPr>
          <a:xfrm flipV="1">
            <a:off x="7772400" y="480024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4" name="Line 12"/>
          <p:cNvSpPr/>
          <p:nvPr/>
        </p:nvSpPr>
        <p:spPr>
          <a:xfrm flipH="1" flipV="1">
            <a:off x="7238880" y="4800240"/>
            <a:ext cx="53352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7543800" y="4357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678168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Text Box 15"/>
          <p:cNvSpPr/>
          <p:nvPr/>
        </p:nvSpPr>
        <p:spPr>
          <a:xfrm>
            <a:off x="68580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Text Box 16"/>
          <p:cNvSpPr/>
          <p:nvPr/>
        </p:nvSpPr>
        <p:spPr>
          <a:xfrm>
            <a:off x="8458200" y="4724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9" name="Line 17"/>
          <p:cNvSpPr/>
          <p:nvPr/>
        </p:nvSpPr>
        <p:spPr>
          <a:xfrm>
            <a:off x="7010280" y="2590920"/>
            <a:ext cx="17528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Line 18"/>
          <p:cNvSpPr/>
          <p:nvPr/>
        </p:nvSpPr>
        <p:spPr>
          <a:xfrm flipV="1">
            <a:off x="8229600" y="1218960"/>
            <a:ext cx="0" cy="19810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Arc 19"/>
          <p:cNvSpPr/>
          <p:nvPr/>
        </p:nvSpPr>
        <p:spPr>
          <a:xfrm flipV="1">
            <a:off x="7086600" y="1295280"/>
            <a:ext cx="914400" cy="1067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2" name="Text Box 20"/>
          <p:cNvSpPr/>
          <p:nvPr/>
        </p:nvSpPr>
        <p:spPr>
          <a:xfrm>
            <a:off x="79246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Text Box 21"/>
          <p:cNvSpPr/>
          <p:nvPr/>
        </p:nvSpPr>
        <p:spPr>
          <a:xfrm>
            <a:off x="8458200" y="24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Text Box 22"/>
          <p:cNvSpPr/>
          <p:nvPr/>
        </p:nvSpPr>
        <p:spPr>
          <a:xfrm>
            <a:off x="822960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Rectangle 23"/>
          <p:cNvSpPr/>
          <p:nvPr/>
        </p:nvSpPr>
        <p:spPr>
          <a:xfrm>
            <a:off x="7391520" y="2286000"/>
            <a:ext cx="838080" cy="304920"/>
          </a:xfrm>
          <a:prstGeom prst="rect">
            <a:avLst/>
          </a:prstGeom>
          <a:solidFill>
            <a:srgbClr val="5b524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66" name="Picture 24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1981080" cy="769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5"/>
          <p:cNvSpPr/>
          <p:nvPr/>
        </p:nvSpPr>
        <p:spPr>
          <a:xfrm>
            <a:off x="487692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380880" y="304920"/>
            <a:ext cx="7772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■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已知一次函数   　                           的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象与反比例函数　         的图象交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两点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横坐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点的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纵坐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都是－２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求一次函数的解析式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求△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Line 3"/>
          <p:cNvSpPr/>
          <p:nvPr/>
        </p:nvSpPr>
        <p:spPr>
          <a:xfrm>
            <a:off x="5181480" y="3886200"/>
            <a:ext cx="3657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6934320" y="1828440"/>
            <a:ext cx="0" cy="35053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6019920" y="2514600"/>
            <a:ext cx="2590560" cy="25909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5" name="Arc 6"/>
          <p:cNvSpPr/>
          <p:nvPr/>
        </p:nvSpPr>
        <p:spPr>
          <a:xfrm flipH="1">
            <a:off x="7162200" y="4114800"/>
            <a:ext cx="1447560" cy="1295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6" name="Arc 7"/>
          <p:cNvSpPr/>
          <p:nvPr/>
        </p:nvSpPr>
        <p:spPr>
          <a:xfrm flipV="1">
            <a:off x="5257800" y="2209680"/>
            <a:ext cx="1447920" cy="1524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77" name="Picture 8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2971800" cy="571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"/>
          <p:cNvPicPr/>
          <p:nvPr/>
        </p:nvPicPr>
        <p:blipFill>
          <a:blip r:embed="rId2"/>
          <a:stretch/>
        </p:blipFill>
        <p:spPr>
          <a:xfrm>
            <a:off x="3048120" y="76212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679" name="Line 10"/>
          <p:cNvSpPr/>
          <p:nvPr/>
        </p:nvSpPr>
        <p:spPr>
          <a:xfrm>
            <a:off x="6477120" y="2971800"/>
            <a:ext cx="457200" cy="914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6934320" y="3886200"/>
            <a:ext cx="9144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8610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2" name="Text Box 13"/>
          <p:cNvSpPr/>
          <p:nvPr/>
        </p:nvSpPr>
        <p:spPr>
          <a:xfrm>
            <a:off x="66294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65530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60958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76960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73152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7" name="Line 18"/>
          <p:cNvSpPr/>
          <p:nvPr/>
        </p:nvSpPr>
        <p:spPr>
          <a:xfrm>
            <a:off x="6553080" y="297180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8" name="Line 19"/>
          <p:cNvSpPr/>
          <p:nvPr/>
        </p:nvSpPr>
        <p:spPr>
          <a:xfrm flipV="1">
            <a:off x="7848720" y="388620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9" name="Line 20"/>
          <p:cNvSpPr/>
          <p:nvPr/>
        </p:nvSpPr>
        <p:spPr>
          <a:xfrm>
            <a:off x="6553080" y="297180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0" name="Line 21"/>
          <p:cNvSpPr/>
          <p:nvPr/>
        </p:nvSpPr>
        <p:spPr>
          <a:xfrm>
            <a:off x="6477120" y="30481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248520" y="3886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76960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93" name="Group 24"/>
          <p:cNvGrpSpPr/>
          <p:nvPr/>
        </p:nvGrpSpPr>
        <p:grpSpPr>
          <a:xfrm>
            <a:off x="5181480" y="5181480"/>
            <a:ext cx="3962520" cy="1676520"/>
            <a:chOff x="5181480" y="5181480"/>
            <a:chExt cx="3962520" cy="1676520"/>
          </a:xfrm>
        </p:grpSpPr>
        <p:pic>
          <p:nvPicPr>
            <p:cNvPr id="694" name="Picture 25" descr="NewsMedia_1793"/>
            <p:cNvPicPr/>
            <p:nvPr/>
          </p:nvPicPr>
          <p:blipFill>
            <a:blip r:embed="rId3"/>
            <a:stretch/>
          </p:blipFill>
          <p:spPr>
            <a:xfrm>
              <a:off x="5181480" y="5181480"/>
              <a:ext cx="3962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26" descr="sailing2"/>
            <p:cNvPicPr/>
            <p:nvPr/>
          </p:nvPicPr>
          <p:blipFill>
            <a:blip r:embed="rId4"/>
            <a:stretch/>
          </p:blipFill>
          <p:spPr>
            <a:xfrm>
              <a:off x="7029000" y="5920560"/>
              <a:ext cx="92484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7" descr="sailing2"/>
            <p:cNvPicPr/>
            <p:nvPr/>
          </p:nvPicPr>
          <p:blipFill>
            <a:blip r:embed="rId5"/>
            <a:stretch/>
          </p:blipFill>
          <p:spPr>
            <a:xfrm>
              <a:off x="8100360" y="5934240"/>
              <a:ext cx="4590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8" descr="sailing2"/>
            <p:cNvPicPr/>
            <p:nvPr/>
          </p:nvPicPr>
          <p:blipFill>
            <a:blip r:embed="rId6"/>
            <a:stretch/>
          </p:blipFill>
          <p:spPr>
            <a:xfrm>
              <a:off x="5957640" y="6138720"/>
              <a:ext cx="2325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9" descr="sailing2"/>
            <p:cNvPicPr/>
            <p:nvPr/>
          </p:nvPicPr>
          <p:blipFill>
            <a:blip r:embed="rId7"/>
            <a:stretch/>
          </p:blipFill>
          <p:spPr>
            <a:xfrm>
              <a:off x="5398920" y="5861520"/>
              <a:ext cx="69192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Text Box 30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240" y="2133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3399"/>
                </a:solidFill>
                <a:latin typeface="Times New Roman"/>
                <a:ea typeface="隶书"/>
              </a:rPr>
              <a:t>谈谈你的收获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01" name="Picture 3" descr="兰花1"/>
          <p:cNvPicPr/>
          <p:nvPr/>
        </p:nvPicPr>
        <p:blipFill>
          <a:blip r:embed="rId1"/>
          <a:stretch/>
        </p:blipFill>
        <p:spPr>
          <a:xfrm>
            <a:off x="0" y="4897440"/>
            <a:ext cx="3200400" cy="1960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jp1"/>
          <p:cNvPicPr/>
          <p:nvPr/>
        </p:nvPicPr>
        <p:blipFill>
          <a:blip r:embed="rId2"/>
          <a:stretch/>
        </p:blipFill>
        <p:spPr>
          <a:xfrm>
            <a:off x="5181480" y="4311720"/>
            <a:ext cx="396252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WordArt 2"/>
          <p:cNvSpPr txBox="1"/>
          <p:nvPr/>
        </p:nvSpPr>
        <p:spPr>
          <a:xfrm>
            <a:off x="2133720" y="1981080"/>
            <a:ext cx="510516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指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04" name="WordArt 3"/>
          <p:cNvSpPr txBox="1"/>
          <p:nvPr/>
        </p:nvSpPr>
        <p:spPr>
          <a:xfrm rot="5400000">
            <a:off x="3280320" y="3196440"/>
            <a:ext cx="2583000" cy="3047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再见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5" name="Text Box 4">
            <a:hlinkClick r:id="" action="ppaction://hlinkshowjump?jump=firstslide"/>
          </p:cNvPr>
          <p:cNvSpPr/>
          <p:nvPr/>
        </p:nvSpPr>
        <p:spPr>
          <a:xfrm>
            <a:off x="533520" y="76212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147636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幻灯片之家 http:/www.eeppt.com</cp:keywords>
  <dc:language>en-US</dc:language>
  <cp:lastModifiedBy/>
  <dcterms:modified xsi:type="dcterms:W3CDTF">2015-07-20T02:04:44Z</dcterms:modified>
  <cp:revision>0</cp:revision>
  <dc:subject/>
  <dc:title/>
</cp:coreProperties>
</file>