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3012-BE09-4857-B1F4-DBEE09733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C659-EA87-4C76-B3DB-D98B1580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B8D3-EE25-4EAD-93F1-0D31F21F2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41C3-95CD-406F-9DB6-DA656805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7518-FF77-416A-93F5-B25EA84D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B765-ADB3-4A95-8584-A88EB93E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846D-8F69-48CA-9C87-E3690E19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0D4F-D0E3-4008-9EDF-E6F56C92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F559-07D8-4A4B-AA13-884FADAC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37BB-4BFC-4EF6-B225-C7C6ACA8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529B-2B77-48AC-8041-A48352E2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9EEB-2C77-4367-993B-3FF651EC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12D9-FBA0-476E-8261-6DD7E0774E1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9C17-402B-4AEC-BACD-CF0C8ABCC1E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14"/>
          <p:cNvSpPr/>
          <p:nvPr/>
        </p:nvSpPr>
        <p:spPr>
          <a:xfrm>
            <a:off x="155520" y="663480"/>
            <a:ext cx="8809200" cy="60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34920" y="907920"/>
            <a:ext cx="900108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翻书效果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249640" y="2627280"/>
            <a:ext cx="4427280" cy="2743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00" y="6288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BBB1-5DCB-4B73-89B8-A817C2AE00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41:37Z</dcterms:modified>
  <cp:revision>86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Presentation">
    <vt:lpwstr>锐普图表</vt:lpwstr>
  </property>
</Properties>
</file>