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10D-0674-4C8B-AF05-4DFAE9AB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8F7-6442-494C-8330-DCB6C9E9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FDD-5C18-4CD8-8E9A-2E7A0281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106-70B6-42E5-8F85-4513674D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1FB-DC01-49E5-B4A2-9860942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937C-58A0-45C4-BC08-1C458DD9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E5BB-5BCD-4D04-AA32-CD511754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1912-8EE3-4503-A02F-7CEAD4CC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9A1B-9597-4312-BE52-D6A750A5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2731-D63A-445F-BD23-75EEBA86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D711-EDFC-4F3F-BD4B-94DF9E8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825-76AA-462A-967D-EE95BC47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BF45-8DB3-4B1C-AE31-74134A50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9830-2A8D-4FEC-A7B7-8E25463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5E00-B9DE-490F-BDAA-13804CF1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A7CB-B5CC-4866-B7BE-D1F8C5FC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3217-6CDF-4EEB-9006-DF123DB1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EA1-4E56-41BC-814E-B25348D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E05-35CF-4E72-BDB0-70C10D6B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D68-7DD1-417E-893B-997AD5F8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E52-0CE7-4259-9B7B-05A5BA59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1D5-CFD6-4820-8098-116502B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D88-3C54-43C3-91C6-9FD6E3F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09A-DC88-4E04-B7C4-D067CF1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6657-8A67-4257-A9BF-263E21E1B0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80BF-2C3B-4F5C-B5A6-6A5270D790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ABDC-2330-46A7-81BF-B364F80292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13A-C165-470C-A8F7-F851B02F06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4400" y="4943520"/>
            <a:ext cx="9144000" cy="189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D:\Desktop\素材\照片\建筑\city_wallpaper_by_faytalitygfx-d577mqg.jpg"/>
          <p:cNvPicPr/>
          <p:nvPr/>
        </p:nvPicPr>
        <p:blipFill>
          <a:blip r:embed="rId1"/>
          <a:srcRect l="5880" t="0" r="5932" b="0"/>
          <a:stretch/>
        </p:blipFill>
        <p:spPr>
          <a:xfrm>
            <a:off x="0" y="0"/>
            <a:ext cx="914256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矩形 9"/>
          <p:cNvSpPr/>
          <p:nvPr/>
        </p:nvSpPr>
        <p:spPr>
          <a:xfrm>
            <a:off x="0" y="4956120"/>
            <a:ext cx="9142560" cy="7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2987640" y="524520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汉真广标"/>
                <a:ea typeface="汉真广标"/>
              </a:rPr>
              <a:t>黑白城市</a:t>
            </a:r>
            <a:r>
              <a:rPr b="0" lang="en-US" sz="4000" spc="-1" strike="noStrike">
                <a:solidFill>
                  <a:srgbClr val="7f7f7f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7f7f7f"/>
                </a:solidFill>
                <a:latin typeface="汉真广标"/>
                <a:ea typeface="汉真广标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-1440" y="1530360"/>
            <a:ext cx="9138960" cy="532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Desktop\素材\照片\建筑\city_wallpaper_by_faytalitygfx-d577mqg.jpg"/>
          <p:cNvPicPr/>
          <p:nvPr/>
        </p:nvPicPr>
        <p:blipFill>
          <a:blip r:embed="rId2"/>
          <a:srcRect l="0" t="30409" r="0" b="34795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89" name="矩形 7"/>
          <p:cNvSpPr/>
          <p:nvPr/>
        </p:nvSpPr>
        <p:spPr>
          <a:xfrm>
            <a:off x="4098600" y="22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968480" y="957240"/>
            <a:ext cx="511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0" y="1457280"/>
            <a:ext cx="9142560" cy="73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038240" y="285264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www.1ppt.com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，成立于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，最早网站名为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国  是国内最早一批从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下载服务的专业网站，经过多年的运营和发展，原网站技术架构和网站目录已经不能适应新的发展趋势，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进行改版，并更名为第一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取消了网站内收费项目，目前第一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站内所有资源均为免费下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-1440" y="1530360"/>
            <a:ext cx="9138960" cy="532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Desktop\素材\照片\建筑\city_wallpaper_by_faytalitygfx-d577mqg.jpg"/>
          <p:cNvPicPr/>
          <p:nvPr/>
        </p:nvPicPr>
        <p:blipFill>
          <a:blip r:embed="rId2"/>
          <a:srcRect l="0" t="30409" r="0" b="34795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矩形 7"/>
          <p:cNvSpPr/>
          <p:nvPr/>
        </p:nvSpPr>
        <p:spPr>
          <a:xfrm>
            <a:off x="4098600" y="22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1968480" y="957240"/>
            <a:ext cx="511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0" y="1457280"/>
            <a:ext cx="9142560" cy="73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393920" y="276552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1393920" y="381492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1393920" y="494028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900000" y="6308640"/>
            <a:ext cx="67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23:03:00Z</dcterms:created>
  <dc:creator/>
  <dc:description/>
  <cp:keywords>幻灯片之家 http:/www.eeppt.com</cp:keywords>
  <dc:language>en-US</dc:language>
  <cp:lastModifiedBy/>
  <dcterms:modified xsi:type="dcterms:W3CDTF">2015-07-20T06:31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