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0CF6-D50D-4E31-B723-72965C0E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FC8-DEDF-4670-827D-E46A3594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70B-552D-41A5-99DC-B87632FE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DD7-3DB8-4514-ACCB-9A0499AD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3D20-75B3-4F12-8B18-D5BD42D3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8590-1A03-45AF-89CB-27EF235E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006F-E95A-4BA1-9B31-A109B874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1667-8475-4C71-821E-2678420D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9519-AC11-4F9D-AB36-31B13C04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0413-1C10-4626-B934-4E99186E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9379-7A67-494F-BCD3-5E4118B8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AFDC-818B-49DE-91F2-6C4E0AB4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EF02-EE1B-48F0-AFC0-EC427BC0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48C8-995A-40A3-AB21-1761CAA0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CDEB-A82C-4DB0-B752-2D4F6504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62BF-48B4-4E88-8048-A5C66CA0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060F-4297-4669-A68E-E3AA0222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0C6-2D75-4473-98DF-33A3AA48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256B-170C-40AE-8490-04561866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59B4-3197-4A98-8731-4ED84AD2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1D9-04F2-4083-9169-95748C28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4BEB-84CA-4F6C-A7F5-A9F3B8BC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E16-6605-4881-8E31-2042B20B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459-FFE7-44E4-9EAC-F8D840C0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635040" y="6854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B99C-AEF8-4F96-BFCF-D617367438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92BA-E41E-4A2A-AB9C-F2BEBC6413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2"/>
          <a:stretch/>
        </p:blipFill>
        <p:spPr>
          <a:xfrm>
            <a:off x="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e1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e1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79160" y="342900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猴王出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件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5"/>
          <p:cNvSpPr/>
          <p:nvPr/>
        </p:nvSpPr>
        <p:spPr>
          <a:xfrm>
            <a:off x="3859200" y="1700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猴王出世插图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145" name="WordArt 3"/>
          <p:cNvSpPr txBox="1"/>
          <p:nvPr/>
        </p:nvSpPr>
        <p:spPr>
          <a:xfrm rot="5400000">
            <a:off x="-228600" y="160020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33"/>
                </a:solidFill>
                <a:latin typeface="华文新魏"/>
              </a:rPr>
              <a:t>美猴王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330033"/>
              </a:solidFill>
              <a:latin typeface="华文新魏"/>
              <a:ea typeface="华文新魏"/>
            </a:endParaRPr>
          </a:p>
        </p:txBody>
      </p:sp>
      <p:sp>
        <p:nvSpPr>
          <p:cNvPr id="146" name="WordArt 4"/>
          <p:cNvSpPr txBox="1"/>
          <p:nvPr/>
        </p:nvSpPr>
        <p:spPr>
          <a:xfrm rot="5400000">
            <a:off x="1142640" y="350532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99"/>
                </a:solidFill>
                <a:latin typeface="华文新魏"/>
              </a:rPr>
              <a:t>孙悟空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cc99"/>
              </a:solidFill>
              <a:latin typeface="华文新魏"/>
              <a:ea typeface="华文新魏"/>
            </a:endParaRPr>
          </a:p>
        </p:txBody>
      </p:sp>
      <p:sp>
        <p:nvSpPr>
          <p:cNvPr id="14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990033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ffffe1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e1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e1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e1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57200" y="2527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本文选自我国古代杰出的长篇神话小说《西游记》，作者是明代的吴承恩。小说主要讲述了唐僧师徒四人历尽千辛万苦到西天取经的故事，主要人物有唐僧、孙悟空、猪八戒、沙和尚等。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914400" y="882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读一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80880" y="882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阅读提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33520" y="2470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本课是我国古典小说《西游记》中的一个片段，课文叙述了石猴成为猴王的一段经历。读课文，看看石猴是哪来的，又是怎样成为猴王的。把不懂的地方画下来，跟同学、老师讨论。把你喜欢的语句多读几遍，也可以抄下来。如有兴趣还可以读读《西游记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难理解的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字叫做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灵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中指仙石有了灵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了人性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石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石头的边隙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喜不自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欢喜的自己不能控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形容非常高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耍子去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去玩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造地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然形成而又合乎理想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拱伏无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伏在地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朝上礼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有违抗的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抓耳挠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乱抓耳朵和腮帮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形容非常着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忙乱或苦闷的无计可施的样子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力倦神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太累了而全身无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精神不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14400" y="882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句段赏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457200" y="3978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那猴在山中，却会行走跳跃，食草木，饮涧泉，采山花，觅树果；与狼虫为伴，虎豹为群，獐鹿为友，猕猿为亲；夜宿石崖之下，朝游峰洞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57200" y="2133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面更无树木遮阳，左右倒有芝兰相衬。盖自开辟以来，每受天真地秀，日精月华感之既久，遂有通灵之意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457200" y="2057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瞑目蹲身，将身一纵，径跳入瀑布泉中，忽睁睛抬头观看，那里边却无水无波，明明朗朗的一架桥梁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914400" y="882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句段赏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57200" y="39020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们才说有本事进得来，出得去，不伤身体者，就拜他为王。我如今进来又出去，出去又进来，寻了这一个洞天与列位安眠稳睡，各享成家之福，何不拜我为王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914400" y="82224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华文行楷"/>
                <a:ea typeface="华文行楷"/>
              </a:rPr>
              <a:t>改错别字</a:t>
            </a:r>
            <a:r>
              <a:rPr b="1" lang="en-US" sz="3600" spc="-1" strike="noStrike">
                <a:solidFill>
                  <a:srgbClr val="cccc99"/>
                </a:solidFill>
                <a:latin typeface="Times New Roman"/>
                <a:ea typeface="华文琥珀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33520" y="2739960"/>
            <a:ext cx="80769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支（  ） 桥粱（  ）抓耳挠鳃（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署（  ） 疲蜷（  ）伸头缩项（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905120" y="2743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419720" y="2743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543800" y="2743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1066680" y="3429000"/>
            <a:ext cx="45720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3581280" y="3429000"/>
            <a:ext cx="45720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6858000" y="3429000"/>
            <a:ext cx="45720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1066680" y="5105520"/>
            <a:ext cx="45720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581280" y="5105520"/>
            <a:ext cx="45720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6858000" y="5105520"/>
            <a:ext cx="45720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1905120" y="4387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419720" y="4387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543800" y="4387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使用规范说明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DAC8-9E07-483C-8A6C-ABA15E50360C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468360" y="907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把成语补充完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57200" y="2478240"/>
            <a:ext cx="83818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拱伏无（  ）   各抒己（  ）   兴国（  ）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（  ）近人   （  ）里如一   酸甜（  ）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盛气（  ）人   千（  ）一发   身（  ）其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828800" y="2452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495680" y="2452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858000" y="2452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143000" y="3747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429000" y="3747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858000" y="3747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447920" y="50436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3809880" y="5043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6477120" y="50436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2:34:47Z</dcterms:created>
  <dc:creator/>
  <dc:description/>
  <cp:keywords>幻灯片之家 http:/www.eeppt.com</cp:keywords>
  <dc:language>en-US</dc:language>
  <cp:lastModifiedBy/>
  <dcterms:modified xsi:type="dcterms:W3CDTF">2015-07-18T13:56:08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