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EA9-F66C-4772-8772-87B973C0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9F3-D5DF-4956-AB97-E80FF9FA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455-D6D9-4E44-9DF8-1437B489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2E5-B360-4D8C-9C85-48AE4333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ECE-7F8C-4DC5-A94C-C599704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8B7-CF51-4BAC-85BB-A23E581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D96-84F2-46B4-B1AB-23D37FF3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FC8-14F6-4FB3-BF6C-3CFA3458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A32-2B40-4AD9-A1F3-D59E140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756-3B92-4A92-B792-6CEDABA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2DE-3071-4E28-8BC1-8D50DF2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00E-B59B-496F-8DFA-FF0C73AA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24ED-3E56-44B1-8AAA-81DE95C0A2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C0E-F3B7-404D-B444-5DF162FD73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1680" y="-76320"/>
            <a:ext cx="913788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4248000" y="1488960"/>
            <a:ext cx="45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496260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53020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1280" y="1332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讲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3"/>
          <p:cNvGrpSpPr/>
          <p:nvPr/>
        </p:nvGrpSpPr>
        <p:grpSpPr>
          <a:xfrm>
            <a:off x="2825640" y="907920"/>
            <a:ext cx="3721320" cy="581040"/>
            <a:chOff x="2825640" y="907920"/>
            <a:chExt cx="3721320" cy="581040"/>
          </a:xfrm>
        </p:grpSpPr>
        <p:sp>
          <p:nvSpPr>
            <p:cNvPr id="48" name="圆角矩形 5"/>
            <p:cNvSpPr/>
            <p:nvPr/>
          </p:nvSpPr>
          <p:spPr>
            <a:xfrm>
              <a:off x="2825640" y="1019520"/>
              <a:ext cx="372132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标题 1"/>
            <p:cNvSpPr/>
            <p:nvPr/>
          </p:nvSpPr>
          <p:spPr>
            <a:xfrm>
              <a:off x="3945960" y="1083960"/>
              <a:ext cx="18590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下箭头 8"/>
            <p:cNvSpPr/>
            <p:nvPr/>
          </p:nvSpPr>
          <p:spPr>
            <a:xfrm>
              <a:off x="3171240" y="907920"/>
              <a:ext cx="337320" cy="369720"/>
            </a:xfrm>
            <a:prstGeom prst="downArrow">
              <a:avLst>
                <a:gd name="adj1" fmla="val 55435"/>
                <a:gd name="adj2" fmla="val 53295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2825640" y="1941480"/>
            <a:ext cx="3721320" cy="579600"/>
            <a:chOff x="2825640" y="1941480"/>
            <a:chExt cx="3721320" cy="579600"/>
          </a:xfrm>
        </p:grpSpPr>
        <p:sp>
          <p:nvSpPr>
            <p:cNvPr id="52" name="圆角矩形 10"/>
            <p:cNvSpPr/>
            <p:nvPr/>
          </p:nvSpPr>
          <p:spPr>
            <a:xfrm>
              <a:off x="2825640" y="2052720"/>
              <a:ext cx="372132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945960" y="211716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下箭头 13"/>
            <p:cNvSpPr/>
            <p:nvPr/>
          </p:nvSpPr>
          <p:spPr>
            <a:xfrm>
              <a:off x="3171240" y="1941480"/>
              <a:ext cx="337320" cy="369000"/>
            </a:xfrm>
            <a:prstGeom prst="downArrow">
              <a:avLst>
                <a:gd name="adj1" fmla="val 55435"/>
                <a:gd name="adj2" fmla="val 53191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2825640" y="2973240"/>
            <a:ext cx="3721320" cy="579600"/>
            <a:chOff x="2825640" y="2973240"/>
            <a:chExt cx="3721320" cy="579600"/>
          </a:xfrm>
        </p:grpSpPr>
        <p:sp>
          <p:nvSpPr>
            <p:cNvPr id="56" name="圆角矩形 15"/>
            <p:cNvSpPr/>
            <p:nvPr/>
          </p:nvSpPr>
          <p:spPr>
            <a:xfrm>
              <a:off x="2825640" y="3084480"/>
              <a:ext cx="372132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标题 1"/>
            <p:cNvSpPr/>
            <p:nvPr/>
          </p:nvSpPr>
          <p:spPr>
            <a:xfrm>
              <a:off x="3945960" y="314892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下箭头 18"/>
            <p:cNvSpPr/>
            <p:nvPr/>
          </p:nvSpPr>
          <p:spPr>
            <a:xfrm>
              <a:off x="3171240" y="2973240"/>
              <a:ext cx="337320" cy="369000"/>
            </a:xfrm>
            <a:prstGeom prst="downArrow">
              <a:avLst>
                <a:gd name="adj1" fmla="val 55435"/>
                <a:gd name="adj2" fmla="val 53191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2825640" y="4005360"/>
            <a:ext cx="3721320" cy="579240"/>
            <a:chOff x="2825640" y="4005360"/>
            <a:chExt cx="3721320" cy="579240"/>
          </a:xfrm>
        </p:grpSpPr>
        <p:sp>
          <p:nvSpPr>
            <p:cNvPr id="60" name="圆角矩形 20"/>
            <p:cNvSpPr/>
            <p:nvPr/>
          </p:nvSpPr>
          <p:spPr>
            <a:xfrm>
              <a:off x="2825640" y="4116600"/>
              <a:ext cx="37213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标题 1"/>
            <p:cNvSpPr/>
            <p:nvPr/>
          </p:nvSpPr>
          <p:spPr>
            <a:xfrm>
              <a:off x="3945960" y="418104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23"/>
            <p:cNvSpPr/>
            <p:nvPr/>
          </p:nvSpPr>
          <p:spPr>
            <a:xfrm>
              <a:off x="3171240" y="4005360"/>
              <a:ext cx="337320" cy="368640"/>
            </a:xfrm>
            <a:prstGeom prst="downArrow">
              <a:avLst>
                <a:gd name="adj1" fmla="val 55435"/>
                <a:gd name="adj2" fmla="val 53139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427640" y="2616120"/>
            <a:ext cx="40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177-5844-4E0C-BC81-5269DEB36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标题 1"/>
          <p:cNvSpPr/>
          <p:nvPr/>
        </p:nvSpPr>
        <p:spPr>
          <a:xfrm>
            <a:off x="4861080" y="192096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06:09:00Z</dcterms:created>
  <dc:creator>Microsoft</dc:creator>
  <dc:description/>
  <dc:language>en-US</dc:language>
  <cp:lastModifiedBy>User</cp:lastModifiedBy>
  <dcterms:modified xsi:type="dcterms:W3CDTF">2015-07-20T08:38:1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