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11F-F5D5-47D4-8E6C-FDC51513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053-A558-4036-8D7A-9F04A68B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5E7-4B7F-4D7C-BED9-639AEC8B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3D3-B6ED-4CC2-83B0-F025072E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825F-8BA6-4A00-ACBE-276BFB3F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3AD3-B97D-4BBD-BB14-D02D7438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247F-FBFD-4FC3-B880-FC0415B7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1092-DAE2-4C47-BAF4-88059853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9210-A1F8-48F5-ADFC-5F33FE96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C391-F803-4C17-83D5-A42586F8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C628-F7B7-4B62-BB6F-D088AB7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345-7EC3-44DC-B090-0DAE8ABA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1521-027B-4974-AAB0-48D3FE82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2C10-3909-4941-B3B8-3F2D4AFA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12D7-93B2-4ACE-8734-28169BC9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61A6-82E0-42CA-B459-05F44ECB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87B9-7F3F-42D3-8CB3-DAB00B10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F43C-EF1F-491F-BEED-C22B326B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AF772-3E74-43CA-AC4E-8981B47D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37B1B-0F6B-4935-9F05-2A688CD7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E31B-6B96-455F-ABA8-3EAD98DD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BFA2-8C52-4714-9FA2-2F341D4A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36E-EB3C-4E28-9312-2453FEFA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55B7-691A-44D9-A8DC-6272948F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7B6F-F282-477F-BEC2-49979AC3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2A31-9D43-4509-B894-3132DCB5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5738-9A25-4531-B078-7B812369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47BB-46F1-4EDA-96D1-650164B8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93E2F-1A80-4A73-B27F-C893FD01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A317D-E41D-4229-A963-295E1582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AD70-A4FB-4D2E-94D2-DF1F64CD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2DF3E-9F6C-47C6-8D68-6244C39D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A8EC2-E7A6-46E2-9576-BBE9DC13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A27-F64C-43AC-9C05-14DB0BDC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82FF-168C-4B92-AC0A-48E34159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7DA4C-7C54-4EDC-AB9C-FB42E6B1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799AB-BFE8-4BEB-9C4D-8FC88A97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AF0C-5534-4A03-BAEE-C77A59F1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35C5-3B7F-454D-BE44-11B79E85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60562-8DE0-467C-B1AA-D3296507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D4C9-79F8-487B-A23C-D8EDB532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8416-3D6F-4CAD-BFB2-8A04B27D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D69FB-72BF-482E-8FA6-5A866A55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B66D-8F4E-4DFA-85F6-F67B163F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37A-FF62-4C06-85F6-BE89CE37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F1953-D1D2-468F-A971-34E64ABD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94C2C-BE27-41A2-B9F0-82D17B46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8AC5F-CE44-4701-9C09-EFD7C41E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7BD83-3961-4D07-83B2-24576C32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F4E3-8D29-41D4-82E6-FE2DC4C9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C0075-A240-49BD-B3CE-B63C4C8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0D376-AFBA-4508-A744-8F8E56A3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1C0B1-C307-4AA4-B19E-2CA5AA32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E5AF5-B24F-4CC5-98F1-B438CE1B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D71F-F2AD-471B-AFF5-1DBB2EFF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F56-E6CE-4D86-98A0-7992231E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A3850-19A6-418C-B0A8-79007C92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FEC2D-EF28-42C3-AD79-6074DDB4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B2CDA-CF50-43DF-A4AE-893EA1E9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F0ED5-C21D-41CB-80E2-1203E4DC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5551C-578B-412E-A66C-CBE531EC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49F5C-45CD-4330-8746-773FC319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FDA6B-259C-4579-AC7A-600DAF59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AB644-A88A-41AC-95A9-C41D7C2B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79C1B-FC3B-4108-82D7-A11389F6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BC4C6-A486-4D17-B9BD-F550ECE5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419-2E0C-4FF0-BFFC-A8A65316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7216B-261E-473D-A69F-99FE6D45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F006B-7B93-4EC7-848E-EA9C73A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DF0A1-4A1E-4FD1-AB4C-9D7F2ACD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F90-DB84-4725-A693-5A3D000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A8B-B868-4D7F-BBAB-0D51D3E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FE99-76E6-48D3-9374-93148901C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820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760"/>
                <a:ext cx="1833840" cy="1663200"/>
                <a:chOff x="852120" y="4055760"/>
                <a:chExt cx="1833840" cy="166320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2160" y="3944880"/>
                  <a:ext cx="473760" cy="12153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8000" y="6174000"/>
              <a:ext cx="790200" cy="634680"/>
              <a:chOff x="468000" y="6174000"/>
              <a:chExt cx="79020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2680" y="617436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068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64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8800" y="1747080"/>
                <a:ext cx="20736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264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360" y="2205720"/>
                <a:ext cx="36936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3680" y="103320"/>
                <a:ext cx="29700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392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E8C7-7AFD-43FA-BDB1-81D852F22A6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26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5"/>
            <p:cNvSpPr/>
            <p:nvPr/>
          </p:nvSpPr>
          <p:spPr>
            <a:xfrm>
              <a:off x="323640" y="0"/>
              <a:ext cx="106704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B7E1-48CD-48E9-93CA-78F867E1B2FE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5943600"/>
            <a:ext cx="9144000" cy="4572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095880"/>
            <a:ext cx="8305920" cy="304920"/>
          </a:xfrm>
          <a:prstGeom prst="rect">
            <a:avLst/>
          </a:prstGeom>
          <a:gradFill rotWithShape="0">
            <a:gsLst>
              <a:gs pos="0">
                <a:srgbClr val="72848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80880" y="6400800"/>
            <a:ext cx="8763120" cy="304920"/>
          </a:xfrm>
          <a:prstGeom prst="rect">
            <a:avLst/>
          </a:prstGeom>
          <a:gradFill rotWithShape="0">
            <a:gsLst>
              <a:gs pos="0">
                <a:srgbClr val="72848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09480" y="76320"/>
            <a:ext cx="8534520" cy="304560"/>
          </a:xfrm>
          <a:prstGeom prst="rect">
            <a:avLst/>
          </a:prstGeom>
          <a:gradFill rotWithShape="0">
            <a:gsLst>
              <a:gs pos="0">
                <a:srgbClr val="72848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aa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aa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543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f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8543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8f8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8543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E2ED-AE7F-4CDB-BEF0-28F38926D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219" name="Freeform 3"/>
            <p:cNvSpPr/>
            <p:nvPr/>
          </p:nvSpPr>
          <p:spPr>
            <a:xfrm>
              <a:off x="790200" y="0"/>
              <a:ext cx="629280" cy="62136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160920" y="8280"/>
              <a:ext cx="798840" cy="6213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0" y="77400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411560" y="241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8"/>
            <p:cNvSpPr/>
            <p:nvPr/>
          </p:nvSpPr>
          <p:spPr>
            <a:xfrm>
              <a:off x="1411560" y="3139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7717320" y="0"/>
              <a:ext cx="635760" cy="62136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8175600" y="8280"/>
              <a:ext cx="798840" cy="6213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8505720" y="77400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790200" y="6236280"/>
              <a:ext cx="629280" cy="62136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0" y="545328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7"/>
            <p:cNvSpPr/>
            <p:nvPr/>
          </p:nvSpPr>
          <p:spPr>
            <a:xfrm>
              <a:off x="1411560" y="6567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8"/>
            <p:cNvSpPr/>
            <p:nvPr/>
          </p:nvSpPr>
          <p:spPr>
            <a:xfrm>
              <a:off x="1411560" y="64947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32220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20"/>
            <p:cNvSpPr/>
            <p:nvPr/>
          </p:nvSpPr>
          <p:spPr>
            <a:xfrm>
              <a:off x="24984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21"/>
            <p:cNvSpPr/>
            <p:nvPr/>
          </p:nvSpPr>
          <p:spPr>
            <a:xfrm>
              <a:off x="877320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8844840" y="1395360"/>
              <a:ext cx="48600" cy="40662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7717320" y="6236280"/>
              <a:ext cx="635760" cy="62136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4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5"/>
            <p:cNvSpPr/>
            <p:nvPr/>
          </p:nvSpPr>
          <p:spPr>
            <a:xfrm>
              <a:off x="8505720" y="5453280"/>
              <a:ext cx="637560" cy="6296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6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3013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7D0B-8938-45DA-AB6F-C6AC44F84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6DC0-ACCD-41B6-A14E-983C9E9E2B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72,21,&#24187;&#28783;&#29255; 21" TargetMode="External"/><Relationship Id="rId3" Type="http://schemas.openxmlformats.org/officeDocument/2006/relationships/hyperlink" Target="278,22,&#24187;&#28783;&#29255; 22" TargetMode="Externa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30440" y="12193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将相和幻灯片完整版下载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80880" y="1523880"/>
            <a:ext cx="8534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这个故事主要讲了什么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抓住人物的言行，分析人物的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格特点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、汇报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情朗读，深入理解人物性格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WordArt 3"/>
          <p:cNvSpPr txBox="1"/>
          <p:nvPr/>
        </p:nvSpPr>
        <p:spPr>
          <a:xfrm>
            <a:off x="3048120" y="457200"/>
            <a:ext cx="3581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习方法</a:t>
            </a:r>
            <a:endParaRPr b="1" lang="en-US" sz="36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YW00044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4673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1371600" y="6172200"/>
            <a:ext cx="990720" cy="577080"/>
          </a:xfrm>
          <a:prstGeom prst="rect">
            <a:avLst/>
          </a:prstGeom>
          <a:solidFill>
            <a:srgbClr val="e33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廉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124080" y="6172200"/>
            <a:ext cx="1295640" cy="577080"/>
          </a:xfrm>
          <a:prstGeom prst="rect">
            <a:avLst/>
          </a:prstGeom>
          <a:solidFill>
            <a:srgbClr val="e33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蔺相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5791320" y="6248520"/>
            <a:ext cx="533160" cy="380880"/>
          </a:xfrm>
          <a:custGeom>
            <a:avLst/>
            <a:gdLst>
              <a:gd name="textAreaLeft" fmla="*/ 23760 w 533160"/>
              <a:gd name="textAreaRight" fmla="*/ 509400 w 53316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78" y="1350"/>
                </a:lnTo>
                <a:lnTo>
                  <a:pt x="1350" y="135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78" y="20250"/>
                </a:lnTo>
                <a:lnTo>
                  <a:pt x="28878" y="135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78" y="2025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28" h="21600">
                <a:moveTo>
                  <a:pt x="15114" y="3800"/>
                </a:moveTo>
                <a:lnTo>
                  <a:pt x="17704" y="6425"/>
                </a:lnTo>
                <a:lnTo>
                  <a:pt x="17704" y="4675"/>
                </a:lnTo>
                <a:lnTo>
                  <a:pt x="19489" y="4675"/>
                </a:lnTo>
                <a:lnTo>
                  <a:pt x="19489" y="8210"/>
                </a:lnTo>
                <a:lnTo>
                  <a:pt x="22114" y="10800"/>
                </a:lnTo>
                <a:lnTo>
                  <a:pt x="20451" y="10800"/>
                </a:lnTo>
                <a:lnTo>
                  <a:pt x="20451" y="18028"/>
                </a:lnTo>
                <a:lnTo>
                  <a:pt x="9776" y="18028"/>
                </a:lnTo>
                <a:lnTo>
                  <a:pt x="9776" y="10800"/>
                </a:lnTo>
                <a:lnTo>
                  <a:pt x="8114" y="10800"/>
                </a:lnTo>
                <a:close/>
              </a:path>
              <a:path fill="darkenLess" w="30228" h="21600">
                <a:moveTo>
                  <a:pt x="17704" y="6425"/>
                </a:moveTo>
                <a:lnTo>
                  <a:pt x="17704" y="4675"/>
                </a:lnTo>
                <a:lnTo>
                  <a:pt x="19489" y="4675"/>
                </a:lnTo>
                <a:lnTo>
                  <a:pt x="19489" y="8210"/>
                </a:lnTo>
                <a:close/>
              </a:path>
              <a:path fill="darkenLess" w="30228" h="21600">
                <a:moveTo>
                  <a:pt x="14186" y="14318"/>
                </a:moveTo>
                <a:lnTo>
                  <a:pt x="16041" y="14318"/>
                </a:lnTo>
                <a:lnTo>
                  <a:pt x="16041" y="18028"/>
                </a:lnTo>
                <a:lnTo>
                  <a:pt x="20451" y="18028"/>
                </a:lnTo>
                <a:lnTo>
                  <a:pt x="20451" y="10800"/>
                </a:lnTo>
                <a:lnTo>
                  <a:pt x="9776" y="10800"/>
                </a:lnTo>
                <a:lnTo>
                  <a:pt x="9776" y="18028"/>
                </a:lnTo>
                <a:lnTo>
                  <a:pt x="14186" y="18028"/>
                </a:lnTo>
                <a:close/>
              </a:path>
            </a:pathLst>
          </a:custGeom>
          <a:solidFill>
            <a:srgbClr val="e33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1600200" y="167544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Arial"/>
              </a:rPr>
              <a:t>观察课文插图，想象人物当时的言行，说说廉颇负荆请罪的情景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EF20-55CC-4C05-BC14-78CD9E32DD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YW00044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24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52280" y="62485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2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8278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学了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将相和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这篇课文后，你喜欢文中哪个人物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723960" y="3733920"/>
            <a:ext cx="8420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WordArt 4"/>
          <p:cNvSpPr txBox="1"/>
          <p:nvPr/>
        </p:nvSpPr>
        <p:spPr>
          <a:xfrm>
            <a:off x="3352680" y="304920"/>
            <a:ext cx="2895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说一说</a:t>
            </a:r>
            <a:endParaRPr b="1" lang="en-US" sz="36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3"/>
          <p:cNvSpPr/>
          <p:nvPr/>
        </p:nvSpPr>
        <p:spPr>
          <a:xfrm>
            <a:off x="1219320" y="2362320"/>
            <a:ext cx="79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故事之间有什么联系？将相和好的根本原因是什么？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WordArt 4"/>
          <p:cNvSpPr txBox="1"/>
          <p:nvPr/>
        </p:nvSpPr>
        <p:spPr>
          <a:xfrm>
            <a:off x="2971800" y="60948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思考题</a:t>
            </a:r>
            <a:endParaRPr b="1" lang="en-US" sz="3600" spc="-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WordArt 2"/>
          <p:cNvSpPr txBox="1"/>
          <p:nvPr/>
        </p:nvSpPr>
        <p:spPr>
          <a:xfrm rot="438000">
            <a:off x="1294920" y="304920"/>
            <a:ext cx="228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482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作    业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482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95440" y="1689120"/>
            <a:ext cx="25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拓  展  延  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295280" y="3048120"/>
            <a:ext cx="71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d8543a"/>
                </a:solidFill>
                <a:latin typeface="Times New Roman"/>
                <a:ea typeface="黑体"/>
              </a:rPr>
              <a:t>通过一件事写写同学、朋友之间团结友爱的事，要写清前因后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295200" y="1066680"/>
            <a:ext cx="88488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廉颇很不服气，他对别人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我廉颇攻无不克，战无不胜，立下许多大功。他蔺相如有什么能耐，就靠一张嘴，反而爬到我头上去了。我碰见他，得给他个下不了台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话传到了蔺相如耳朵里，蔺相如就请病假不上朝，免得跟廉颇见面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6629400" y="6095880"/>
            <a:ext cx="838080" cy="381240"/>
          </a:xfrm>
          <a:custGeom>
            <a:avLst/>
            <a:gdLst>
              <a:gd name="textAreaLeft" fmla="*/ 23760 w 838080"/>
              <a:gd name="textAreaRight" fmla="*/ 814320 w 83808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109" y="1350"/>
                </a:lnTo>
                <a:lnTo>
                  <a:pt x="1350" y="135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109" y="20250"/>
                </a:lnTo>
                <a:lnTo>
                  <a:pt x="46109" y="135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6109" y="2025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7459" h="21600">
                <a:moveTo>
                  <a:pt x="16686" y="7475"/>
                </a:moveTo>
                <a:lnTo>
                  <a:pt x="20212" y="7475"/>
                </a:lnTo>
                <a:lnTo>
                  <a:pt x="20212" y="12839"/>
                </a:lnTo>
                <a:cubicBezTo>
                  <a:pt x="20212" y="13766"/>
                  <a:pt x="21017" y="14501"/>
                  <a:pt x="22058" y="14501"/>
                </a:cubicBezTo>
                <a:lnTo>
                  <a:pt x="23729" y="14501"/>
                </a:lnTo>
                <a:cubicBezTo>
                  <a:pt x="24771" y="14501"/>
                  <a:pt x="25576" y="13766"/>
                  <a:pt x="25576" y="12839"/>
                </a:cubicBezTo>
                <a:lnTo>
                  <a:pt x="25576" y="7475"/>
                </a:lnTo>
                <a:lnTo>
                  <a:pt x="23729" y="7475"/>
                </a:lnTo>
                <a:lnTo>
                  <a:pt x="27256" y="3949"/>
                </a:lnTo>
                <a:lnTo>
                  <a:pt x="30948" y="7475"/>
                </a:lnTo>
                <a:lnTo>
                  <a:pt x="29102" y="7475"/>
                </a:lnTo>
                <a:lnTo>
                  <a:pt x="29102" y="12839"/>
                </a:lnTo>
                <a:cubicBezTo>
                  <a:pt x="29102" y="15621"/>
                  <a:pt x="26512" y="18194"/>
                  <a:pt x="23729" y="18194"/>
                </a:cubicBezTo>
                <a:lnTo>
                  <a:pt x="22058" y="18194"/>
                </a:lnTo>
                <a:cubicBezTo>
                  <a:pt x="19276" y="18194"/>
                  <a:pt x="16686" y="15621"/>
                  <a:pt x="16686" y="12839"/>
                </a:cubicBezTo>
                <a:close/>
              </a:path>
            </a:pathLst>
          </a:custGeom>
          <a:solidFill>
            <a:srgbClr val="e33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2338200" y="555480"/>
            <a:ext cx="505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蔺相如的话传到了廉颇的耳朵里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廉颇静下心来想了想，觉得自己为了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争一口气，就不顾国家的利益，真不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应该。于是，他脱下战袍，背上荆条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到蔺要相如门上请罪。蔺相如见廉颇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来负荆请罪，连忙热情地出来迎接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从此以后，他们俩成为了好朋友，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心协力保卫赵国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7620120" y="5791320"/>
            <a:ext cx="609480" cy="533160"/>
          </a:xfrm>
          <a:custGeom>
            <a:avLst/>
            <a:gdLst>
              <a:gd name="textAreaLeft" fmla="*/ 33120 w 609480"/>
              <a:gd name="textAreaRight" fmla="*/ 576360 w 60948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340" y="1350"/>
                </a:lnTo>
                <a:lnTo>
                  <a:pt x="1350" y="135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340" y="20250"/>
                </a:lnTo>
                <a:lnTo>
                  <a:pt x="23340" y="135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40" y="2025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690" h="21600">
                <a:moveTo>
                  <a:pt x="12345" y="3800"/>
                </a:moveTo>
                <a:lnTo>
                  <a:pt x="14935" y="6425"/>
                </a:lnTo>
                <a:lnTo>
                  <a:pt x="14935" y="4675"/>
                </a:lnTo>
                <a:lnTo>
                  <a:pt x="16720" y="4675"/>
                </a:lnTo>
                <a:lnTo>
                  <a:pt x="16720" y="8210"/>
                </a:lnTo>
                <a:lnTo>
                  <a:pt x="19345" y="10800"/>
                </a:lnTo>
                <a:lnTo>
                  <a:pt x="17682" y="10800"/>
                </a:lnTo>
                <a:lnTo>
                  <a:pt x="17682" y="18028"/>
                </a:lnTo>
                <a:lnTo>
                  <a:pt x="7007" y="18028"/>
                </a:lnTo>
                <a:lnTo>
                  <a:pt x="7007" y="10800"/>
                </a:lnTo>
                <a:lnTo>
                  <a:pt x="5345" y="10800"/>
                </a:lnTo>
                <a:close/>
              </a:path>
              <a:path fill="darkenLess" w="24690" h="21600">
                <a:moveTo>
                  <a:pt x="14935" y="6425"/>
                </a:moveTo>
                <a:lnTo>
                  <a:pt x="14935" y="4675"/>
                </a:lnTo>
                <a:lnTo>
                  <a:pt x="16720" y="4675"/>
                </a:lnTo>
                <a:lnTo>
                  <a:pt x="16720" y="8210"/>
                </a:lnTo>
                <a:close/>
              </a:path>
              <a:path fill="darkenLess" w="24690" h="21600">
                <a:moveTo>
                  <a:pt x="11417" y="14318"/>
                </a:moveTo>
                <a:lnTo>
                  <a:pt x="13272" y="14318"/>
                </a:lnTo>
                <a:lnTo>
                  <a:pt x="13272" y="18028"/>
                </a:lnTo>
                <a:lnTo>
                  <a:pt x="17682" y="18028"/>
                </a:lnTo>
                <a:lnTo>
                  <a:pt x="17682" y="10800"/>
                </a:lnTo>
                <a:lnTo>
                  <a:pt x="7007" y="10800"/>
                </a:lnTo>
                <a:lnTo>
                  <a:pt x="7007" y="18028"/>
                </a:lnTo>
                <a:lnTo>
                  <a:pt x="11417" y="18028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3657600" y="3048120"/>
            <a:ext cx="51814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609480" y="3657600"/>
            <a:ext cx="4724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-305280" y="1905120"/>
            <a:ext cx="9448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蔺相如看秦王这样侮辱赵王，生气极了。他走到秦王面前，说：“请您为赵王击缶。”秦王拒绝了。蔺相如再要求，秦王还是拒绝。蔺相如说：“您跟我现在只有五步远。您不答应，我就跟您拼了！”秦王被逼得没法，只好敲了一下缶。蔺相如也叫人记录下来，说在渑池会上，秦王为赵王击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3049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赵王到了渑池，会见了秦王。秦王要赵王鼓瑟。赵王不好推辞，鼓了一段。秦王就叫人记录下来，说在渑池会上，赵王为秦王鼓瑟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0" y="5257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王没占到便宜。他知道廉颇已经在边境上做好了准备，不敢拿赵王怎么样，只好让赵王回去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5800" y="17524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3a05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e33a05"/>
                </a:solidFill>
                <a:latin typeface="Arial"/>
              </a:rPr>
              <a:t>秦王不敢进攻我们赵国，就因为武有廉颇，文有蔺相如。”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你认为这句话说得对吗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请联系上下文说说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7391520" y="5943600"/>
            <a:ext cx="533160" cy="380880"/>
          </a:xfrm>
          <a:custGeom>
            <a:avLst/>
            <a:gdLst>
              <a:gd name="textAreaLeft" fmla="*/ 23760 w 533160"/>
              <a:gd name="textAreaRight" fmla="*/ 509400 w 53316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78" y="1350"/>
                </a:lnTo>
                <a:lnTo>
                  <a:pt x="1350" y="135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78" y="20250"/>
                </a:lnTo>
                <a:lnTo>
                  <a:pt x="28878" y="135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78" y="2025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28" h="21600">
                <a:moveTo>
                  <a:pt x="8070" y="10800"/>
                </a:moveTo>
                <a:lnTo>
                  <a:pt x="22158" y="3756"/>
                </a:lnTo>
                <a:lnTo>
                  <a:pt x="22158" y="1784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380880" y="304920"/>
            <a:ext cx="8763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有一天，蔺相如坐车出去，远远看见廉颇骑着高头大马过来了，他赶紧叫车夫把车往回赶。蔺相如手下的人可看不顺眼了。他们说，蔺相如怕廉颇像老鼠见了猫似的，为什么要怕他呢！蔺相如对他们说：“诸位请想一想，廉将军和秦王比，谁厉害？”他们说：“当然秦王厉害。”蔺相如说：“秦王我都不怕，会怕廉将军吗？大家知道，秦王不敢进攻我们赵国，就因为武有廉颇，文有蔺相如。如果我们俩闹不和，就会削弱赵国的力量，秦国必然乘机来打我们。我所以避着廉将军，为的是我们赵国啊！”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6324480" y="3962520"/>
            <a:ext cx="21337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609480" y="4495680"/>
            <a:ext cx="80773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609480" y="5562720"/>
            <a:ext cx="79250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457200" y="6095880"/>
            <a:ext cx="81532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609480" y="6553080"/>
            <a:ext cx="4724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6837" y="3756"/>
                </a:moveTo>
                <a:lnTo>
                  <a:pt x="20924" y="10800"/>
                </a:lnTo>
                <a:lnTo>
                  <a:pt x="6837" y="1784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762120" y="274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0" y="673200"/>
            <a:ext cx="8915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98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读自悟：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认为蔺相如是个怎样的人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是从哪些语句体会到的？你可  以从课文中找出你认为含义深刻的句子，向同学说说你的理解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Line 5"/>
          <p:cNvSpPr/>
          <p:nvPr/>
        </p:nvSpPr>
        <p:spPr>
          <a:xfrm>
            <a:off x="4317840" y="686124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304920" y="501480"/>
            <a:ext cx="88390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蔺相如看秦王这样侮辱赵王，生气极了。他走到秦王面前，说：“请您为赵王击缶。”秦王拒绝了。蔺相如再要求，秦王还是拒绝。蔺相如说：“您跟我现在只有五步远。您不答应，我就跟您拼了！”秦王被逼得没法，只好敲了一下缶。蔺相如也叫人记录下来，说在渑池会上，秦王为赵王击缶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304920" y="501480"/>
            <a:ext cx="883908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蔺相如看秦王这样侮辱赵王，生气极了。他走到秦王面前，说：“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请您为赵王击缶。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”秦王拒绝了。蔺相如再要求，秦王还是拒绝。蔺相如说：“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您跟我现在只有五步远。您不答应，我就跟您拼了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”秦王被逼得没法，只好敲了一下缶。蔺相如也叫人记录下来，说在渑池会上，秦王为赵王击缶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304920" y="501480"/>
            <a:ext cx="883908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蔺相如看秦王这样侮辱赵王，生气极了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他走到秦王面前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，说：“请您为赵王击缶。”秦王拒绝了。蔺相如再要求，秦王还是拒绝。蔺相如说：“您跟我现在只有五步远。您不答应，我就跟您拼了！”秦王被逼得没法，只好敲了一下缶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蔺相如也叫人记录下来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，说在渑池会上，秦王为赵王击缶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6"/>
          <p:cNvSpPr/>
          <p:nvPr/>
        </p:nvSpPr>
        <p:spPr>
          <a:xfrm>
            <a:off x="1600200" y="1828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Object 4" descr="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3581280" y="533412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瑟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import52548_3"/>
          <p:cNvPicPr/>
          <p:nvPr/>
        </p:nvPicPr>
        <p:blipFill>
          <a:blip r:embed="rId1"/>
          <a:stretch/>
        </p:blipFill>
        <p:spPr>
          <a:xfrm>
            <a:off x="380880" y="533520"/>
            <a:ext cx="6324840" cy="53845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7638480" y="18921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缶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8" descr="1"/>
          <p:cNvPicPr/>
          <p:nvPr/>
        </p:nvPicPr>
        <p:blipFill>
          <a:blip r:embed="rId1"/>
          <a:stretch/>
        </p:blipFill>
        <p:spPr>
          <a:xfrm>
            <a:off x="380880" y="320760"/>
            <a:ext cx="8382240" cy="621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51" name="Text Box 2"/>
          <p:cNvSpPr/>
          <p:nvPr/>
        </p:nvSpPr>
        <p:spPr>
          <a:xfrm>
            <a:off x="990720" y="12193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你认为蔺相如是个怎样的人？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762120" y="2895480"/>
            <a:ext cx="8229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蔺相如是个</a:t>
            </a:r>
            <a:r>
              <a:rPr b="1" lang="zh-CN" sz="4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006699"/>
                </a:solidFill>
                <a:latin typeface="Times New Roman"/>
                <a:ea typeface="华文行楷"/>
              </a:rPr>
              <a:t>　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　　　　　　　　　　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4"/>
          <p:cNvSpPr/>
          <p:nvPr/>
        </p:nvSpPr>
        <p:spPr>
          <a:xfrm>
            <a:off x="4114800" y="3581280"/>
            <a:ext cx="3962520" cy="0"/>
          </a:xfrm>
          <a:prstGeom prst="line">
            <a:avLst/>
          </a:prstGeom>
          <a:ln cap="sq"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762120" y="274320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    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914400" y="4267080"/>
            <a:ext cx="723888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1594440" y="4202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的人。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9:35:14Z</dcterms:created>
  <dc:creator/>
  <dc:description/>
  <cp:keywords>幻灯片之家 http:/www.eeppt.com</cp:keywords>
  <dc:language>en-US</dc:language>
  <cp:lastModifiedBy/>
  <dcterms:modified xsi:type="dcterms:W3CDTF">2015-07-20T06:38:57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