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0D0-542B-484D-893D-42B1C286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551-8280-4E2F-B9E7-9DE65E0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CD2-052D-4D4B-A075-917A9B6D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030-6B94-43D4-AC80-9AA7C595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6566-F143-4ADC-AD6E-4C6BB8AC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22CF-3AAB-47C8-9A69-D14D94AA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722F-0A52-46C4-BB6E-BF6900C9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B20D-E6E0-4393-B361-EF1C1E3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C0E9-5305-4431-9E81-65D298C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9C6B-AA20-4D6A-9527-E60AEF93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B60C-685F-4F09-BD07-CDE3351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DD0-16FE-47B4-A3E1-1716DA0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2631-672C-432C-9ED9-CB6C1A1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B217-4F66-4748-BC29-13BF532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859-5B62-4F41-8012-12C738F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590-B01C-428C-8E93-EC4A3A24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1BF1-FE55-4108-ADE8-0165C64A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1D6-F2EA-4111-88A0-80C9A9C8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D64-ABF5-4388-874F-59258F98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233-7FD6-42BA-B479-99661C6A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627-F18F-4F08-BB59-8448576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004-9876-47D8-A88B-70B5349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9E5-5D5C-42AB-8245-C8C0296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EA4-6552-4263-B7D0-E4D6E28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917-18DE-4C92-94A9-56598273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B596-CBD8-43E7-93C9-1B31CC7C7E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541520" y="1700280"/>
            <a:ext cx="3306600" cy="3457440"/>
            <a:chOff x="1541520" y="1700280"/>
            <a:chExt cx="3306600" cy="34574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54337" t="0" r="0" b="0"/>
            <a:stretch/>
          </p:blipFill>
          <p:spPr>
            <a:xfrm flipH="1">
              <a:off x="1822680" y="1700280"/>
              <a:ext cx="302544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flipH="1">
              <a:off x="1541520" y="1700280"/>
              <a:ext cx="287280" cy="3457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282560" y="1708200"/>
            <a:ext cx="3324600" cy="3457440"/>
            <a:chOff x="4282560" y="1708200"/>
            <a:chExt cx="3324600" cy="34574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rcRect l="0" t="0" r="54337" b="0"/>
            <a:stretch/>
          </p:blipFill>
          <p:spPr>
            <a:xfrm flipH="1">
              <a:off x="4282560" y="1708200"/>
              <a:ext cx="30258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H="1">
              <a:off x="7319880" y="1708200"/>
              <a:ext cx="287280" cy="3457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49200" y="1700280"/>
            <a:ext cx="6626520" cy="345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4564800" y="1700280"/>
            <a:ext cx="287640" cy="345744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50000">
                <a:srgbClr val="414d4e">
                  <a:alpha val="52156"/>
                </a:srgbClr>
              </a:gs>
              <a:gs pos="100000">
                <a:srgbClr val="bbe0e3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5760" y="1681200"/>
            <a:ext cx="3168720" cy="36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82200" y="1700280"/>
            <a:ext cx="287640" cy="345744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50000">
                <a:srgbClr val="414d4e">
                  <a:alpha val="52156"/>
                </a:srgbClr>
              </a:gs>
              <a:gs pos="100000">
                <a:srgbClr val="bbe0e3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98720" y="1557360"/>
            <a:ext cx="3168360" cy="36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157720"/>
            <a:ext cx="9144000" cy="169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5336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卷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53469E-006 L 0.36216 2.53469E-006 E">
                                      <p:cBhvr>
                                        <p:cTn id="9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2.53469E-006 L 0.6934 2.53469E-006 E">
                                      <p:cBhvr>
                                        <p:cTn id="1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3469E-006 L 0.36232 2.53469E-006 E">
                                      <p:cBhvr>
                                        <p:cTn id="16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6327E-006 L -0.36076 -0.00162 E">
                                      <p:cBhvr>
                                        <p:cTn id="18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2.53469E-006 L -0.69236 2.53469E-006 E">
                                      <p:cBhvr>
                                        <p:cTn id="23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92 2.53469E-006 L 0.00295 2.53469E-006 E">
                                      <p:cBhvr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29F1-D74A-4A91-8B01-5FE6A65CD3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1:18:12Z</dcterms:created>
  <dc:creator>aaa</dc:creator>
  <dc:description/>
  <dc:language>en-US</dc:language>
  <cp:lastModifiedBy>aaa</cp:lastModifiedBy>
  <dcterms:modified xsi:type="dcterms:W3CDTF">2015-07-21T02:54:5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