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FE5-888C-43FE-82D1-A8F3ECE5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21B-B446-4475-9D4A-3B891636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A8E-3A06-4EDF-9879-35BD673B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B71-34C4-4133-9600-B37A8AC8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1D2-C781-4370-BA68-BF31203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179-27E9-45A1-940F-40BDE97F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42D-34DF-42B8-A638-53DA3988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53D-D8DF-4ED5-99C9-B5049CB4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8BB-7D18-49B1-A4E7-CE8A4C86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005-03A5-4860-A4D9-2651080D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68B-408A-4C80-BCC7-CE14AE9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AB0-FCEE-4926-A196-E6C10FC1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0E97-0801-472D-AB40-B507FC87E1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B1BA-E82C-4EA9-A51D-16870AC21B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06"/>
          <p:cNvSpPr/>
          <p:nvPr/>
        </p:nvSpPr>
        <p:spPr>
          <a:xfrm>
            <a:off x="7215120" y="2357280"/>
            <a:ext cx="2357640" cy="200052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7"/>
          <p:cNvSpPr/>
          <p:nvPr/>
        </p:nvSpPr>
        <p:spPr>
          <a:xfrm>
            <a:off x="5643720" y="221472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08"/>
          <p:cNvSpPr/>
          <p:nvPr/>
        </p:nvSpPr>
        <p:spPr>
          <a:xfrm>
            <a:off x="4000680" y="207180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04"/>
          <p:cNvSpPr/>
          <p:nvPr/>
        </p:nvSpPr>
        <p:spPr>
          <a:xfrm>
            <a:off x="1000080" y="2857680"/>
            <a:ext cx="235764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05"/>
          <p:cNvSpPr/>
          <p:nvPr/>
        </p:nvSpPr>
        <p:spPr>
          <a:xfrm>
            <a:off x="2214720" y="242892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03"/>
          <p:cNvSpPr/>
          <p:nvPr/>
        </p:nvSpPr>
        <p:spPr>
          <a:xfrm>
            <a:off x="-209520" y="2714760"/>
            <a:ext cx="235260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9"/>
          <p:cNvSpPr/>
          <p:nvPr/>
        </p:nvSpPr>
        <p:spPr>
          <a:xfrm>
            <a:off x="6000840" y="-352440"/>
            <a:ext cx="4000320" cy="292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0"/>
          <p:cNvSpPr/>
          <p:nvPr/>
        </p:nvSpPr>
        <p:spPr>
          <a:xfrm>
            <a:off x="4286160" y="-852480"/>
            <a:ext cx="4000680" cy="292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96"/>
          <p:cNvSpPr/>
          <p:nvPr/>
        </p:nvSpPr>
        <p:spPr>
          <a:xfrm>
            <a:off x="1214280" y="0"/>
            <a:ext cx="3000600" cy="271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95"/>
          <p:cNvSpPr/>
          <p:nvPr/>
        </p:nvSpPr>
        <p:spPr>
          <a:xfrm>
            <a:off x="-352440" y="0"/>
            <a:ext cx="2995560" cy="271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57160" y="832680"/>
            <a:ext cx="2581200" cy="3675960"/>
            <a:chOff x="857160" y="832680"/>
            <a:chExt cx="2581200" cy="3675960"/>
          </a:xfrm>
        </p:grpSpPr>
        <p:sp>
          <p:nvSpPr>
            <p:cNvPr id="52" name="任意多边形 82"/>
            <p:cNvSpPr/>
            <p:nvPr/>
          </p:nvSpPr>
          <p:spPr>
            <a:xfrm>
              <a:off x="857160" y="975600"/>
              <a:ext cx="2581200" cy="3533040"/>
            </a:xfrm>
            <a:custGeom>
              <a:avLst/>
              <a:gdLst>
                <a:gd name="textAreaLeft" fmla="*/ 0 w 2581200"/>
                <a:gd name="textAreaRight" fmla="*/ 2581560 w 2581200"/>
                <a:gd name="textAreaTop" fmla="*/ 0 h 3533040"/>
                <a:gd name="textAreaBottom" fmla="*/ 3533400 h 3533040"/>
              </a:gdLst>
              <a:ahLst/>
              <a:rect l="textAreaLeft" t="textAreaTop" r="textAreaRight" b="textAreaBottom"/>
              <a:pathLst>
                <a:path w="2581836" h="3532094">
                  <a:moveTo>
                    <a:pt x="1075765" y="860612"/>
                  </a:moveTo>
                  <a:cubicBezTo>
                    <a:pt x="1071322" y="1311596"/>
                    <a:pt x="1063616" y="1335844"/>
                    <a:pt x="1039906" y="1470212"/>
                  </a:cubicBezTo>
                  <a:cubicBezTo>
                    <a:pt x="896471" y="1410447"/>
                    <a:pt x="726259" y="1371748"/>
                    <a:pt x="609600" y="1290918"/>
                  </a:cubicBezTo>
                  <a:cubicBezTo>
                    <a:pt x="547384" y="1108927"/>
                    <a:pt x="524524" y="797934"/>
                    <a:pt x="502024" y="792785"/>
                  </a:cubicBezTo>
                  <a:cubicBezTo>
                    <a:pt x="457366" y="789137"/>
                    <a:pt x="515051" y="1062522"/>
                    <a:pt x="521564" y="1197391"/>
                  </a:cubicBezTo>
                  <a:cubicBezTo>
                    <a:pt x="413451" y="1043296"/>
                    <a:pt x="238543" y="752606"/>
                    <a:pt x="197224" y="735106"/>
                  </a:cubicBezTo>
                  <a:cubicBezTo>
                    <a:pt x="178906" y="748237"/>
                    <a:pt x="268941" y="938306"/>
                    <a:pt x="304800" y="1039906"/>
                  </a:cubicBezTo>
                  <a:cubicBezTo>
                    <a:pt x="203200" y="1027953"/>
                    <a:pt x="8488" y="971813"/>
                    <a:pt x="0" y="1004047"/>
                  </a:cubicBezTo>
                  <a:cubicBezTo>
                    <a:pt x="42460" y="1031857"/>
                    <a:pt x="239059" y="1087718"/>
                    <a:pt x="358589" y="1129553"/>
                  </a:cubicBezTo>
                  <a:lnTo>
                    <a:pt x="573742" y="1380565"/>
                  </a:lnTo>
                  <a:lnTo>
                    <a:pt x="1021977" y="1685365"/>
                  </a:lnTo>
                  <a:cubicBezTo>
                    <a:pt x="1074992" y="2114368"/>
                    <a:pt x="1126085" y="2402663"/>
                    <a:pt x="1021977" y="2886635"/>
                  </a:cubicBezTo>
                  <a:cubicBezTo>
                    <a:pt x="989154" y="3135541"/>
                    <a:pt x="878542" y="3316941"/>
                    <a:pt x="806824" y="3532094"/>
                  </a:cubicBezTo>
                  <a:lnTo>
                    <a:pt x="1129553" y="3227294"/>
                  </a:lnTo>
                  <a:lnTo>
                    <a:pt x="1057836" y="3478306"/>
                  </a:lnTo>
                  <a:lnTo>
                    <a:pt x="1201271" y="3334871"/>
                  </a:lnTo>
                  <a:lnTo>
                    <a:pt x="1272989" y="3442447"/>
                  </a:lnTo>
                  <a:lnTo>
                    <a:pt x="1344706" y="3281082"/>
                  </a:lnTo>
                  <a:lnTo>
                    <a:pt x="1541930" y="3460377"/>
                  </a:lnTo>
                  <a:lnTo>
                    <a:pt x="1541930" y="3227294"/>
                  </a:lnTo>
                  <a:lnTo>
                    <a:pt x="1667436" y="3424518"/>
                  </a:lnTo>
                  <a:lnTo>
                    <a:pt x="1739153" y="3209365"/>
                  </a:lnTo>
                  <a:lnTo>
                    <a:pt x="2115671" y="3442447"/>
                  </a:lnTo>
                  <a:cubicBezTo>
                    <a:pt x="1996142" y="3293035"/>
                    <a:pt x="1847740" y="3143371"/>
                    <a:pt x="1757083" y="2994212"/>
                  </a:cubicBezTo>
                  <a:cubicBezTo>
                    <a:pt x="1693330" y="2558271"/>
                    <a:pt x="1715349" y="2102695"/>
                    <a:pt x="1775012" y="1721224"/>
                  </a:cubicBezTo>
                  <a:lnTo>
                    <a:pt x="2115671" y="1524000"/>
                  </a:lnTo>
                  <a:lnTo>
                    <a:pt x="2259106" y="1308847"/>
                  </a:lnTo>
                  <a:lnTo>
                    <a:pt x="2581836" y="860612"/>
                  </a:lnTo>
                  <a:lnTo>
                    <a:pt x="2492189" y="824753"/>
                  </a:lnTo>
                  <a:lnTo>
                    <a:pt x="2223248" y="1201271"/>
                  </a:lnTo>
                  <a:cubicBezTo>
                    <a:pt x="2223248" y="1099671"/>
                    <a:pt x="2266297" y="908709"/>
                    <a:pt x="2223248" y="896471"/>
                  </a:cubicBezTo>
                  <a:cubicBezTo>
                    <a:pt x="2214996" y="897544"/>
                    <a:pt x="2173790" y="1170820"/>
                    <a:pt x="2115671" y="1326777"/>
                  </a:cubicBezTo>
                  <a:cubicBezTo>
                    <a:pt x="1996221" y="1411067"/>
                    <a:pt x="1888730" y="1410447"/>
                    <a:pt x="1775260" y="1452282"/>
                  </a:cubicBezTo>
                  <a:lnTo>
                    <a:pt x="1757083" y="35859"/>
                  </a:lnTo>
                  <a:lnTo>
                    <a:pt x="1434353" y="179294"/>
                  </a:lnTo>
                  <a:lnTo>
                    <a:pt x="932330" y="0"/>
                  </a:lnTo>
                  <a:cubicBezTo>
                    <a:pt x="980142" y="286871"/>
                    <a:pt x="1080968" y="578519"/>
                    <a:pt x="1075765" y="86061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27e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83"/>
            <p:cNvSpPr/>
            <p:nvPr/>
          </p:nvSpPr>
          <p:spPr>
            <a:xfrm rot="10272600">
              <a:off x="1891080" y="856800"/>
              <a:ext cx="571320" cy="3305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305160"/>
                <a:gd name="textAreaBottom" fmla="*/ 3305520 h 3305160"/>
              </a:gdLst>
              <a:ahLst/>
              <a:rect l="textAreaLeft" t="textAreaTop" r="textAreaRight" b="textAreaBottom"/>
              <a:pathLst>
                <a:path w="426720" h="2804160">
                  <a:moveTo>
                    <a:pt x="350520" y="0"/>
                  </a:moveTo>
                  <a:cubicBezTo>
                    <a:pt x="287856" y="553530"/>
                    <a:pt x="167640" y="1104095"/>
                    <a:pt x="167640" y="1661160"/>
                  </a:cubicBezTo>
                  <a:lnTo>
                    <a:pt x="0" y="2804160"/>
                  </a:lnTo>
                  <a:lnTo>
                    <a:pt x="304800" y="2804160"/>
                  </a:lnTo>
                  <a:lnTo>
                    <a:pt x="426720" y="30480"/>
                  </a:lnTo>
                  <a:lnTo>
                    <a:pt x="350520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84"/>
            <p:cNvSpPr/>
            <p:nvPr/>
          </p:nvSpPr>
          <p:spPr>
            <a:xfrm>
              <a:off x="1785600" y="1047240"/>
              <a:ext cx="714240" cy="337644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3376440"/>
                <a:gd name="textAreaBottom" fmla="*/ 3376800 h 3376440"/>
              </a:gdLst>
              <a:ahLst/>
              <a:rect l="textAreaLeft" t="textAreaTop" r="textAreaRight" b="textAreaBottom"/>
              <a:pathLst>
                <a:path w="624840" h="2804160">
                  <a:moveTo>
                    <a:pt x="510564" y="0"/>
                  </a:moveTo>
                  <a:cubicBezTo>
                    <a:pt x="447900" y="553530"/>
                    <a:pt x="327684" y="1104095"/>
                    <a:pt x="327684" y="1661160"/>
                  </a:cubicBezTo>
                  <a:lnTo>
                    <a:pt x="0" y="2804160"/>
                  </a:lnTo>
                  <a:lnTo>
                    <a:pt x="342925" y="2498987"/>
                  </a:lnTo>
                  <a:lnTo>
                    <a:pt x="624840" y="2804160"/>
                  </a:lnTo>
                  <a:lnTo>
                    <a:pt x="586764" y="30480"/>
                  </a:lnTo>
                  <a:lnTo>
                    <a:pt x="510564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任意多边形 3"/>
          <p:cNvSpPr/>
          <p:nvPr/>
        </p:nvSpPr>
        <p:spPr>
          <a:xfrm>
            <a:off x="-74520" y="2652840"/>
            <a:ext cx="9269280" cy="4205160"/>
          </a:xfrm>
          <a:custGeom>
            <a:avLst/>
            <a:gdLst>
              <a:gd name="textAreaLeft" fmla="*/ 0 w 9269280"/>
              <a:gd name="textAreaRight" fmla="*/ 9269640 w 9269280"/>
              <a:gd name="textAreaTop" fmla="*/ 0 h 4205160"/>
              <a:gd name="textAreaBottom" fmla="*/ 4205520 h 4205160"/>
            </a:gdLst>
            <a:ahLst/>
            <a:rect l="textAreaLeft" t="textAreaTop" r="textAreaRight" b="textAreaBottom"/>
            <a:pathLst>
              <a:path w="9275054" h="4205206">
                <a:moveTo>
                  <a:pt x="952507" y="919081"/>
                </a:moveTo>
                <a:cubicBezTo>
                  <a:pt x="1233495" y="966706"/>
                  <a:pt x="1513339" y="1021651"/>
                  <a:pt x="1795470" y="1061956"/>
                </a:cubicBezTo>
                <a:cubicBezTo>
                  <a:pt x="2016926" y="1131012"/>
                  <a:pt x="2193139" y="1295319"/>
                  <a:pt x="2281245" y="1333419"/>
                </a:cubicBezTo>
                <a:cubicBezTo>
                  <a:pt x="2294180" y="1317897"/>
                  <a:pt x="2309820" y="1304844"/>
                  <a:pt x="2324107" y="1290556"/>
                </a:cubicBezTo>
                <a:cubicBezTo>
                  <a:pt x="2397926" y="1247694"/>
                  <a:pt x="2444565" y="860954"/>
                  <a:pt x="2509811" y="861906"/>
                </a:cubicBezTo>
                <a:lnTo>
                  <a:pt x="2495557" y="1433431"/>
                </a:lnTo>
                <a:lnTo>
                  <a:pt x="3552832" y="776206"/>
                </a:lnTo>
                <a:lnTo>
                  <a:pt x="2809882" y="1547731"/>
                </a:lnTo>
                <a:lnTo>
                  <a:pt x="4838707" y="919081"/>
                </a:lnTo>
                <a:cubicBezTo>
                  <a:pt x="4810132" y="1128631"/>
                  <a:pt x="4762808" y="1336470"/>
                  <a:pt x="4752982" y="1547731"/>
                </a:cubicBezTo>
                <a:cubicBezTo>
                  <a:pt x="4914907" y="1535825"/>
                  <a:pt x="5619757" y="857169"/>
                  <a:pt x="5810257" y="847644"/>
                </a:cubicBezTo>
                <a:cubicBezTo>
                  <a:pt x="5838832" y="1061956"/>
                  <a:pt x="5837865" y="1282329"/>
                  <a:pt x="5895982" y="1490581"/>
                </a:cubicBezTo>
                <a:cubicBezTo>
                  <a:pt x="6055526" y="1464387"/>
                  <a:pt x="6636551" y="690481"/>
                  <a:pt x="6767520" y="690481"/>
                </a:cubicBezTo>
                <a:lnTo>
                  <a:pt x="6681795" y="1490581"/>
                </a:lnTo>
                <a:cubicBezTo>
                  <a:pt x="7344000" y="410900"/>
                  <a:pt x="7339020" y="0"/>
                  <a:pt x="7339020" y="447594"/>
                </a:cubicBezTo>
                <a:lnTo>
                  <a:pt x="7510470" y="1576306"/>
                </a:lnTo>
                <a:cubicBezTo>
                  <a:pt x="7869951" y="584137"/>
                  <a:pt x="7620503" y="343332"/>
                  <a:pt x="7881945" y="604756"/>
                </a:cubicBezTo>
                <a:lnTo>
                  <a:pt x="8181982" y="1476294"/>
                </a:lnTo>
                <a:lnTo>
                  <a:pt x="8239132" y="590469"/>
                </a:lnTo>
                <a:lnTo>
                  <a:pt x="8596320" y="1390569"/>
                </a:lnTo>
                <a:lnTo>
                  <a:pt x="9124957" y="647619"/>
                </a:lnTo>
                <a:cubicBezTo>
                  <a:pt x="9244326" y="752066"/>
                  <a:pt x="9275054" y="711832"/>
                  <a:pt x="9224970" y="761919"/>
                </a:cubicBezTo>
                <a:cubicBezTo>
                  <a:pt x="9229732" y="1909681"/>
                  <a:pt x="9234495" y="3057444"/>
                  <a:pt x="9239257" y="4205206"/>
                </a:cubicBezTo>
                <a:lnTo>
                  <a:pt x="23819" y="4190919"/>
                </a:lnTo>
                <a:cubicBezTo>
                  <a:pt x="28582" y="3195522"/>
                  <a:pt x="0" y="2233528"/>
                  <a:pt x="52394" y="1204831"/>
                </a:cubicBezTo>
                <a:lnTo>
                  <a:pt x="952507" y="919081"/>
                </a:lnTo>
                <a:close/>
              </a:path>
            </a:pathLst>
          </a:custGeom>
          <a:solidFill>
            <a:srgbClr val="6ea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4286160"/>
            <a:ext cx="985680" cy="1028880"/>
            <a:chOff x="0" y="4286160"/>
            <a:chExt cx="985680" cy="1028880"/>
          </a:xfrm>
        </p:grpSpPr>
        <p:sp>
          <p:nvSpPr>
            <p:cNvPr id="57" name="任意多边形 15"/>
            <p:cNvSpPr/>
            <p:nvPr/>
          </p:nvSpPr>
          <p:spPr>
            <a:xfrm>
              <a:off x="0" y="428616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6"/>
            <p:cNvSpPr/>
            <p:nvPr/>
          </p:nvSpPr>
          <p:spPr>
            <a:xfrm>
              <a:off x="184680" y="428616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71680" y="3500280"/>
            <a:ext cx="985680" cy="1028880"/>
            <a:chOff x="571680" y="3500280"/>
            <a:chExt cx="985680" cy="1028880"/>
          </a:xfrm>
        </p:grpSpPr>
        <p:sp>
          <p:nvSpPr>
            <p:cNvPr id="60" name="任意多边形 34"/>
            <p:cNvSpPr/>
            <p:nvPr/>
          </p:nvSpPr>
          <p:spPr>
            <a:xfrm>
              <a:off x="571680" y="350028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35"/>
            <p:cNvSpPr/>
            <p:nvPr/>
          </p:nvSpPr>
          <p:spPr>
            <a:xfrm>
              <a:off x="756360" y="350028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6040" y="5643720"/>
            <a:ext cx="986040" cy="928440"/>
            <a:chOff x="2786040" y="5643720"/>
            <a:chExt cx="986040" cy="928440"/>
          </a:xfrm>
        </p:grpSpPr>
        <p:sp>
          <p:nvSpPr>
            <p:cNvPr id="63" name="任意多边形 37"/>
            <p:cNvSpPr/>
            <p:nvPr/>
          </p:nvSpPr>
          <p:spPr>
            <a:xfrm>
              <a:off x="2786040" y="5643720"/>
              <a:ext cx="801360" cy="9284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38"/>
            <p:cNvSpPr/>
            <p:nvPr/>
          </p:nvSpPr>
          <p:spPr>
            <a:xfrm>
              <a:off x="2970720" y="5643720"/>
              <a:ext cx="801360" cy="9284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85680" y="4829040"/>
            <a:ext cx="2567520" cy="1938600"/>
            <a:chOff x="985680" y="4829040"/>
            <a:chExt cx="2567520" cy="1938600"/>
          </a:xfrm>
        </p:grpSpPr>
        <p:grpSp>
          <p:nvGrpSpPr>
            <p:cNvPr id="66" name=""/>
            <p:cNvGrpSpPr/>
            <p:nvPr/>
          </p:nvGrpSpPr>
          <p:grpSpPr>
            <a:xfrm>
              <a:off x="985680" y="4829040"/>
              <a:ext cx="2273400" cy="1938600"/>
              <a:chOff x="985680" y="4829040"/>
              <a:chExt cx="2273400" cy="19386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1168920" y="5329080"/>
                <a:ext cx="985680" cy="1028520"/>
                <a:chOff x="1168920" y="5329080"/>
                <a:chExt cx="985680" cy="1028520"/>
              </a:xfrm>
            </p:grpSpPr>
            <p:sp>
              <p:nvSpPr>
                <p:cNvPr id="68" name="任意多边形 18"/>
                <p:cNvSpPr/>
                <p:nvPr/>
              </p:nvSpPr>
              <p:spPr>
                <a:xfrm>
                  <a:off x="1168920" y="5329080"/>
                  <a:ext cx="801000" cy="1028520"/>
                </a:xfrm>
                <a:custGeom>
                  <a:avLst/>
                  <a:gdLst>
                    <a:gd name="textAreaLeft" fmla="*/ 0 w 801000"/>
                    <a:gd name="textAreaRight" fmla="*/ 801360 w 801000"/>
                    <a:gd name="textAreaTop" fmla="*/ 0 h 1028520"/>
                    <a:gd name="textAreaBottom" fmla="*/ 1028880 h 1028520"/>
                  </a:gdLst>
                  <a:ahLst/>
                  <a:rect l="textAreaLeft" t="textAreaTop" r="textAreaRight" b="textAreaBottom"/>
                  <a:pathLst>
                    <a:path w="900112" h="687064">
                      <a:moveTo>
                        <a:pt x="0" y="687064"/>
                      </a:moveTo>
                      <a:cubicBezTo>
                        <a:pt x="57149" y="610864"/>
                        <a:pt x="42862" y="653726"/>
                        <a:pt x="42862" y="558477"/>
                      </a:cubicBezTo>
                      <a:cubicBezTo>
                        <a:pt x="52387" y="425127"/>
                        <a:pt x="61561" y="291751"/>
                        <a:pt x="71437" y="158427"/>
                      </a:cubicBezTo>
                      <a:cubicBezTo>
                        <a:pt x="71789" y="153678"/>
                        <a:pt x="71437" y="167952"/>
                        <a:pt x="71437" y="172714"/>
                      </a:cubicBezTo>
                      <a:lnTo>
                        <a:pt x="200025" y="572764"/>
                      </a:lnTo>
                      <a:cubicBezTo>
                        <a:pt x="257804" y="139418"/>
                        <a:pt x="257175" y="0"/>
                        <a:pt x="257175" y="158427"/>
                      </a:cubicBezTo>
                      <a:lnTo>
                        <a:pt x="271462" y="515614"/>
                      </a:lnTo>
                      <a:lnTo>
                        <a:pt x="428625" y="86989"/>
                      </a:lnTo>
                      <a:lnTo>
                        <a:pt x="442912" y="558477"/>
                      </a:lnTo>
                      <a:lnTo>
                        <a:pt x="757237" y="72702"/>
                      </a:lnTo>
                      <a:lnTo>
                        <a:pt x="685800" y="529902"/>
                      </a:lnTo>
                      <a:lnTo>
                        <a:pt x="842962" y="187002"/>
                      </a:lnTo>
                      <a:lnTo>
                        <a:pt x="900112" y="644202"/>
                      </a:lnTo>
                      <a:lnTo>
                        <a:pt x="0" y="687064"/>
                      </a:ln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任意多边形 19"/>
                <p:cNvSpPr/>
                <p:nvPr/>
              </p:nvSpPr>
              <p:spPr>
                <a:xfrm>
                  <a:off x="1353600" y="5329080"/>
                  <a:ext cx="801000" cy="1028520"/>
                </a:xfrm>
                <a:custGeom>
                  <a:avLst/>
                  <a:gdLst>
                    <a:gd name="textAreaLeft" fmla="*/ 0 w 801000"/>
                    <a:gd name="textAreaRight" fmla="*/ 801360 w 801000"/>
                    <a:gd name="textAreaTop" fmla="*/ 0 h 1028520"/>
                    <a:gd name="textAreaBottom" fmla="*/ 1028880 h 1028520"/>
                  </a:gdLst>
                  <a:ahLst/>
                  <a:rect l="textAreaLeft" t="textAreaTop" r="textAreaRight" b="textAreaBottom"/>
                  <a:pathLst>
                    <a:path w="900112" h="687064">
                      <a:moveTo>
                        <a:pt x="0" y="687064"/>
                      </a:moveTo>
                      <a:cubicBezTo>
                        <a:pt x="57149" y="610864"/>
                        <a:pt x="42862" y="653726"/>
                        <a:pt x="42862" y="558477"/>
                      </a:cubicBezTo>
                      <a:cubicBezTo>
                        <a:pt x="52387" y="425127"/>
                        <a:pt x="61561" y="291751"/>
                        <a:pt x="71437" y="158427"/>
                      </a:cubicBezTo>
                      <a:cubicBezTo>
                        <a:pt x="71789" y="153678"/>
                        <a:pt x="71437" y="167952"/>
                        <a:pt x="71437" y="172714"/>
                      </a:cubicBezTo>
                      <a:lnTo>
                        <a:pt x="200025" y="572764"/>
                      </a:lnTo>
                      <a:cubicBezTo>
                        <a:pt x="257804" y="139418"/>
                        <a:pt x="257175" y="0"/>
                        <a:pt x="257175" y="158427"/>
                      </a:cubicBezTo>
                      <a:lnTo>
                        <a:pt x="271462" y="515614"/>
                      </a:lnTo>
                      <a:lnTo>
                        <a:pt x="428625" y="86989"/>
                      </a:lnTo>
                      <a:lnTo>
                        <a:pt x="442912" y="558477"/>
                      </a:lnTo>
                      <a:lnTo>
                        <a:pt x="757237" y="72702"/>
                      </a:lnTo>
                      <a:lnTo>
                        <a:pt x="685800" y="529902"/>
                      </a:lnTo>
                      <a:lnTo>
                        <a:pt x="842962" y="187002"/>
                      </a:lnTo>
                      <a:lnTo>
                        <a:pt x="900112" y="644202"/>
                      </a:lnTo>
                      <a:lnTo>
                        <a:pt x="0" y="687064"/>
                      </a:ln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任意多边形 20"/>
              <p:cNvSpPr/>
              <p:nvPr/>
            </p:nvSpPr>
            <p:spPr>
              <a:xfrm>
                <a:off x="985680" y="5086080"/>
                <a:ext cx="2269080" cy="1681560"/>
              </a:xfrm>
              <a:custGeom>
                <a:avLst/>
                <a:gdLst>
                  <a:gd name="textAreaLeft" fmla="*/ 0 w 2269080"/>
                  <a:gd name="textAreaRight" fmla="*/ 2269440 w 2269080"/>
                  <a:gd name="textAreaTop" fmla="*/ 0 h 1681560"/>
                  <a:gd name="textAreaBottom" fmla="*/ 1681920 h 1681560"/>
                </a:gdLst>
                <a:ahLst/>
                <a:rect l="textAreaLeft" t="textAreaTop" r="textAreaRight" b="textAreaBottom"/>
                <a:pathLst>
                  <a:path w="2269466" h="1681491">
                    <a:moveTo>
                      <a:pt x="207061" y="1322881"/>
                    </a:moveTo>
                    <a:cubicBezTo>
                      <a:pt x="192774" y="1339550"/>
                      <a:pt x="0" y="1552810"/>
                      <a:pt x="26328" y="1457325"/>
                    </a:cubicBezTo>
                    <a:lnTo>
                      <a:pt x="269216" y="771525"/>
                    </a:lnTo>
                    <a:lnTo>
                      <a:pt x="226353" y="0"/>
                    </a:lnTo>
                    <a:lnTo>
                      <a:pt x="569253" y="342900"/>
                    </a:lnTo>
                    <a:lnTo>
                      <a:pt x="1683678" y="357187"/>
                    </a:lnTo>
                    <a:lnTo>
                      <a:pt x="2240891" y="185737"/>
                    </a:lnTo>
                    <a:lnTo>
                      <a:pt x="2269466" y="1385887"/>
                    </a:lnTo>
                    <a:lnTo>
                      <a:pt x="2155166" y="1171575"/>
                    </a:lnTo>
                    <a:lnTo>
                      <a:pt x="2026578" y="1314450"/>
                    </a:lnTo>
                    <a:lnTo>
                      <a:pt x="1955141" y="1042987"/>
                    </a:lnTo>
                    <a:cubicBezTo>
                      <a:pt x="1868564" y="1519161"/>
                      <a:pt x="1869416" y="1674214"/>
                      <a:pt x="1869416" y="1500187"/>
                    </a:cubicBezTo>
                    <a:lnTo>
                      <a:pt x="1740828" y="1085850"/>
                    </a:lnTo>
                    <a:lnTo>
                      <a:pt x="1555091" y="1385887"/>
                    </a:lnTo>
                    <a:lnTo>
                      <a:pt x="1512228" y="1114425"/>
                    </a:lnTo>
                    <a:lnTo>
                      <a:pt x="1240766" y="1485900"/>
                    </a:lnTo>
                    <a:lnTo>
                      <a:pt x="1055028" y="1300162"/>
                    </a:lnTo>
                    <a:lnTo>
                      <a:pt x="712128" y="1528762"/>
                    </a:lnTo>
                    <a:lnTo>
                      <a:pt x="754991" y="1214437"/>
                    </a:lnTo>
                    <a:cubicBezTo>
                      <a:pt x="451251" y="1460322"/>
                      <a:pt x="561945" y="1421685"/>
                      <a:pt x="469241" y="1457325"/>
                    </a:cubicBezTo>
                    <a:cubicBezTo>
                      <a:pt x="423877" y="1298444"/>
                      <a:pt x="431141" y="1266825"/>
                      <a:pt x="412091" y="1171575"/>
                    </a:cubicBezTo>
                    <a:cubicBezTo>
                      <a:pt x="222093" y="1551569"/>
                      <a:pt x="226353" y="1681491"/>
                      <a:pt x="226353" y="1514475"/>
                    </a:cubicBezTo>
                    <a:lnTo>
                      <a:pt x="207061" y="132288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21"/>
              <p:cNvSpPr/>
              <p:nvPr/>
            </p:nvSpPr>
            <p:spPr>
              <a:xfrm>
                <a:off x="1183320" y="4829040"/>
                <a:ext cx="2071440" cy="714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任意多边形 22"/>
              <p:cNvSpPr/>
              <p:nvPr/>
            </p:nvSpPr>
            <p:spPr>
              <a:xfrm>
                <a:off x="1346760" y="4926960"/>
                <a:ext cx="1912320" cy="521640"/>
              </a:xfrm>
              <a:custGeom>
                <a:avLst/>
                <a:gdLst>
                  <a:gd name="textAreaLeft" fmla="*/ 0 w 1912320"/>
                  <a:gd name="textAreaRight" fmla="*/ 1912680 w 1912320"/>
                  <a:gd name="textAreaTop" fmla="*/ 0 h 521640"/>
                  <a:gd name="textAreaBottom" fmla="*/ 522000 h 521640"/>
                </a:gdLst>
                <a:ahLst/>
                <a:rect l="textAreaLeft" t="textAreaTop" r="textAreaRight" b="textAreaBottom"/>
                <a:pathLst>
                  <a:path w="1912512" h="521594">
                    <a:moveTo>
                      <a:pt x="1771918" y="80493"/>
                    </a:moveTo>
                    <a:cubicBezTo>
                      <a:pt x="1320084" y="40246"/>
                      <a:pt x="868250" y="0"/>
                      <a:pt x="574183" y="22538"/>
                    </a:cubicBezTo>
                    <a:cubicBezTo>
                      <a:pt x="280116" y="45076"/>
                      <a:pt x="15026" y="138448"/>
                      <a:pt x="7513" y="215721"/>
                    </a:cubicBezTo>
                    <a:cubicBezTo>
                      <a:pt x="0" y="292994"/>
                      <a:pt x="287628" y="450760"/>
                      <a:pt x="529107" y="486177"/>
                    </a:cubicBezTo>
                    <a:cubicBezTo>
                      <a:pt x="770586" y="521594"/>
                      <a:pt x="1253544" y="477591"/>
                      <a:pt x="1456386" y="428222"/>
                    </a:cubicBezTo>
                    <a:cubicBezTo>
                      <a:pt x="1659228" y="378853"/>
                      <a:pt x="1912512" y="241479"/>
                      <a:pt x="1746160" y="189963"/>
                    </a:cubicBezTo>
                    <a:cubicBezTo>
                      <a:pt x="1579808" y="138448"/>
                      <a:pt x="686873" y="94445"/>
                      <a:pt x="458273" y="119129"/>
                    </a:cubicBezTo>
                    <a:cubicBezTo>
                      <a:pt x="229673" y="143814"/>
                      <a:pt x="218940" y="296214"/>
                      <a:pt x="374560" y="338070"/>
                    </a:cubicBezTo>
                    <a:cubicBezTo>
                      <a:pt x="530180" y="379926"/>
                      <a:pt x="1224566" y="389585"/>
                      <a:pt x="1391991" y="370267"/>
                    </a:cubicBezTo>
                    <a:cubicBezTo>
                      <a:pt x="1559416" y="350949"/>
                      <a:pt x="1517561" y="247918"/>
                      <a:pt x="1379113" y="222160"/>
                    </a:cubicBezTo>
                    <a:cubicBezTo>
                      <a:pt x="1240665" y="196402"/>
                      <a:pt x="655749" y="200696"/>
                      <a:pt x="561304" y="215721"/>
                    </a:cubicBezTo>
                    <a:cubicBezTo>
                      <a:pt x="466859" y="230746"/>
                      <a:pt x="693312" y="295140"/>
                      <a:pt x="812442" y="312312"/>
                    </a:cubicBezTo>
                    <a:cubicBezTo>
                      <a:pt x="931572" y="329484"/>
                      <a:pt x="1244958" y="328411"/>
                      <a:pt x="1276082" y="318752"/>
                    </a:cubicBezTo>
                    <a:cubicBezTo>
                      <a:pt x="1307206" y="309093"/>
                      <a:pt x="1153196" y="281725"/>
                      <a:pt x="999186" y="254357"/>
                    </a:cubicBez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任意多边形 23"/>
              <p:cNvSpPr/>
              <p:nvPr/>
            </p:nvSpPr>
            <p:spPr>
              <a:xfrm>
                <a:off x="2940480" y="5472000"/>
                <a:ext cx="14040" cy="6429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42960"/>
                  <a:gd name="textAreaBottom" fmla="*/ 643320 h 642960"/>
                </a:gdLst>
                <a:ahLst/>
                <a:rect l="textAreaLeft" t="textAreaTop" r="textAreaRight" b="textAreaBottom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任意多边形 24"/>
              <p:cNvSpPr/>
              <p:nvPr/>
            </p:nvSpPr>
            <p:spPr>
              <a:xfrm>
                <a:off x="2954880" y="5472000"/>
                <a:ext cx="199800" cy="85716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57160"/>
                  <a:gd name="textAreaBottom" fmla="*/ 857520 h 857160"/>
                </a:gdLst>
                <a:ahLst/>
                <a:rect l="textAreaLeft" t="textAreaTop" r="textAreaRight" b="textAreaBottom"/>
                <a:pathLst>
                  <a:path w="200025" h="857250">
                    <a:moveTo>
                      <a:pt x="0" y="0"/>
                    </a:moveTo>
                    <a:lnTo>
                      <a:pt x="200025" y="857250"/>
                    </a:lnTo>
                    <a:lnTo>
                      <a:pt x="200025" y="85725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任意多边形 25"/>
              <p:cNvSpPr/>
              <p:nvPr/>
            </p:nvSpPr>
            <p:spPr>
              <a:xfrm>
                <a:off x="2726280" y="5510160"/>
                <a:ext cx="14040" cy="6429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42960"/>
                  <a:gd name="textAreaBottom" fmla="*/ 643320 h 642960"/>
                </a:gdLst>
                <a:ahLst/>
                <a:rect l="textAreaLeft" t="textAreaTop" r="textAreaRight" b="textAreaBottom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任意多边形 26"/>
              <p:cNvSpPr/>
              <p:nvPr/>
            </p:nvSpPr>
            <p:spPr>
              <a:xfrm>
                <a:off x="2473920" y="5567040"/>
                <a:ext cx="14040" cy="6429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42960"/>
                  <a:gd name="textAreaBottom" fmla="*/ 643320 h 642960"/>
                </a:gdLst>
                <a:ahLst/>
                <a:rect l="textAreaLeft" t="textAreaTop" r="textAreaRight" b="textAreaBottom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27"/>
              <p:cNvSpPr/>
              <p:nvPr/>
            </p:nvSpPr>
            <p:spPr>
              <a:xfrm>
                <a:off x="1997640" y="5543280"/>
                <a:ext cx="490320" cy="86220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490439" h="862073">
                    <a:moveTo>
                      <a:pt x="490439" y="9603"/>
                    </a:moveTo>
                    <a:lnTo>
                      <a:pt x="485679" y="0"/>
                    </a:lnTo>
                    <a:lnTo>
                      <a:pt x="0" y="862073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任意多边形 28"/>
              <p:cNvSpPr/>
              <p:nvPr/>
            </p:nvSpPr>
            <p:spPr>
              <a:xfrm>
                <a:off x="1826280" y="5543280"/>
                <a:ext cx="199800" cy="7858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785880"/>
                  <a:gd name="textAreaBottom" fmla="*/ 786240 h 785880"/>
                </a:gdLst>
                <a:ahLst/>
                <a:rect l="textAreaLeft" t="textAreaTop" r="textAreaRight" b="textAreaBottom"/>
                <a:pathLst>
                  <a:path w="200089" h="785860">
                    <a:moveTo>
                      <a:pt x="0" y="0"/>
                    </a:moveTo>
                    <a:lnTo>
                      <a:pt x="200089" y="785860"/>
                    </a:lnTo>
                    <a:lnTo>
                      <a:pt x="200089" y="7858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任意多边形 29"/>
              <p:cNvSpPr/>
              <p:nvPr/>
            </p:nvSpPr>
            <p:spPr>
              <a:xfrm>
                <a:off x="1311840" y="5543280"/>
                <a:ext cx="490320" cy="86220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490439" h="862073">
                    <a:moveTo>
                      <a:pt x="490439" y="9603"/>
                    </a:moveTo>
                    <a:lnTo>
                      <a:pt x="485679" y="0"/>
                    </a:lnTo>
                    <a:lnTo>
                      <a:pt x="0" y="862073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任意多边形 30"/>
              <p:cNvSpPr/>
              <p:nvPr/>
            </p:nvSpPr>
            <p:spPr>
              <a:xfrm>
                <a:off x="1740600" y="5519520"/>
                <a:ext cx="75960" cy="8096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809640"/>
                  <a:gd name="textAreaBottom" fmla="*/ 810000 h 809640"/>
                </a:gdLst>
                <a:ahLst/>
                <a:rect l="textAreaLeft" t="textAreaTop" r="textAreaRight" b="textAreaBottom"/>
                <a:pathLst>
                  <a:path w="76191" h="809687">
                    <a:moveTo>
                      <a:pt x="76191" y="0"/>
                    </a:moveTo>
                    <a:lnTo>
                      <a:pt x="0" y="809687"/>
                    </a:lnTo>
                    <a:lnTo>
                      <a:pt x="0" y="809687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任意多边形 31"/>
              <p:cNvSpPr/>
              <p:nvPr/>
            </p:nvSpPr>
            <p:spPr>
              <a:xfrm>
                <a:off x="1249920" y="5329080"/>
                <a:ext cx="128520" cy="938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38160"/>
                  <a:gd name="textAreaBottom" fmla="*/ 938520 h 938160"/>
                </a:gdLst>
                <a:ahLst/>
                <a:rect l="textAreaLeft" t="textAreaTop" r="textAreaRight" b="textAreaBottom"/>
                <a:pathLst>
                  <a:path w="128626" h="938274">
                    <a:moveTo>
                      <a:pt x="0" y="0"/>
                    </a:moveTo>
                    <a:lnTo>
                      <a:pt x="128626" y="938274"/>
                    </a:lnTo>
                    <a:lnTo>
                      <a:pt x="128626" y="938274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任意多边形 50"/>
            <p:cNvSpPr/>
            <p:nvPr/>
          </p:nvSpPr>
          <p:spPr>
            <a:xfrm>
              <a:off x="2792880" y="5037480"/>
              <a:ext cx="707400" cy="981720"/>
            </a:xfrm>
            <a:custGeom>
              <a:avLst/>
              <a:gdLst>
                <a:gd name="textAreaLeft" fmla="*/ 0 w 707400"/>
                <a:gd name="textAreaRight" fmla="*/ 707760 w 70740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707679" h="981624">
                  <a:moveTo>
                    <a:pt x="540517" y="15875"/>
                  </a:moveTo>
                  <a:cubicBezTo>
                    <a:pt x="518292" y="0"/>
                    <a:pt x="498440" y="66803"/>
                    <a:pt x="478595" y="96038"/>
                  </a:cubicBezTo>
                  <a:cubicBezTo>
                    <a:pt x="458750" y="125273"/>
                    <a:pt x="491295" y="108738"/>
                    <a:pt x="421445" y="191288"/>
                  </a:cubicBezTo>
                  <a:cubicBezTo>
                    <a:pt x="351595" y="273838"/>
                    <a:pt x="118990" y="483627"/>
                    <a:pt x="59495" y="591338"/>
                  </a:cubicBezTo>
                  <a:cubicBezTo>
                    <a:pt x="0" y="699049"/>
                    <a:pt x="35898" y="783577"/>
                    <a:pt x="64473" y="837552"/>
                  </a:cubicBezTo>
                  <a:cubicBezTo>
                    <a:pt x="93048" y="891527"/>
                    <a:pt x="165100" y="981624"/>
                    <a:pt x="230945" y="915188"/>
                  </a:cubicBezTo>
                  <a:cubicBezTo>
                    <a:pt x="296790" y="848752"/>
                    <a:pt x="380805" y="556258"/>
                    <a:pt x="459545" y="438938"/>
                  </a:cubicBezTo>
                  <a:cubicBezTo>
                    <a:pt x="538285" y="321618"/>
                    <a:pt x="588175" y="204862"/>
                    <a:pt x="703385" y="211266"/>
                  </a:cubicBezTo>
                  <a:cubicBezTo>
                    <a:pt x="707679" y="22991"/>
                    <a:pt x="596744" y="10168"/>
                    <a:pt x="540517" y="1587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6632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51"/>
            <p:cNvSpPr/>
            <p:nvPr/>
          </p:nvSpPr>
          <p:spPr>
            <a:xfrm rot="19497600">
              <a:off x="3326400" y="5007240"/>
              <a:ext cx="162360" cy="275040"/>
            </a:xfrm>
            <a:prstGeom prst="ellipse">
              <a:avLst/>
            </a:prstGeom>
            <a:solidFill>
              <a:srgbClr val="dcb206"/>
            </a:solidFill>
            <a:ln w="25560">
              <a:solidFill>
                <a:srgbClr val="6632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786280" y="324720"/>
            <a:ext cx="3357720" cy="4682160"/>
            <a:chOff x="5786280" y="324720"/>
            <a:chExt cx="3357720" cy="4682160"/>
          </a:xfrm>
        </p:grpSpPr>
        <p:sp>
          <p:nvSpPr>
            <p:cNvPr id="85" name="任意多边形 86"/>
            <p:cNvSpPr/>
            <p:nvPr/>
          </p:nvSpPr>
          <p:spPr>
            <a:xfrm>
              <a:off x="5786280" y="507960"/>
              <a:ext cx="3357720" cy="4498920"/>
            </a:xfrm>
            <a:custGeom>
              <a:avLst/>
              <a:gdLst>
                <a:gd name="textAreaLeft" fmla="*/ 0 w 3357720"/>
                <a:gd name="textAreaRight" fmla="*/ 3358080 w 3357720"/>
                <a:gd name="textAreaTop" fmla="*/ 0 h 4498920"/>
                <a:gd name="textAreaBottom" fmla="*/ 4499280 h 4498920"/>
              </a:gdLst>
              <a:ahLst/>
              <a:rect l="textAreaLeft" t="textAreaTop" r="textAreaRight" b="textAreaBottom"/>
              <a:pathLst>
                <a:path w="2581836" h="3532094">
                  <a:moveTo>
                    <a:pt x="1075765" y="860612"/>
                  </a:moveTo>
                  <a:cubicBezTo>
                    <a:pt x="1071322" y="1311596"/>
                    <a:pt x="1063616" y="1335844"/>
                    <a:pt x="1039906" y="1470212"/>
                  </a:cubicBezTo>
                  <a:cubicBezTo>
                    <a:pt x="896471" y="1410447"/>
                    <a:pt x="726259" y="1371748"/>
                    <a:pt x="609600" y="1290918"/>
                  </a:cubicBezTo>
                  <a:cubicBezTo>
                    <a:pt x="547384" y="1108927"/>
                    <a:pt x="524524" y="797934"/>
                    <a:pt x="502024" y="792785"/>
                  </a:cubicBezTo>
                  <a:cubicBezTo>
                    <a:pt x="457366" y="789137"/>
                    <a:pt x="515051" y="1062522"/>
                    <a:pt x="521564" y="1197391"/>
                  </a:cubicBezTo>
                  <a:cubicBezTo>
                    <a:pt x="413451" y="1043296"/>
                    <a:pt x="238543" y="752606"/>
                    <a:pt x="197224" y="735106"/>
                  </a:cubicBezTo>
                  <a:cubicBezTo>
                    <a:pt x="178906" y="748237"/>
                    <a:pt x="268941" y="938306"/>
                    <a:pt x="304800" y="1039906"/>
                  </a:cubicBezTo>
                  <a:cubicBezTo>
                    <a:pt x="203200" y="1027953"/>
                    <a:pt x="8488" y="971813"/>
                    <a:pt x="0" y="1004047"/>
                  </a:cubicBezTo>
                  <a:cubicBezTo>
                    <a:pt x="42460" y="1031857"/>
                    <a:pt x="239059" y="1087718"/>
                    <a:pt x="358589" y="1129553"/>
                  </a:cubicBezTo>
                  <a:lnTo>
                    <a:pt x="573742" y="1380565"/>
                  </a:lnTo>
                  <a:lnTo>
                    <a:pt x="1021977" y="1685365"/>
                  </a:lnTo>
                  <a:cubicBezTo>
                    <a:pt x="1074992" y="2114368"/>
                    <a:pt x="1126085" y="2402663"/>
                    <a:pt x="1021977" y="2886635"/>
                  </a:cubicBezTo>
                  <a:cubicBezTo>
                    <a:pt x="989154" y="3135541"/>
                    <a:pt x="878542" y="3316941"/>
                    <a:pt x="806824" y="3532094"/>
                  </a:cubicBezTo>
                  <a:lnTo>
                    <a:pt x="1129553" y="3227294"/>
                  </a:lnTo>
                  <a:lnTo>
                    <a:pt x="1057836" y="3478306"/>
                  </a:lnTo>
                  <a:lnTo>
                    <a:pt x="1201271" y="3334871"/>
                  </a:lnTo>
                  <a:lnTo>
                    <a:pt x="1272989" y="3442447"/>
                  </a:lnTo>
                  <a:lnTo>
                    <a:pt x="1344706" y="3281082"/>
                  </a:lnTo>
                  <a:lnTo>
                    <a:pt x="1541930" y="3460377"/>
                  </a:lnTo>
                  <a:lnTo>
                    <a:pt x="1541930" y="3227294"/>
                  </a:lnTo>
                  <a:lnTo>
                    <a:pt x="1667436" y="3424518"/>
                  </a:lnTo>
                  <a:lnTo>
                    <a:pt x="1739153" y="3209365"/>
                  </a:lnTo>
                  <a:lnTo>
                    <a:pt x="2115671" y="3442447"/>
                  </a:lnTo>
                  <a:cubicBezTo>
                    <a:pt x="1996142" y="3293035"/>
                    <a:pt x="1847740" y="3143371"/>
                    <a:pt x="1757083" y="2994212"/>
                  </a:cubicBezTo>
                  <a:cubicBezTo>
                    <a:pt x="1693330" y="2558271"/>
                    <a:pt x="1715349" y="2102695"/>
                    <a:pt x="1775012" y="1721224"/>
                  </a:cubicBezTo>
                  <a:lnTo>
                    <a:pt x="2115671" y="1524000"/>
                  </a:lnTo>
                  <a:lnTo>
                    <a:pt x="2259106" y="1308847"/>
                  </a:lnTo>
                  <a:lnTo>
                    <a:pt x="2581836" y="860612"/>
                  </a:lnTo>
                  <a:lnTo>
                    <a:pt x="2492189" y="824753"/>
                  </a:lnTo>
                  <a:lnTo>
                    <a:pt x="2223248" y="1201271"/>
                  </a:lnTo>
                  <a:cubicBezTo>
                    <a:pt x="2223248" y="1099671"/>
                    <a:pt x="2266297" y="908709"/>
                    <a:pt x="2223248" y="896471"/>
                  </a:cubicBezTo>
                  <a:cubicBezTo>
                    <a:pt x="2214996" y="897544"/>
                    <a:pt x="2173790" y="1170820"/>
                    <a:pt x="2115671" y="1326777"/>
                  </a:cubicBezTo>
                  <a:cubicBezTo>
                    <a:pt x="1996221" y="1411067"/>
                    <a:pt x="1888730" y="1410447"/>
                    <a:pt x="1775260" y="1452282"/>
                  </a:cubicBezTo>
                  <a:lnTo>
                    <a:pt x="1757083" y="35859"/>
                  </a:lnTo>
                  <a:lnTo>
                    <a:pt x="1434353" y="179294"/>
                  </a:lnTo>
                  <a:lnTo>
                    <a:pt x="932330" y="0"/>
                  </a:lnTo>
                  <a:cubicBezTo>
                    <a:pt x="980142" y="286871"/>
                    <a:pt x="1080968" y="578519"/>
                    <a:pt x="1075765" y="86061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27e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87"/>
            <p:cNvSpPr/>
            <p:nvPr/>
          </p:nvSpPr>
          <p:spPr>
            <a:xfrm rot="10272600">
              <a:off x="7131600" y="356760"/>
              <a:ext cx="743040" cy="420876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4208760"/>
                <a:gd name="textAreaBottom" fmla="*/ 4209120 h 4208760"/>
              </a:gdLst>
              <a:ahLst/>
              <a:rect l="textAreaLeft" t="textAreaTop" r="textAreaRight" b="textAreaBottom"/>
              <a:pathLst>
                <a:path w="426720" h="2804160">
                  <a:moveTo>
                    <a:pt x="350520" y="0"/>
                  </a:moveTo>
                  <a:cubicBezTo>
                    <a:pt x="287856" y="553530"/>
                    <a:pt x="167640" y="1104095"/>
                    <a:pt x="167640" y="1661160"/>
                  </a:cubicBezTo>
                  <a:lnTo>
                    <a:pt x="0" y="2804160"/>
                  </a:lnTo>
                  <a:lnTo>
                    <a:pt x="304800" y="2804160"/>
                  </a:lnTo>
                  <a:lnTo>
                    <a:pt x="426720" y="30480"/>
                  </a:lnTo>
                  <a:lnTo>
                    <a:pt x="350520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88"/>
            <p:cNvSpPr/>
            <p:nvPr/>
          </p:nvSpPr>
          <p:spPr>
            <a:xfrm>
              <a:off x="6994080" y="599040"/>
              <a:ext cx="929160" cy="4299480"/>
            </a:xfrm>
            <a:custGeom>
              <a:avLst/>
              <a:gdLst>
                <a:gd name="textAreaLeft" fmla="*/ 0 w 929160"/>
                <a:gd name="textAreaRight" fmla="*/ 929520 w 929160"/>
                <a:gd name="textAreaTop" fmla="*/ 0 h 4299480"/>
                <a:gd name="textAreaBottom" fmla="*/ 4299840 h 4299480"/>
              </a:gdLst>
              <a:ahLst/>
              <a:rect l="textAreaLeft" t="textAreaTop" r="textAreaRight" b="textAreaBottom"/>
              <a:pathLst>
                <a:path w="624840" h="2804160">
                  <a:moveTo>
                    <a:pt x="510564" y="0"/>
                  </a:moveTo>
                  <a:cubicBezTo>
                    <a:pt x="447900" y="553530"/>
                    <a:pt x="327684" y="1104095"/>
                    <a:pt x="327684" y="1661160"/>
                  </a:cubicBezTo>
                  <a:lnTo>
                    <a:pt x="0" y="2804160"/>
                  </a:lnTo>
                  <a:lnTo>
                    <a:pt x="342925" y="2498987"/>
                  </a:lnTo>
                  <a:lnTo>
                    <a:pt x="624840" y="2804160"/>
                  </a:lnTo>
                  <a:lnTo>
                    <a:pt x="586764" y="30480"/>
                  </a:lnTo>
                  <a:lnTo>
                    <a:pt x="510564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429680" y="4214880"/>
            <a:ext cx="985680" cy="1028520"/>
            <a:chOff x="7429680" y="4214880"/>
            <a:chExt cx="985680" cy="1028520"/>
          </a:xfrm>
        </p:grpSpPr>
        <p:sp>
          <p:nvSpPr>
            <p:cNvPr id="89" name="任意多边形 5"/>
            <p:cNvSpPr/>
            <p:nvPr/>
          </p:nvSpPr>
          <p:spPr>
            <a:xfrm>
              <a:off x="7429680" y="4214880"/>
              <a:ext cx="801000" cy="102852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6"/>
            <p:cNvSpPr/>
            <p:nvPr/>
          </p:nvSpPr>
          <p:spPr>
            <a:xfrm>
              <a:off x="7614360" y="4214880"/>
              <a:ext cx="801000" cy="102852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72120" y="4929120"/>
            <a:ext cx="1571760" cy="1028880"/>
            <a:chOff x="6072120" y="4929120"/>
            <a:chExt cx="1571760" cy="1028880"/>
          </a:xfrm>
        </p:grpSpPr>
        <p:sp>
          <p:nvSpPr>
            <p:cNvPr id="92" name="任意多边形 90"/>
            <p:cNvSpPr/>
            <p:nvPr/>
          </p:nvSpPr>
          <p:spPr>
            <a:xfrm>
              <a:off x="6072120" y="4929120"/>
              <a:ext cx="1277280" cy="1028880"/>
            </a:xfrm>
            <a:custGeom>
              <a:avLst/>
              <a:gdLst>
                <a:gd name="textAreaLeft" fmla="*/ 0 w 1277280"/>
                <a:gd name="textAreaRight" fmla="*/ 1277280 w 127728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91"/>
            <p:cNvSpPr/>
            <p:nvPr/>
          </p:nvSpPr>
          <p:spPr>
            <a:xfrm>
              <a:off x="6366600" y="4929120"/>
              <a:ext cx="1277280" cy="1028880"/>
            </a:xfrm>
            <a:custGeom>
              <a:avLst/>
              <a:gdLst>
                <a:gd name="textAreaLeft" fmla="*/ 0 w 1277280"/>
                <a:gd name="textAreaRight" fmla="*/ 1277280 w 127728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786800" y="5072040"/>
            <a:ext cx="985680" cy="1028880"/>
            <a:chOff x="7786800" y="5072040"/>
            <a:chExt cx="985680" cy="1028880"/>
          </a:xfrm>
        </p:grpSpPr>
        <p:sp>
          <p:nvSpPr>
            <p:cNvPr id="95" name="任意多边形 93"/>
            <p:cNvSpPr/>
            <p:nvPr/>
          </p:nvSpPr>
          <p:spPr>
            <a:xfrm>
              <a:off x="7786800" y="507204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94"/>
            <p:cNvSpPr/>
            <p:nvPr/>
          </p:nvSpPr>
          <p:spPr>
            <a:xfrm>
              <a:off x="7971480" y="507204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椭圆 97"/>
          <p:cNvSpPr/>
          <p:nvPr/>
        </p:nvSpPr>
        <p:spPr>
          <a:xfrm>
            <a:off x="285840" y="0"/>
            <a:ext cx="2071440" cy="178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98"/>
          <p:cNvSpPr/>
          <p:nvPr/>
        </p:nvSpPr>
        <p:spPr>
          <a:xfrm>
            <a:off x="1428840" y="0"/>
            <a:ext cx="2357280" cy="200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01"/>
          <p:cNvSpPr/>
          <p:nvPr/>
        </p:nvSpPr>
        <p:spPr>
          <a:xfrm>
            <a:off x="5286240" y="-638280"/>
            <a:ext cx="2386080" cy="203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02"/>
          <p:cNvSpPr/>
          <p:nvPr/>
        </p:nvSpPr>
        <p:spPr>
          <a:xfrm>
            <a:off x="6429240" y="-638280"/>
            <a:ext cx="2714760" cy="228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77360" y="2864520"/>
            <a:ext cx="1046160" cy="1168920"/>
            <a:chOff x="477360" y="2864520"/>
            <a:chExt cx="1046160" cy="1168920"/>
          </a:xfrm>
        </p:grpSpPr>
        <p:grpSp>
          <p:nvGrpSpPr>
            <p:cNvPr id="102" name=""/>
            <p:cNvGrpSpPr/>
            <p:nvPr/>
          </p:nvGrpSpPr>
          <p:grpSpPr>
            <a:xfrm>
              <a:off x="477360" y="2864520"/>
              <a:ext cx="1046160" cy="1168920"/>
              <a:chOff x="477360" y="2864520"/>
              <a:chExt cx="1046160" cy="1168920"/>
            </a:xfrm>
          </p:grpSpPr>
          <p:sp>
            <p:nvSpPr>
              <p:cNvPr id="103" name="任意多边形 119"/>
              <p:cNvSpPr/>
              <p:nvPr/>
            </p:nvSpPr>
            <p:spPr>
              <a:xfrm rot="14884200">
                <a:off x="664200" y="2907360"/>
                <a:ext cx="671760" cy="857160"/>
              </a:xfrm>
              <a:custGeom>
                <a:avLst/>
                <a:gdLst>
                  <a:gd name="textAreaLeft" fmla="*/ 0 w 671760"/>
                  <a:gd name="textAreaRight" fmla="*/ 671760 w 671760"/>
                  <a:gd name="textAreaTop" fmla="*/ 0 h 857160"/>
                  <a:gd name="textAreaBottom" fmla="*/ 857520 h 85716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120"/>
              <p:cNvSpPr/>
              <p:nvPr/>
            </p:nvSpPr>
            <p:spPr>
              <a:xfrm rot="14884200">
                <a:off x="580680" y="3109680"/>
                <a:ext cx="618120" cy="582120"/>
              </a:xfrm>
              <a:custGeom>
                <a:avLst/>
                <a:gdLst>
                  <a:gd name="textAreaLeft" fmla="*/ 0 w 618120"/>
                  <a:gd name="textAreaRight" fmla="*/ 618480 w 618120"/>
                  <a:gd name="textAreaTop" fmla="*/ 0 h 582120"/>
                  <a:gd name="textAreaBottom" fmla="*/ 582120 h 5821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121"/>
              <p:cNvSpPr/>
              <p:nvPr/>
            </p:nvSpPr>
            <p:spPr>
              <a:xfrm rot="20283600">
                <a:off x="739440" y="3413880"/>
                <a:ext cx="546840" cy="24444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122"/>
              <p:cNvSpPr/>
              <p:nvPr/>
            </p:nvSpPr>
            <p:spPr>
              <a:xfrm rot="20883600">
                <a:off x="861480" y="3385080"/>
                <a:ext cx="381600" cy="61524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615240"/>
                  <a:gd name="textAreaBottom" fmla="*/ 615600 h 61524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椭圆 123"/>
              <p:cNvSpPr/>
              <p:nvPr/>
            </p:nvSpPr>
            <p:spPr>
              <a:xfrm>
                <a:off x="824400" y="3175560"/>
                <a:ext cx="156240" cy="167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124"/>
              <p:cNvSpPr/>
              <p:nvPr/>
            </p:nvSpPr>
            <p:spPr>
              <a:xfrm rot="19710600">
                <a:off x="1084680" y="3063960"/>
                <a:ext cx="130320" cy="167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任意多边形 125"/>
              <p:cNvSpPr/>
              <p:nvPr/>
            </p:nvSpPr>
            <p:spPr>
              <a:xfrm rot="19710600">
                <a:off x="642240" y="3334680"/>
                <a:ext cx="115200" cy="136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126"/>
              <p:cNvSpPr/>
              <p:nvPr/>
            </p:nvSpPr>
            <p:spPr>
              <a:xfrm rot="10490400">
                <a:off x="1308960" y="3347280"/>
                <a:ext cx="118440" cy="1368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27"/>
              <p:cNvSpPr/>
              <p:nvPr/>
            </p:nvSpPr>
            <p:spPr>
              <a:xfrm>
                <a:off x="949320" y="3483360"/>
                <a:ext cx="122400" cy="1126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28"/>
              <p:cNvSpPr/>
              <p:nvPr/>
            </p:nvSpPr>
            <p:spPr>
              <a:xfrm>
                <a:off x="1085040" y="3483720"/>
                <a:ext cx="78120" cy="568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新月形 129"/>
              <p:cNvSpPr/>
              <p:nvPr/>
            </p:nvSpPr>
            <p:spPr>
              <a:xfrm rot="15871800">
                <a:off x="1031760" y="3754440"/>
                <a:ext cx="139320" cy="23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新月形 130"/>
              <p:cNvSpPr/>
              <p:nvPr/>
            </p:nvSpPr>
            <p:spPr>
              <a:xfrm rot="15871800">
                <a:off x="1085760" y="3851640"/>
                <a:ext cx="38520" cy="11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椭圆 111"/>
            <p:cNvSpPr/>
            <p:nvPr/>
          </p:nvSpPr>
          <p:spPr>
            <a:xfrm>
              <a:off x="1112760" y="3582000"/>
              <a:ext cx="106560" cy="15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159560" y="3620160"/>
              <a:ext cx="67680" cy="75960"/>
              <a:chOff x="1159560" y="3620160"/>
              <a:chExt cx="67680" cy="75960"/>
            </a:xfrm>
          </p:grpSpPr>
          <p:sp>
            <p:nvSpPr>
              <p:cNvPr id="117" name="椭圆 117"/>
              <p:cNvSpPr/>
              <p:nvPr/>
            </p:nvSpPr>
            <p:spPr>
              <a:xfrm>
                <a:off x="1167120" y="3620160"/>
                <a:ext cx="6012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118"/>
              <p:cNvSpPr/>
              <p:nvPr/>
            </p:nvSpPr>
            <p:spPr>
              <a:xfrm>
                <a:off x="1159560" y="3626280"/>
                <a:ext cx="38160" cy="48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椭圆 113"/>
            <p:cNvSpPr/>
            <p:nvPr/>
          </p:nvSpPr>
          <p:spPr>
            <a:xfrm>
              <a:off x="1006200" y="3582000"/>
              <a:ext cx="106560" cy="15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044360" y="3636360"/>
              <a:ext cx="67680" cy="75960"/>
              <a:chOff x="1044360" y="3636360"/>
              <a:chExt cx="67680" cy="75960"/>
            </a:xfrm>
          </p:grpSpPr>
          <p:sp>
            <p:nvSpPr>
              <p:cNvPr id="121" name="椭圆 115"/>
              <p:cNvSpPr/>
              <p:nvPr/>
            </p:nvSpPr>
            <p:spPr>
              <a:xfrm>
                <a:off x="1051920" y="3636360"/>
                <a:ext cx="6012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116"/>
              <p:cNvSpPr/>
              <p:nvPr/>
            </p:nvSpPr>
            <p:spPr>
              <a:xfrm>
                <a:off x="1044360" y="3642480"/>
                <a:ext cx="38160" cy="48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756440" y="3067200"/>
            <a:ext cx="1130040" cy="1254600"/>
            <a:chOff x="1756440" y="3067200"/>
            <a:chExt cx="1130040" cy="1254600"/>
          </a:xfrm>
        </p:grpSpPr>
        <p:grpSp>
          <p:nvGrpSpPr>
            <p:cNvPr id="124" name=""/>
            <p:cNvGrpSpPr/>
            <p:nvPr/>
          </p:nvGrpSpPr>
          <p:grpSpPr>
            <a:xfrm>
              <a:off x="1756440" y="3067200"/>
              <a:ext cx="1130040" cy="1254600"/>
              <a:chOff x="1756440" y="3067200"/>
              <a:chExt cx="1130040" cy="1254600"/>
            </a:xfrm>
          </p:grpSpPr>
          <p:sp>
            <p:nvSpPr>
              <p:cNvPr id="125" name="任意多边形 163"/>
              <p:cNvSpPr/>
              <p:nvPr/>
            </p:nvSpPr>
            <p:spPr>
              <a:xfrm rot="14884200">
                <a:off x="1961640" y="3109680"/>
                <a:ext cx="719280" cy="92880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任意多边形 164"/>
              <p:cNvSpPr/>
              <p:nvPr/>
            </p:nvSpPr>
            <p:spPr>
              <a:xfrm rot="14884200">
                <a:off x="1871280" y="3328200"/>
                <a:ext cx="662040" cy="63072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630720"/>
                  <a:gd name="textAreaBottom" fmla="*/ 631080 h 6307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165"/>
              <p:cNvSpPr/>
              <p:nvPr/>
            </p:nvSpPr>
            <p:spPr>
              <a:xfrm rot="20283600">
                <a:off x="2039400" y="3658320"/>
                <a:ext cx="592560" cy="2617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任意多边形 166"/>
              <p:cNvSpPr/>
              <p:nvPr/>
            </p:nvSpPr>
            <p:spPr>
              <a:xfrm rot="20883600">
                <a:off x="2170800" y="3627360"/>
                <a:ext cx="413640" cy="658800"/>
              </a:xfrm>
              <a:custGeom>
                <a:avLst/>
                <a:gdLst>
                  <a:gd name="textAreaLeft" fmla="*/ 0 w 413640"/>
                  <a:gd name="textAreaRight" fmla="*/ 414000 w 413640"/>
                  <a:gd name="textAreaTop" fmla="*/ 0 h 658800"/>
                  <a:gd name="textAreaBottom" fmla="*/ 659160 h 65880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167"/>
              <p:cNvSpPr/>
              <p:nvPr/>
            </p:nvSpPr>
            <p:spPr>
              <a:xfrm>
                <a:off x="2131200" y="3402360"/>
                <a:ext cx="16920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168"/>
              <p:cNvSpPr/>
              <p:nvPr/>
            </p:nvSpPr>
            <p:spPr>
              <a:xfrm rot="19710600">
                <a:off x="2413440" y="3283200"/>
                <a:ext cx="14112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任意多边形 169"/>
              <p:cNvSpPr/>
              <p:nvPr/>
            </p:nvSpPr>
            <p:spPr>
              <a:xfrm rot="19710600">
                <a:off x="1933560" y="3572640"/>
                <a:ext cx="124560" cy="146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任意多边形 170"/>
              <p:cNvSpPr/>
              <p:nvPr/>
            </p:nvSpPr>
            <p:spPr>
              <a:xfrm rot="10490400">
                <a:off x="2656440" y="3586320"/>
                <a:ext cx="128520" cy="146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任意多边形 171"/>
              <p:cNvSpPr/>
              <p:nvPr/>
            </p:nvSpPr>
            <p:spPr>
              <a:xfrm>
                <a:off x="2266560" y="3732120"/>
                <a:ext cx="132840" cy="1206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任意多边形 172"/>
              <p:cNvSpPr/>
              <p:nvPr/>
            </p:nvSpPr>
            <p:spPr>
              <a:xfrm>
                <a:off x="2413800" y="3732480"/>
                <a:ext cx="84600" cy="60840"/>
              </a:xfrm>
              <a:custGeom>
                <a:avLst/>
                <a:gdLst>
                  <a:gd name="textAreaLeft" fmla="*/ 0 w 84600"/>
                  <a:gd name="textAreaRight" fmla="*/ 84600 w 84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新月形 173"/>
              <p:cNvSpPr/>
              <p:nvPr/>
            </p:nvSpPr>
            <p:spPr>
              <a:xfrm rot="15871800">
                <a:off x="2356560" y="402156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新月形 174"/>
              <p:cNvSpPr/>
              <p:nvPr/>
            </p:nvSpPr>
            <p:spPr>
              <a:xfrm rot="15871800">
                <a:off x="2414160" y="4126320"/>
                <a:ext cx="41400" cy="12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椭圆 155"/>
            <p:cNvSpPr/>
            <p:nvPr/>
          </p:nvSpPr>
          <p:spPr>
            <a:xfrm>
              <a:off x="2443680" y="383796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94080" y="3878640"/>
              <a:ext cx="73080" cy="81360"/>
              <a:chOff x="2494080" y="3878640"/>
              <a:chExt cx="73080" cy="81360"/>
            </a:xfrm>
          </p:grpSpPr>
          <p:sp>
            <p:nvSpPr>
              <p:cNvPr id="139" name="椭圆 161"/>
              <p:cNvSpPr/>
              <p:nvPr/>
            </p:nvSpPr>
            <p:spPr>
              <a:xfrm>
                <a:off x="2502360" y="387864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椭圆 162"/>
              <p:cNvSpPr/>
              <p:nvPr/>
            </p:nvSpPr>
            <p:spPr>
              <a:xfrm>
                <a:off x="2494080" y="388512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椭圆 157"/>
            <p:cNvSpPr/>
            <p:nvPr/>
          </p:nvSpPr>
          <p:spPr>
            <a:xfrm>
              <a:off x="2328120" y="383796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369520" y="3895920"/>
              <a:ext cx="73080" cy="81360"/>
              <a:chOff x="2369520" y="3895920"/>
              <a:chExt cx="73080" cy="81360"/>
            </a:xfrm>
          </p:grpSpPr>
          <p:sp>
            <p:nvSpPr>
              <p:cNvPr id="143" name="椭圆 159"/>
              <p:cNvSpPr/>
              <p:nvPr/>
            </p:nvSpPr>
            <p:spPr>
              <a:xfrm>
                <a:off x="2377800" y="389592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160"/>
              <p:cNvSpPr/>
              <p:nvPr/>
            </p:nvSpPr>
            <p:spPr>
              <a:xfrm>
                <a:off x="2369520" y="390240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626560" y="3233520"/>
            <a:ext cx="961560" cy="1082880"/>
            <a:chOff x="2626560" y="3233520"/>
            <a:chExt cx="961560" cy="1082880"/>
          </a:xfrm>
        </p:grpSpPr>
        <p:grpSp>
          <p:nvGrpSpPr>
            <p:cNvPr id="146" name=""/>
            <p:cNvGrpSpPr/>
            <p:nvPr/>
          </p:nvGrpSpPr>
          <p:grpSpPr>
            <a:xfrm>
              <a:off x="2626560" y="3233520"/>
              <a:ext cx="961560" cy="1082880"/>
              <a:chOff x="2626560" y="3233520"/>
              <a:chExt cx="961560" cy="1082880"/>
            </a:xfrm>
          </p:grpSpPr>
          <p:sp>
            <p:nvSpPr>
              <p:cNvPr id="147" name="任意多边形 185"/>
              <p:cNvSpPr/>
              <p:nvPr/>
            </p:nvSpPr>
            <p:spPr>
              <a:xfrm rot="14884200">
                <a:off x="2795400" y="3276720"/>
                <a:ext cx="623520" cy="785520"/>
              </a:xfrm>
              <a:custGeom>
                <a:avLst/>
                <a:gdLst>
                  <a:gd name="textAreaLeft" fmla="*/ 0 w 623520"/>
                  <a:gd name="textAreaRight" fmla="*/ 623520 w 62352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任意多边形 186"/>
              <p:cNvSpPr/>
              <p:nvPr/>
            </p:nvSpPr>
            <p:spPr>
              <a:xfrm rot="14884200">
                <a:off x="2719800" y="3462480"/>
                <a:ext cx="573480" cy="53352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87"/>
              <p:cNvSpPr/>
              <p:nvPr/>
            </p:nvSpPr>
            <p:spPr>
              <a:xfrm rot="20283600">
                <a:off x="2868840" y="3741840"/>
                <a:ext cx="501120" cy="22680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任意多边形 188"/>
              <p:cNvSpPr/>
              <p:nvPr/>
            </p:nvSpPr>
            <p:spPr>
              <a:xfrm rot="20883600">
                <a:off x="2980080" y="3715200"/>
                <a:ext cx="349920" cy="570960"/>
              </a:xfrm>
              <a:custGeom>
                <a:avLst/>
                <a:gdLst>
                  <a:gd name="textAreaLeft" fmla="*/ 0 w 349920"/>
                  <a:gd name="textAreaRight" fmla="*/ 350280 w 34992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椭圆 189"/>
              <p:cNvSpPr/>
              <p:nvPr/>
            </p:nvSpPr>
            <p:spPr>
              <a:xfrm>
                <a:off x="2946600" y="3520440"/>
                <a:ext cx="143280" cy="15516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椭圆 190"/>
              <p:cNvSpPr/>
              <p:nvPr/>
            </p:nvSpPr>
            <p:spPr>
              <a:xfrm rot="19710600">
                <a:off x="3185280" y="3416400"/>
                <a:ext cx="119160" cy="15516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任意多边形 191"/>
              <p:cNvSpPr/>
              <p:nvPr/>
            </p:nvSpPr>
            <p:spPr>
              <a:xfrm rot="19710600">
                <a:off x="2779560" y="3667680"/>
                <a:ext cx="105480" cy="12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任意多边形 192"/>
              <p:cNvSpPr/>
              <p:nvPr/>
            </p:nvSpPr>
            <p:spPr>
              <a:xfrm rot="10490400">
                <a:off x="3390840" y="3679920"/>
                <a:ext cx="108720" cy="12708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任意多边形 193"/>
              <p:cNvSpPr/>
              <p:nvPr/>
            </p:nvSpPr>
            <p:spPr>
              <a:xfrm>
                <a:off x="3060720" y="3805920"/>
                <a:ext cx="112320" cy="10440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任意多边形 194"/>
              <p:cNvSpPr/>
              <p:nvPr/>
            </p:nvSpPr>
            <p:spPr>
              <a:xfrm>
                <a:off x="3185280" y="3806280"/>
                <a:ext cx="71640" cy="5292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新月形 195"/>
              <p:cNvSpPr/>
              <p:nvPr/>
            </p:nvSpPr>
            <p:spPr>
              <a:xfrm rot="15871800">
                <a:off x="3135240" y="4059360"/>
                <a:ext cx="129240" cy="21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新月形 196"/>
              <p:cNvSpPr/>
              <p:nvPr/>
            </p:nvSpPr>
            <p:spPr>
              <a:xfrm rot="15871800">
                <a:off x="3185280" y="4148640"/>
                <a:ext cx="35640" cy="108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椭圆 177"/>
            <p:cNvSpPr/>
            <p:nvPr/>
          </p:nvSpPr>
          <p:spPr>
            <a:xfrm>
              <a:off x="3210840" y="3897720"/>
              <a:ext cx="97560" cy="14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253320" y="3933000"/>
              <a:ext cx="61920" cy="70560"/>
              <a:chOff x="3253320" y="3933000"/>
              <a:chExt cx="61920" cy="70560"/>
            </a:xfrm>
          </p:grpSpPr>
          <p:sp>
            <p:nvSpPr>
              <p:cNvPr id="161" name="椭圆 183"/>
              <p:cNvSpPr/>
              <p:nvPr/>
            </p:nvSpPr>
            <p:spPr>
              <a:xfrm>
                <a:off x="3260160" y="3933000"/>
                <a:ext cx="55080" cy="70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椭圆 184"/>
              <p:cNvSpPr/>
              <p:nvPr/>
            </p:nvSpPr>
            <p:spPr>
              <a:xfrm>
                <a:off x="3253320" y="3938400"/>
                <a:ext cx="3492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椭圆 179"/>
            <p:cNvSpPr/>
            <p:nvPr/>
          </p:nvSpPr>
          <p:spPr>
            <a:xfrm>
              <a:off x="3112920" y="3897720"/>
              <a:ext cx="97560" cy="14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148200" y="3948120"/>
              <a:ext cx="61920" cy="70560"/>
              <a:chOff x="3148200" y="3948120"/>
              <a:chExt cx="61920" cy="70560"/>
            </a:xfrm>
          </p:grpSpPr>
          <p:sp>
            <p:nvSpPr>
              <p:cNvPr id="165" name="椭圆 181"/>
              <p:cNvSpPr/>
              <p:nvPr/>
            </p:nvSpPr>
            <p:spPr>
              <a:xfrm>
                <a:off x="3155040" y="3948120"/>
                <a:ext cx="55080" cy="70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椭圆 182"/>
              <p:cNvSpPr/>
              <p:nvPr/>
            </p:nvSpPr>
            <p:spPr>
              <a:xfrm>
                <a:off x="3148200" y="3953520"/>
                <a:ext cx="3492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017360" y="2873520"/>
            <a:ext cx="1489320" cy="1603800"/>
            <a:chOff x="1017360" y="2873520"/>
            <a:chExt cx="1489320" cy="1603800"/>
          </a:xfrm>
        </p:grpSpPr>
        <p:grpSp>
          <p:nvGrpSpPr>
            <p:cNvPr id="168" name=""/>
            <p:cNvGrpSpPr/>
            <p:nvPr/>
          </p:nvGrpSpPr>
          <p:grpSpPr>
            <a:xfrm>
              <a:off x="1017360" y="2873520"/>
              <a:ext cx="1489320" cy="1603800"/>
              <a:chOff x="1017360" y="2873520"/>
              <a:chExt cx="1489320" cy="1603800"/>
            </a:xfrm>
          </p:grpSpPr>
          <p:sp>
            <p:nvSpPr>
              <p:cNvPr id="169" name="任意多边形 141"/>
              <p:cNvSpPr/>
              <p:nvPr/>
            </p:nvSpPr>
            <p:spPr>
              <a:xfrm rot="14884200">
                <a:off x="1306080" y="2908440"/>
                <a:ext cx="911520" cy="1238400"/>
              </a:xfrm>
              <a:custGeom>
                <a:avLst/>
                <a:gdLst>
                  <a:gd name="textAreaLeft" fmla="*/ 0 w 911520"/>
                  <a:gd name="textAreaRight" fmla="*/ 911880 w 911520"/>
                  <a:gd name="textAreaTop" fmla="*/ 0 h 1238400"/>
                  <a:gd name="textAreaBottom" fmla="*/ 1238760 h 123840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任意多边形 142"/>
              <p:cNvSpPr/>
              <p:nvPr/>
            </p:nvSpPr>
            <p:spPr>
              <a:xfrm rot="14884200">
                <a:off x="1183680" y="3194280"/>
                <a:ext cx="838440" cy="841320"/>
              </a:xfrm>
              <a:custGeom>
                <a:avLst/>
                <a:gdLst>
                  <a:gd name="textAreaLeft" fmla="*/ 0 w 838440"/>
                  <a:gd name="textAreaRight" fmla="*/ 838800 w 83844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椭圆 143"/>
              <p:cNvSpPr/>
              <p:nvPr/>
            </p:nvSpPr>
            <p:spPr>
              <a:xfrm rot="20283600">
                <a:off x="1385640" y="3633120"/>
                <a:ext cx="790200" cy="33156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任意多边形 144"/>
              <p:cNvSpPr/>
              <p:nvPr/>
            </p:nvSpPr>
            <p:spPr>
              <a:xfrm rot="20883600">
                <a:off x="1561680" y="3594600"/>
                <a:ext cx="551520" cy="8344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834480"/>
                  <a:gd name="textAreaBottom" fmla="*/ 834840 h 83448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椭圆 145"/>
              <p:cNvSpPr/>
              <p:nvPr/>
            </p:nvSpPr>
            <p:spPr>
              <a:xfrm>
                <a:off x="1508400" y="3309480"/>
                <a:ext cx="225720" cy="22680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46"/>
              <p:cNvSpPr/>
              <p:nvPr/>
            </p:nvSpPr>
            <p:spPr>
              <a:xfrm rot="19710600">
                <a:off x="1884960" y="3158280"/>
                <a:ext cx="188280" cy="22680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任意多边形 147"/>
              <p:cNvSpPr/>
              <p:nvPr/>
            </p:nvSpPr>
            <p:spPr>
              <a:xfrm rot="19710600">
                <a:off x="1244880" y="3525480"/>
                <a:ext cx="166320" cy="18576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任意多边形 148"/>
              <p:cNvSpPr/>
              <p:nvPr/>
            </p:nvSpPr>
            <p:spPr>
              <a:xfrm rot="10490400">
                <a:off x="2208960" y="3543480"/>
                <a:ext cx="171360" cy="1857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任意多边形 149"/>
              <p:cNvSpPr/>
              <p:nvPr/>
            </p:nvSpPr>
            <p:spPr>
              <a:xfrm>
                <a:off x="1688760" y="3727080"/>
                <a:ext cx="177120" cy="1526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任意多边形 150"/>
              <p:cNvSpPr/>
              <p:nvPr/>
            </p:nvSpPr>
            <p:spPr>
              <a:xfrm>
                <a:off x="1884960" y="3727800"/>
                <a:ext cx="112680" cy="770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新月形 151"/>
              <p:cNvSpPr/>
              <p:nvPr/>
            </p:nvSpPr>
            <p:spPr>
              <a:xfrm rot="15871800">
                <a:off x="1813680" y="4085280"/>
                <a:ext cx="189000" cy="33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新月形 152"/>
              <p:cNvSpPr/>
              <p:nvPr/>
            </p:nvSpPr>
            <p:spPr>
              <a:xfrm rot="15871800">
                <a:off x="1887480" y="4222080"/>
                <a:ext cx="52200" cy="17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椭圆 133"/>
            <p:cNvSpPr/>
            <p:nvPr/>
          </p:nvSpPr>
          <p:spPr>
            <a:xfrm>
              <a:off x="1924920" y="3861360"/>
              <a:ext cx="1540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992240" y="3912840"/>
              <a:ext cx="97560" cy="102960"/>
              <a:chOff x="1992240" y="3912840"/>
              <a:chExt cx="97560" cy="102960"/>
            </a:xfrm>
          </p:grpSpPr>
          <p:sp>
            <p:nvSpPr>
              <p:cNvPr id="183" name="椭圆 139"/>
              <p:cNvSpPr/>
              <p:nvPr/>
            </p:nvSpPr>
            <p:spPr>
              <a:xfrm>
                <a:off x="2003400" y="3912840"/>
                <a:ext cx="8640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40"/>
              <p:cNvSpPr/>
              <p:nvPr/>
            </p:nvSpPr>
            <p:spPr>
              <a:xfrm>
                <a:off x="1992240" y="3921120"/>
                <a:ext cx="55080" cy="6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椭圆 135"/>
            <p:cNvSpPr/>
            <p:nvPr/>
          </p:nvSpPr>
          <p:spPr>
            <a:xfrm>
              <a:off x="1770840" y="3861360"/>
              <a:ext cx="1540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825920" y="3934800"/>
              <a:ext cx="97560" cy="102960"/>
              <a:chOff x="1825920" y="3934800"/>
              <a:chExt cx="97560" cy="102960"/>
            </a:xfrm>
          </p:grpSpPr>
          <p:sp>
            <p:nvSpPr>
              <p:cNvPr id="187" name="椭圆 137"/>
              <p:cNvSpPr/>
              <p:nvPr/>
            </p:nvSpPr>
            <p:spPr>
              <a:xfrm>
                <a:off x="1837080" y="3934800"/>
                <a:ext cx="8640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椭圆 138"/>
              <p:cNvSpPr/>
              <p:nvPr/>
            </p:nvSpPr>
            <p:spPr>
              <a:xfrm>
                <a:off x="1825920" y="3943080"/>
                <a:ext cx="55080" cy="6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5928840" y="3571560"/>
            <a:ext cx="1049760" cy="1721160"/>
            <a:chOff x="5928840" y="3571560"/>
            <a:chExt cx="1049760" cy="1721160"/>
          </a:xfrm>
        </p:grpSpPr>
        <p:grpSp>
          <p:nvGrpSpPr>
            <p:cNvPr id="190" name=""/>
            <p:cNvGrpSpPr/>
            <p:nvPr/>
          </p:nvGrpSpPr>
          <p:grpSpPr>
            <a:xfrm>
              <a:off x="6041520" y="4053960"/>
              <a:ext cx="937080" cy="1238760"/>
              <a:chOff x="6041520" y="4053960"/>
              <a:chExt cx="937080" cy="1238760"/>
            </a:xfrm>
          </p:grpSpPr>
          <p:sp>
            <p:nvSpPr>
              <p:cNvPr id="191" name="任意多边形 364"/>
              <p:cNvSpPr/>
              <p:nvPr/>
            </p:nvSpPr>
            <p:spPr>
              <a:xfrm flipH="1" rot="1268400">
                <a:off x="6067080" y="4487040"/>
                <a:ext cx="511200" cy="237960"/>
              </a:xfrm>
              <a:custGeom>
                <a:avLst/>
                <a:gdLst>
                  <a:gd name="textAreaLeft" fmla="*/ 360 w 511200"/>
                  <a:gd name="textAreaRight" fmla="*/ 511920 w 5112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任意多边形 365"/>
              <p:cNvSpPr/>
              <p:nvPr/>
            </p:nvSpPr>
            <p:spPr>
              <a:xfrm>
                <a:off x="6467760" y="4635360"/>
                <a:ext cx="510840" cy="2379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任意多边形 366"/>
              <p:cNvSpPr/>
              <p:nvPr/>
            </p:nvSpPr>
            <p:spPr>
              <a:xfrm>
                <a:off x="6397200" y="405396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928840" y="3571560"/>
              <a:ext cx="1003320" cy="1003320"/>
              <a:chOff x="5928840" y="3571560"/>
              <a:chExt cx="1003320" cy="10033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5928840" y="3571560"/>
                <a:ext cx="1003320" cy="1003320"/>
                <a:chOff x="5928840" y="3571560"/>
                <a:chExt cx="1003320" cy="100332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6284880" y="3571560"/>
                  <a:ext cx="290880" cy="1003320"/>
                  <a:chOff x="6284880" y="3571560"/>
                  <a:chExt cx="290880" cy="100332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6292800" y="3571560"/>
                    <a:ext cx="282960" cy="403560"/>
                    <a:chOff x="6292800" y="3571560"/>
                    <a:chExt cx="282960" cy="403560"/>
                  </a:xfrm>
                </p:grpSpPr>
                <p:sp>
                  <p:nvSpPr>
                    <p:cNvPr id="198" name="任意多边形 360"/>
                    <p:cNvSpPr/>
                    <p:nvPr/>
                  </p:nvSpPr>
                  <p:spPr>
                    <a:xfrm flipV="1">
                      <a:off x="6292800" y="35712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任意多边形 361"/>
                    <p:cNvSpPr/>
                    <p:nvPr/>
                  </p:nvSpPr>
                  <p:spPr>
                    <a:xfrm>
                      <a:off x="6365160" y="381420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任意多边形 362"/>
                    <p:cNvSpPr/>
                    <p:nvPr/>
                  </p:nvSpPr>
                  <p:spPr>
                    <a:xfrm>
                      <a:off x="6428160" y="379764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任意多边形 363"/>
                    <p:cNvSpPr/>
                    <p:nvPr/>
                  </p:nvSpPr>
                  <p:spPr>
                    <a:xfrm flipH="1">
                      <a:off x="6428160" y="38142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6284880" y="4171320"/>
                    <a:ext cx="282960" cy="403560"/>
                    <a:chOff x="6284880" y="4171320"/>
                    <a:chExt cx="282960" cy="403560"/>
                  </a:xfrm>
                </p:grpSpPr>
                <p:sp>
                  <p:nvSpPr>
                    <p:cNvPr id="203" name="任意多边形 356"/>
                    <p:cNvSpPr/>
                    <p:nvPr/>
                  </p:nvSpPr>
                  <p:spPr>
                    <a:xfrm>
                      <a:off x="6284880" y="41778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任意多边形 357"/>
                    <p:cNvSpPr/>
                    <p:nvPr/>
                  </p:nvSpPr>
                  <p:spPr>
                    <a:xfrm flipV="1">
                      <a:off x="6357240" y="41709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任意多边形 358"/>
                    <p:cNvSpPr/>
                    <p:nvPr/>
                  </p:nvSpPr>
                  <p:spPr>
                    <a:xfrm flipV="1">
                      <a:off x="6420240" y="41875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任意多边形 359"/>
                    <p:cNvSpPr/>
                    <p:nvPr/>
                  </p:nvSpPr>
                  <p:spPr>
                    <a:xfrm flipH="1" flipV="1">
                      <a:off x="6420240" y="41709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5928840" y="3927600"/>
                  <a:ext cx="1003320" cy="290880"/>
                  <a:chOff x="5928840" y="3927600"/>
                  <a:chExt cx="1003320" cy="29088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5928840" y="3927600"/>
                    <a:ext cx="403560" cy="282960"/>
                    <a:chOff x="5928840" y="3927600"/>
                    <a:chExt cx="403560" cy="282960"/>
                  </a:xfrm>
                </p:grpSpPr>
                <p:sp>
                  <p:nvSpPr>
                    <p:cNvPr id="209" name="任意多边形 350"/>
                    <p:cNvSpPr/>
                    <p:nvPr/>
                  </p:nvSpPr>
                  <p:spPr>
                    <a:xfrm flipV="1" rot="16200000">
                      <a:off x="5985720" y="387036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任意多边形 351"/>
                    <p:cNvSpPr/>
                    <p:nvPr/>
                  </p:nvSpPr>
                  <p:spPr>
                    <a:xfrm rot="16200000">
                      <a:off x="6220440" y="40262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任意多边形 352"/>
                    <p:cNvSpPr/>
                    <p:nvPr/>
                  </p:nvSpPr>
                  <p:spPr>
                    <a:xfrm rot="16200000">
                      <a:off x="6225480" y="398484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任意多边形 353"/>
                    <p:cNvSpPr/>
                    <p:nvPr/>
                  </p:nvSpPr>
                  <p:spPr>
                    <a:xfrm flipH="1" rot="16200000">
                      <a:off x="6220080" y="39632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6528600" y="3935520"/>
                    <a:ext cx="403560" cy="282960"/>
                    <a:chOff x="6528600" y="3935520"/>
                    <a:chExt cx="403560" cy="282960"/>
                  </a:xfrm>
                </p:grpSpPr>
                <p:sp>
                  <p:nvSpPr>
                    <p:cNvPr id="214" name="任意多边形 346"/>
                    <p:cNvSpPr/>
                    <p:nvPr/>
                  </p:nvSpPr>
                  <p:spPr>
                    <a:xfrm rot="16200000">
                      <a:off x="6591960" y="38782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任意多边形 347"/>
                    <p:cNvSpPr/>
                    <p:nvPr/>
                  </p:nvSpPr>
                  <p:spPr>
                    <a:xfrm flipV="1" rot="16200000">
                      <a:off x="6577560" y="40341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任意多边形 348"/>
                    <p:cNvSpPr/>
                    <p:nvPr/>
                  </p:nvSpPr>
                  <p:spPr>
                    <a:xfrm flipV="1" rot="16200000">
                      <a:off x="6615720" y="39924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任意多边形 349"/>
                    <p:cNvSpPr/>
                    <p:nvPr/>
                  </p:nvSpPr>
                  <p:spPr>
                    <a:xfrm flipH="1" flipV="1" rot="16200000">
                      <a:off x="6577200" y="39711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5972760" y="3615480"/>
                <a:ext cx="915120" cy="915120"/>
                <a:chOff x="5972760" y="3615480"/>
                <a:chExt cx="915120" cy="91512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5972760" y="3621240"/>
                  <a:ext cx="915120" cy="903960"/>
                  <a:chOff x="5972760" y="3621240"/>
                  <a:chExt cx="915120" cy="90396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6406920" y="3621240"/>
                    <a:ext cx="480960" cy="480960"/>
                    <a:chOff x="6406920" y="3621240"/>
                    <a:chExt cx="480960" cy="480960"/>
                  </a:xfrm>
                </p:grpSpPr>
                <p:sp>
                  <p:nvSpPr>
                    <p:cNvPr id="221" name="任意多边形 338"/>
                    <p:cNvSpPr/>
                    <p:nvPr/>
                  </p:nvSpPr>
                  <p:spPr>
                    <a:xfrm flipV="1" rot="2700000">
                      <a:off x="6505560" y="36630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任意多边形 339"/>
                    <p:cNvSpPr/>
                    <p:nvPr/>
                  </p:nvSpPr>
                  <p:spPr>
                    <a:xfrm rot="2700000">
                      <a:off x="6500880" y="38426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任意多边形 340"/>
                    <p:cNvSpPr/>
                    <p:nvPr/>
                  </p:nvSpPr>
                  <p:spPr>
                    <a:xfrm rot="2700000">
                      <a:off x="6563520" y="38599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任意多边形 341"/>
                    <p:cNvSpPr/>
                    <p:nvPr/>
                  </p:nvSpPr>
                  <p:spPr>
                    <a:xfrm flipH="1" rot="2700000">
                      <a:off x="6545160" y="38869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5972760" y="4044240"/>
                    <a:ext cx="480960" cy="480960"/>
                    <a:chOff x="5972760" y="4044240"/>
                    <a:chExt cx="480960" cy="480960"/>
                  </a:xfrm>
                </p:grpSpPr>
                <p:sp>
                  <p:nvSpPr>
                    <p:cNvPr id="226" name="任意多边形 334"/>
                    <p:cNvSpPr/>
                    <p:nvPr/>
                  </p:nvSpPr>
                  <p:spPr>
                    <a:xfrm rot="2700000">
                      <a:off x="6071400" y="40860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任意多边形 335"/>
                    <p:cNvSpPr/>
                    <p:nvPr/>
                  </p:nvSpPr>
                  <p:spPr>
                    <a:xfrm flipV="1" rot="2700000">
                      <a:off x="6242760" y="40892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任意多边形 336"/>
                    <p:cNvSpPr/>
                    <p:nvPr/>
                  </p:nvSpPr>
                  <p:spPr>
                    <a:xfrm flipV="1" rot="2700000">
                      <a:off x="6281640" y="41302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任意多边形 337"/>
                    <p:cNvSpPr/>
                    <p:nvPr/>
                  </p:nvSpPr>
                  <p:spPr>
                    <a:xfrm flipH="1" flipV="1" rot="2700000">
                      <a:off x="6287040" y="41335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5978520" y="3615480"/>
                  <a:ext cx="903960" cy="915120"/>
                  <a:chOff x="5978520" y="3615480"/>
                  <a:chExt cx="903960" cy="915120"/>
                </a:xfrm>
              </p:grpSpPr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5978520" y="3615480"/>
                    <a:ext cx="480960" cy="480960"/>
                    <a:chOff x="5978520" y="3615480"/>
                    <a:chExt cx="480960" cy="480960"/>
                  </a:xfrm>
                </p:grpSpPr>
                <p:sp>
                  <p:nvSpPr>
                    <p:cNvPr id="232" name="任意多边形 328"/>
                    <p:cNvSpPr/>
                    <p:nvPr/>
                  </p:nvSpPr>
                  <p:spPr>
                    <a:xfrm flipV="1" rot="18900000">
                      <a:off x="6077160" y="365724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任意多边形 329"/>
                    <p:cNvSpPr/>
                    <p:nvPr/>
                  </p:nvSpPr>
                  <p:spPr>
                    <a:xfrm rot="18900000">
                      <a:off x="6248880" y="38905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任意多边形 330"/>
                    <p:cNvSpPr/>
                    <p:nvPr/>
                  </p:nvSpPr>
                  <p:spPr>
                    <a:xfrm rot="18900000">
                      <a:off x="6287760" y="38491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任意多边形 331"/>
                    <p:cNvSpPr/>
                    <p:nvPr/>
                  </p:nvSpPr>
                  <p:spPr>
                    <a:xfrm flipH="1" rot="18900000">
                      <a:off x="6292800" y="384588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6401520" y="4049640"/>
                    <a:ext cx="480960" cy="480960"/>
                    <a:chOff x="6401520" y="4049640"/>
                    <a:chExt cx="480960" cy="480960"/>
                  </a:xfrm>
                </p:grpSpPr>
                <p:sp>
                  <p:nvSpPr>
                    <p:cNvPr id="237" name="任意多边形 324"/>
                    <p:cNvSpPr/>
                    <p:nvPr/>
                  </p:nvSpPr>
                  <p:spPr>
                    <a:xfrm rot="18900000">
                      <a:off x="6500160" y="40914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任意多边形 325"/>
                    <p:cNvSpPr/>
                    <p:nvPr/>
                  </p:nvSpPr>
                  <p:spPr>
                    <a:xfrm flipV="1" rot="18900000">
                      <a:off x="6495840" y="414828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任意多边形 326"/>
                    <p:cNvSpPr/>
                    <p:nvPr/>
                  </p:nvSpPr>
                  <p:spPr>
                    <a:xfrm flipV="1" rot="18900000">
                      <a:off x="6558120" y="41302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任意多边形 327"/>
                    <p:cNvSpPr/>
                    <p:nvPr/>
                  </p:nvSpPr>
                  <p:spPr>
                    <a:xfrm flipH="1" flipV="1" rot="18900000">
                      <a:off x="6539760" y="41036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1" name=""/>
            <p:cNvGrpSpPr/>
            <p:nvPr/>
          </p:nvGrpSpPr>
          <p:grpSpPr>
            <a:xfrm>
              <a:off x="6221160" y="3862080"/>
              <a:ext cx="415440" cy="400680"/>
              <a:chOff x="6221160" y="3862080"/>
              <a:chExt cx="415440" cy="400680"/>
            </a:xfrm>
          </p:grpSpPr>
          <p:sp>
            <p:nvSpPr>
              <p:cNvPr id="242" name="椭圆 315"/>
              <p:cNvSpPr/>
              <p:nvPr/>
            </p:nvSpPr>
            <p:spPr>
              <a:xfrm rot="226800">
                <a:off x="6229800" y="3930480"/>
                <a:ext cx="366840" cy="28368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椭圆 316"/>
              <p:cNvSpPr/>
              <p:nvPr/>
            </p:nvSpPr>
            <p:spPr>
              <a:xfrm rot="226800">
                <a:off x="6346440" y="404136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 317"/>
              <p:cNvSpPr/>
              <p:nvPr/>
            </p:nvSpPr>
            <p:spPr>
              <a:xfrm rot="226800">
                <a:off x="6235560" y="387468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6000480" y="3428640"/>
            <a:ext cx="1049760" cy="1721160"/>
            <a:chOff x="6000480" y="3428640"/>
            <a:chExt cx="1049760" cy="1721160"/>
          </a:xfrm>
        </p:grpSpPr>
        <p:grpSp>
          <p:nvGrpSpPr>
            <p:cNvPr id="246" name=""/>
            <p:cNvGrpSpPr/>
            <p:nvPr/>
          </p:nvGrpSpPr>
          <p:grpSpPr>
            <a:xfrm>
              <a:off x="6113160" y="3911040"/>
              <a:ext cx="937080" cy="1238760"/>
              <a:chOff x="6113160" y="3911040"/>
              <a:chExt cx="937080" cy="1238760"/>
            </a:xfrm>
          </p:grpSpPr>
          <p:sp>
            <p:nvSpPr>
              <p:cNvPr id="247" name="任意多边形 420"/>
              <p:cNvSpPr/>
              <p:nvPr/>
            </p:nvSpPr>
            <p:spPr>
              <a:xfrm flipH="1" rot="1268400">
                <a:off x="6138720" y="4344120"/>
                <a:ext cx="511200" cy="237960"/>
              </a:xfrm>
              <a:custGeom>
                <a:avLst/>
                <a:gdLst>
                  <a:gd name="textAreaLeft" fmla="*/ 360 w 511200"/>
                  <a:gd name="textAreaRight" fmla="*/ 511920 w 5112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任意多边形 421"/>
              <p:cNvSpPr/>
              <p:nvPr/>
            </p:nvSpPr>
            <p:spPr>
              <a:xfrm>
                <a:off x="6539400" y="4492440"/>
                <a:ext cx="510840" cy="2379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任意多边形 422"/>
              <p:cNvSpPr/>
              <p:nvPr/>
            </p:nvSpPr>
            <p:spPr>
              <a:xfrm>
                <a:off x="6468840" y="391104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00480" y="3428640"/>
              <a:ext cx="1003320" cy="1003320"/>
              <a:chOff x="6000480" y="3428640"/>
              <a:chExt cx="1003320" cy="10033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000480" y="3428640"/>
                <a:ext cx="1003320" cy="1003320"/>
                <a:chOff x="6000480" y="3428640"/>
                <a:chExt cx="1003320" cy="100332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6356520" y="3428640"/>
                  <a:ext cx="290880" cy="1003320"/>
                  <a:chOff x="6356520" y="3428640"/>
                  <a:chExt cx="290880" cy="100332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6364440" y="3428640"/>
                    <a:ext cx="282960" cy="403560"/>
                    <a:chOff x="6364440" y="3428640"/>
                    <a:chExt cx="282960" cy="403560"/>
                  </a:xfrm>
                </p:grpSpPr>
                <p:sp>
                  <p:nvSpPr>
                    <p:cNvPr id="254" name="任意多边形 416"/>
                    <p:cNvSpPr/>
                    <p:nvPr/>
                  </p:nvSpPr>
                  <p:spPr>
                    <a:xfrm flipV="1">
                      <a:off x="6364440" y="34282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任意多边形 417"/>
                    <p:cNvSpPr/>
                    <p:nvPr/>
                  </p:nvSpPr>
                  <p:spPr>
                    <a:xfrm>
                      <a:off x="6436800" y="367128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任意多边形 418"/>
                    <p:cNvSpPr/>
                    <p:nvPr/>
                  </p:nvSpPr>
                  <p:spPr>
                    <a:xfrm>
                      <a:off x="6499800" y="36547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任意多边形 419"/>
                    <p:cNvSpPr/>
                    <p:nvPr/>
                  </p:nvSpPr>
                  <p:spPr>
                    <a:xfrm flipH="1">
                      <a:off x="6499800" y="367128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6356520" y="4028400"/>
                    <a:ext cx="282960" cy="403560"/>
                    <a:chOff x="6356520" y="4028400"/>
                    <a:chExt cx="282960" cy="403560"/>
                  </a:xfrm>
                </p:grpSpPr>
                <p:sp>
                  <p:nvSpPr>
                    <p:cNvPr id="259" name="任意多边形 412"/>
                    <p:cNvSpPr/>
                    <p:nvPr/>
                  </p:nvSpPr>
                  <p:spPr>
                    <a:xfrm>
                      <a:off x="6356520" y="40348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任意多边形 413"/>
                    <p:cNvSpPr/>
                    <p:nvPr/>
                  </p:nvSpPr>
                  <p:spPr>
                    <a:xfrm flipV="1">
                      <a:off x="6428880" y="40280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任意多边形 414"/>
                    <p:cNvSpPr/>
                    <p:nvPr/>
                  </p:nvSpPr>
                  <p:spPr>
                    <a:xfrm flipV="1">
                      <a:off x="6491880" y="40446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任意多边形 415"/>
                    <p:cNvSpPr/>
                    <p:nvPr/>
                  </p:nvSpPr>
                  <p:spPr>
                    <a:xfrm flipH="1" flipV="1">
                      <a:off x="6491880" y="40280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000480" y="3784680"/>
                  <a:ext cx="1003320" cy="290880"/>
                  <a:chOff x="6000480" y="3784680"/>
                  <a:chExt cx="1003320" cy="29088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000480" y="3784680"/>
                    <a:ext cx="403560" cy="282960"/>
                    <a:chOff x="6000480" y="3784680"/>
                    <a:chExt cx="403560" cy="282960"/>
                  </a:xfrm>
                </p:grpSpPr>
                <p:sp>
                  <p:nvSpPr>
                    <p:cNvPr id="265" name="任意多边形 406"/>
                    <p:cNvSpPr/>
                    <p:nvPr/>
                  </p:nvSpPr>
                  <p:spPr>
                    <a:xfrm flipV="1" rot="16200000">
                      <a:off x="6057360" y="372744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任意多边形 407"/>
                    <p:cNvSpPr/>
                    <p:nvPr/>
                  </p:nvSpPr>
                  <p:spPr>
                    <a:xfrm rot="16200000">
                      <a:off x="6292080" y="38833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任意多边形 408"/>
                    <p:cNvSpPr/>
                    <p:nvPr/>
                  </p:nvSpPr>
                  <p:spPr>
                    <a:xfrm rot="16200000">
                      <a:off x="6297120" y="38419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任意多边形 409"/>
                    <p:cNvSpPr/>
                    <p:nvPr/>
                  </p:nvSpPr>
                  <p:spPr>
                    <a:xfrm flipH="1" rot="16200000">
                      <a:off x="6291720" y="38203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6600240" y="3792600"/>
                    <a:ext cx="403560" cy="282960"/>
                    <a:chOff x="6600240" y="3792600"/>
                    <a:chExt cx="403560" cy="282960"/>
                  </a:xfrm>
                </p:grpSpPr>
                <p:sp>
                  <p:nvSpPr>
                    <p:cNvPr id="270" name="任意多边形 402"/>
                    <p:cNvSpPr/>
                    <p:nvPr/>
                  </p:nvSpPr>
                  <p:spPr>
                    <a:xfrm rot="16200000">
                      <a:off x="6663600" y="373536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任意多边形 403"/>
                    <p:cNvSpPr/>
                    <p:nvPr/>
                  </p:nvSpPr>
                  <p:spPr>
                    <a:xfrm flipV="1" rot="16200000">
                      <a:off x="6649200" y="38912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任意多边形 404"/>
                    <p:cNvSpPr/>
                    <p:nvPr/>
                  </p:nvSpPr>
                  <p:spPr>
                    <a:xfrm flipV="1" rot="16200000">
                      <a:off x="6687360" y="38494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任意多边形 405"/>
                    <p:cNvSpPr/>
                    <p:nvPr/>
                  </p:nvSpPr>
                  <p:spPr>
                    <a:xfrm flipH="1" flipV="1" rot="16200000">
                      <a:off x="6648840" y="38282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6044400" y="3472560"/>
                <a:ext cx="915120" cy="915120"/>
                <a:chOff x="6044400" y="3472560"/>
                <a:chExt cx="915120" cy="9151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6044400" y="3478320"/>
                  <a:ext cx="915120" cy="903960"/>
                  <a:chOff x="6044400" y="3478320"/>
                  <a:chExt cx="915120" cy="90396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6478560" y="3478320"/>
                    <a:ext cx="480960" cy="480960"/>
                    <a:chOff x="6478560" y="3478320"/>
                    <a:chExt cx="480960" cy="480960"/>
                  </a:xfrm>
                </p:grpSpPr>
                <p:sp>
                  <p:nvSpPr>
                    <p:cNvPr id="277" name="任意多边形 394"/>
                    <p:cNvSpPr/>
                    <p:nvPr/>
                  </p:nvSpPr>
                  <p:spPr>
                    <a:xfrm flipV="1" rot="2700000">
                      <a:off x="6577200" y="35200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任意多边形 395"/>
                    <p:cNvSpPr/>
                    <p:nvPr/>
                  </p:nvSpPr>
                  <p:spPr>
                    <a:xfrm rot="2700000">
                      <a:off x="6572520" y="36997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任意多边形 396"/>
                    <p:cNvSpPr/>
                    <p:nvPr/>
                  </p:nvSpPr>
                  <p:spPr>
                    <a:xfrm rot="2700000">
                      <a:off x="6635160" y="37170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任意多边形 397"/>
                    <p:cNvSpPr/>
                    <p:nvPr/>
                  </p:nvSpPr>
                  <p:spPr>
                    <a:xfrm flipH="1" rot="2700000">
                      <a:off x="6616800" y="37440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6044400" y="3901320"/>
                    <a:ext cx="480960" cy="480960"/>
                    <a:chOff x="6044400" y="3901320"/>
                    <a:chExt cx="480960" cy="480960"/>
                  </a:xfrm>
                </p:grpSpPr>
                <p:sp>
                  <p:nvSpPr>
                    <p:cNvPr id="282" name="任意多边形 390"/>
                    <p:cNvSpPr/>
                    <p:nvPr/>
                  </p:nvSpPr>
                  <p:spPr>
                    <a:xfrm rot="2700000">
                      <a:off x="6143040" y="39430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任意多边形 391"/>
                    <p:cNvSpPr/>
                    <p:nvPr/>
                  </p:nvSpPr>
                  <p:spPr>
                    <a:xfrm flipV="1" rot="2700000">
                      <a:off x="6314400" y="39463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任意多边形 392"/>
                    <p:cNvSpPr/>
                    <p:nvPr/>
                  </p:nvSpPr>
                  <p:spPr>
                    <a:xfrm flipV="1" rot="2700000">
                      <a:off x="6353280" y="398736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任意多边形 393"/>
                    <p:cNvSpPr/>
                    <p:nvPr/>
                  </p:nvSpPr>
                  <p:spPr>
                    <a:xfrm flipH="1" flipV="1" rot="2700000">
                      <a:off x="6358680" y="39906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6050160" y="3472560"/>
                  <a:ext cx="903960" cy="915120"/>
                  <a:chOff x="6050160" y="3472560"/>
                  <a:chExt cx="903960" cy="91512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6050160" y="3472560"/>
                    <a:ext cx="480960" cy="480960"/>
                    <a:chOff x="6050160" y="3472560"/>
                    <a:chExt cx="480960" cy="480960"/>
                  </a:xfrm>
                </p:grpSpPr>
                <p:sp>
                  <p:nvSpPr>
                    <p:cNvPr id="288" name="任意多边形 384"/>
                    <p:cNvSpPr/>
                    <p:nvPr/>
                  </p:nvSpPr>
                  <p:spPr>
                    <a:xfrm flipV="1" rot="18900000">
                      <a:off x="6148800" y="351432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任意多边形 385"/>
                    <p:cNvSpPr/>
                    <p:nvPr/>
                  </p:nvSpPr>
                  <p:spPr>
                    <a:xfrm rot="18900000">
                      <a:off x="6320520" y="374760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任意多边形 386"/>
                    <p:cNvSpPr/>
                    <p:nvPr/>
                  </p:nvSpPr>
                  <p:spPr>
                    <a:xfrm rot="18900000">
                      <a:off x="6359400" y="37062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任意多边形 387"/>
                    <p:cNvSpPr/>
                    <p:nvPr/>
                  </p:nvSpPr>
                  <p:spPr>
                    <a:xfrm flipH="1" rot="18900000">
                      <a:off x="6364440" y="37029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6473160" y="3906720"/>
                    <a:ext cx="480960" cy="480960"/>
                    <a:chOff x="6473160" y="3906720"/>
                    <a:chExt cx="480960" cy="480960"/>
                  </a:xfrm>
                </p:grpSpPr>
                <p:sp>
                  <p:nvSpPr>
                    <p:cNvPr id="293" name="任意多边形 380"/>
                    <p:cNvSpPr/>
                    <p:nvPr/>
                  </p:nvSpPr>
                  <p:spPr>
                    <a:xfrm rot="18900000">
                      <a:off x="6571800" y="39484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任意多边形 381"/>
                    <p:cNvSpPr/>
                    <p:nvPr/>
                  </p:nvSpPr>
                  <p:spPr>
                    <a:xfrm flipV="1" rot="18900000">
                      <a:off x="6567480" y="40053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任意多边形 382"/>
                    <p:cNvSpPr/>
                    <p:nvPr/>
                  </p:nvSpPr>
                  <p:spPr>
                    <a:xfrm flipV="1" rot="18900000">
                      <a:off x="6629760" y="398736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任意多边形 383"/>
                    <p:cNvSpPr/>
                    <p:nvPr/>
                  </p:nvSpPr>
                  <p:spPr>
                    <a:xfrm flipH="1" flipV="1" rot="18900000">
                      <a:off x="6611400" y="39607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7" name=""/>
            <p:cNvGrpSpPr/>
            <p:nvPr/>
          </p:nvGrpSpPr>
          <p:grpSpPr>
            <a:xfrm>
              <a:off x="6292800" y="3719160"/>
              <a:ext cx="415440" cy="400680"/>
              <a:chOff x="6292800" y="3719160"/>
              <a:chExt cx="415440" cy="400680"/>
            </a:xfrm>
          </p:grpSpPr>
          <p:sp>
            <p:nvSpPr>
              <p:cNvPr id="298" name="椭圆 371"/>
              <p:cNvSpPr/>
              <p:nvPr/>
            </p:nvSpPr>
            <p:spPr>
              <a:xfrm rot="226800">
                <a:off x="6301440" y="378756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椭圆 372"/>
              <p:cNvSpPr/>
              <p:nvPr/>
            </p:nvSpPr>
            <p:spPr>
              <a:xfrm rot="226800">
                <a:off x="6418080" y="389844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椭圆 373"/>
              <p:cNvSpPr/>
              <p:nvPr/>
            </p:nvSpPr>
            <p:spPr>
              <a:xfrm rot="226800">
                <a:off x="6307200" y="373176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6714720" y="3357360"/>
            <a:ext cx="1049760" cy="1721160"/>
            <a:chOff x="6714720" y="3357360"/>
            <a:chExt cx="1049760" cy="1721160"/>
          </a:xfrm>
        </p:grpSpPr>
        <p:grpSp>
          <p:nvGrpSpPr>
            <p:cNvPr id="302" name=""/>
            <p:cNvGrpSpPr/>
            <p:nvPr/>
          </p:nvGrpSpPr>
          <p:grpSpPr>
            <a:xfrm>
              <a:off x="6827400" y="3839760"/>
              <a:ext cx="937080" cy="1238760"/>
              <a:chOff x="6827400" y="3839760"/>
              <a:chExt cx="937080" cy="1238760"/>
            </a:xfrm>
          </p:grpSpPr>
          <p:sp>
            <p:nvSpPr>
              <p:cNvPr id="303" name="任意多边形 476"/>
              <p:cNvSpPr/>
              <p:nvPr/>
            </p:nvSpPr>
            <p:spPr>
              <a:xfrm flipH="1" rot="1268400">
                <a:off x="6852960" y="4272840"/>
                <a:ext cx="511200" cy="237960"/>
              </a:xfrm>
              <a:custGeom>
                <a:avLst/>
                <a:gdLst>
                  <a:gd name="textAreaLeft" fmla="*/ 360 w 511200"/>
                  <a:gd name="textAreaRight" fmla="*/ 511920 w 5112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任意多边形 477"/>
              <p:cNvSpPr/>
              <p:nvPr/>
            </p:nvSpPr>
            <p:spPr>
              <a:xfrm>
                <a:off x="7253640" y="4421160"/>
                <a:ext cx="510840" cy="2379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任意多边形 478"/>
              <p:cNvSpPr/>
              <p:nvPr/>
            </p:nvSpPr>
            <p:spPr>
              <a:xfrm>
                <a:off x="7183080" y="383976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14720" y="3357360"/>
              <a:ext cx="1003320" cy="1003320"/>
              <a:chOff x="6714720" y="3357360"/>
              <a:chExt cx="1003320" cy="1003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6714720" y="3357360"/>
                <a:ext cx="1003320" cy="1003320"/>
                <a:chOff x="6714720" y="3357360"/>
                <a:chExt cx="1003320" cy="10033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7070760" y="3357360"/>
                  <a:ext cx="290880" cy="1003320"/>
                  <a:chOff x="7070760" y="3357360"/>
                  <a:chExt cx="290880" cy="10033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7078680" y="3357360"/>
                    <a:ext cx="282960" cy="403560"/>
                    <a:chOff x="7078680" y="3357360"/>
                    <a:chExt cx="282960" cy="403560"/>
                  </a:xfrm>
                </p:grpSpPr>
                <p:sp>
                  <p:nvSpPr>
                    <p:cNvPr id="310" name="任意多边形 472"/>
                    <p:cNvSpPr/>
                    <p:nvPr/>
                  </p:nvSpPr>
                  <p:spPr>
                    <a:xfrm flipV="1">
                      <a:off x="7078680" y="33570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任意多边形 473"/>
                    <p:cNvSpPr/>
                    <p:nvPr/>
                  </p:nvSpPr>
                  <p:spPr>
                    <a:xfrm>
                      <a:off x="7151040" y="360000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任意多边形 474"/>
                    <p:cNvSpPr/>
                    <p:nvPr/>
                  </p:nvSpPr>
                  <p:spPr>
                    <a:xfrm>
                      <a:off x="7214040" y="358344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任意多边形 475"/>
                    <p:cNvSpPr/>
                    <p:nvPr/>
                  </p:nvSpPr>
                  <p:spPr>
                    <a:xfrm flipH="1">
                      <a:off x="7214040" y="36000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070760" y="3957120"/>
                    <a:ext cx="282960" cy="403560"/>
                    <a:chOff x="7070760" y="3957120"/>
                    <a:chExt cx="282960" cy="403560"/>
                  </a:xfrm>
                </p:grpSpPr>
                <p:sp>
                  <p:nvSpPr>
                    <p:cNvPr id="315" name="任意多边形 468"/>
                    <p:cNvSpPr/>
                    <p:nvPr/>
                  </p:nvSpPr>
                  <p:spPr>
                    <a:xfrm>
                      <a:off x="7070760" y="39636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任意多边形 469"/>
                    <p:cNvSpPr/>
                    <p:nvPr/>
                  </p:nvSpPr>
                  <p:spPr>
                    <a:xfrm flipV="1">
                      <a:off x="7143120" y="39567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任意多边形 470"/>
                    <p:cNvSpPr/>
                    <p:nvPr/>
                  </p:nvSpPr>
                  <p:spPr>
                    <a:xfrm flipV="1">
                      <a:off x="7206120" y="39733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任意多边形 471"/>
                    <p:cNvSpPr/>
                    <p:nvPr/>
                  </p:nvSpPr>
                  <p:spPr>
                    <a:xfrm flipH="1" flipV="1">
                      <a:off x="7206120" y="39567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6714720" y="3713400"/>
                  <a:ext cx="1003320" cy="290880"/>
                  <a:chOff x="6714720" y="3713400"/>
                  <a:chExt cx="1003320" cy="290880"/>
                </a:xfrm>
              </p:grpSpPr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6714720" y="3713400"/>
                    <a:ext cx="403560" cy="282960"/>
                    <a:chOff x="6714720" y="3713400"/>
                    <a:chExt cx="403560" cy="282960"/>
                  </a:xfrm>
                </p:grpSpPr>
                <p:sp>
                  <p:nvSpPr>
                    <p:cNvPr id="321" name="任意多边形 462"/>
                    <p:cNvSpPr/>
                    <p:nvPr/>
                  </p:nvSpPr>
                  <p:spPr>
                    <a:xfrm flipV="1" rot="16200000">
                      <a:off x="6771600" y="365616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任意多边形 463"/>
                    <p:cNvSpPr/>
                    <p:nvPr/>
                  </p:nvSpPr>
                  <p:spPr>
                    <a:xfrm rot="16200000">
                      <a:off x="7006320" y="38120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任意多边形 464"/>
                    <p:cNvSpPr/>
                    <p:nvPr/>
                  </p:nvSpPr>
                  <p:spPr>
                    <a:xfrm rot="16200000">
                      <a:off x="7011360" y="377064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任意多边形 465"/>
                    <p:cNvSpPr/>
                    <p:nvPr/>
                  </p:nvSpPr>
                  <p:spPr>
                    <a:xfrm flipH="1" rot="16200000">
                      <a:off x="7005960" y="37490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7314480" y="3721320"/>
                    <a:ext cx="403560" cy="282960"/>
                    <a:chOff x="7314480" y="3721320"/>
                    <a:chExt cx="403560" cy="282960"/>
                  </a:xfrm>
                </p:grpSpPr>
                <p:sp>
                  <p:nvSpPr>
                    <p:cNvPr id="326" name="任意多边形 458"/>
                    <p:cNvSpPr/>
                    <p:nvPr/>
                  </p:nvSpPr>
                  <p:spPr>
                    <a:xfrm rot="16200000">
                      <a:off x="7377840" y="36640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任意多边形 459"/>
                    <p:cNvSpPr/>
                    <p:nvPr/>
                  </p:nvSpPr>
                  <p:spPr>
                    <a:xfrm flipV="1" rot="16200000">
                      <a:off x="7363440" y="38199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任意多边形 460"/>
                    <p:cNvSpPr/>
                    <p:nvPr/>
                  </p:nvSpPr>
                  <p:spPr>
                    <a:xfrm flipV="1" rot="16200000">
                      <a:off x="7401600" y="37782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任意多边形 461"/>
                    <p:cNvSpPr/>
                    <p:nvPr/>
                  </p:nvSpPr>
                  <p:spPr>
                    <a:xfrm flipH="1" flipV="1" rot="16200000">
                      <a:off x="7363080" y="37569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30" name=""/>
              <p:cNvGrpSpPr/>
              <p:nvPr/>
            </p:nvGrpSpPr>
            <p:grpSpPr>
              <a:xfrm>
                <a:off x="6758640" y="3401280"/>
                <a:ext cx="915120" cy="915120"/>
                <a:chOff x="6758640" y="3401280"/>
                <a:chExt cx="915120" cy="9151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6758640" y="3407040"/>
                  <a:ext cx="915120" cy="903960"/>
                  <a:chOff x="6758640" y="3407040"/>
                  <a:chExt cx="915120" cy="903960"/>
                </a:xfrm>
              </p:grpSpPr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7192800" y="3407040"/>
                    <a:ext cx="480960" cy="480960"/>
                    <a:chOff x="7192800" y="3407040"/>
                    <a:chExt cx="480960" cy="480960"/>
                  </a:xfrm>
                </p:grpSpPr>
                <p:sp>
                  <p:nvSpPr>
                    <p:cNvPr id="333" name="任意多边形 450"/>
                    <p:cNvSpPr/>
                    <p:nvPr/>
                  </p:nvSpPr>
                  <p:spPr>
                    <a:xfrm flipV="1" rot="2700000">
                      <a:off x="7291440" y="34488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任意多边形 451"/>
                    <p:cNvSpPr/>
                    <p:nvPr/>
                  </p:nvSpPr>
                  <p:spPr>
                    <a:xfrm rot="2700000">
                      <a:off x="7286760" y="36284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任意多边形 452"/>
                    <p:cNvSpPr/>
                    <p:nvPr/>
                  </p:nvSpPr>
                  <p:spPr>
                    <a:xfrm rot="2700000">
                      <a:off x="7349400" y="36457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任意多边形 453"/>
                    <p:cNvSpPr/>
                    <p:nvPr/>
                  </p:nvSpPr>
                  <p:spPr>
                    <a:xfrm flipH="1" rot="2700000">
                      <a:off x="7331040" y="36727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758640" y="3830040"/>
                    <a:ext cx="480960" cy="480960"/>
                    <a:chOff x="6758640" y="3830040"/>
                    <a:chExt cx="480960" cy="480960"/>
                  </a:xfrm>
                </p:grpSpPr>
                <p:sp>
                  <p:nvSpPr>
                    <p:cNvPr id="338" name="任意多边形 446"/>
                    <p:cNvSpPr/>
                    <p:nvPr/>
                  </p:nvSpPr>
                  <p:spPr>
                    <a:xfrm rot="2700000">
                      <a:off x="6857280" y="38718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任意多边形 447"/>
                    <p:cNvSpPr/>
                    <p:nvPr/>
                  </p:nvSpPr>
                  <p:spPr>
                    <a:xfrm flipV="1" rot="2700000">
                      <a:off x="7028640" y="38750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任意多边形 448"/>
                    <p:cNvSpPr/>
                    <p:nvPr/>
                  </p:nvSpPr>
                  <p:spPr>
                    <a:xfrm flipV="1" rot="2700000">
                      <a:off x="7067520" y="39160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任意多边形 449"/>
                    <p:cNvSpPr/>
                    <p:nvPr/>
                  </p:nvSpPr>
                  <p:spPr>
                    <a:xfrm flipH="1" flipV="1" rot="2700000">
                      <a:off x="7072920" y="39193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764400" y="3401280"/>
                  <a:ext cx="903960" cy="915120"/>
                  <a:chOff x="6764400" y="3401280"/>
                  <a:chExt cx="903960" cy="915120"/>
                </a:xfrm>
              </p:grpSpPr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6764400" y="3401280"/>
                    <a:ext cx="480960" cy="480960"/>
                    <a:chOff x="6764400" y="3401280"/>
                    <a:chExt cx="480960" cy="480960"/>
                  </a:xfrm>
                </p:grpSpPr>
                <p:sp>
                  <p:nvSpPr>
                    <p:cNvPr id="344" name="任意多边形 440"/>
                    <p:cNvSpPr/>
                    <p:nvPr/>
                  </p:nvSpPr>
                  <p:spPr>
                    <a:xfrm flipV="1" rot="18900000">
                      <a:off x="6863040" y="344304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任意多边形 441"/>
                    <p:cNvSpPr/>
                    <p:nvPr/>
                  </p:nvSpPr>
                  <p:spPr>
                    <a:xfrm rot="18900000">
                      <a:off x="7034760" y="36763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任意多边形 442"/>
                    <p:cNvSpPr/>
                    <p:nvPr/>
                  </p:nvSpPr>
                  <p:spPr>
                    <a:xfrm rot="18900000">
                      <a:off x="7073640" y="36349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任意多边形 443"/>
                    <p:cNvSpPr/>
                    <p:nvPr/>
                  </p:nvSpPr>
                  <p:spPr>
                    <a:xfrm flipH="1" rot="18900000">
                      <a:off x="7078680" y="363168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7187400" y="3835440"/>
                    <a:ext cx="480960" cy="480960"/>
                    <a:chOff x="7187400" y="3835440"/>
                    <a:chExt cx="480960" cy="480960"/>
                  </a:xfrm>
                </p:grpSpPr>
                <p:sp>
                  <p:nvSpPr>
                    <p:cNvPr id="349" name="任意多边形 436"/>
                    <p:cNvSpPr/>
                    <p:nvPr/>
                  </p:nvSpPr>
                  <p:spPr>
                    <a:xfrm rot="18900000">
                      <a:off x="7286040" y="38772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任意多边形 437"/>
                    <p:cNvSpPr/>
                    <p:nvPr/>
                  </p:nvSpPr>
                  <p:spPr>
                    <a:xfrm flipV="1" rot="18900000">
                      <a:off x="7281720" y="393408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任意多边形 438"/>
                    <p:cNvSpPr/>
                    <p:nvPr/>
                  </p:nvSpPr>
                  <p:spPr>
                    <a:xfrm flipV="1" rot="18900000">
                      <a:off x="7344000" y="39160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任意多边形 439"/>
                    <p:cNvSpPr/>
                    <p:nvPr/>
                  </p:nvSpPr>
                  <p:spPr>
                    <a:xfrm flipH="1" flipV="1" rot="18900000">
                      <a:off x="7325640" y="38894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3" name=""/>
            <p:cNvGrpSpPr/>
            <p:nvPr/>
          </p:nvGrpSpPr>
          <p:grpSpPr>
            <a:xfrm>
              <a:off x="7007040" y="3647880"/>
              <a:ext cx="415440" cy="400680"/>
              <a:chOff x="7007040" y="3647880"/>
              <a:chExt cx="415440" cy="400680"/>
            </a:xfrm>
          </p:grpSpPr>
          <p:sp>
            <p:nvSpPr>
              <p:cNvPr id="354" name="椭圆 427"/>
              <p:cNvSpPr/>
              <p:nvPr/>
            </p:nvSpPr>
            <p:spPr>
              <a:xfrm rot="226800">
                <a:off x="7015680" y="371628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椭圆 428"/>
              <p:cNvSpPr/>
              <p:nvPr/>
            </p:nvSpPr>
            <p:spPr>
              <a:xfrm rot="226800">
                <a:off x="7132320" y="382716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椭圆 429"/>
              <p:cNvSpPr/>
              <p:nvPr/>
            </p:nvSpPr>
            <p:spPr>
              <a:xfrm rot="226800">
                <a:off x="7021440" y="366048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5571720" y="3000240"/>
            <a:ext cx="857520" cy="1405080"/>
            <a:chOff x="5571720" y="3000240"/>
            <a:chExt cx="857520" cy="1405080"/>
          </a:xfrm>
        </p:grpSpPr>
        <p:grpSp>
          <p:nvGrpSpPr>
            <p:cNvPr id="358" name=""/>
            <p:cNvGrpSpPr/>
            <p:nvPr/>
          </p:nvGrpSpPr>
          <p:grpSpPr>
            <a:xfrm>
              <a:off x="5571720" y="3393720"/>
              <a:ext cx="765720" cy="1011600"/>
              <a:chOff x="5571720" y="3393720"/>
              <a:chExt cx="765720" cy="1011600"/>
            </a:xfrm>
          </p:grpSpPr>
          <p:sp>
            <p:nvSpPr>
              <p:cNvPr id="359" name="任意多边形 532"/>
              <p:cNvSpPr/>
              <p:nvPr/>
            </p:nvSpPr>
            <p:spPr>
              <a:xfrm rot="20331600">
                <a:off x="5899320" y="3747240"/>
                <a:ext cx="417240" cy="19404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任意多边形 533"/>
              <p:cNvSpPr/>
              <p:nvPr/>
            </p:nvSpPr>
            <p:spPr>
              <a:xfrm flipH="1">
                <a:off x="5571360" y="3868560"/>
                <a:ext cx="417240" cy="194040"/>
              </a:xfrm>
              <a:custGeom>
                <a:avLst/>
                <a:gdLst>
                  <a:gd name="textAreaLeft" fmla="*/ -360 w 417240"/>
                  <a:gd name="textAreaRight" fmla="*/ 417240 w 417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任意多边形 534"/>
              <p:cNvSpPr/>
              <p:nvPr/>
            </p:nvSpPr>
            <p:spPr>
              <a:xfrm flipH="1">
                <a:off x="5942160" y="3393720"/>
                <a:ext cx="104040" cy="1011600"/>
              </a:xfrm>
              <a:custGeom>
                <a:avLst/>
                <a:gdLst>
                  <a:gd name="textAreaLeft" fmla="*/ -360 w 104040"/>
                  <a:gd name="textAreaRight" fmla="*/ 104040 w 104040"/>
                  <a:gd name="textAreaTop" fmla="*/ 0 h 1011600"/>
                  <a:gd name="textAreaBottom" fmla="*/ 1011960 h 1011600"/>
                </a:gdLst>
                <a:ahLst/>
                <a:rect l="textAreaLeft" t="textAreaTop" r="textAreaRight" b="textAreaBottom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609880" y="3000240"/>
              <a:ext cx="819360" cy="818640"/>
              <a:chOff x="5609880" y="3000240"/>
              <a:chExt cx="819360" cy="8186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5609880" y="3000240"/>
                <a:ext cx="819360" cy="818640"/>
                <a:chOff x="5609880" y="3000240"/>
                <a:chExt cx="819360" cy="81864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5900760" y="3000240"/>
                  <a:ext cx="237600" cy="818640"/>
                  <a:chOff x="5900760" y="3000240"/>
                  <a:chExt cx="237600" cy="81864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900760" y="3000240"/>
                    <a:ext cx="231120" cy="329040"/>
                    <a:chOff x="5900760" y="3000240"/>
                    <a:chExt cx="231120" cy="329040"/>
                  </a:xfrm>
                </p:grpSpPr>
                <p:sp>
                  <p:nvSpPr>
                    <p:cNvPr id="366" name="任意多边形 528"/>
                    <p:cNvSpPr/>
                    <p:nvPr/>
                  </p:nvSpPr>
                  <p:spPr>
                    <a:xfrm flipH="1" flipV="1">
                      <a:off x="5900760" y="3000240"/>
                      <a:ext cx="231120" cy="32400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360 h 324000"/>
                        <a:gd name="textAreaBottom" fmla="*/ 324720 h 32400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任意多边形 529"/>
                    <p:cNvSpPr/>
                    <p:nvPr/>
                  </p:nvSpPr>
                  <p:spPr>
                    <a:xfrm flipH="1">
                      <a:off x="6021720" y="3197880"/>
                      <a:ext cx="51120" cy="13140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任意多边形 530"/>
                    <p:cNvSpPr/>
                    <p:nvPr/>
                  </p:nvSpPr>
                  <p:spPr>
                    <a:xfrm flipH="1">
                      <a:off x="6004800" y="318420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任意多边形 531"/>
                    <p:cNvSpPr/>
                    <p:nvPr/>
                  </p:nvSpPr>
                  <p:spPr>
                    <a:xfrm>
                      <a:off x="5970240" y="3197880"/>
                      <a:ext cx="51120" cy="13140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907240" y="3489840"/>
                    <a:ext cx="231120" cy="329040"/>
                    <a:chOff x="5907240" y="3489840"/>
                    <a:chExt cx="231120" cy="329040"/>
                  </a:xfrm>
                </p:grpSpPr>
                <p:sp>
                  <p:nvSpPr>
                    <p:cNvPr id="371" name="任意多边形 524"/>
                    <p:cNvSpPr/>
                    <p:nvPr/>
                  </p:nvSpPr>
                  <p:spPr>
                    <a:xfrm flipH="1">
                      <a:off x="5907240" y="3494880"/>
                      <a:ext cx="231120" cy="32400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0 h 324000"/>
                        <a:gd name="textAreaBottom" fmla="*/ 324360 h 32400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任意多边形 525"/>
                    <p:cNvSpPr/>
                    <p:nvPr/>
                  </p:nvSpPr>
                  <p:spPr>
                    <a:xfrm flipH="1" flipV="1">
                      <a:off x="6028200" y="3489480"/>
                      <a:ext cx="51120" cy="13140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任意多边形 526"/>
                    <p:cNvSpPr/>
                    <p:nvPr/>
                  </p:nvSpPr>
                  <p:spPr>
                    <a:xfrm flipH="1" flipV="1">
                      <a:off x="6011280" y="350316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任意多边形 527"/>
                    <p:cNvSpPr/>
                    <p:nvPr/>
                  </p:nvSpPr>
                  <p:spPr>
                    <a:xfrm flipV="1">
                      <a:off x="5976720" y="3489480"/>
                      <a:ext cx="51120" cy="13140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5609880" y="3290760"/>
                  <a:ext cx="819360" cy="237600"/>
                  <a:chOff x="5609880" y="3290760"/>
                  <a:chExt cx="819360" cy="237600"/>
                </a:xfrm>
              </p:grpSpPr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6099480" y="3290760"/>
                    <a:ext cx="329760" cy="231120"/>
                    <a:chOff x="6099480" y="3290760"/>
                    <a:chExt cx="329760" cy="231120"/>
                  </a:xfrm>
                </p:grpSpPr>
                <p:sp>
                  <p:nvSpPr>
                    <p:cNvPr id="377" name="任意多边形 518"/>
                    <p:cNvSpPr/>
                    <p:nvPr/>
                  </p:nvSpPr>
                  <p:spPr>
                    <a:xfrm flipH="1" flipV="1" rot="5400000">
                      <a:off x="6150960" y="3243960"/>
                      <a:ext cx="231120" cy="32436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-360 h 324360"/>
                        <a:gd name="textAreaBottom" fmla="*/ 324360 h 324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任意多边形 519"/>
                    <p:cNvSpPr/>
                    <p:nvPr/>
                  </p:nvSpPr>
                  <p:spPr>
                    <a:xfrm flipH="1" rot="5400000">
                      <a:off x="6139080" y="3371400"/>
                      <a:ext cx="51120" cy="13140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任意多边形 520"/>
                    <p:cNvSpPr/>
                    <p:nvPr/>
                  </p:nvSpPr>
                  <p:spPr>
                    <a:xfrm flipH="1" rot="5400000">
                      <a:off x="6170400" y="333756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任意多边形 521"/>
                    <p:cNvSpPr/>
                    <p:nvPr/>
                  </p:nvSpPr>
                  <p:spPr>
                    <a:xfrm rot="5400000">
                      <a:off x="6139440" y="3319920"/>
                      <a:ext cx="51120" cy="13140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609880" y="3297240"/>
                    <a:ext cx="329760" cy="231120"/>
                    <a:chOff x="5609880" y="3297240"/>
                    <a:chExt cx="329760" cy="231120"/>
                  </a:xfrm>
                </p:grpSpPr>
                <p:sp>
                  <p:nvSpPr>
                    <p:cNvPr id="382" name="任意多边形 514"/>
                    <p:cNvSpPr/>
                    <p:nvPr/>
                  </p:nvSpPr>
                  <p:spPr>
                    <a:xfrm flipH="1" rot="5400000">
                      <a:off x="5655960" y="3250440"/>
                      <a:ext cx="231120" cy="32436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0 h 324360"/>
                        <a:gd name="textAreaBottom" fmla="*/ 324720 h 324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任意多边形 515"/>
                    <p:cNvSpPr/>
                    <p:nvPr/>
                  </p:nvSpPr>
                  <p:spPr>
                    <a:xfrm flipH="1" flipV="1" rot="5400000">
                      <a:off x="5847840" y="3377880"/>
                      <a:ext cx="51120" cy="13140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任意多边形 516"/>
                    <p:cNvSpPr/>
                    <p:nvPr/>
                  </p:nvSpPr>
                  <p:spPr>
                    <a:xfrm flipH="1" flipV="1" rot="5400000">
                      <a:off x="5851800" y="334368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任意多边形 517"/>
                    <p:cNvSpPr/>
                    <p:nvPr/>
                  </p:nvSpPr>
                  <p:spPr>
                    <a:xfrm flipV="1" rot="5400000">
                      <a:off x="5848200" y="3326400"/>
                      <a:ext cx="51120" cy="13140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5645880" y="3036240"/>
                <a:ext cx="747360" cy="746640"/>
                <a:chOff x="5645880" y="3036240"/>
                <a:chExt cx="747360" cy="74664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5645880" y="3040560"/>
                  <a:ext cx="747360" cy="738000"/>
                  <a:chOff x="5645880" y="3040560"/>
                  <a:chExt cx="747360" cy="738000"/>
                </a:xfrm>
              </p:grpSpPr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645880" y="3040560"/>
                    <a:ext cx="392760" cy="392760"/>
                    <a:chOff x="5645880" y="3040560"/>
                    <a:chExt cx="392760" cy="392760"/>
                  </a:xfrm>
                </p:grpSpPr>
                <p:sp>
                  <p:nvSpPr>
                    <p:cNvPr id="389" name="任意多边形 506"/>
                    <p:cNvSpPr/>
                    <p:nvPr/>
                  </p:nvSpPr>
                  <p:spPr>
                    <a:xfrm flipH="1" flipV="1" rot="18900000">
                      <a:off x="5726160" y="3074400"/>
                      <a:ext cx="231120" cy="32436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-360 h 324360"/>
                        <a:gd name="textAreaBottom" fmla="*/ 324360 h 324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任意多边形 507"/>
                    <p:cNvSpPr/>
                    <p:nvPr/>
                  </p:nvSpPr>
                  <p:spPr>
                    <a:xfrm flipH="1" rot="18900000">
                      <a:off x="5910480" y="3220920"/>
                      <a:ext cx="50760" cy="13176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任意多边形 508"/>
                    <p:cNvSpPr/>
                    <p:nvPr/>
                  </p:nvSpPr>
                  <p:spPr>
                    <a:xfrm flipH="1" rot="18900000">
                      <a:off x="5894280" y="323568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任意多边形 509"/>
                    <p:cNvSpPr/>
                    <p:nvPr/>
                  </p:nvSpPr>
                  <p:spPr>
                    <a:xfrm rot="18900000">
                      <a:off x="5874120" y="3257280"/>
                      <a:ext cx="50760" cy="13176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6000480" y="3385800"/>
                    <a:ext cx="392760" cy="392760"/>
                    <a:chOff x="6000480" y="3385800"/>
                    <a:chExt cx="392760" cy="392760"/>
                  </a:xfrm>
                </p:grpSpPr>
                <p:sp>
                  <p:nvSpPr>
                    <p:cNvPr id="394" name="任意多边形 502"/>
                    <p:cNvSpPr/>
                    <p:nvPr/>
                  </p:nvSpPr>
                  <p:spPr>
                    <a:xfrm flipH="1" rot="18900000">
                      <a:off x="6080760" y="3420000"/>
                      <a:ext cx="231120" cy="32436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0 h 324360"/>
                        <a:gd name="textAreaBottom" fmla="*/ 324720 h 324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任意多边形 503"/>
                    <p:cNvSpPr/>
                    <p:nvPr/>
                  </p:nvSpPr>
                  <p:spPr>
                    <a:xfrm flipH="1" flipV="1" rot="18900000">
                      <a:off x="6120360" y="3421800"/>
                      <a:ext cx="50760" cy="13176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360 h 131760"/>
                        <a:gd name="textAreaBottom" fmla="*/ 13248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任意多边形 504"/>
                    <p:cNvSpPr/>
                    <p:nvPr/>
                  </p:nvSpPr>
                  <p:spPr>
                    <a:xfrm flipH="1" flipV="1" rot="18900000">
                      <a:off x="6123960" y="345600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任意多边形 505"/>
                    <p:cNvSpPr/>
                    <p:nvPr/>
                  </p:nvSpPr>
                  <p:spPr>
                    <a:xfrm flipV="1" rot="18900000">
                      <a:off x="6084360" y="3458160"/>
                      <a:ext cx="50760" cy="13176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360 h 131760"/>
                        <a:gd name="textAreaBottom" fmla="*/ 13248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5650920" y="3036240"/>
                  <a:ext cx="737280" cy="746640"/>
                  <a:chOff x="5650920" y="3036240"/>
                  <a:chExt cx="737280" cy="746640"/>
                </a:xfrm>
              </p:grpSpPr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995800" y="3036240"/>
                    <a:ext cx="392400" cy="392400"/>
                    <a:chOff x="5995800" y="3036240"/>
                    <a:chExt cx="392400" cy="392400"/>
                  </a:xfrm>
                </p:grpSpPr>
                <p:sp>
                  <p:nvSpPr>
                    <p:cNvPr id="400" name="任意多边形 496"/>
                    <p:cNvSpPr/>
                    <p:nvPr/>
                  </p:nvSpPr>
                  <p:spPr>
                    <a:xfrm flipH="1" flipV="1" rot="2700000">
                      <a:off x="6076440" y="3070440"/>
                      <a:ext cx="231120" cy="32364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-360 h 323640"/>
                        <a:gd name="textAreaBottom" fmla="*/ 323640 h 32364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任意多边形 497"/>
                    <p:cNvSpPr/>
                    <p:nvPr/>
                  </p:nvSpPr>
                  <p:spPr>
                    <a:xfrm flipH="1" rot="2700000">
                      <a:off x="6116040" y="3260160"/>
                      <a:ext cx="50760" cy="13176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任意多边形 498"/>
                    <p:cNvSpPr/>
                    <p:nvPr/>
                  </p:nvSpPr>
                  <p:spPr>
                    <a:xfrm flipH="1" rot="2700000">
                      <a:off x="6119640" y="322632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任意多边形 499"/>
                    <p:cNvSpPr/>
                    <p:nvPr/>
                  </p:nvSpPr>
                  <p:spPr>
                    <a:xfrm rot="2700000">
                      <a:off x="6080040" y="3223800"/>
                      <a:ext cx="50760" cy="13176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50920" y="3390480"/>
                    <a:ext cx="392400" cy="392400"/>
                    <a:chOff x="5650920" y="3390480"/>
                    <a:chExt cx="392400" cy="392400"/>
                  </a:xfrm>
                </p:grpSpPr>
                <p:sp>
                  <p:nvSpPr>
                    <p:cNvPr id="405" name="任意多边形 492"/>
                    <p:cNvSpPr/>
                    <p:nvPr/>
                  </p:nvSpPr>
                  <p:spPr>
                    <a:xfrm flipH="1" rot="2700000">
                      <a:off x="5731200" y="3424680"/>
                      <a:ext cx="231120" cy="32364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0 h 323640"/>
                        <a:gd name="textAreaBottom" fmla="*/ 324000 h 32364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任意多边形 493"/>
                    <p:cNvSpPr/>
                    <p:nvPr/>
                  </p:nvSpPr>
                  <p:spPr>
                    <a:xfrm flipH="1" flipV="1" rot="2700000">
                      <a:off x="5914440" y="3470400"/>
                      <a:ext cx="50760" cy="13176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360 h 131760"/>
                        <a:gd name="textAreaBottom" fmla="*/ 13248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任意多边形 494"/>
                    <p:cNvSpPr/>
                    <p:nvPr/>
                  </p:nvSpPr>
                  <p:spPr>
                    <a:xfrm flipH="1" flipV="1" rot="2700000">
                      <a:off x="5898600" y="345672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任意多边形 495"/>
                    <p:cNvSpPr/>
                    <p:nvPr/>
                  </p:nvSpPr>
                  <p:spPr>
                    <a:xfrm flipV="1" rot="2700000">
                      <a:off x="5878440" y="3434040"/>
                      <a:ext cx="50760" cy="13176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360 h 131760"/>
                        <a:gd name="textAreaBottom" fmla="*/ 13248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09" name=""/>
            <p:cNvGrpSpPr/>
            <p:nvPr/>
          </p:nvGrpSpPr>
          <p:grpSpPr>
            <a:xfrm>
              <a:off x="5851080" y="3237120"/>
              <a:ext cx="339480" cy="326880"/>
              <a:chOff x="5851080" y="3237120"/>
              <a:chExt cx="339480" cy="326880"/>
            </a:xfrm>
          </p:grpSpPr>
          <p:sp>
            <p:nvSpPr>
              <p:cNvPr id="410" name="椭圆 483"/>
              <p:cNvSpPr/>
              <p:nvPr/>
            </p:nvSpPr>
            <p:spPr>
              <a:xfrm flipH="1" rot="21373200">
                <a:off x="5883120" y="3292920"/>
                <a:ext cx="299880" cy="23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484"/>
              <p:cNvSpPr/>
              <p:nvPr/>
            </p:nvSpPr>
            <p:spPr>
              <a:xfrm flipH="1" rot="21373200">
                <a:off x="5927040" y="3382920"/>
                <a:ext cx="160920" cy="17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椭圆 485"/>
              <p:cNvSpPr/>
              <p:nvPr/>
            </p:nvSpPr>
            <p:spPr>
              <a:xfrm flipH="1" rot="21373200">
                <a:off x="5856840" y="3247200"/>
                <a:ext cx="32148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7000920" y="3857400"/>
            <a:ext cx="1006560" cy="1649520"/>
            <a:chOff x="7000920" y="3857400"/>
            <a:chExt cx="1006560" cy="1649520"/>
          </a:xfrm>
        </p:grpSpPr>
        <p:grpSp>
          <p:nvGrpSpPr>
            <p:cNvPr id="414" name=""/>
            <p:cNvGrpSpPr/>
            <p:nvPr/>
          </p:nvGrpSpPr>
          <p:grpSpPr>
            <a:xfrm>
              <a:off x="7108560" y="4319640"/>
              <a:ext cx="898920" cy="1187280"/>
              <a:chOff x="7108560" y="4319640"/>
              <a:chExt cx="898920" cy="1187280"/>
            </a:xfrm>
          </p:grpSpPr>
          <p:sp>
            <p:nvSpPr>
              <p:cNvPr id="415" name="任意多边形 308"/>
              <p:cNvSpPr/>
              <p:nvPr/>
            </p:nvSpPr>
            <p:spPr>
              <a:xfrm flipH="1" rot="1268400">
                <a:off x="7133040" y="4735080"/>
                <a:ext cx="489960" cy="228240"/>
              </a:xfrm>
              <a:custGeom>
                <a:avLst/>
                <a:gdLst>
                  <a:gd name="textAreaLeft" fmla="*/ -360 w 489960"/>
                  <a:gd name="textAreaRight" fmla="*/ 489960 w 48996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309"/>
              <p:cNvSpPr/>
              <p:nvPr/>
            </p:nvSpPr>
            <p:spPr>
              <a:xfrm>
                <a:off x="7517520" y="4876920"/>
                <a:ext cx="489960" cy="22788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任意多边形 310"/>
              <p:cNvSpPr/>
              <p:nvPr/>
            </p:nvSpPr>
            <p:spPr>
              <a:xfrm>
                <a:off x="7449840" y="4319640"/>
                <a:ext cx="122040" cy="11872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000920" y="3857400"/>
              <a:ext cx="961560" cy="961200"/>
              <a:chOff x="7000920" y="3857400"/>
              <a:chExt cx="961560" cy="961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7000920" y="3857400"/>
                <a:ext cx="961560" cy="961200"/>
                <a:chOff x="7000920" y="3857400"/>
                <a:chExt cx="961560" cy="9612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7000920" y="3857400"/>
                  <a:ext cx="961560" cy="961200"/>
                  <a:chOff x="7000920" y="3857400"/>
                  <a:chExt cx="961560" cy="961200"/>
                </a:xfrm>
              </p:grpSpPr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7342200" y="3857400"/>
                    <a:ext cx="279000" cy="961200"/>
                    <a:chOff x="7342200" y="3857400"/>
                    <a:chExt cx="279000" cy="961200"/>
                  </a:xfrm>
                </p:grpSpPr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7349760" y="3857400"/>
                      <a:ext cx="271440" cy="386640"/>
                      <a:chOff x="7349760" y="3857400"/>
                      <a:chExt cx="271440" cy="386640"/>
                    </a:xfrm>
                  </p:grpSpPr>
                  <p:sp>
                    <p:nvSpPr>
                      <p:cNvPr id="423" name="任意多边形 304"/>
                      <p:cNvSpPr/>
                      <p:nvPr/>
                    </p:nvSpPr>
                    <p:spPr>
                      <a:xfrm flipV="1">
                        <a:off x="7349760" y="385704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-360 h 380520"/>
                          <a:gd name="textAreaBottom" fmla="*/ 38052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任意多边形 305"/>
                      <p:cNvSpPr/>
                      <p:nvPr/>
                    </p:nvSpPr>
                    <p:spPr>
                      <a:xfrm>
                        <a:off x="7419240" y="4089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" name="任意多边形 306"/>
                      <p:cNvSpPr/>
                      <p:nvPr/>
                    </p:nvSpPr>
                    <p:spPr>
                      <a:xfrm>
                        <a:off x="7479360" y="407376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任意多边形 307"/>
                      <p:cNvSpPr/>
                      <p:nvPr/>
                    </p:nvSpPr>
                    <p:spPr>
                      <a:xfrm flipH="1">
                        <a:off x="7478640" y="4089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342200" y="4431960"/>
                      <a:ext cx="271440" cy="386640"/>
                      <a:chOff x="7342200" y="4431960"/>
                      <a:chExt cx="271440" cy="386640"/>
                    </a:xfrm>
                  </p:grpSpPr>
                  <p:sp>
                    <p:nvSpPr>
                      <p:cNvPr id="428" name="任意多边形 300"/>
                      <p:cNvSpPr/>
                      <p:nvPr/>
                    </p:nvSpPr>
                    <p:spPr>
                      <a:xfrm>
                        <a:off x="7342200" y="44380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520"/>
                          <a:gd name="textAreaBottom" fmla="*/ 38088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任意多边形 301"/>
                      <p:cNvSpPr/>
                      <p:nvPr/>
                    </p:nvSpPr>
                    <p:spPr>
                      <a:xfrm flipV="1">
                        <a:off x="7411680" y="4431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任意多边形 302"/>
                      <p:cNvSpPr/>
                      <p:nvPr/>
                    </p:nvSpPr>
                    <p:spPr>
                      <a:xfrm flipV="1">
                        <a:off x="7471800" y="444744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任意多边形 303"/>
                      <p:cNvSpPr/>
                      <p:nvPr/>
                    </p:nvSpPr>
                    <p:spPr>
                      <a:xfrm flipH="1" flipV="1">
                        <a:off x="7471080" y="4431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7000920" y="4198320"/>
                    <a:ext cx="961560" cy="279000"/>
                    <a:chOff x="7000920" y="4198320"/>
                    <a:chExt cx="961560" cy="279000"/>
                  </a:xfrm>
                </p:grpSpPr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7000920" y="4198320"/>
                      <a:ext cx="386640" cy="271440"/>
                      <a:chOff x="7000920" y="4198320"/>
                      <a:chExt cx="386640" cy="271440"/>
                    </a:xfrm>
                  </p:grpSpPr>
                  <p:sp>
                    <p:nvSpPr>
                      <p:cNvPr id="434" name="任意多边形 294"/>
                      <p:cNvSpPr/>
                      <p:nvPr/>
                    </p:nvSpPr>
                    <p:spPr>
                      <a:xfrm flipV="1" rot="16200000">
                        <a:off x="7055640" y="414360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360 h 380880"/>
                          <a:gd name="textAreaBottom" fmla="*/ 38160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任意多边形 295"/>
                      <p:cNvSpPr/>
                      <p:nvPr/>
                    </p:nvSpPr>
                    <p:spPr>
                      <a:xfrm rot="16200000">
                        <a:off x="7280280" y="42930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" name="任意多边形 296"/>
                      <p:cNvSpPr/>
                      <p:nvPr/>
                    </p:nvSpPr>
                    <p:spPr>
                      <a:xfrm rot="16200000">
                        <a:off x="7284960" y="425340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任意多边形 297"/>
                      <p:cNvSpPr/>
                      <p:nvPr/>
                    </p:nvSpPr>
                    <p:spPr>
                      <a:xfrm flipH="1" rot="16200000">
                        <a:off x="7280280" y="42332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8" name=""/>
                    <p:cNvGrpSpPr/>
                    <p:nvPr/>
                  </p:nvGrpSpPr>
                  <p:grpSpPr>
                    <a:xfrm>
                      <a:off x="7575840" y="4205880"/>
                      <a:ext cx="386640" cy="271440"/>
                      <a:chOff x="7575840" y="4205880"/>
                      <a:chExt cx="386640" cy="271440"/>
                    </a:xfrm>
                  </p:grpSpPr>
                  <p:sp>
                    <p:nvSpPr>
                      <p:cNvPr id="439" name="任意多边形 290"/>
                      <p:cNvSpPr/>
                      <p:nvPr/>
                    </p:nvSpPr>
                    <p:spPr>
                      <a:xfrm rot="16200000">
                        <a:off x="7636320" y="415116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880"/>
                          <a:gd name="textAreaBottom" fmla="*/ 38124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任意多边形 291"/>
                      <p:cNvSpPr/>
                      <p:nvPr/>
                    </p:nvSpPr>
                    <p:spPr>
                      <a:xfrm flipV="1" rot="16200000">
                        <a:off x="7622640" y="43002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任意多边形 292"/>
                      <p:cNvSpPr/>
                      <p:nvPr/>
                    </p:nvSpPr>
                    <p:spPr>
                      <a:xfrm flipV="1" rot="16200000">
                        <a:off x="7659360" y="426060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任意多边形 293"/>
                      <p:cNvSpPr/>
                      <p:nvPr/>
                    </p:nvSpPr>
                    <p:spPr>
                      <a:xfrm flipH="1" flipV="1" rot="16200000">
                        <a:off x="7622640" y="42404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043040" y="3899520"/>
                  <a:ext cx="876960" cy="876600"/>
                  <a:chOff x="7043040" y="3899520"/>
                  <a:chExt cx="876960" cy="876600"/>
                </a:xfrm>
              </p:grpSpPr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7043040" y="3904920"/>
                    <a:ext cx="876960" cy="866520"/>
                    <a:chOff x="7043040" y="3904920"/>
                    <a:chExt cx="876960" cy="866520"/>
                  </a:xfrm>
                </p:grpSpPr>
                <p:grpSp>
                  <p:nvGrpSpPr>
                    <p:cNvPr id="445" name=""/>
                    <p:cNvGrpSpPr/>
                    <p:nvPr/>
                  </p:nvGrpSpPr>
                  <p:grpSpPr>
                    <a:xfrm>
                      <a:off x="7458840" y="3904920"/>
                      <a:ext cx="461160" cy="461160"/>
                      <a:chOff x="7458840" y="3904920"/>
                      <a:chExt cx="461160" cy="461160"/>
                    </a:xfrm>
                  </p:grpSpPr>
                  <p:sp>
                    <p:nvSpPr>
                      <p:cNvPr id="446" name="任意多边形 282"/>
                      <p:cNvSpPr/>
                      <p:nvPr/>
                    </p:nvSpPr>
                    <p:spPr>
                      <a:xfrm flipV="1" rot="2700000">
                        <a:off x="7553520" y="394452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360 h 380880"/>
                          <a:gd name="textAreaBottom" fmla="*/ 38160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任意多边形 283"/>
                      <p:cNvSpPr/>
                      <p:nvPr/>
                    </p:nvSpPr>
                    <p:spPr>
                      <a:xfrm rot="2700000">
                        <a:off x="7549560" y="4116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任意多边形 284"/>
                      <p:cNvSpPr/>
                      <p:nvPr/>
                    </p:nvSpPr>
                    <p:spPr>
                      <a:xfrm rot="2700000">
                        <a:off x="7609320" y="413352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任意多边形 285"/>
                      <p:cNvSpPr/>
                      <p:nvPr/>
                    </p:nvSpPr>
                    <p:spPr>
                      <a:xfrm flipH="1" rot="2700000">
                        <a:off x="7590960" y="41594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7043040" y="4310280"/>
                      <a:ext cx="461160" cy="461160"/>
                      <a:chOff x="7043040" y="4310280"/>
                      <a:chExt cx="461160" cy="461160"/>
                    </a:xfrm>
                  </p:grpSpPr>
                  <p:sp>
                    <p:nvSpPr>
                      <p:cNvPr id="451" name="任意多边形 278"/>
                      <p:cNvSpPr/>
                      <p:nvPr/>
                    </p:nvSpPr>
                    <p:spPr>
                      <a:xfrm rot="2700000">
                        <a:off x="7137720" y="435024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880"/>
                          <a:gd name="textAreaBottom" fmla="*/ 38124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任意多边形 279"/>
                      <p:cNvSpPr/>
                      <p:nvPr/>
                    </p:nvSpPr>
                    <p:spPr>
                      <a:xfrm flipV="1" rot="2700000">
                        <a:off x="7301880" y="43534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任意多边形 280"/>
                      <p:cNvSpPr/>
                      <p:nvPr/>
                    </p:nvSpPr>
                    <p:spPr>
                      <a:xfrm flipV="1" rot="2700000">
                        <a:off x="7339320" y="439236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任意多边形 281"/>
                      <p:cNvSpPr/>
                      <p:nvPr/>
                    </p:nvSpPr>
                    <p:spPr>
                      <a:xfrm flipH="1" flipV="1" rot="2700000">
                        <a:off x="7344000" y="43956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7048440" y="3899520"/>
                    <a:ext cx="866520" cy="876600"/>
                    <a:chOff x="7048440" y="3899520"/>
                    <a:chExt cx="866520" cy="876600"/>
                  </a:xfrm>
                </p:grpSpPr>
                <p:grpSp>
                  <p:nvGrpSpPr>
                    <p:cNvPr id="456" name=""/>
                    <p:cNvGrpSpPr/>
                    <p:nvPr/>
                  </p:nvGrpSpPr>
                  <p:grpSpPr>
                    <a:xfrm>
                      <a:off x="7048440" y="3899520"/>
                      <a:ext cx="461160" cy="460800"/>
                      <a:chOff x="7048440" y="3899520"/>
                      <a:chExt cx="461160" cy="460800"/>
                    </a:xfrm>
                  </p:grpSpPr>
                  <p:sp>
                    <p:nvSpPr>
                      <p:cNvPr id="457" name="任意多边形 272"/>
                      <p:cNvSpPr/>
                      <p:nvPr/>
                    </p:nvSpPr>
                    <p:spPr>
                      <a:xfrm flipV="1" rot="18900000">
                        <a:off x="7143120" y="39394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-360 h 380520"/>
                          <a:gd name="textAreaBottom" fmla="*/ 38052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任意多边形 273"/>
                      <p:cNvSpPr/>
                      <p:nvPr/>
                    </p:nvSpPr>
                    <p:spPr>
                      <a:xfrm rot="18900000">
                        <a:off x="7307280" y="41626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9" name="任意多边形 274"/>
                      <p:cNvSpPr/>
                      <p:nvPr/>
                    </p:nvSpPr>
                    <p:spPr>
                      <a:xfrm rot="18900000">
                        <a:off x="7344720" y="412308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任意多边形 275"/>
                      <p:cNvSpPr/>
                      <p:nvPr/>
                    </p:nvSpPr>
                    <p:spPr>
                      <a:xfrm flipH="1" rot="18900000">
                        <a:off x="7349760" y="41205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7453800" y="4315320"/>
                      <a:ext cx="461160" cy="460800"/>
                      <a:chOff x="7453800" y="4315320"/>
                      <a:chExt cx="461160" cy="460800"/>
                    </a:xfrm>
                  </p:grpSpPr>
                  <p:sp>
                    <p:nvSpPr>
                      <p:cNvPr id="462" name="任意多边形 268"/>
                      <p:cNvSpPr/>
                      <p:nvPr/>
                    </p:nvSpPr>
                    <p:spPr>
                      <a:xfrm rot="18900000">
                        <a:off x="7548480" y="43552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520"/>
                          <a:gd name="textAreaBottom" fmla="*/ 38088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任意多边形 269"/>
                      <p:cNvSpPr/>
                      <p:nvPr/>
                    </p:nvSpPr>
                    <p:spPr>
                      <a:xfrm flipV="1" rot="18900000">
                        <a:off x="7544160" y="44092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任意多边形 270"/>
                      <p:cNvSpPr/>
                      <p:nvPr/>
                    </p:nvSpPr>
                    <p:spPr>
                      <a:xfrm flipV="1" rot="18900000">
                        <a:off x="7603920" y="439308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任意多边形 271"/>
                      <p:cNvSpPr/>
                      <p:nvPr/>
                    </p:nvSpPr>
                    <p:spPr>
                      <a:xfrm flipH="1" flipV="1" rot="18900000">
                        <a:off x="7585560" y="43671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7241040" y="4082040"/>
                <a:ext cx="446760" cy="441360"/>
                <a:chOff x="7241040" y="4082040"/>
                <a:chExt cx="446760" cy="441360"/>
              </a:xfrm>
            </p:grpSpPr>
            <p:sp>
              <p:nvSpPr>
                <p:cNvPr id="467" name="椭圆 259"/>
                <p:cNvSpPr/>
                <p:nvPr/>
              </p:nvSpPr>
              <p:spPr>
                <a:xfrm rot="20317800">
                  <a:off x="7298280" y="4196880"/>
                  <a:ext cx="351720" cy="2718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椭圆 260"/>
                <p:cNvSpPr/>
                <p:nvPr/>
              </p:nvSpPr>
              <p:spPr>
                <a:xfrm rot="20317800">
                  <a:off x="7438320" y="4283280"/>
                  <a:ext cx="189000" cy="20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椭圆 261"/>
                <p:cNvSpPr/>
                <p:nvPr/>
              </p:nvSpPr>
              <p:spPr>
                <a:xfrm rot="20317800">
                  <a:off x="7268400" y="4142880"/>
                  <a:ext cx="377280" cy="22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0" name=""/>
          <p:cNvGrpSpPr/>
          <p:nvPr/>
        </p:nvGrpSpPr>
        <p:grpSpPr>
          <a:xfrm>
            <a:off x="7571880" y="3214440"/>
            <a:ext cx="1049760" cy="1721160"/>
            <a:chOff x="7571880" y="3214440"/>
            <a:chExt cx="1049760" cy="1721160"/>
          </a:xfrm>
        </p:grpSpPr>
        <p:grpSp>
          <p:nvGrpSpPr>
            <p:cNvPr id="471" name=""/>
            <p:cNvGrpSpPr/>
            <p:nvPr/>
          </p:nvGrpSpPr>
          <p:grpSpPr>
            <a:xfrm>
              <a:off x="7684560" y="3696840"/>
              <a:ext cx="937080" cy="1238760"/>
              <a:chOff x="7684560" y="3696840"/>
              <a:chExt cx="937080" cy="1238760"/>
            </a:xfrm>
          </p:grpSpPr>
          <p:sp>
            <p:nvSpPr>
              <p:cNvPr id="472" name="任意多边形 588"/>
              <p:cNvSpPr/>
              <p:nvPr/>
            </p:nvSpPr>
            <p:spPr>
              <a:xfrm flipH="1" rot="1268400">
                <a:off x="7710120" y="4129920"/>
                <a:ext cx="511200" cy="237960"/>
              </a:xfrm>
              <a:custGeom>
                <a:avLst/>
                <a:gdLst>
                  <a:gd name="textAreaLeft" fmla="*/ 360 w 511200"/>
                  <a:gd name="textAreaRight" fmla="*/ 511920 w 5112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任意多边形 589"/>
              <p:cNvSpPr/>
              <p:nvPr/>
            </p:nvSpPr>
            <p:spPr>
              <a:xfrm>
                <a:off x="8110800" y="4278240"/>
                <a:ext cx="510840" cy="2379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任意多边形 590"/>
              <p:cNvSpPr/>
              <p:nvPr/>
            </p:nvSpPr>
            <p:spPr>
              <a:xfrm>
                <a:off x="8040240" y="369684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571880" y="3214440"/>
              <a:ext cx="1003320" cy="1003320"/>
              <a:chOff x="7571880" y="3214440"/>
              <a:chExt cx="1003320" cy="100332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571880" y="3214440"/>
                <a:ext cx="1003320" cy="1003320"/>
                <a:chOff x="7571880" y="3214440"/>
                <a:chExt cx="1003320" cy="10033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7927920" y="3214440"/>
                  <a:ext cx="290880" cy="1003320"/>
                  <a:chOff x="7927920" y="3214440"/>
                  <a:chExt cx="290880" cy="100332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7935840" y="3214440"/>
                    <a:ext cx="282960" cy="403560"/>
                    <a:chOff x="7935840" y="3214440"/>
                    <a:chExt cx="282960" cy="403560"/>
                  </a:xfrm>
                </p:grpSpPr>
                <p:sp>
                  <p:nvSpPr>
                    <p:cNvPr id="479" name="任意多边形 584"/>
                    <p:cNvSpPr/>
                    <p:nvPr/>
                  </p:nvSpPr>
                  <p:spPr>
                    <a:xfrm flipV="1">
                      <a:off x="7935840" y="32140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任意多边形 585"/>
                    <p:cNvSpPr/>
                    <p:nvPr/>
                  </p:nvSpPr>
                  <p:spPr>
                    <a:xfrm>
                      <a:off x="8008200" y="345708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任意多边形 586"/>
                    <p:cNvSpPr/>
                    <p:nvPr/>
                  </p:nvSpPr>
                  <p:spPr>
                    <a:xfrm>
                      <a:off x="8071200" y="34405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任意多边形 587"/>
                    <p:cNvSpPr/>
                    <p:nvPr/>
                  </p:nvSpPr>
                  <p:spPr>
                    <a:xfrm flipH="1">
                      <a:off x="8071200" y="345708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7927920" y="3814200"/>
                    <a:ext cx="282960" cy="403560"/>
                    <a:chOff x="7927920" y="3814200"/>
                    <a:chExt cx="282960" cy="403560"/>
                  </a:xfrm>
                </p:grpSpPr>
                <p:sp>
                  <p:nvSpPr>
                    <p:cNvPr id="484" name="任意多边形 580"/>
                    <p:cNvSpPr/>
                    <p:nvPr/>
                  </p:nvSpPr>
                  <p:spPr>
                    <a:xfrm>
                      <a:off x="7927920" y="38206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任意多边形 581"/>
                    <p:cNvSpPr/>
                    <p:nvPr/>
                  </p:nvSpPr>
                  <p:spPr>
                    <a:xfrm flipV="1">
                      <a:off x="8000280" y="38138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任意多边形 582"/>
                    <p:cNvSpPr/>
                    <p:nvPr/>
                  </p:nvSpPr>
                  <p:spPr>
                    <a:xfrm flipV="1">
                      <a:off x="8063280" y="38304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任意多边形 583"/>
                    <p:cNvSpPr/>
                    <p:nvPr/>
                  </p:nvSpPr>
                  <p:spPr>
                    <a:xfrm flipH="1" flipV="1">
                      <a:off x="8063280" y="38138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7571880" y="3570480"/>
                  <a:ext cx="1003320" cy="290880"/>
                  <a:chOff x="7571880" y="3570480"/>
                  <a:chExt cx="1003320" cy="290880"/>
                </a:xfrm>
              </p:grpSpPr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7571880" y="3570480"/>
                    <a:ext cx="403560" cy="282960"/>
                    <a:chOff x="7571880" y="3570480"/>
                    <a:chExt cx="403560" cy="282960"/>
                  </a:xfrm>
                </p:grpSpPr>
                <p:sp>
                  <p:nvSpPr>
                    <p:cNvPr id="490" name="任意多边形 574"/>
                    <p:cNvSpPr/>
                    <p:nvPr/>
                  </p:nvSpPr>
                  <p:spPr>
                    <a:xfrm flipV="1" rot="16200000">
                      <a:off x="7628760" y="351324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任意多边形 575"/>
                    <p:cNvSpPr/>
                    <p:nvPr/>
                  </p:nvSpPr>
                  <p:spPr>
                    <a:xfrm rot="16200000">
                      <a:off x="7863480" y="36691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任意多边形 576"/>
                    <p:cNvSpPr/>
                    <p:nvPr/>
                  </p:nvSpPr>
                  <p:spPr>
                    <a:xfrm rot="16200000">
                      <a:off x="7868520" y="36277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任意多边形 577"/>
                    <p:cNvSpPr/>
                    <p:nvPr/>
                  </p:nvSpPr>
                  <p:spPr>
                    <a:xfrm flipH="1" rot="16200000">
                      <a:off x="7863120" y="36061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8171640" y="3578400"/>
                    <a:ext cx="403560" cy="282960"/>
                    <a:chOff x="8171640" y="3578400"/>
                    <a:chExt cx="403560" cy="282960"/>
                  </a:xfrm>
                </p:grpSpPr>
                <p:sp>
                  <p:nvSpPr>
                    <p:cNvPr id="495" name="任意多边形 570"/>
                    <p:cNvSpPr/>
                    <p:nvPr/>
                  </p:nvSpPr>
                  <p:spPr>
                    <a:xfrm rot="16200000">
                      <a:off x="8235000" y="352116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任意多边形 571"/>
                    <p:cNvSpPr/>
                    <p:nvPr/>
                  </p:nvSpPr>
                  <p:spPr>
                    <a:xfrm flipV="1" rot="16200000">
                      <a:off x="8220600" y="36770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任意多边形 572"/>
                    <p:cNvSpPr/>
                    <p:nvPr/>
                  </p:nvSpPr>
                  <p:spPr>
                    <a:xfrm flipV="1" rot="16200000">
                      <a:off x="8258760" y="36352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任意多边形 573"/>
                    <p:cNvSpPr/>
                    <p:nvPr/>
                  </p:nvSpPr>
                  <p:spPr>
                    <a:xfrm flipH="1" flipV="1" rot="16200000">
                      <a:off x="8220240" y="36140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7615800" y="3258360"/>
                <a:ext cx="915120" cy="915120"/>
                <a:chOff x="7615800" y="3258360"/>
                <a:chExt cx="915120" cy="91512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7615800" y="3264120"/>
                  <a:ext cx="915120" cy="903960"/>
                  <a:chOff x="7615800" y="3264120"/>
                  <a:chExt cx="915120" cy="903960"/>
                </a:xfrm>
              </p:grpSpPr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8049960" y="3264120"/>
                    <a:ext cx="480960" cy="480960"/>
                    <a:chOff x="8049960" y="3264120"/>
                    <a:chExt cx="480960" cy="480960"/>
                  </a:xfrm>
                </p:grpSpPr>
                <p:sp>
                  <p:nvSpPr>
                    <p:cNvPr id="502" name="任意多边形 562"/>
                    <p:cNvSpPr/>
                    <p:nvPr/>
                  </p:nvSpPr>
                  <p:spPr>
                    <a:xfrm flipV="1" rot="2700000">
                      <a:off x="8148600" y="33058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任意多边形 563"/>
                    <p:cNvSpPr/>
                    <p:nvPr/>
                  </p:nvSpPr>
                  <p:spPr>
                    <a:xfrm rot="2700000">
                      <a:off x="8143920" y="34855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任意多边形 564"/>
                    <p:cNvSpPr/>
                    <p:nvPr/>
                  </p:nvSpPr>
                  <p:spPr>
                    <a:xfrm rot="2700000">
                      <a:off x="8206560" y="35028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任意多边形 565"/>
                    <p:cNvSpPr/>
                    <p:nvPr/>
                  </p:nvSpPr>
                  <p:spPr>
                    <a:xfrm flipH="1" rot="2700000">
                      <a:off x="8188200" y="35298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7615800" y="3687120"/>
                    <a:ext cx="480960" cy="480960"/>
                    <a:chOff x="7615800" y="3687120"/>
                    <a:chExt cx="480960" cy="480960"/>
                  </a:xfrm>
                </p:grpSpPr>
                <p:sp>
                  <p:nvSpPr>
                    <p:cNvPr id="507" name="任意多边形 558"/>
                    <p:cNvSpPr/>
                    <p:nvPr/>
                  </p:nvSpPr>
                  <p:spPr>
                    <a:xfrm rot="2700000">
                      <a:off x="7714440" y="37288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任意多边形 559"/>
                    <p:cNvSpPr/>
                    <p:nvPr/>
                  </p:nvSpPr>
                  <p:spPr>
                    <a:xfrm flipV="1" rot="2700000">
                      <a:off x="7885800" y="37321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任意多边形 560"/>
                    <p:cNvSpPr/>
                    <p:nvPr/>
                  </p:nvSpPr>
                  <p:spPr>
                    <a:xfrm flipV="1" rot="2700000">
                      <a:off x="7924680" y="377316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任意多边形 561"/>
                    <p:cNvSpPr/>
                    <p:nvPr/>
                  </p:nvSpPr>
                  <p:spPr>
                    <a:xfrm flipH="1" flipV="1" rot="2700000">
                      <a:off x="7930080" y="37764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621560" y="3258360"/>
                  <a:ext cx="903960" cy="915120"/>
                  <a:chOff x="7621560" y="3258360"/>
                  <a:chExt cx="903960" cy="9151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7621560" y="3258360"/>
                    <a:ext cx="480960" cy="480960"/>
                    <a:chOff x="7621560" y="3258360"/>
                    <a:chExt cx="480960" cy="480960"/>
                  </a:xfrm>
                </p:grpSpPr>
                <p:sp>
                  <p:nvSpPr>
                    <p:cNvPr id="513" name="任意多边形 552"/>
                    <p:cNvSpPr/>
                    <p:nvPr/>
                  </p:nvSpPr>
                  <p:spPr>
                    <a:xfrm flipV="1" rot="18900000">
                      <a:off x="7720200" y="330012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任意多边形 553"/>
                    <p:cNvSpPr/>
                    <p:nvPr/>
                  </p:nvSpPr>
                  <p:spPr>
                    <a:xfrm rot="18900000">
                      <a:off x="7891920" y="353340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任意多边形 554"/>
                    <p:cNvSpPr/>
                    <p:nvPr/>
                  </p:nvSpPr>
                  <p:spPr>
                    <a:xfrm rot="18900000">
                      <a:off x="7930800" y="34920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任意多边形 555"/>
                    <p:cNvSpPr/>
                    <p:nvPr/>
                  </p:nvSpPr>
                  <p:spPr>
                    <a:xfrm flipH="1" rot="18900000">
                      <a:off x="7935840" y="34887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8044560" y="3692520"/>
                    <a:ext cx="480960" cy="480960"/>
                    <a:chOff x="8044560" y="3692520"/>
                    <a:chExt cx="480960" cy="480960"/>
                  </a:xfrm>
                </p:grpSpPr>
                <p:sp>
                  <p:nvSpPr>
                    <p:cNvPr id="518" name="任意多边形 548"/>
                    <p:cNvSpPr/>
                    <p:nvPr/>
                  </p:nvSpPr>
                  <p:spPr>
                    <a:xfrm rot="18900000">
                      <a:off x="8143200" y="37342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任意多边形 549"/>
                    <p:cNvSpPr/>
                    <p:nvPr/>
                  </p:nvSpPr>
                  <p:spPr>
                    <a:xfrm flipV="1" rot="18900000">
                      <a:off x="8138880" y="37911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任意多边形 550"/>
                    <p:cNvSpPr/>
                    <p:nvPr/>
                  </p:nvSpPr>
                  <p:spPr>
                    <a:xfrm flipV="1" rot="18900000">
                      <a:off x="8201160" y="377316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任意多边形 551"/>
                    <p:cNvSpPr/>
                    <p:nvPr/>
                  </p:nvSpPr>
                  <p:spPr>
                    <a:xfrm flipH="1" flipV="1" rot="18900000">
                      <a:off x="8182800" y="37465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22" name=""/>
            <p:cNvGrpSpPr/>
            <p:nvPr/>
          </p:nvGrpSpPr>
          <p:grpSpPr>
            <a:xfrm>
              <a:off x="7864200" y="3504960"/>
              <a:ext cx="415440" cy="400680"/>
              <a:chOff x="7864200" y="3504960"/>
              <a:chExt cx="415440" cy="400680"/>
            </a:xfrm>
          </p:grpSpPr>
          <p:sp>
            <p:nvSpPr>
              <p:cNvPr id="523" name="椭圆 539"/>
              <p:cNvSpPr/>
              <p:nvPr/>
            </p:nvSpPr>
            <p:spPr>
              <a:xfrm rot="226800">
                <a:off x="7872840" y="357336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椭圆 540"/>
              <p:cNvSpPr/>
              <p:nvPr/>
            </p:nvSpPr>
            <p:spPr>
              <a:xfrm rot="226800">
                <a:off x="7989480" y="368424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椭圆 541"/>
              <p:cNvSpPr/>
              <p:nvPr/>
            </p:nvSpPr>
            <p:spPr>
              <a:xfrm rot="226800">
                <a:off x="7878600" y="351756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8137440" y="3857400"/>
            <a:ext cx="1006560" cy="1649520"/>
            <a:chOff x="8137440" y="3857400"/>
            <a:chExt cx="1006560" cy="1649520"/>
          </a:xfrm>
        </p:grpSpPr>
        <p:grpSp>
          <p:nvGrpSpPr>
            <p:cNvPr id="527" name=""/>
            <p:cNvGrpSpPr/>
            <p:nvPr/>
          </p:nvGrpSpPr>
          <p:grpSpPr>
            <a:xfrm>
              <a:off x="8245080" y="4319640"/>
              <a:ext cx="898920" cy="1187280"/>
              <a:chOff x="8245080" y="4319640"/>
              <a:chExt cx="898920" cy="1187280"/>
            </a:xfrm>
          </p:grpSpPr>
          <p:sp>
            <p:nvSpPr>
              <p:cNvPr id="528" name="任意多边形 251"/>
              <p:cNvSpPr/>
              <p:nvPr/>
            </p:nvSpPr>
            <p:spPr>
              <a:xfrm flipH="1" rot="1268400">
                <a:off x="8269560" y="4735080"/>
                <a:ext cx="489960" cy="228240"/>
              </a:xfrm>
              <a:custGeom>
                <a:avLst/>
                <a:gdLst>
                  <a:gd name="textAreaLeft" fmla="*/ -360 w 489960"/>
                  <a:gd name="textAreaRight" fmla="*/ 489960 w 48996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任意多边形 252"/>
              <p:cNvSpPr/>
              <p:nvPr/>
            </p:nvSpPr>
            <p:spPr>
              <a:xfrm>
                <a:off x="8654040" y="4876920"/>
                <a:ext cx="489960" cy="22788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任意多边形 253"/>
              <p:cNvSpPr/>
              <p:nvPr/>
            </p:nvSpPr>
            <p:spPr>
              <a:xfrm>
                <a:off x="8586360" y="4319640"/>
                <a:ext cx="122040" cy="11872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8137440" y="3857400"/>
              <a:ext cx="961560" cy="961200"/>
              <a:chOff x="8137440" y="3857400"/>
              <a:chExt cx="961560" cy="96120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8137440" y="3857400"/>
                <a:ext cx="961560" cy="961200"/>
                <a:chOff x="8137440" y="3857400"/>
                <a:chExt cx="961560" cy="96120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8137440" y="3857400"/>
                  <a:ext cx="961560" cy="961200"/>
                  <a:chOff x="8137440" y="3857400"/>
                  <a:chExt cx="961560" cy="961200"/>
                </a:xfrm>
              </p:grpSpPr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8478720" y="3857400"/>
                    <a:ext cx="279000" cy="961200"/>
                    <a:chOff x="8478720" y="3857400"/>
                    <a:chExt cx="279000" cy="961200"/>
                  </a:xfrm>
                </p:grpSpPr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8486280" y="3857400"/>
                      <a:ext cx="271440" cy="386640"/>
                      <a:chOff x="8486280" y="3857400"/>
                      <a:chExt cx="271440" cy="386640"/>
                    </a:xfrm>
                  </p:grpSpPr>
                  <p:sp>
                    <p:nvSpPr>
                      <p:cNvPr id="536" name="任意多边形 247"/>
                      <p:cNvSpPr/>
                      <p:nvPr/>
                    </p:nvSpPr>
                    <p:spPr>
                      <a:xfrm flipV="1">
                        <a:off x="8486280" y="385704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-360 h 380520"/>
                          <a:gd name="textAreaBottom" fmla="*/ 38052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任意多边形 248"/>
                      <p:cNvSpPr/>
                      <p:nvPr/>
                    </p:nvSpPr>
                    <p:spPr>
                      <a:xfrm>
                        <a:off x="8555760" y="4089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任意多边形 249"/>
                      <p:cNvSpPr/>
                      <p:nvPr/>
                    </p:nvSpPr>
                    <p:spPr>
                      <a:xfrm>
                        <a:off x="8615880" y="407376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任意多边形 250"/>
                      <p:cNvSpPr/>
                      <p:nvPr/>
                    </p:nvSpPr>
                    <p:spPr>
                      <a:xfrm flipH="1">
                        <a:off x="8615160" y="4089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0" name=""/>
                    <p:cNvGrpSpPr/>
                    <p:nvPr/>
                  </p:nvGrpSpPr>
                  <p:grpSpPr>
                    <a:xfrm>
                      <a:off x="8478720" y="4431960"/>
                      <a:ext cx="271440" cy="386640"/>
                      <a:chOff x="8478720" y="4431960"/>
                      <a:chExt cx="271440" cy="386640"/>
                    </a:xfrm>
                  </p:grpSpPr>
                  <p:sp>
                    <p:nvSpPr>
                      <p:cNvPr id="541" name="任意多边形 243"/>
                      <p:cNvSpPr/>
                      <p:nvPr/>
                    </p:nvSpPr>
                    <p:spPr>
                      <a:xfrm>
                        <a:off x="8478720" y="44380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520"/>
                          <a:gd name="textAreaBottom" fmla="*/ 38088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任意多边形 244"/>
                      <p:cNvSpPr/>
                      <p:nvPr/>
                    </p:nvSpPr>
                    <p:spPr>
                      <a:xfrm flipV="1">
                        <a:off x="8548200" y="4431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任意多边形 245"/>
                      <p:cNvSpPr/>
                      <p:nvPr/>
                    </p:nvSpPr>
                    <p:spPr>
                      <a:xfrm flipV="1">
                        <a:off x="8608320" y="444744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任意多边形 246"/>
                      <p:cNvSpPr/>
                      <p:nvPr/>
                    </p:nvSpPr>
                    <p:spPr>
                      <a:xfrm flipH="1" flipV="1">
                        <a:off x="8607600" y="4431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8137440" y="4198320"/>
                    <a:ext cx="961560" cy="279000"/>
                    <a:chOff x="8137440" y="4198320"/>
                    <a:chExt cx="961560" cy="279000"/>
                  </a:xfrm>
                </p:grpSpPr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8137440" y="4198320"/>
                      <a:ext cx="386640" cy="271440"/>
                      <a:chOff x="8137440" y="4198320"/>
                      <a:chExt cx="386640" cy="271440"/>
                    </a:xfrm>
                  </p:grpSpPr>
                  <p:sp>
                    <p:nvSpPr>
                      <p:cNvPr id="547" name="任意多边形 237"/>
                      <p:cNvSpPr/>
                      <p:nvPr/>
                    </p:nvSpPr>
                    <p:spPr>
                      <a:xfrm flipV="1" rot="16200000">
                        <a:off x="8192160" y="414360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360 h 380880"/>
                          <a:gd name="textAreaBottom" fmla="*/ 38160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任意多边形 238"/>
                      <p:cNvSpPr/>
                      <p:nvPr/>
                    </p:nvSpPr>
                    <p:spPr>
                      <a:xfrm rot="16200000">
                        <a:off x="8416800" y="42930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任意多边形 239"/>
                      <p:cNvSpPr/>
                      <p:nvPr/>
                    </p:nvSpPr>
                    <p:spPr>
                      <a:xfrm rot="16200000">
                        <a:off x="8421480" y="425340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任意多边形 240"/>
                      <p:cNvSpPr/>
                      <p:nvPr/>
                    </p:nvSpPr>
                    <p:spPr>
                      <a:xfrm flipH="1" rot="16200000">
                        <a:off x="8416800" y="42332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1" name=""/>
                    <p:cNvGrpSpPr/>
                    <p:nvPr/>
                  </p:nvGrpSpPr>
                  <p:grpSpPr>
                    <a:xfrm>
                      <a:off x="8712360" y="4205880"/>
                      <a:ext cx="386640" cy="271440"/>
                      <a:chOff x="8712360" y="4205880"/>
                      <a:chExt cx="386640" cy="271440"/>
                    </a:xfrm>
                  </p:grpSpPr>
                  <p:sp>
                    <p:nvSpPr>
                      <p:cNvPr id="552" name="任意多边形 233"/>
                      <p:cNvSpPr/>
                      <p:nvPr/>
                    </p:nvSpPr>
                    <p:spPr>
                      <a:xfrm rot="16200000">
                        <a:off x="8772840" y="415116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880"/>
                          <a:gd name="textAreaBottom" fmla="*/ 38124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任意多边形 234"/>
                      <p:cNvSpPr/>
                      <p:nvPr/>
                    </p:nvSpPr>
                    <p:spPr>
                      <a:xfrm flipV="1" rot="16200000">
                        <a:off x="8759160" y="43002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任意多边形 235"/>
                      <p:cNvSpPr/>
                      <p:nvPr/>
                    </p:nvSpPr>
                    <p:spPr>
                      <a:xfrm flipV="1" rot="16200000">
                        <a:off x="8795880" y="426060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任意多边形 236"/>
                      <p:cNvSpPr/>
                      <p:nvPr/>
                    </p:nvSpPr>
                    <p:spPr>
                      <a:xfrm flipH="1" flipV="1" rot="16200000">
                        <a:off x="8759160" y="42404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8179560" y="3899520"/>
                  <a:ext cx="876960" cy="876600"/>
                  <a:chOff x="8179560" y="3899520"/>
                  <a:chExt cx="876960" cy="876600"/>
                </a:xfrm>
              </p:grpSpPr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8179560" y="3904920"/>
                    <a:ext cx="876960" cy="866520"/>
                    <a:chOff x="8179560" y="3904920"/>
                    <a:chExt cx="876960" cy="866520"/>
                  </a:xfrm>
                </p:grpSpPr>
                <p:grpSp>
                  <p:nvGrpSpPr>
                    <p:cNvPr id="558" name=""/>
                    <p:cNvGrpSpPr/>
                    <p:nvPr/>
                  </p:nvGrpSpPr>
                  <p:grpSpPr>
                    <a:xfrm>
                      <a:off x="8595360" y="3904920"/>
                      <a:ext cx="461160" cy="461160"/>
                      <a:chOff x="8595360" y="3904920"/>
                      <a:chExt cx="461160" cy="461160"/>
                    </a:xfrm>
                  </p:grpSpPr>
                  <p:sp>
                    <p:nvSpPr>
                      <p:cNvPr id="559" name="任意多边形 225"/>
                      <p:cNvSpPr/>
                      <p:nvPr/>
                    </p:nvSpPr>
                    <p:spPr>
                      <a:xfrm flipV="1" rot="2700000">
                        <a:off x="8690040" y="394452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360 h 380880"/>
                          <a:gd name="textAreaBottom" fmla="*/ 38160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任意多边形 226"/>
                      <p:cNvSpPr/>
                      <p:nvPr/>
                    </p:nvSpPr>
                    <p:spPr>
                      <a:xfrm rot="2700000">
                        <a:off x="8686080" y="4116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任意多边形 227"/>
                      <p:cNvSpPr/>
                      <p:nvPr/>
                    </p:nvSpPr>
                    <p:spPr>
                      <a:xfrm rot="2700000">
                        <a:off x="8745840" y="413352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任意多边形 228"/>
                      <p:cNvSpPr/>
                      <p:nvPr/>
                    </p:nvSpPr>
                    <p:spPr>
                      <a:xfrm flipH="1" rot="2700000">
                        <a:off x="8727480" y="41594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3" name=""/>
                    <p:cNvGrpSpPr/>
                    <p:nvPr/>
                  </p:nvGrpSpPr>
                  <p:grpSpPr>
                    <a:xfrm>
                      <a:off x="8179560" y="4310280"/>
                      <a:ext cx="461160" cy="461160"/>
                      <a:chOff x="8179560" y="4310280"/>
                      <a:chExt cx="461160" cy="461160"/>
                    </a:xfrm>
                  </p:grpSpPr>
                  <p:sp>
                    <p:nvSpPr>
                      <p:cNvPr id="564" name="任意多边形 221"/>
                      <p:cNvSpPr/>
                      <p:nvPr/>
                    </p:nvSpPr>
                    <p:spPr>
                      <a:xfrm rot="2700000">
                        <a:off x="8274240" y="435024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880"/>
                          <a:gd name="textAreaBottom" fmla="*/ 38124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任意多边形 222"/>
                      <p:cNvSpPr/>
                      <p:nvPr/>
                    </p:nvSpPr>
                    <p:spPr>
                      <a:xfrm flipV="1" rot="2700000">
                        <a:off x="8438400" y="43534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任意多边形 223"/>
                      <p:cNvSpPr/>
                      <p:nvPr/>
                    </p:nvSpPr>
                    <p:spPr>
                      <a:xfrm flipV="1" rot="2700000">
                        <a:off x="8475840" y="439236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7" name="任意多边形 224"/>
                      <p:cNvSpPr/>
                      <p:nvPr/>
                    </p:nvSpPr>
                    <p:spPr>
                      <a:xfrm flipH="1" flipV="1" rot="2700000">
                        <a:off x="8480520" y="43956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8184960" y="3899520"/>
                    <a:ext cx="866520" cy="876600"/>
                    <a:chOff x="8184960" y="3899520"/>
                    <a:chExt cx="866520" cy="876600"/>
                  </a:xfrm>
                </p:grpSpPr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8184960" y="3899520"/>
                      <a:ext cx="461160" cy="460800"/>
                      <a:chOff x="8184960" y="3899520"/>
                      <a:chExt cx="461160" cy="460800"/>
                    </a:xfrm>
                  </p:grpSpPr>
                  <p:sp>
                    <p:nvSpPr>
                      <p:cNvPr id="570" name="任意多边形 215"/>
                      <p:cNvSpPr/>
                      <p:nvPr/>
                    </p:nvSpPr>
                    <p:spPr>
                      <a:xfrm flipV="1" rot="18900000">
                        <a:off x="8279640" y="39394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-360 h 380520"/>
                          <a:gd name="textAreaBottom" fmla="*/ 38052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任意多边形 216"/>
                      <p:cNvSpPr/>
                      <p:nvPr/>
                    </p:nvSpPr>
                    <p:spPr>
                      <a:xfrm rot="18900000">
                        <a:off x="8443800" y="41626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任意多边形 217"/>
                      <p:cNvSpPr/>
                      <p:nvPr/>
                    </p:nvSpPr>
                    <p:spPr>
                      <a:xfrm rot="18900000">
                        <a:off x="8481240" y="412308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任意多边形 218"/>
                      <p:cNvSpPr/>
                      <p:nvPr/>
                    </p:nvSpPr>
                    <p:spPr>
                      <a:xfrm flipH="1" rot="18900000">
                        <a:off x="8486280" y="41205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4" name=""/>
                    <p:cNvGrpSpPr/>
                    <p:nvPr/>
                  </p:nvGrpSpPr>
                  <p:grpSpPr>
                    <a:xfrm>
                      <a:off x="8590320" y="4315320"/>
                      <a:ext cx="461160" cy="460800"/>
                      <a:chOff x="8590320" y="4315320"/>
                      <a:chExt cx="461160" cy="460800"/>
                    </a:xfrm>
                  </p:grpSpPr>
                  <p:sp>
                    <p:nvSpPr>
                      <p:cNvPr id="575" name="任意多边形 211"/>
                      <p:cNvSpPr/>
                      <p:nvPr/>
                    </p:nvSpPr>
                    <p:spPr>
                      <a:xfrm rot="18900000">
                        <a:off x="8685000" y="43552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520"/>
                          <a:gd name="textAreaBottom" fmla="*/ 38088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任意多边形 212"/>
                      <p:cNvSpPr/>
                      <p:nvPr/>
                    </p:nvSpPr>
                    <p:spPr>
                      <a:xfrm flipV="1" rot="18900000">
                        <a:off x="8680680" y="44092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任意多边形 213"/>
                      <p:cNvSpPr/>
                      <p:nvPr/>
                    </p:nvSpPr>
                    <p:spPr>
                      <a:xfrm flipV="1" rot="18900000">
                        <a:off x="8740440" y="439308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任意多边形 214"/>
                      <p:cNvSpPr/>
                      <p:nvPr/>
                    </p:nvSpPr>
                    <p:spPr>
                      <a:xfrm flipH="1" flipV="1" rot="18900000">
                        <a:off x="8722080" y="43671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8377560" y="4082040"/>
                <a:ext cx="446760" cy="441360"/>
                <a:chOff x="8377560" y="4082040"/>
                <a:chExt cx="446760" cy="441360"/>
              </a:xfrm>
            </p:grpSpPr>
            <p:sp>
              <p:nvSpPr>
                <p:cNvPr id="580" name="椭圆 202"/>
                <p:cNvSpPr/>
                <p:nvPr/>
              </p:nvSpPr>
              <p:spPr>
                <a:xfrm rot="20317800">
                  <a:off x="8434800" y="4196880"/>
                  <a:ext cx="351720" cy="2718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椭圆 203"/>
                <p:cNvSpPr/>
                <p:nvPr/>
              </p:nvSpPr>
              <p:spPr>
                <a:xfrm rot="20317800">
                  <a:off x="8574840" y="4283280"/>
                  <a:ext cx="189000" cy="20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椭圆 204"/>
                <p:cNvSpPr/>
                <p:nvPr/>
              </p:nvSpPr>
              <p:spPr>
                <a:xfrm rot="20317800">
                  <a:off x="8404920" y="4142880"/>
                  <a:ext cx="377280" cy="22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3" name=""/>
          <p:cNvGrpSpPr/>
          <p:nvPr/>
        </p:nvGrpSpPr>
        <p:grpSpPr>
          <a:xfrm>
            <a:off x="-29520" y="5496120"/>
            <a:ext cx="1130040" cy="1254600"/>
            <a:chOff x="-29520" y="5496120"/>
            <a:chExt cx="1130040" cy="1254600"/>
          </a:xfrm>
        </p:grpSpPr>
        <p:grpSp>
          <p:nvGrpSpPr>
            <p:cNvPr id="584" name=""/>
            <p:cNvGrpSpPr/>
            <p:nvPr/>
          </p:nvGrpSpPr>
          <p:grpSpPr>
            <a:xfrm>
              <a:off x="-29520" y="5496120"/>
              <a:ext cx="1130040" cy="1254600"/>
              <a:chOff x="-29520" y="5496120"/>
              <a:chExt cx="1130040" cy="1254600"/>
            </a:xfrm>
          </p:grpSpPr>
          <p:sp>
            <p:nvSpPr>
              <p:cNvPr id="585" name="任意多边形 601"/>
              <p:cNvSpPr/>
              <p:nvPr/>
            </p:nvSpPr>
            <p:spPr>
              <a:xfrm rot="14884200">
                <a:off x="175680" y="5538600"/>
                <a:ext cx="719280" cy="92880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任意多边形 602"/>
              <p:cNvSpPr/>
              <p:nvPr/>
            </p:nvSpPr>
            <p:spPr>
              <a:xfrm rot="14884200">
                <a:off x="85320" y="5757120"/>
                <a:ext cx="662040" cy="63072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630720"/>
                  <a:gd name="textAreaBottom" fmla="*/ 631080 h 6307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603"/>
              <p:cNvSpPr/>
              <p:nvPr/>
            </p:nvSpPr>
            <p:spPr>
              <a:xfrm rot="20283600">
                <a:off x="253440" y="6087240"/>
                <a:ext cx="592560" cy="2617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任意多边形 604"/>
              <p:cNvSpPr/>
              <p:nvPr/>
            </p:nvSpPr>
            <p:spPr>
              <a:xfrm rot="20883600">
                <a:off x="384840" y="6056280"/>
                <a:ext cx="413640" cy="658800"/>
              </a:xfrm>
              <a:custGeom>
                <a:avLst/>
                <a:gdLst>
                  <a:gd name="textAreaLeft" fmla="*/ 0 w 413640"/>
                  <a:gd name="textAreaRight" fmla="*/ 414000 w 413640"/>
                  <a:gd name="textAreaTop" fmla="*/ 0 h 658800"/>
                  <a:gd name="textAreaBottom" fmla="*/ 659160 h 65880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605"/>
              <p:cNvSpPr/>
              <p:nvPr/>
            </p:nvSpPr>
            <p:spPr>
              <a:xfrm>
                <a:off x="345240" y="5831280"/>
                <a:ext cx="16920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606"/>
              <p:cNvSpPr/>
              <p:nvPr/>
            </p:nvSpPr>
            <p:spPr>
              <a:xfrm rot="19710600">
                <a:off x="627480" y="5712120"/>
                <a:ext cx="14112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任意多边形 607"/>
              <p:cNvSpPr/>
              <p:nvPr/>
            </p:nvSpPr>
            <p:spPr>
              <a:xfrm rot="19710600">
                <a:off x="147600" y="6001560"/>
                <a:ext cx="124560" cy="146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 608"/>
              <p:cNvSpPr/>
              <p:nvPr/>
            </p:nvSpPr>
            <p:spPr>
              <a:xfrm rot="10490400">
                <a:off x="870480" y="6015240"/>
                <a:ext cx="128520" cy="146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任意多边形 609"/>
              <p:cNvSpPr/>
              <p:nvPr/>
            </p:nvSpPr>
            <p:spPr>
              <a:xfrm>
                <a:off x="480600" y="6161040"/>
                <a:ext cx="132840" cy="1206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任意多边形 610"/>
              <p:cNvSpPr/>
              <p:nvPr/>
            </p:nvSpPr>
            <p:spPr>
              <a:xfrm>
                <a:off x="627840" y="6161400"/>
                <a:ext cx="84600" cy="60840"/>
              </a:xfrm>
              <a:custGeom>
                <a:avLst/>
                <a:gdLst>
                  <a:gd name="textAreaLeft" fmla="*/ 0 w 84600"/>
                  <a:gd name="textAreaRight" fmla="*/ 84600 w 84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新月形 611"/>
              <p:cNvSpPr/>
              <p:nvPr/>
            </p:nvSpPr>
            <p:spPr>
              <a:xfrm rot="15871800">
                <a:off x="570600" y="645048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新月形 612"/>
              <p:cNvSpPr/>
              <p:nvPr/>
            </p:nvSpPr>
            <p:spPr>
              <a:xfrm rot="15871800">
                <a:off x="628200" y="6555240"/>
                <a:ext cx="41400" cy="12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椭圆 593"/>
            <p:cNvSpPr/>
            <p:nvPr/>
          </p:nvSpPr>
          <p:spPr>
            <a:xfrm>
              <a:off x="657720" y="626688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08120" y="6307560"/>
              <a:ext cx="73080" cy="81360"/>
              <a:chOff x="708120" y="6307560"/>
              <a:chExt cx="73080" cy="81360"/>
            </a:xfrm>
          </p:grpSpPr>
          <p:sp>
            <p:nvSpPr>
              <p:cNvPr id="599" name="椭圆 599"/>
              <p:cNvSpPr/>
              <p:nvPr/>
            </p:nvSpPr>
            <p:spPr>
              <a:xfrm>
                <a:off x="716400" y="630756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600"/>
              <p:cNvSpPr/>
              <p:nvPr/>
            </p:nvSpPr>
            <p:spPr>
              <a:xfrm>
                <a:off x="708120" y="631404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椭圆 595"/>
            <p:cNvSpPr/>
            <p:nvPr/>
          </p:nvSpPr>
          <p:spPr>
            <a:xfrm>
              <a:off x="542160" y="626688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83560" y="6324840"/>
              <a:ext cx="73080" cy="81360"/>
              <a:chOff x="583560" y="6324840"/>
              <a:chExt cx="73080" cy="81360"/>
            </a:xfrm>
          </p:grpSpPr>
          <p:sp>
            <p:nvSpPr>
              <p:cNvPr id="603" name="椭圆 597"/>
              <p:cNvSpPr/>
              <p:nvPr/>
            </p:nvSpPr>
            <p:spPr>
              <a:xfrm>
                <a:off x="591840" y="632484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椭圆 598"/>
              <p:cNvSpPr/>
              <p:nvPr/>
            </p:nvSpPr>
            <p:spPr>
              <a:xfrm>
                <a:off x="583560" y="633132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任意多边形 613"/>
          <p:cNvSpPr/>
          <p:nvPr/>
        </p:nvSpPr>
        <p:spPr>
          <a:xfrm>
            <a:off x="3070080" y="5272200"/>
            <a:ext cx="642960" cy="299880"/>
          </a:xfrm>
          <a:custGeom>
            <a:avLst/>
            <a:gdLst>
              <a:gd name="textAreaLeft" fmla="*/ 0 w 642960"/>
              <a:gd name="textAreaRight" fmla="*/ 643320 w 64296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93843" h="333499">
                <a:moveTo>
                  <a:pt x="257773" y="77694"/>
                </a:moveTo>
                <a:cubicBezTo>
                  <a:pt x="303062" y="49627"/>
                  <a:pt x="398220" y="86659"/>
                  <a:pt x="437067" y="77694"/>
                </a:cubicBezTo>
                <a:cubicBezTo>
                  <a:pt x="475914" y="68729"/>
                  <a:pt x="493843" y="0"/>
                  <a:pt x="490855" y="23906"/>
                </a:cubicBezTo>
                <a:cubicBezTo>
                  <a:pt x="487867" y="47812"/>
                  <a:pt x="490856" y="173317"/>
                  <a:pt x="419138" y="221129"/>
                </a:cubicBezTo>
                <a:cubicBezTo>
                  <a:pt x="347420" y="268941"/>
                  <a:pt x="85240" y="323913"/>
                  <a:pt x="42620" y="328706"/>
                </a:cubicBezTo>
                <a:cubicBezTo>
                  <a:pt x="0" y="333499"/>
                  <a:pt x="34952" y="285329"/>
                  <a:pt x="163415" y="249890"/>
                </a:cubicBezTo>
                <a:cubicBezTo>
                  <a:pt x="194868" y="192491"/>
                  <a:pt x="184423" y="112717"/>
                  <a:pt x="257773" y="77694"/>
                </a:cubicBezTo>
                <a:close/>
              </a:path>
            </a:pathLst>
          </a:custGeom>
          <a:solidFill>
            <a:srgbClr val="5ab804"/>
          </a:solidFill>
          <a:ln w="25560">
            <a:solidFill>
              <a:srgbClr val="4f6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13520" y="5798520"/>
            <a:ext cx="830160" cy="920520"/>
            <a:chOff x="713520" y="5798520"/>
            <a:chExt cx="830160" cy="920520"/>
          </a:xfrm>
        </p:grpSpPr>
        <p:grpSp>
          <p:nvGrpSpPr>
            <p:cNvPr id="607" name=""/>
            <p:cNvGrpSpPr/>
            <p:nvPr/>
          </p:nvGrpSpPr>
          <p:grpSpPr>
            <a:xfrm>
              <a:off x="713520" y="5798520"/>
              <a:ext cx="830160" cy="920520"/>
              <a:chOff x="713520" y="5798520"/>
              <a:chExt cx="830160" cy="920520"/>
            </a:xfrm>
          </p:grpSpPr>
          <p:sp>
            <p:nvSpPr>
              <p:cNvPr id="608" name="任意多边形 624"/>
              <p:cNvSpPr/>
              <p:nvPr/>
            </p:nvSpPr>
            <p:spPr>
              <a:xfrm rot="14884200">
                <a:off x="864720" y="5829120"/>
                <a:ext cx="527400" cy="682560"/>
              </a:xfrm>
              <a:custGeom>
                <a:avLst/>
                <a:gdLst>
                  <a:gd name="textAreaLeft" fmla="*/ 0 w 527400"/>
                  <a:gd name="textAreaRight" fmla="*/ 527760 w 527400"/>
                  <a:gd name="textAreaTop" fmla="*/ 0 h 682560"/>
                  <a:gd name="textAreaBottom" fmla="*/ 682920 h 68256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任意多边形 625"/>
              <p:cNvSpPr/>
              <p:nvPr/>
            </p:nvSpPr>
            <p:spPr>
              <a:xfrm rot="14884200">
                <a:off x="798120" y="5990040"/>
                <a:ext cx="485280" cy="463680"/>
              </a:xfrm>
              <a:custGeom>
                <a:avLst/>
                <a:gdLst>
                  <a:gd name="textAreaLeft" fmla="*/ 0 w 485280"/>
                  <a:gd name="textAreaRight" fmla="*/ 485640 w 48528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626"/>
              <p:cNvSpPr/>
              <p:nvPr/>
            </p:nvSpPr>
            <p:spPr>
              <a:xfrm rot="20283600">
                <a:off x="920880" y="6231960"/>
                <a:ext cx="435600" cy="19188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任意多边形 627"/>
              <p:cNvSpPr/>
              <p:nvPr/>
            </p:nvSpPr>
            <p:spPr>
              <a:xfrm rot="20883600">
                <a:off x="1017720" y="6209640"/>
                <a:ext cx="303840" cy="48312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483120"/>
                  <a:gd name="textAreaBottom" fmla="*/ 483480 h 48312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628"/>
              <p:cNvSpPr/>
              <p:nvPr/>
            </p:nvSpPr>
            <p:spPr>
              <a:xfrm>
                <a:off x="988560" y="6044760"/>
                <a:ext cx="124560" cy="131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629"/>
              <p:cNvSpPr/>
              <p:nvPr/>
            </p:nvSpPr>
            <p:spPr>
              <a:xfrm rot="19710600">
                <a:off x="1195920" y="5956920"/>
                <a:ext cx="103680" cy="131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任意多边形 630"/>
              <p:cNvSpPr/>
              <p:nvPr/>
            </p:nvSpPr>
            <p:spPr>
              <a:xfrm rot="19710600">
                <a:off x="843840" y="6169320"/>
                <a:ext cx="91440" cy="10764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任意多边形 631"/>
              <p:cNvSpPr/>
              <p:nvPr/>
            </p:nvSpPr>
            <p:spPr>
              <a:xfrm rot="10490400">
                <a:off x="1375200" y="6179760"/>
                <a:ext cx="94320" cy="1076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任意多边形 632"/>
              <p:cNvSpPr/>
              <p:nvPr/>
            </p:nvSpPr>
            <p:spPr>
              <a:xfrm>
                <a:off x="1087920" y="6286680"/>
                <a:ext cx="97560" cy="885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88560"/>
                  <a:gd name="textAreaBottom" fmla="*/ 88560 h 8856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任意多边形 633"/>
              <p:cNvSpPr/>
              <p:nvPr/>
            </p:nvSpPr>
            <p:spPr>
              <a:xfrm>
                <a:off x="1196280" y="6286680"/>
                <a:ext cx="62280" cy="446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新月形 634"/>
              <p:cNvSpPr/>
              <p:nvPr/>
            </p:nvSpPr>
            <p:spPr>
              <a:xfrm rot="15871800">
                <a:off x="1154880" y="6497640"/>
                <a:ext cx="109080" cy="186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新月形 635"/>
              <p:cNvSpPr/>
              <p:nvPr/>
            </p:nvSpPr>
            <p:spPr>
              <a:xfrm rot="15871800">
                <a:off x="1196640" y="657540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椭圆 616"/>
            <p:cNvSpPr/>
            <p:nvPr/>
          </p:nvSpPr>
          <p:spPr>
            <a:xfrm>
              <a:off x="1218240" y="6364080"/>
              <a:ext cx="84960" cy="1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255320" y="6393960"/>
              <a:ext cx="53640" cy="59760"/>
              <a:chOff x="1255320" y="6393960"/>
              <a:chExt cx="53640" cy="59760"/>
            </a:xfrm>
          </p:grpSpPr>
          <p:sp>
            <p:nvSpPr>
              <p:cNvPr id="622" name="椭圆 622"/>
              <p:cNvSpPr/>
              <p:nvPr/>
            </p:nvSpPr>
            <p:spPr>
              <a:xfrm>
                <a:off x="1261440" y="6393960"/>
                <a:ext cx="47520" cy="5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椭圆 623"/>
              <p:cNvSpPr/>
              <p:nvPr/>
            </p:nvSpPr>
            <p:spPr>
              <a:xfrm>
                <a:off x="1255320" y="6398640"/>
                <a:ext cx="3024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椭圆 618"/>
            <p:cNvSpPr/>
            <p:nvPr/>
          </p:nvSpPr>
          <p:spPr>
            <a:xfrm>
              <a:off x="1133280" y="6364080"/>
              <a:ext cx="84960" cy="1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1163880" y="6406560"/>
              <a:ext cx="53640" cy="59760"/>
              <a:chOff x="1163880" y="6406560"/>
              <a:chExt cx="53640" cy="59760"/>
            </a:xfrm>
          </p:grpSpPr>
          <p:sp>
            <p:nvSpPr>
              <p:cNvPr id="626" name="椭圆 620"/>
              <p:cNvSpPr/>
              <p:nvPr/>
            </p:nvSpPr>
            <p:spPr>
              <a:xfrm>
                <a:off x="1170000" y="6406560"/>
                <a:ext cx="47520" cy="5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621"/>
              <p:cNvSpPr/>
              <p:nvPr/>
            </p:nvSpPr>
            <p:spPr>
              <a:xfrm>
                <a:off x="1163880" y="6411240"/>
                <a:ext cx="3024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428400" y="642600"/>
            <a:ext cx="1071720" cy="705240"/>
            <a:chOff x="428400" y="642600"/>
            <a:chExt cx="1071720" cy="705240"/>
          </a:xfrm>
        </p:grpSpPr>
        <p:grpSp>
          <p:nvGrpSpPr>
            <p:cNvPr id="629" name=""/>
            <p:cNvGrpSpPr/>
            <p:nvPr/>
          </p:nvGrpSpPr>
          <p:grpSpPr>
            <a:xfrm>
              <a:off x="428400" y="642600"/>
              <a:ext cx="338760" cy="338760"/>
              <a:chOff x="428400" y="642600"/>
              <a:chExt cx="338760" cy="33876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556920" y="642600"/>
                <a:ext cx="82080" cy="338760"/>
                <a:chOff x="556920" y="642600"/>
                <a:chExt cx="82080" cy="338760"/>
              </a:xfrm>
            </p:grpSpPr>
            <p:sp>
              <p:nvSpPr>
                <p:cNvPr id="631" name="任意多边形 656"/>
                <p:cNvSpPr/>
                <p:nvPr/>
              </p:nvSpPr>
              <p:spPr>
                <a:xfrm>
                  <a:off x="556920" y="81684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任意多边形 657"/>
                <p:cNvSpPr/>
                <p:nvPr/>
              </p:nvSpPr>
              <p:spPr>
                <a:xfrm flipV="1">
                  <a:off x="556920" y="64224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28400" y="771120"/>
                <a:ext cx="338760" cy="82080"/>
                <a:chOff x="428400" y="771120"/>
                <a:chExt cx="338760" cy="82080"/>
              </a:xfrm>
            </p:grpSpPr>
            <p:sp>
              <p:nvSpPr>
                <p:cNvPr id="634" name="任意多边形 654"/>
                <p:cNvSpPr/>
                <p:nvPr/>
              </p:nvSpPr>
              <p:spPr>
                <a:xfrm rot="16200000">
                  <a:off x="643680" y="729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任意多边形 655"/>
                <p:cNvSpPr/>
                <p:nvPr/>
              </p:nvSpPr>
              <p:spPr>
                <a:xfrm flipV="1" rot="16200000">
                  <a:off x="469440" y="729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"/>
            <p:cNvGrpSpPr/>
            <p:nvPr/>
          </p:nvGrpSpPr>
          <p:grpSpPr>
            <a:xfrm>
              <a:off x="794880" y="1009080"/>
              <a:ext cx="338760" cy="338760"/>
              <a:chOff x="794880" y="1009080"/>
              <a:chExt cx="338760" cy="33876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923400" y="1009080"/>
                <a:ext cx="82080" cy="338760"/>
                <a:chOff x="923400" y="1009080"/>
                <a:chExt cx="82080" cy="338760"/>
              </a:xfrm>
            </p:grpSpPr>
            <p:sp>
              <p:nvSpPr>
                <p:cNvPr id="638" name="任意多边形 650"/>
                <p:cNvSpPr/>
                <p:nvPr/>
              </p:nvSpPr>
              <p:spPr>
                <a:xfrm>
                  <a:off x="923400" y="11833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任意多边形 651"/>
                <p:cNvSpPr/>
                <p:nvPr/>
              </p:nvSpPr>
              <p:spPr>
                <a:xfrm flipV="1">
                  <a:off x="923400" y="1008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794880" y="1137600"/>
                <a:ext cx="338760" cy="82080"/>
                <a:chOff x="794880" y="1137600"/>
                <a:chExt cx="338760" cy="82080"/>
              </a:xfrm>
            </p:grpSpPr>
            <p:sp>
              <p:nvSpPr>
                <p:cNvPr id="641" name="任意多边形 648"/>
                <p:cNvSpPr/>
                <p:nvPr/>
              </p:nvSpPr>
              <p:spPr>
                <a:xfrm rot="16200000">
                  <a:off x="1010160" y="109620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任意多边形 649"/>
                <p:cNvSpPr/>
                <p:nvPr/>
              </p:nvSpPr>
              <p:spPr>
                <a:xfrm flipV="1" rot="16200000">
                  <a:off x="835920" y="109620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3" name=""/>
            <p:cNvGrpSpPr/>
            <p:nvPr/>
          </p:nvGrpSpPr>
          <p:grpSpPr>
            <a:xfrm>
              <a:off x="1161360" y="642600"/>
              <a:ext cx="338760" cy="338760"/>
              <a:chOff x="1161360" y="642600"/>
              <a:chExt cx="338760" cy="3387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1289880" y="642600"/>
                <a:ext cx="82080" cy="338760"/>
                <a:chOff x="1289880" y="642600"/>
                <a:chExt cx="82080" cy="338760"/>
              </a:xfrm>
            </p:grpSpPr>
            <p:sp>
              <p:nvSpPr>
                <p:cNvPr id="645" name="任意多边形 644"/>
                <p:cNvSpPr/>
                <p:nvPr/>
              </p:nvSpPr>
              <p:spPr>
                <a:xfrm>
                  <a:off x="1289880" y="81684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645"/>
                <p:cNvSpPr/>
                <p:nvPr/>
              </p:nvSpPr>
              <p:spPr>
                <a:xfrm flipV="1">
                  <a:off x="1289880" y="64224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161360" y="771120"/>
                <a:ext cx="338760" cy="82080"/>
                <a:chOff x="1161360" y="771120"/>
                <a:chExt cx="338760" cy="82080"/>
              </a:xfrm>
            </p:grpSpPr>
            <p:sp>
              <p:nvSpPr>
                <p:cNvPr id="648" name="任意多边形 642"/>
                <p:cNvSpPr/>
                <p:nvPr/>
              </p:nvSpPr>
              <p:spPr>
                <a:xfrm rot="16200000">
                  <a:off x="1376640" y="729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 643"/>
                <p:cNvSpPr/>
                <p:nvPr/>
              </p:nvSpPr>
              <p:spPr>
                <a:xfrm flipV="1" rot="16200000">
                  <a:off x="1202400" y="729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0" name=""/>
          <p:cNvGrpSpPr/>
          <p:nvPr/>
        </p:nvGrpSpPr>
        <p:grpSpPr>
          <a:xfrm>
            <a:off x="1928520" y="428400"/>
            <a:ext cx="857160" cy="563760"/>
            <a:chOff x="1928520" y="428400"/>
            <a:chExt cx="857160" cy="563760"/>
          </a:xfrm>
        </p:grpSpPr>
        <p:grpSp>
          <p:nvGrpSpPr>
            <p:cNvPr id="651" name=""/>
            <p:cNvGrpSpPr/>
            <p:nvPr/>
          </p:nvGrpSpPr>
          <p:grpSpPr>
            <a:xfrm>
              <a:off x="2514960" y="721440"/>
              <a:ext cx="270720" cy="270720"/>
              <a:chOff x="2514960" y="721440"/>
              <a:chExt cx="270720" cy="27072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617560" y="721440"/>
                <a:ext cx="65880" cy="270720"/>
                <a:chOff x="2617560" y="721440"/>
                <a:chExt cx="65880" cy="270720"/>
              </a:xfrm>
            </p:grpSpPr>
            <p:sp>
              <p:nvSpPr>
                <p:cNvPr id="653" name="任意多边形 678"/>
                <p:cNvSpPr/>
                <p:nvPr/>
              </p:nvSpPr>
              <p:spPr>
                <a:xfrm flipH="1" flipV="1">
                  <a:off x="2617200" y="72108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-360 h 131400"/>
                    <a:gd name="textAreaBottom" fmla="*/ 13140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 679"/>
                <p:cNvSpPr/>
                <p:nvPr/>
              </p:nvSpPr>
              <p:spPr>
                <a:xfrm flipH="1">
                  <a:off x="2617200" y="86076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2514960" y="824040"/>
                <a:ext cx="270720" cy="65520"/>
                <a:chOff x="2514960" y="824040"/>
                <a:chExt cx="270720" cy="65520"/>
              </a:xfrm>
            </p:grpSpPr>
            <p:sp>
              <p:nvSpPr>
                <p:cNvPr id="656" name="任意多边形 676"/>
                <p:cNvSpPr/>
                <p:nvPr/>
              </p:nvSpPr>
              <p:spPr>
                <a:xfrm flipH="1" flipV="1" rot="16200000">
                  <a:off x="2548080" y="79092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360 h 131760"/>
                    <a:gd name="textAreaBottom" fmla="*/ 13248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 677"/>
                <p:cNvSpPr/>
                <p:nvPr/>
              </p:nvSpPr>
              <p:spPr>
                <a:xfrm flipH="1" rot="16200000">
                  <a:off x="2687040" y="79092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"/>
            <p:cNvGrpSpPr/>
            <p:nvPr/>
          </p:nvGrpSpPr>
          <p:grpSpPr>
            <a:xfrm>
              <a:off x="2221920" y="428400"/>
              <a:ext cx="270720" cy="270720"/>
              <a:chOff x="2221920" y="428400"/>
              <a:chExt cx="270720" cy="27072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2324520" y="428400"/>
                <a:ext cx="65880" cy="270720"/>
                <a:chOff x="2324520" y="428400"/>
                <a:chExt cx="65880" cy="270720"/>
              </a:xfrm>
            </p:grpSpPr>
            <p:sp>
              <p:nvSpPr>
                <p:cNvPr id="660" name="任意多边形 672"/>
                <p:cNvSpPr/>
                <p:nvPr/>
              </p:nvSpPr>
              <p:spPr>
                <a:xfrm flipH="1" flipV="1">
                  <a:off x="2324160" y="42804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-360 h 131400"/>
                    <a:gd name="textAreaBottom" fmla="*/ 13140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 673"/>
                <p:cNvSpPr/>
                <p:nvPr/>
              </p:nvSpPr>
              <p:spPr>
                <a:xfrm flipH="1">
                  <a:off x="2324160" y="56772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2221920" y="531000"/>
                <a:ext cx="270720" cy="65520"/>
                <a:chOff x="2221920" y="531000"/>
                <a:chExt cx="270720" cy="65520"/>
              </a:xfrm>
            </p:grpSpPr>
            <p:sp>
              <p:nvSpPr>
                <p:cNvPr id="663" name="任意多边形 670"/>
                <p:cNvSpPr/>
                <p:nvPr/>
              </p:nvSpPr>
              <p:spPr>
                <a:xfrm flipH="1" flipV="1" rot="16200000">
                  <a:off x="2255040" y="49788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360 h 131760"/>
                    <a:gd name="textAreaBottom" fmla="*/ 13248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任意多边形 671"/>
                <p:cNvSpPr/>
                <p:nvPr/>
              </p:nvSpPr>
              <p:spPr>
                <a:xfrm flipH="1" rot="16200000">
                  <a:off x="2394000" y="49788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5" name=""/>
            <p:cNvGrpSpPr/>
            <p:nvPr/>
          </p:nvGrpSpPr>
          <p:grpSpPr>
            <a:xfrm>
              <a:off x="1928520" y="721440"/>
              <a:ext cx="270720" cy="270720"/>
              <a:chOff x="1928520" y="721440"/>
              <a:chExt cx="270720" cy="27072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2031120" y="721440"/>
                <a:ext cx="65880" cy="270720"/>
                <a:chOff x="2031120" y="721440"/>
                <a:chExt cx="65880" cy="270720"/>
              </a:xfrm>
            </p:grpSpPr>
            <p:sp>
              <p:nvSpPr>
                <p:cNvPr id="667" name="任意多边形 666"/>
                <p:cNvSpPr/>
                <p:nvPr/>
              </p:nvSpPr>
              <p:spPr>
                <a:xfrm flipH="1" flipV="1">
                  <a:off x="2030760" y="72108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-360 h 131400"/>
                    <a:gd name="textAreaBottom" fmla="*/ 13140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 667"/>
                <p:cNvSpPr/>
                <p:nvPr/>
              </p:nvSpPr>
              <p:spPr>
                <a:xfrm flipH="1">
                  <a:off x="2030760" y="86076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928520" y="824040"/>
                <a:ext cx="270720" cy="65520"/>
                <a:chOff x="1928520" y="824040"/>
                <a:chExt cx="270720" cy="65520"/>
              </a:xfrm>
            </p:grpSpPr>
            <p:sp>
              <p:nvSpPr>
                <p:cNvPr id="670" name="任意多边形 664"/>
                <p:cNvSpPr/>
                <p:nvPr/>
              </p:nvSpPr>
              <p:spPr>
                <a:xfrm flipH="1" flipV="1" rot="16200000">
                  <a:off x="1961640" y="79092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360 h 131760"/>
                    <a:gd name="textAreaBottom" fmla="*/ 13248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任意多边形 665"/>
                <p:cNvSpPr/>
                <p:nvPr/>
              </p:nvSpPr>
              <p:spPr>
                <a:xfrm flipH="1" rot="16200000">
                  <a:off x="2100600" y="79092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2" name=""/>
          <p:cNvGrpSpPr/>
          <p:nvPr/>
        </p:nvGrpSpPr>
        <p:grpSpPr>
          <a:xfrm>
            <a:off x="3499920" y="1174680"/>
            <a:ext cx="2866320" cy="5352480"/>
            <a:chOff x="3499920" y="1174680"/>
            <a:chExt cx="2866320" cy="5352480"/>
          </a:xfrm>
        </p:grpSpPr>
        <p:grpSp>
          <p:nvGrpSpPr>
            <p:cNvPr id="673" name=""/>
            <p:cNvGrpSpPr/>
            <p:nvPr/>
          </p:nvGrpSpPr>
          <p:grpSpPr>
            <a:xfrm>
              <a:off x="3799800" y="4312800"/>
              <a:ext cx="2180520" cy="2214360"/>
              <a:chOff x="3799800" y="4312800"/>
              <a:chExt cx="2180520" cy="221436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4070160" y="4375080"/>
                <a:ext cx="1582560" cy="1731960"/>
                <a:chOff x="4070160" y="4375080"/>
                <a:chExt cx="1582560" cy="1731960"/>
              </a:xfrm>
            </p:grpSpPr>
            <p:sp>
              <p:nvSpPr>
                <p:cNvPr id="675" name="任意多边形 759"/>
                <p:cNvSpPr/>
                <p:nvPr/>
              </p:nvSpPr>
              <p:spPr>
                <a:xfrm>
                  <a:off x="4070160" y="4375080"/>
                  <a:ext cx="1582560" cy="1731960"/>
                </a:xfrm>
                <a:custGeom>
                  <a:avLst/>
                  <a:gdLst>
                    <a:gd name="textAreaLeft" fmla="*/ 0 w 1582560"/>
                    <a:gd name="textAreaRight" fmla="*/ 1582920 w 1582560"/>
                    <a:gd name="textAreaTop" fmla="*/ 0 h 1731960"/>
                    <a:gd name="textAreaBottom" fmla="*/ 1732320 h 173196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任意多边形 760"/>
                <p:cNvSpPr/>
                <p:nvPr/>
              </p:nvSpPr>
              <p:spPr>
                <a:xfrm>
                  <a:off x="4284360" y="4660560"/>
                  <a:ext cx="1175040" cy="1285920"/>
                </a:xfrm>
                <a:custGeom>
                  <a:avLst/>
                  <a:gdLst>
                    <a:gd name="textAreaLeft" fmla="*/ 0 w 1175040"/>
                    <a:gd name="textAreaRight" fmla="*/ 1175400 w 1175040"/>
                    <a:gd name="textAreaTop" fmla="*/ 0 h 1285920"/>
                    <a:gd name="textAreaBottom" fmla="*/ 1286280 h 128592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799800" y="4504320"/>
                <a:ext cx="2180520" cy="2022840"/>
                <a:chOff x="3799800" y="4504320"/>
                <a:chExt cx="2180520" cy="2022840"/>
              </a:xfrm>
            </p:grpSpPr>
            <p:sp>
              <p:nvSpPr>
                <p:cNvPr id="678" name="圆角矩形 755"/>
                <p:cNvSpPr/>
                <p:nvPr/>
              </p:nvSpPr>
              <p:spPr>
                <a:xfrm rot="1750200">
                  <a:off x="5001120" y="583560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圆角矩形 756"/>
                <p:cNvSpPr/>
                <p:nvPr/>
              </p:nvSpPr>
              <p:spPr>
                <a:xfrm rot="9049800">
                  <a:off x="3863160" y="576288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圆角矩形 757"/>
                <p:cNvSpPr/>
                <p:nvPr/>
              </p:nvSpPr>
              <p:spPr>
                <a:xfrm rot="5647200">
                  <a:off x="4711320" y="478800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圆角矩形 758"/>
                <p:cNvSpPr/>
                <p:nvPr/>
              </p:nvSpPr>
              <p:spPr>
                <a:xfrm rot="4867200">
                  <a:off x="4052160" y="482004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任意多边形 754"/>
              <p:cNvSpPr/>
              <p:nvPr/>
            </p:nvSpPr>
            <p:spPr>
              <a:xfrm>
                <a:off x="4148280" y="4312800"/>
                <a:ext cx="1717920" cy="544680"/>
              </a:xfrm>
              <a:custGeom>
                <a:avLst/>
                <a:gdLst>
                  <a:gd name="textAreaLeft" fmla="*/ 0 w 1717920"/>
                  <a:gd name="textAreaRight" fmla="*/ 1718280 w 171792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499920" y="1174680"/>
              <a:ext cx="2866320" cy="3324240"/>
              <a:chOff x="3499920" y="1174680"/>
              <a:chExt cx="2866320" cy="332424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4740480" y="1689840"/>
                <a:ext cx="1152360" cy="1942200"/>
                <a:chOff x="4740480" y="1689840"/>
                <a:chExt cx="1152360" cy="1942200"/>
              </a:xfrm>
            </p:grpSpPr>
            <p:sp>
              <p:nvSpPr>
                <p:cNvPr id="685" name="圆角矩形 750"/>
                <p:cNvSpPr/>
                <p:nvPr/>
              </p:nvSpPr>
              <p:spPr>
                <a:xfrm rot="1156200">
                  <a:off x="5031000" y="173196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圆角矩形 751"/>
                <p:cNvSpPr/>
                <p:nvPr/>
              </p:nvSpPr>
              <p:spPr>
                <a:xfrm rot="1156200">
                  <a:off x="5104080" y="198612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3662640" y="1174680"/>
                <a:ext cx="1225080" cy="1936440"/>
                <a:chOff x="3662640" y="1174680"/>
                <a:chExt cx="1225080" cy="1936440"/>
              </a:xfrm>
            </p:grpSpPr>
            <p:sp>
              <p:nvSpPr>
                <p:cNvPr id="688" name="圆角矩形 748"/>
                <p:cNvSpPr/>
                <p:nvPr/>
              </p:nvSpPr>
              <p:spPr>
                <a:xfrm rot="20281200">
                  <a:off x="3989160" y="121392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圆角矩形 749"/>
                <p:cNvSpPr/>
                <p:nvPr/>
              </p:nvSpPr>
              <p:spPr>
                <a:xfrm rot="20281200">
                  <a:off x="4151520" y="147384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任意多边形 726"/>
              <p:cNvSpPr/>
              <p:nvPr/>
            </p:nvSpPr>
            <p:spPr>
              <a:xfrm>
                <a:off x="3846960" y="2571480"/>
                <a:ext cx="2260080" cy="1927440"/>
              </a:xfrm>
              <a:custGeom>
                <a:avLst/>
                <a:gdLst>
                  <a:gd name="textAreaLeft" fmla="*/ 0 w 2260080"/>
                  <a:gd name="textAreaRight" fmla="*/ 2260440 w 2260080"/>
                  <a:gd name="textAreaTop" fmla="*/ 0 h 1927440"/>
                  <a:gd name="textAreaBottom" fmla="*/ 1927800 h 192744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4418280" y="3143160"/>
                <a:ext cx="356760" cy="500040"/>
                <a:chOff x="4418280" y="3143160"/>
                <a:chExt cx="356760" cy="500040"/>
              </a:xfrm>
            </p:grpSpPr>
            <p:sp>
              <p:nvSpPr>
                <p:cNvPr id="692" name="椭圆 744"/>
                <p:cNvSpPr/>
                <p:nvPr/>
              </p:nvSpPr>
              <p:spPr>
                <a:xfrm>
                  <a:off x="4418280" y="314316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745"/>
                <p:cNvSpPr/>
                <p:nvPr/>
              </p:nvSpPr>
              <p:spPr>
                <a:xfrm>
                  <a:off x="4460400" y="323460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椭圆 746"/>
                <p:cNvSpPr/>
                <p:nvPr/>
              </p:nvSpPr>
              <p:spPr>
                <a:xfrm rot="600000">
                  <a:off x="4440240" y="321480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椭圆 747"/>
                <p:cNvSpPr/>
                <p:nvPr/>
              </p:nvSpPr>
              <p:spPr>
                <a:xfrm rot="300000">
                  <a:off x="4550040" y="338940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5203800" y="3214800"/>
                <a:ext cx="356760" cy="500040"/>
                <a:chOff x="5203800" y="3214800"/>
                <a:chExt cx="356760" cy="500040"/>
              </a:xfrm>
            </p:grpSpPr>
            <p:sp>
              <p:nvSpPr>
                <p:cNvPr id="697" name="椭圆 740"/>
                <p:cNvSpPr/>
                <p:nvPr/>
              </p:nvSpPr>
              <p:spPr>
                <a:xfrm>
                  <a:off x="5203800" y="321480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椭圆 741"/>
                <p:cNvSpPr/>
                <p:nvPr/>
              </p:nvSpPr>
              <p:spPr>
                <a:xfrm>
                  <a:off x="5245920" y="330624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742"/>
                <p:cNvSpPr/>
                <p:nvPr/>
              </p:nvSpPr>
              <p:spPr>
                <a:xfrm rot="600000">
                  <a:off x="5225760" y="328644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椭圆 743"/>
                <p:cNvSpPr/>
                <p:nvPr/>
              </p:nvSpPr>
              <p:spPr>
                <a:xfrm rot="300000">
                  <a:off x="5335560" y="346104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圆角矩形 729"/>
              <p:cNvSpPr/>
              <p:nvPr/>
            </p:nvSpPr>
            <p:spPr>
              <a:xfrm rot="7542000">
                <a:off x="5475600" y="1623600"/>
                <a:ext cx="571320" cy="1078920"/>
              </a:xfrm>
              <a:custGeom>
                <a:avLst/>
                <a:gdLst>
                  <a:gd name="textAreaLeft" fmla="*/ 83520 w 571320"/>
                  <a:gd name="textAreaRight" fmla="*/ 487800 w 571320"/>
                  <a:gd name="textAreaTop" fmla="*/ 83520 h 1078920"/>
                  <a:gd name="textAreaBottom" fmla="*/ 995400 h 1078920"/>
                </a:gdLst>
                <a:ahLst/>
                <a:rect l="textAreaLeft" t="textAreaTop" r="textAreaRight" b="textAreaBottom"/>
                <a:pathLst>
                  <a:path w="21600" h="40779">
                    <a:moveTo>
                      <a:pt x="10800" y="0"/>
                    </a:moveTo>
                    <a:arcTo wR="10800" hR="10800" stAng="16200000" swAng="-5400000"/>
                    <a:lnTo>
                      <a:pt x="0" y="29979"/>
                    </a:lnTo>
                    <a:arcTo wR="10800" hR="10800" stAng="10800000" swAng="-5400000"/>
                    <a:lnTo>
                      <a:pt x="10800" y="40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730"/>
              <p:cNvSpPr/>
              <p:nvPr/>
            </p:nvSpPr>
            <p:spPr>
              <a:xfrm>
                <a:off x="3846960" y="350028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731"/>
              <p:cNvSpPr/>
              <p:nvPr/>
            </p:nvSpPr>
            <p:spPr>
              <a:xfrm>
                <a:off x="5060880" y="357192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5535000" y="3826440"/>
                <a:ext cx="830880" cy="473760"/>
                <a:chOff x="5535000" y="3826440"/>
                <a:chExt cx="830880" cy="473760"/>
              </a:xfrm>
            </p:grpSpPr>
            <p:sp>
              <p:nvSpPr>
                <p:cNvPr id="705" name="任意多边形 738"/>
                <p:cNvSpPr/>
                <p:nvPr/>
              </p:nvSpPr>
              <p:spPr>
                <a:xfrm>
                  <a:off x="5535000" y="3826440"/>
                  <a:ext cx="830880" cy="10368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任意多边形 739"/>
                <p:cNvSpPr/>
                <p:nvPr/>
              </p:nvSpPr>
              <p:spPr>
                <a:xfrm rot="1453800">
                  <a:off x="5519520" y="4030200"/>
                  <a:ext cx="830880" cy="10368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499920" y="3786120"/>
                <a:ext cx="830880" cy="474120"/>
                <a:chOff x="3499920" y="3786120"/>
                <a:chExt cx="830880" cy="474120"/>
              </a:xfrm>
            </p:grpSpPr>
            <p:sp>
              <p:nvSpPr>
                <p:cNvPr id="708" name="任意多边形 736"/>
                <p:cNvSpPr/>
                <p:nvPr/>
              </p:nvSpPr>
              <p:spPr>
                <a:xfrm flipH="1">
                  <a:off x="3499920" y="3786120"/>
                  <a:ext cx="830880" cy="103680"/>
                </a:xfrm>
                <a:custGeom>
                  <a:avLst/>
                  <a:gdLst>
                    <a:gd name="textAreaLeft" fmla="*/ 360 w 830880"/>
                    <a:gd name="textAreaRight" fmla="*/ 83160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任意多边形 737"/>
                <p:cNvSpPr/>
                <p:nvPr/>
              </p:nvSpPr>
              <p:spPr>
                <a:xfrm flipH="1" rot="20146200">
                  <a:off x="3514680" y="3989880"/>
                  <a:ext cx="830880" cy="104040"/>
                </a:xfrm>
                <a:custGeom>
                  <a:avLst/>
                  <a:gdLst>
                    <a:gd name="textAreaLeft" fmla="*/ 360 w 830880"/>
                    <a:gd name="textAreaRight" fmla="*/ 831600 w 83088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弦形 734"/>
              <p:cNvSpPr/>
              <p:nvPr/>
            </p:nvSpPr>
            <p:spPr>
              <a:xfrm rot="17476200">
                <a:off x="4766400" y="3713040"/>
                <a:ext cx="303120" cy="1882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椭圆 735"/>
              <p:cNvSpPr/>
              <p:nvPr/>
            </p:nvSpPr>
            <p:spPr>
              <a:xfrm>
                <a:off x="4775400" y="4060440"/>
                <a:ext cx="214200" cy="21420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4646520" y="-235440"/>
            <a:ext cx="2658600" cy="2762280"/>
            <a:chOff x="4646520" y="-235440"/>
            <a:chExt cx="2658600" cy="2762280"/>
          </a:xfrm>
        </p:grpSpPr>
        <p:sp>
          <p:nvSpPr>
            <p:cNvPr id="713" name="任意多边形 681"/>
            <p:cNvSpPr/>
            <p:nvPr/>
          </p:nvSpPr>
          <p:spPr>
            <a:xfrm rot="20317200">
              <a:off x="7066440" y="1359360"/>
              <a:ext cx="218880" cy="666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9075" h="66675">
                  <a:moveTo>
                    <a:pt x="0" y="9525"/>
                  </a:moveTo>
                  <a:lnTo>
                    <a:pt x="219075" y="0"/>
                  </a:lnTo>
                  <a:lnTo>
                    <a:pt x="9525" y="66675"/>
                  </a:lnTo>
                  <a:lnTo>
                    <a:pt x="0" y="9525"/>
                  </a:lnTo>
                  <a:close/>
                </a:path>
              </a:pathLst>
            </a:cu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 rot="20317200">
              <a:off x="5657040" y="2261160"/>
              <a:ext cx="188640" cy="239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7"/>
            <p:cNvSpPr/>
            <p:nvPr/>
          </p:nvSpPr>
          <p:spPr>
            <a:xfrm rot="20317200">
              <a:off x="5711400" y="-6120"/>
              <a:ext cx="1000080" cy="137304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5038" h="6920">
                  <a:moveTo>
                    <a:pt x="4713" y="3989"/>
                  </a:moveTo>
                  <a:lnTo>
                    <a:pt x="4661" y="4137"/>
                  </a:lnTo>
                  <a:lnTo>
                    <a:pt x="4602" y="4278"/>
                  </a:lnTo>
                  <a:lnTo>
                    <a:pt x="4537" y="4421"/>
                  </a:lnTo>
                  <a:lnTo>
                    <a:pt x="4471" y="4562"/>
                  </a:lnTo>
                  <a:lnTo>
                    <a:pt x="4400" y="4698"/>
                  </a:lnTo>
                  <a:lnTo>
                    <a:pt x="4324" y="4834"/>
                  </a:lnTo>
                  <a:lnTo>
                    <a:pt x="4241" y="4963"/>
                  </a:lnTo>
                  <a:lnTo>
                    <a:pt x="4158" y="5094"/>
                  </a:lnTo>
                  <a:lnTo>
                    <a:pt x="4075" y="5218"/>
                  </a:lnTo>
                  <a:lnTo>
                    <a:pt x="3987" y="5349"/>
                  </a:lnTo>
                  <a:lnTo>
                    <a:pt x="3798" y="5591"/>
                  </a:lnTo>
                  <a:lnTo>
                    <a:pt x="3604" y="5832"/>
                  </a:lnTo>
                  <a:lnTo>
                    <a:pt x="3402" y="6069"/>
                  </a:lnTo>
                  <a:lnTo>
                    <a:pt x="3238" y="6271"/>
                  </a:lnTo>
                  <a:lnTo>
                    <a:pt x="3125" y="6394"/>
                  </a:lnTo>
                  <a:lnTo>
                    <a:pt x="3012" y="6530"/>
                  </a:lnTo>
                  <a:lnTo>
                    <a:pt x="2889" y="6654"/>
                  </a:lnTo>
                  <a:lnTo>
                    <a:pt x="2776" y="6766"/>
                  </a:lnTo>
                  <a:lnTo>
                    <a:pt x="2717" y="6814"/>
                  </a:lnTo>
                  <a:lnTo>
                    <a:pt x="2664" y="6855"/>
                  </a:lnTo>
                  <a:lnTo>
                    <a:pt x="2617" y="6884"/>
                  </a:lnTo>
                  <a:lnTo>
                    <a:pt x="2570" y="6902"/>
                  </a:lnTo>
                  <a:lnTo>
                    <a:pt x="2504" y="6914"/>
                  </a:lnTo>
                  <a:lnTo>
                    <a:pt x="2422" y="6920"/>
                  </a:lnTo>
                  <a:lnTo>
                    <a:pt x="2321" y="6920"/>
                  </a:lnTo>
                  <a:lnTo>
                    <a:pt x="2203" y="6908"/>
                  </a:lnTo>
                  <a:lnTo>
                    <a:pt x="2079" y="6896"/>
                  </a:lnTo>
                  <a:lnTo>
                    <a:pt x="1944" y="6879"/>
                  </a:lnTo>
                  <a:lnTo>
                    <a:pt x="1666" y="6826"/>
                  </a:lnTo>
                  <a:lnTo>
                    <a:pt x="1382" y="6766"/>
                  </a:lnTo>
                  <a:lnTo>
                    <a:pt x="1122" y="6702"/>
                  </a:lnTo>
                  <a:lnTo>
                    <a:pt x="910" y="6642"/>
                  </a:lnTo>
                  <a:lnTo>
                    <a:pt x="767" y="6595"/>
                  </a:lnTo>
                  <a:lnTo>
                    <a:pt x="668" y="6554"/>
                  </a:lnTo>
                  <a:lnTo>
                    <a:pt x="585" y="6518"/>
                  </a:lnTo>
                  <a:lnTo>
                    <a:pt x="513" y="6483"/>
                  </a:lnTo>
                  <a:lnTo>
                    <a:pt x="455" y="6442"/>
                  </a:lnTo>
                  <a:lnTo>
                    <a:pt x="408" y="6388"/>
                  </a:lnTo>
                  <a:lnTo>
                    <a:pt x="366" y="6323"/>
                  </a:lnTo>
                  <a:lnTo>
                    <a:pt x="325" y="6240"/>
                  </a:lnTo>
                  <a:lnTo>
                    <a:pt x="289" y="6140"/>
                  </a:lnTo>
                  <a:lnTo>
                    <a:pt x="225" y="5945"/>
                  </a:lnTo>
                  <a:lnTo>
                    <a:pt x="171" y="5750"/>
                  </a:lnTo>
                  <a:lnTo>
                    <a:pt x="124" y="5549"/>
                  </a:lnTo>
                  <a:lnTo>
                    <a:pt x="83" y="5349"/>
                  </a:lnTo>
                  <a:lnTo>
                    <a:pt x="53" y="5159"/>
                  </a:lnTo>
                  <a:lnTo>
                    <a:pt x="29" y="4958"/>
                  </a:lnTo>
                  <a:lnTo>
                    <a:pt x="12" y="4763"/>
                  </a:lnTo>
                  <a:lnTo>
                    <a:pt x="0" y="4568"/>
                  </a:lnTo>
                  <a:lnTo>
                    <a:pt x="0" y="4373"/>
                  </a:lnTo>
                  <a:lnTo>
                    <a:pt x="6" y="4173"/>
                  </a:lnTo>
                  <a:lnTo>
                    <a:pt x="12" y="3977"/>
                  </a:lnTo>
                  <a:lnTo>
                    <a:pt x="35" y="3782"/>
                  </a:lnTo>
                  <a:lnTo>
                    <a:pt x="59" y="3593"/>
                  </a:lnTo>
                  <a:lnTo>
                    <a:pt x="89" y="3398"/>
                  </a:lnTo>
                  <a:lnTo>
                    <a:pt x="124" y="3209"/>
                  </a:lnTo>
                  <a:lnTo>
                    <a:pt x="171" y="3020"/>
                  </a:lnTo>
                  <a:lnTo>
                    <a:pt x="225" y="2836"/>
                  </a:lnTo>
                  <a:lnTo>
                    <a:pt x="284" y="2653"/>
                  </a:lnTo>
                  <a:lnTo>
                    <a:pt x="349" y="2470"/>
                  </a:lnTo>
                  <a:lnTo>
                    <a:pt x="419" y="2293"/>
                  </a:lnTo>
                  <a:lnTo>
                    <a:pt x="496" y="2116"/>
                  </a:lnTo>
                  <a:lnTo>
                    <a:pt x="579" y="1944"/>
                  </a:lnTo>
                  <a:lnTo>
                    <a:pt x="673" y="1772"/>
                  </a:lnTo>
                  <a:lnTo>
                    <a:pt x="767" y="1608"/>
                  </a:lnTo>
                  <a:lnTo>
                    <a:pt x="874" y="1442"/>
                  </a:lnTo>
                  <a:lnTo>
                    <a:pt x="987" y="1288"/>
                  </a:lnTo>
                  <a:lnTo>
                    <a:pt x="1098" y="1134"/>
                  </a:lnTo>
                  <a:lnTo>
                    <a:pt x="1223" y="987"/>
                  </a:lnTo>
                  <a:lnTo>
                    <a:pt x="1306" y="892"/>
                  </a:lnTo>
                  <a:lnTo>
                    <a:pt x="1400" y="792"/>
                  </a:lnTo>
                  <a:lnTo>
                    <a:pt x="1512" y="686"/>
                  </a:lnTo>
                  <a:lnTo>
                    <a:pt x="1631" y="573"/>
                  </a:lnTo>
                  <a:lnTo>
                    <a:pt x="1766" y="461"/>
                  </a:lnTo>
                  <a:lnTo>
                    <a:pt x="1902" y="354"/>
                  </a:lnTo>
                  <a:lnTo>
                    <a:pt x="2043" y="254"/>
                  </a:lnTo>
                  <a:lnTo>
                    <a:pt x="2192" y="166"/>
                  </a:lnTo>
                  <a:lnTo>
                    <a:pt x="2269" y="131"/>
                  </a:lnTo>
                  <a:lnTo>
                    <a:pt x="2339" y="94"/>
                  </a:lnTo>
                  <a:lnTo>
                    <a:pt x="2416" y="65"/>
                  </a:lnTo>
                  <a:lnTo>
                    <a:pt x="2492" y="41"/>
                  </a:lnTo>
                  <a:lnTo>
                    <a:pt x="2564" y="17"/>
                  </a:lnTo>
                  <a:lnTo>
                    <a:pt x="2635" y="5"/>
                  </a:lnTo>
                  <a:lnTo>
                    <a:pt x="2705" y="0"/>
                  </a:lnTo>
                  <a:lnTo>
                    <a:pt x="2776" y="0"/>
                  </a:lnTo>
                  <a:lnTo>
                    <a:pt x="2846" y="5"/>
                  </a:lnTo>
                  <a:lnTo>
                    <a:pt x="2913" y="17"/>
                  </a:lnTo>
                  <a:lnTo>
                    <a:pt x="2977" y="41"/>
                  </a:lnTo>
                  <a:lnTo>
                    <a:pt x="3042" y="71"/>
                  </a:lnTo>
                  <a:lnTo>
                    <a:pt x="3101" y="113"/>
                  </a:lnTo>
                  <a:lnTo>
                    <a:pt x="3154" y="160"/>
                  </a:lnTo>
                  <a:lnTo>
                    <a:pt x="3214" y="225"/>
                  </a:lnTo>
                  <a:lnTo>
                    <a:pt x="3261" y="289"/>
                  </a:lnTo>
                  <a:lnTo>
                    <a:pt x="3314" y="384"/>
                  </a:lnTo>
                  <a:lnTo>
                    <a:pt x="3361" y="485"/>
                  </a:lnTo>
                  <a:lnTo>
                    <a:pt x="3397" y="585"/>
                  </a:lnTo>
                  <a:lnTo>
                    <a:pt x="3420" y="686"/>
                  </a:lnTo>
                  <a:lnTo>
                    <a:pt x="3438" y="792"/>
                  </a:lnTo>
                  <a:lnTo>
                    <a:pt x="3449" y="898"/>
                  </a:lnTo>
                  <a:lnTo>
                    <a:pt x="3455" y="1011"/>
                  </a:lnTo>
                  <a:lnTo>
                    <a:pt x="3455" y="1123"/>
                  </a:lnTo>
                  <a:lnTo>
                    <a:pt x="3455" y="1229"/>
                  </a:lnTo>
                  <a:lnTo>
                    <a:pt x="3449" y="1342"/>
                  </a:lnTo>
                  <a:lnTo>
                    <a:pt x="3426" y="1567"/>
                  </a:lnTo>
                  <a:lnTo>
                    <a:pt x="3408" y="1778"/>
                  </a:lnTo>
                  <a:lnTo>
                    <a:pt x="3384" y="1986"/>
                  </a:lnTo>
                  <a:lnTo>
                    <a:pt x="3426" y="1891"/>
                  </a:lnTo>
                  <a:lnTo>
                    <a:pt x="3479" y="1796"/>
                  </a:lnTo>
                  <a:lnTo>
                    <a:pt x="3545" y="1702"/>
                  </a:lnTo>
                  <a:lnTo>
                    <a:pt x="3621" y="1613"/>
                  </a:lnTo>
                  <a:lnTo>
                    <a:pt x="3709" y="1519"/>
                  </a:lnTo>
                  <a:lnTo>
                    <a:pt x="3798" y="1436"/>
                  </a:lnTo>
                  <a:lnTo>
                    <a:pt x="3898" y="1360"/>
                  </a:lnTo>
                  <a:lnTo>
                    <a:pt x="3999" y="1294"/>
                  </a:lnTo>
                  <a:lnTo>
                    <a:pt x="4105" y="1241"/>
                  </a:lnTo>
                  <a:lnTo>
                    <a:pt x="4158" y="1223"/>
                  </a:lnTo>
                  <a:lnTo>
                    <a:pt x="4212" y="1205"/>
                  </a:lnTo>
                  <a:lnTo>
                    <a:pt x="4265" y="1188"/>
                  </a:lnTo>
                  <a:lnTo>
                    <a:pt x="4312" y="1182"/>
                  </a:lnTo>
                  <a:lnTo>
                    <a:pt x="4365" y="1176"/>
                  </a:lnTo>
                  <a:lnTo>
                    <a:pt x="4418" y="1176"/>
                  </a:lnTo>
                  <a:lnTo>
                    <a:pt x="4471" y="1182"/>
                  </a:lnTo>
                  <a:lnTo>
                    <a:pt x="4518" y="1188"/>
                  </a:lnTo>
                  <a:lnTo>
                    <a:pt x="4566" y="1205"/>
                  </a:lnTo>
                  <a:lnTo>
                    <a:pt x="4613" y="1229"/>
                  </a:lnTo>
                  <a:lnTo>
                    <a:pt x="4661" y="1253"/>
                  </a:lnTo>
                  <a:lnTo>
                    <a:pt x="4702" y="1288"/>
                  </a:lnTo>
                  <a:lnTo>
                    <a:pt x="4743" y="1330"/>
                  </a:lnTo>
                  <a:lnTo>
                    <a:pt x="4784" y="1377"/>
                  </a:lnTo>
                  <a:lnTo>
                    <a:pt x="4826" y="1442"/>
                  </a:lnTo>
                  <a:lnTo>
                    <a:pt x="4867" y="1507"/>
                  </a:lnTo>
                  <a:lnTo>
                    <a:pt x="4903" y="1572"/>
                  </a:lnTo>
                  <a:lnTo>
                    <a:pt x="4933" y="1649"/>
                  </a:lnTo>
                  <a:lnTo>
                    <a:pt x="4956" y="1720"/>
                  </a:lnTo>
                  <a:lnTo>
                    <a:pt x="4979" y="1796"/>
                  </a:lnTo>
                  <a:lnTo>
                    <a:pt x="4997" y="1879"/>
                  </a:lnTo>
                  <a:lnTo>
                    <a:pt x="5009" y="1962"/>
                  </a:lnTo>
                  <a:lnTo>
                    <a:pt x="5032" y="2128"/>
                  </a:lnTo>
                  <a:lnTo>
                    <a:pt x="5038" y="2304"/>
                  </a:lnTo>
                  <a:lnTo>
                    <a:pt x="5032" y="2482"/>
                  </a:lnTo>
                  <a:lnTo>
                    <a:pt x="5021" y="2664"/>
                  </a:lnTo>
                  <a:lnTo>
                    <a:pt x="4997" y="2848"/>
                  </a:lnTo>
                  <a:lnTo>
                    <a:pt x="4968" y="3026"/>
                  </a:lnTo>
                  <a:lnTo>
                    <a:pt x="4933" y="3203"/>
                  </a:lnTo>
                  <a:lnTo>
                    <a:pt x="4891" y="3375"/>
                  </a:lnTo>
                  <a:lnTo>
                    <a:pt x="4849" y="3545"/>
                  </a:lnTo>
                  <a:lnTo>
                    <a:pt x="4802" y="3699"/>
                  </a:lnTo>
                  <a:lnTo>
                    <a:pt x="4713" y="3989"/>
                  </a:lnTo>
                  <a:close/>
                </a:path>
              </a:pathLst>
            </a:custGeom>
            <a:solidFill>
              <a:srgbClr val="f5dd9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"/>
            <p:cNvSpPr/>
            <p:nvPr/>
          </p:nvSpPr>
          <p:spPr>
            <a:xfrm rot="20317200">
              <a:off x="5609160" y="1559880"/>
              <a:ext cx="352440" cy="75888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777" h="3823">
                  <a:moveTo>
                    <a:pt x="1612" y="1672"/>
                  </a:moveTo>
                  <a:lnTo>
                    <a:pt x="1677" y="1429"/>
                  </a:lnTo>
                  <a:lnTo>
                    <a:pt x="1706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7" y="744"/>
                  </a:lnTo>
                  <a:lnTo>
                    <a:pt x="1765" y="685"/>
                  </a:lnTo>
                  <a:lnTo>
                    <a:pt x="1753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8" y="289"/>
                  </a:lnTo>
                  <a:lnTo>
                    <a:pt x="1594" y="183"/>
                  </a:lnTo>
                  <a:lnTo>
                    <a:pt x="1565" y="136"/>
                  </a:lnTo>
                  <a:lnTo>
                    <a:pt x="1536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2" y="11"/>
                  </a:lnTo>
                  <a:lnTo>
                    <a:pt x="1387" y="0"/>
                  </a:lnTo>
                  <a:lnTo>
                    <a:pt x="1335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7" y="17"/>
                  </a:lnTo>
                  <a:lnTo>
                    <a:pt x="1180" y="30"/>
                  </a:lnTo>
                  <a:lnTo>
                    <a:pt x="1157" y="53"/>
                  </a:lnTo>
                  <a:lnTo>
                    <a:pt x="1127" y="77"/>
                  </a:lnTo>
                  <a:lnTo>
                    <a:pt x="1109" y="106"/>
                  </a:lnTo>
                  <a:lnTo>
                    <a:pt x="1092" y="136"/>
                  </a:lnTo>
                  <a:lnTo>
                    <a:pt x="1074" y="171"/>
                  </a:lnTo>
                  <a:lnTo>
                    <a:pt x="1051" y="242"/>
                  </a:lnTo>
                  <a:lnTo>
                    <a:pt x="1033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33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4" y="1294"/>
                  </a:lnTo>
                  <a:lnTo>
                    <a:pt x="950" y="1501"/>
                  </a:lnTo>
                  <a:lnTo>
                    <a:pt x="892" y="1707"/>
                  </a:lnTo>
                  <a:lnTo>
                    <a:pt x="826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7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4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5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5" y="3640"/>
                  </a:lnTo>
                  <a:lnTo>
                    <a:pt x="17" y="3681"/>
                  </a:lnTo>
                  <a:lnTo>
                    <a:pt x="35" y="3716"/>
                  </a:lnTo>
                  <a:lnTo>
                    <a:pt x="58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0" y="3806"/>
                  </a:lnTo>
                  <a:lnTo>
                    <a:pt x="218" y="3818"/>
                  </a:lnTo>
                  <a:lnTo>
                    <a:pt x="277" y="3823"/>
                  </a:lnTo>
                  <a:lnTo>
                    <a:pt x="324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89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3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6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1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5" y="2103"/>
                  </a:lnTo>
                  <a:lnTo>
                    <a:pt x="1547" y="1885"/>
                  </a:lnTo>
                  <a:lnTo>
                    <a:pt x="1612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 rot="20317200">
              <a:off x="5736240" y="1299960"/>
              <a:ext cx="446040" cy="6030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603000"/>
                <a:gd name="textAreaBottom" fmla="*/ 603000 h 603000"/>
              </a:gdLst>
              <a:ahLst/>
              <a:rect l="textAreaLeft" t="textAreaTop" r="textAreaRight" b="textAreaBottom"/>
              <a:pathLst>
                <a:path w="2250" h="3044">
                  <a:moveTo>
                    <a:pt x="2109" y="0"/>
                  </a:moveTo>
                  <a:lnTo>
                    <a:pt x="1955" y="6"/>
                  </a:lnTo>
                  <a:lnTo>
                    <a:pt x="1802" y="17"/>
                  </a:lnTo>
                  <a:lnTo>
                    <a:pt x="1654" y="35"/>
                  </a:lnTo>
                  <a:lnTo>
                    <a:pt x="1501" y="54"/>
                  </a:lnTo>
                  <a:lnTo>
                    <a:pt x="1258" y="101"/>
                  </a:lnTo>
                  <a:lnTo>
                    <a:pt x="1135" y="125"/>
                  </a:lnTo>
                  <a:lnTo>
                    <a:pt x="1017" y="159"/>
                  </a:lnTo>
                  <a:lnTo>
                    <a:pt x="898" y="195"/>
                  </a:lnTo>
                  <a:lnTo>
                    <a:pt x="786" y="242"/>
                  </a:lnTo>
                  <a:lnTo>
                    <a:pt x="680" y="295"/>
                  </a:lnTo>
                  <a:lnTo>
                    <a:pt x="579" y="355"/>
                  </a:lnTo>
                  <a:lnTo>
                    <a:pt x="497" y="420"/>
                  </a:lnTo>
                  <a:lnTo>
                    <a:pt x="426" y="484"/>
                  </a:lnTo>
                  <a:lnTo>
                    <a:pt x="355" y="550"/>
                  </a:lnTo>
                  <a:lnTo>
                    <a:pt x="290" y="627"/>
                  </a:lnTo>
                  <a:lnTo>
                    <a:pt x="230" y="698"/>
                  </a:lnTo>
                  <a:lnTo>
                    <a:pt x="178" y="774"/>
                  </a:lnTo>
                  <a:lnTo>
                    <a:pt x="131" y="857"/>
                  </a:lnTo>
                  <a:lnTo>
                    <a:pt x="89" y="940"/>
                  </a:lnTo>
                  <a:lnTo>
                    <a:pt x="60" y="1029"/>
                  </a:lnTo>
                  <a:lnTo>
                    <a:pt x="30" y="1111"/>
                  </a:lnTo>
                  <a:lnTo>
                    <a:pt x="13" y="1206"/>
                  </a:lnTo>
                  <a:lnTo>
                    <a:pt x="0" y="1294"/>
                  </a:lnTo>
                  <a:lnTo>
                    <a:pt x="0" y="1389"/>
                  </a:lnTo>
                  <a:lnTo>
                    <a:pt x="0" y="1484"/>
                  </a:lnTo>
                  <a:lnTo>
                    <a:pt x="13" y="1584"/>
                  </a:lnTo>
                  <a:lnTo>
                    <a:pt x="36" y="1684"/>
                  </a:lnTo>
                  <a:lnTo>
                    <a:pt x="65" y="1785"/>
                  </a:lnTo>
                  <a:lnTo>
                    <a:pt x="107" y="1880"/>
                  </a:lnTo>
                  <a:lnTo>
                    <a:pt x="154" y="1980"/>
                  </a:lnTo>
                  <a:lnTo>
                    <a:pt x="213" y="2075"/>
                  </a:lnTo>
                  <a:lnTo>
                    <a:pt x="277" y="2169"/>
                  </a:lnTo>
                  <a:lnTo>
                    <a:pt x="349" y="2263"/>
                  </a:lnTo>
                  <a:lnTo>
                    <a:pt x="426" y="2353"/>
                  </a:lnTo>
                  <a:lnTo>
                    <a:pt x="508" y="2441"/>
                  </a:lnTo>
                  <a:lnTo>
                    <a:pt x="597" y="2523"/>
                  </a:lnTo>
                  <a:lnTo>
                    <a:pt x="686" y="2606"/>
                  </a:lnTo>
                  <a:lnTo>
                    <a:pt x="874" y="2766"/>
                  </a:lnTo>
                  <a:lnTo>
                    <a:pt x="1064" y="2914"/>
                  </a:lnTo>
                  <a:lnTo>
                    <a:pt x="1247" y="3044"/>
                  </a:lnTo>
                  <a:lnTo>
                    <a:pt x="1323" y="2973"/>
                  </a:lnTo>
                  <a:lnTo>
                    <a:pt x="1401" y="2895"/>
                  </a:lnTo>
                  <a:lnTo>
                    <a:pt x="1471" y="2824"/>
                  </a:lnTo>
                  <a:lnTo>
                    <a:pt x="1542" y="2748"/>
                  </a:lnTo>
                  <a:lnTo>
                    <a:pt x="1607" y="2666"/>
                  </a:lnTo>
                  <a:lnTo>
                    <a:pt x="1673" y="2582"/>
                  </a:lnTo>
                  <a:lnTo>
                    <a:pt x="1731" y="2499"/>
                  </a:lnTo>
                  <a:lnTo>
                    <a:pt x="1791" y="2411"/>
                  </a:lnTo>
                  <a:lnTo>
                    <a:pt x="1843" y="2322"/>
                  </a:lnTo>
                  <a:lnTo>
                    <a:pt x="1896" y="2234"/>
                  </a:lnTo>
                  <a:lnTo>
                    <a:pt x="1943" y="2139"/>
                  </a:lnTo>
                  <a:lnTo>
                    <a:pt x="1991" y="2051"/>
                  </a:lnTo>
                  <a:lnTo>
                    <a:pt x="2033" y="1956"/>
                  </a:lnTo>
                  <a:lnTo>
                    <a:pt x="2068" y="1855"/>
                  </a:lnTo>
                  <a:lnTo>
                    <a:pt x="2104" y="1762"/>
                  </a:lnTo>
                  <a:lnTo>
                    <a:pt x="2133" y="1661"/>
                  </a:lnTo>
                  <a:lnTo>
                    <a:pt x="2162" y="1560"/>
                  </a:lnTo>
                  <a:lnTo>
                    <a:pt x="2186" y="1459"/>
                  </a:lnTo>
                  <a:lnTo>
                    <a:pt x="2203" y="1359"/>
                  </a:lnTo>
                  <a:lnTo>
                    <a:pt x="2221" y="1259"/>
                  </a:lnTo>
                  <a:lnTo>
                    <a:pt x="2233" y="1152"/>
                  </a:lnTo>
                  <a:lnTo>
                    <a:pt x="2245" y="1052"/>
                  </a:lnTo>
                  <a:lnTo>
                    <a:pt x="2245" y="946"/>
                  </a:lnTo>
                  <a:lnTo>
                    <a:pt x="2250" y="839"/>
                  </a:lnTo>
                  <a:lnTo>
                    <a:pt x="2245" y="733"/>
                  </a:lnTo>
                  <a:lnTo>
                    <a:pt x="2239" y="633"/>
                  </a:lnTo>
                  <a:lnTo>
                    <a:pt x="2227" y="526"/>
                  </a:lnTo>
                  <a:lnTo>
                    <a:pt x="2209" y="420"/>
                  </a:lnTo>
                  <a:lnTo>
                    <a:pt x="2192" y="313"/>
                  </a:lnTo>
                  <a:lnTo>
                    <a:pt x="2168" y="207"/>
                  </a:lnTo>
                  <a:lnTo>
                    <a:pt x="2139" y="107"/>
                  </a:lnTo>
                  <a:lnTo>
                    <a:pt x="2109" y="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 rot="20317200">
              <a:off x="5981400" y="1222560"/>
              <a:ext cx="353880" cy="668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1784" h="3363">
                  <a:moveTo>
                    <a:pt x="1548" y="29"/>
                  </a:moveTo>
                  <a:lnTo>
                    <a:pt x="1376" y="12"/>
                  </a:lnTo>
                  <a:lnTo>
                    <a:pt x="1205" y="6"/>
                  </a:lnTo>
                  <a:lnTo>
                    <a:pt x="1033" y="0"/>
                  </a:lnTo>
                  <a:lnTo>
                    <a:pt x="862" y="6"/>
                  </a:lnTo>
                  <a:lnTo>
                    <a:pt x="892" y="113"/>
                  </a:lnTo>
                  <a:lnTo>
                    <a:pt x="921" y="213"/>
                  </a:lnTo>
                  <a:lnTo>
                    <a:pt x="945" y="319"/>
                  </a:lnTo>
                  <a:lnTo>
                    <a:pt x="962" y="426"/>
                  </a:lnTo>
                  <a:lnTo>
                    <a:pt x="980" y="532"/>
                  </a:lnTo>
                  <a:lnTo>
                    <a:pt x="992" y="639"/>
                  </a:lnTo>
                  <a:lnTo>
                    <a:pt x="998" y="739"/>
                  </a:lnTo>
                  <a:lnTo>
                    <a:pt x="1003" y="845"/>
                  </a:lnTo>
                  <a:lnTo>
                    <a:pt x="998" y="952"/>
                  </a:lnTo>
                  <a:lnTo>
                    <a:pt x="998" y="1058"/>
                  </a:lnTo>
                  <a:lnTo>
                    <a:pt x="986" y="1158"/>
                  </a:lnTo>
                  <a:lnTo>
                    <a:pt x="974" y="1265"/>
                  </a:lnTo>
                  <a:lnTo>
                    <a:pt x="956" y="1365"/>
                  </a:lnTo>
                  <a:lnTo>
                    <a:pt x="939" y="1465"/>
                  </a:lnTo>
                  <a:lnTo>
                    <a:pt x="915" y="1566"/>
                  </a:lnTo>
                  <a:lnTo>
                    <a:pt x="886" y="1667"/>
                  </a:lnTo>
                  <a:lnTo>
                    <a:pt x="857" y="1768"/>
                  </a:lnTo>
                  <a:lnTo>
                    <a:pt x="821" y="1861"/>
                  </a:lnTo>
                  <a:lnTo>
                    <a:pt x="786" y="1962"/>
                  </a:lnTo>
                  <a:lnTo>
                    <a:pt x="744" y="2057"/>
                  </a:lnTo>
                  <a:lnTo>
                    <a:pt x="696" y="2145"/>
                  </a:lnTo>
                  <a:lnTo>
                    <a:pt x="649" y="2240"/>
                  </a:lnTo>
                  <a:lnTo>
                    <a:pt x="596" y="2328"/>
                  </a:lnTo>
                  <a:lnTo>
                    <a:pt x="544" y="2417"/>
                  </a:lnTo>
                  <a:lnTo>
                    <a:pt x="484" y="2505"/>
                  </a:lnTo>
                  <a:lnTo>
                    <a:pt x="426" y="2588"/>
                  </a:lnTo>
                  <a:lnTo>
                    <a:pt x="360" y="2672"/>
                  </a:lnTo>
                  <a:lnTo>
                    <a:pt x="295" y="2754"/>
                  </a:lnTo>
                  <a:lnTo>
                    <a:pt x="224" y="2830"/>
                  </a:lnTo>
                  <a:lnTo>
                    <a:pt x="154" y="2901"/>
                  </a:lnTo>
                  <a:lnTo>
                    <a:pt x="76" y="2979"/>
                  </a:lnTo>
                  <a:lnTo>
                    <a:pt x="0" y="3050"/>
                  </a:lnTo>
                  <a:lnTo>
                    <a:pt x="124" y="3132"/>
                  </a:lnTo>
                  <a:lnTo>
                    <a:pt x="254" y="3216"/>
                  </a:lnTo>
                  <a:lnTo>
                    <a:pt x="389" y="3292"/>
                  </a:lnTo>
                  <a:lnTo>
                    <a:pt x="525" y="3363"/>
                  </a:lnTo>
                  <a:lnTo>
                    <a:pt x="626" y="3286"/>
                  </a:lnTo>
                  <a:lnTo>
                    <a:pt x="720" y="3210"/>
                  </a:lnTo>
                  <a:lnTo>
                    <a:pt x="815" y="3132"/>
                  </a:lnTo>
                  <a:lnTo>
                    <a:pt x="904" y="3050"/>
                  </a:lnTo>
                  <a:lnTo>
                    <a:pt x="986" y="2961"/>
                  </a:lnTo>
                  <a:lnTo>
                    <a:pt x="1068" y="2872"/>
                  </a:lnTo>
                  <a:lnTo>
                    <a:pt x="1152" y="2784"/>
                  </a:lnTo>
                  <a:lnTo>
                    <a:pt x="1223" y="2689"/>
                  </a:lnTo>
                  <a:lnTo>
                    <a:pt x="1293" y="2594"/>
                  </a:lnTo>
                  <a:lnTo>
                    <a:pt x="1358" y="2494"/>
                  </a:lnTo>
                  <a:lnTo>
                    <a:pt x="1417" y="2394"/>
                  </a:lnTo>
                  <a:lnTo>
                    <a:pt x="1477" y="2292"/>
                  </a:lnTo>
                  <a:lnTo>
                    <a:pt x="1530" y="2187"/>
                  </a:lnTo>
                  <a:lnTo>
                    <a:pt x="1577" y="2081"/>
                  </a:lnTo>
                  <a:lnTo>
                    <a:pt x="1618" y="1974"/>
                  </a:lnTo>
                  <a:lnTo>
                    <a:pt x="1659" y="1868"/>
                  </a:lnTo>
                  <a:lnTo>
                    <a:pt x="1689" y="1755"/>
                  </a:lnTo>
                  <a:lnTo>
                    <a:pt x="1718" y="1643"/>
                  </a:lnTo>
                  <a:lnTo>
                    <a:pt x="1742" y="1531"/>
                  </a:lnTo>
                  <a:lnTo>
                    <a:pt x="1759" y="1418"/>
                  </a:lnTo>
                  <a:lnTo>
                    <a:pt x="1778" y="1306"/>
                  </a:lnTo>
                  <a:lnTo>
                    <a:pt x="1784" y="1188"/>
                  </a:lnTo>
                  <a:lnTo>
                    <a:pt x="1784" y="1076"/>
                  </a:lnTo>
                  <a:lnTo>
                    <a:pt x="1784" y="958"/>
                  </a:lnTo>
                  <a:lnTo>
                    <a:pt x="1772" y="839"/>
                  </a:lnTo>
                  <a:lnTo>
                    <a:pt x="1759" y="727"/>
                  </a:lnTo>
                  <a:lnTo>
                    <a:pt x="1736" y="608"/>
                  </a:lnTo>
                  <a:lnTo>
                    <a:pt x="1712" y="490"/>
                  </a:lnTo>
                  <a:lnTo>
                    <a:pt x="1677" y="373"/>
                  </a:lnTo>
                  <a:lnTo>
                    <a:pt x="1641" y="260"/>
                  </a:lnTo>
                  <a:lnTo>
                    <a:pt x="1594" y="142"/>
                  </a:lnTo>
                  <a:lnTo>
                    <a:pt x="1548" y="29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2"/>
            <p:cNvSpPr/>
            <p:nvPr/>
          </p:nvSpPr>
          <p:spPr>
            <a:xfrm rot="20317200">
              <a:off x="6090120" y="1162080"/>
              <a:ext cx="495000" cy="7491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2493" h="3777">
                  <a:moveTo>
                    <a:pt x="1295" y="3777"/>
                  </a:moveTo>
                  <a:lnTo>
                    <a:pt x="1389" y="3700"/>
                  </a:lnTo>
                  <a:lnTo>
                    <a:pt x="1477" y="3623"/>
                  </a:lnTo>
                  <a:lnTo>
                    <a:pt x="1565" y="3547"/>
                  </a:lnTo>
                  <a:lnTo>
                    <a:pt x="1649" y="3458"/>
                  </a:lnTo>
                  <a:lnTo>
                    <a:pt x="1725" y="3375"/>
                  </a:lnTo>
                  <a:lnTo>
                    <a:pt x="1802" y="3286"/>
                  </a:lnTo>
                  <a:lnTo>
                    <a:pt x="1872" y="3192"/>
                  </a:lnTo>
                  <a:lnTo>
                    <a:pt x="1944" y="3097"/>
                  </a:lnTo>
                  <a:lnTo>
                    <a:pt x="2009" y="3003"/>
                  </a:lnTo>
                  <a:lnTo>
                    <a:pt x="2068" y="2903"/>
                  </a:lnTo>
                  <a:lnTo>
                    <a:pt x="2121" y="2795"/>
                  </a:lnTo>
                  <a:lnTo>
                    <a:pt x="2174" y="2696"/>
                  </a:lnTo>
                  <a:lnTo>
                    <a:pt x="2227" y="2588"/>
                  </a:lnTo>
                  <a:lnTo>
                    <a:pt x="2269" y="2483"/>
                  </a:lnTo>
                  <a:lnTo>
                    <a:pt x="2310" y="2371"/>
                  </a:lnTo>
                  <a:lnTo>
                    <a:pt x="2346" y="2258"/>
                  </a:lnTo>
                  <a:lnTo>
                    <a:pt x="2381" y="2146"/>
                  </a:lnTo>
                  <a:lnTo>
                    <a:pt x="2410" y="2028"/>
                  </a:lnTo>
                  <a:lnTo>
                    <a:pt x="2434" y="1915"/>
                  </a:lnTo>
                  <a:lnTo>
                    <a:pt x="2452" y="1798"/>
                  </a:lnTo>
                  <a:lnTo>
                    <a:pt x="2469" y="1679"/>
                  </a:lnTo>
                  <a:lnTo>
                    <a:pt x="2481" y="1561"/>
                  </a:lnTo>
                  <a:lnTo>
                    <a:pt x="2493" y="1436"/>
                  </a:lnTo>
                  <a:lnTo>
                    <a:pt x="2493" y="1319"/>
                  </a:lnTo>
                  <a:lnTo>
                    <a:pt x="2493" y="1195"/>
                  </a:lnTo>
                  <a:lnTo>
                    <a:pt x="2487" y="1076"/>
                  </a:lnTo>
                  <a:lnTo>
                    <a:pt x="2481" y="952"/>
                  </a:lnTo>
                  <a:lnTo>
                    <a:pt x="2464" y="828"/>
                  </a:lnTo>
                  <a:lnTo>
                    <a:pt x="2446" y="710"/>
                  </a:lnTo>
                  <a:lnTo>
                    <a:pt x="2422" y="585"/>
                  </a:lnTo>
                  <a:lnTo>
                    <a:pt x="2398" y="461"/>
                  </a:lnTo>
                  <a:lnTo>
                    <a:pt x="2369" y="344"/>
                  </a:lnTo>
                  <a:lnTo>
                    <a:pt x="2221" y="284"/>
                  </a:lnTo>
                  <a:lnTo>
                    <a:pt x="2074" y="231"/>
                  </a:lnTo>
                  <a:lnTo>
                    <a:pt x="1926" y="178"/>
                  </a:lnTo>
                  <a:lnTo>
                    <a:pt x="1778" y="136"/>
                  </a:lnTo>
                  <a:lnTo>
                    <a:pt x="1631" y="102"/>
                  </a:lnTo>
                  <a:lnTo>
                    <a:pt x="1477" y="66"/>
                  </a:lnTo>
                  <a:lnTo>
                    <a:pt x="1324" y="43"/>
                  </a:lnTo>
                  <a:lnTo>
                    <a:pt x="1176" y="19"/>
                  </a:lnTo>
                  <a:lnTo>
                    <a:pt x="1023" y="0"/>
                  </a:lnTo>
                  <a:lnTo>
                    <a:pt x="1069" y="113"/>
                  </a:lnTo>
                  <a:lnTo>
                    <a:pt x="1116" y="231"/>
                  </a:lnTo>
                  <a:lnTo>
                    <a:pt x="1152" y="344"/>
                  </a:lnTo>
                  <a:lnTo>
                    <a:pt x="1187" y="461"/>
                  </a:lnTo>
                  <a:lnTo>
                    <a:pt x="1211" y="579"/>
                  </a:lnTo>
                  <a:lnTo>
                    <a:pt x="1234" y="698"/>
                  </a:lnTo>
                  <a:lnTo>
                    <a:pt x="1247" y="810"/>
                  </a:lnTo>
                  <a:lnTo>
                    <a:pt x="1259" y="929"/>
                  </a:lnTo>
                  <a:lnTo>
                    <a:pt x="1259" y="1047"/>
                  </a:lnTo>
                  <a:lnTo>
                    <a:pt x="1259" y="1159"/>
                  </a:lnTo>
                  <a:lnTo>
                    <a:pt x="1253" y="1277"/>
                  </a:lnTo>
                  <a:lnTo>
                    <a:pt x="1234" y="1389"/>
                  </a:lnTo>
                  <a:lnTo>
                    <a:pt x="1217" y="1502"/>
                  </a:lnTo>
                  <a:lnTo>
                    <a:pt x="1193" y="1614"/>
                  </a:lnTo>
                  <a:lnTo>
                    <a:pt x="1164" y="1726"/>
                  </a:lnTo>
                  <a:lnTo>
                    <a:pt x="1134" y="1839"/>
                  </a:lnTo>
                  <a:lnTo>
                    <a:pt x="1093" y="1945"/>
                  </a:lnTo>
                  <a:lnTo>
                    <a:pt x="1052" y="2052"/>
                  </a:lnTo>
                  <a:lnTo>
                    <a:pt x="1005" y="2158"/>
                  </a:lnTo>
                  <a:lnTo>
                    <a:pt x="952" y="2263"/>
                  </a:lnTo>
                  <a:lnTo>
                    <a:pt x="892" y="2365"/>
                  </a:lnTo>
                  <a:lnTo>
                    <a:pt x="833" y="2465"/>
                  </a:lnTo>
                  <a:lnTo>
                    <a:pt x="768" y="2565"/>
                  </a:lnTo>
                  <a:lnTo>
                    <a:pt x="698" y="2660"/>
                  </a:lnTo>
                  <a:lnTo>
                    <a:pt x="627" y="2755"/>
                  </a:lnTo>
                  <a:lnTo>
                    <a:pt x="543" y="2843"/>
                  </a:lnTo>
                  <a:lnTo>
                    <a:pt x="461" y="2932"/>
                  </a:lnTo>
                  <a:lnTo>
                    <a:pt x="379" y="3021"/>
                  </a:lnTo>
                  <a:lnTo>
                    <a:pt x="290" y="3103"/>
                  </a:lnTo>
                  <a:lnTo>
                    <a:pt x="195" y="3181"/>
                  </a:lnTo>
                  <a:lnTo>
                    <a:pt x="101" y="3257"/>
                  </a:lnTo>
                  <a:lnTo>
                    <a:pt x="0" y="3334"/>
                  </a:lnTo>
                  <a:lnTo>
                    <a:pt x="154" y="3410"/>
                  </a:lnTo>
                  <a:lnTo>
                    <a:pt x="307" y="3476"/>
                  </a:lnTo>
                  <a:lnTo>
                    <a:pt x="467" y="3541"/>
                  </a:lnTo>
                  <a:lnTo>
                    <a:pt x="632" y="3599"/>
                  </a:lnTo>
                  <a:lnTo>
                    <a:pt x="791" y="3653"/>
                  </a:lnTo>
                  <a:lnTo>
                    <a:pt x="957" y="3700"/>
                  </a:lnTo>
                  <a:lnTo>
                    <a:pt x="1122" y="3742"/>
                  </a:lnTo>
                  <a:lnTo>
                    <a:pt x="1295" y="3777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3"/>
            <p:cNvSpPr/>
            <p:nvPr/>
          </p:nvSpPr>
          <p:spPr>
            <a:xfrm rot="20317200">
              <a:off x="6836400" y="1261080"/>
              <a:ext cx="226800" cy="401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140" h="2020">
                  <a:moveTo>
                    <a:pt x="1140" y="531"/>
                  </a:moveTo>
                  <a:lnTo>
                    <a:pt x="1040" y="413"/>
                  </a:lnTo>
                  <a:lnTo>
                    <a:pt x="928" y="295"/>
                  </a:lnTo>
                  <a:lnTo>
                    <a:pt x="738" y="106"/>
                  </a:lnTo>
                  <a:lnTo>
                    <a:pt x="627" y="0"/>
                  </a:lnTo>
                  <a:lnTo>
                    <a:pt x="656" y="136"/>
                  </a:lnTo>
                  <a:lnTo>
                    <a:pt x="668" y="271"/>
                  </a:lnTo>
                  <a:lnTo>
                    <a:pt x="674" y="408"/>
                  </a:lnTo>
                  <a:lnTo>
                    <a:pt x="674" y="543"/>
                  </a:lnTo>
                  <a:lnTo>
                    <a:pt x="662" y="680"/>
                  </a:lnTo>
                  <a:lnTo>
                    <a:pt x="638" y="809"/>
                  </a:lnTo>
                  <a:lnTo>
                    <a:pt x="609" y="946"/>
                  </a:lnTo>
                  <a:lnTo>
                    <a:pt x="573" y="1075"/>
                  </a:lnTo>
                  <a:lnTo>
                    <a:pt x="525" y="1199"/>
                  </a:lnTo>
                  <a:lnTo>
                    <a:pt x="473" y="1329"/>
                  </a:lnTo>
                  <a:lnTo>
                    <a:pt x="408" y="1447"/>
                  </a:lnTo>
                  <a:lnTo>
                    <a:pt x="343" y="1572"/>
                  </a:lnTo>
                  <a:lnTo>
                    <a:pt x="266" y="1690"/>
                  </a:lnTo>
                  <a:lnTo>
                    <a:pt x="183" y="1801"/>
                  </a:lnTo>
                  <a:lnTo>
                    <a:pt x="94" y="1914"/>
                  </a:lnTo>
                  <a:lnTo>
                    <a:pt x="0" y="2020"/>
                  </a:lnTo>
                  <a:lnTo>
                    <a:pt x="225" y="1949"/>
                  </a:lnTo>
                  <a:lnTo>
                    <a:pt x="443" y="1873"/>
                  </a:lnTo>
                  <a:lnTo>
                    <a:pt x="549" y="1832"/>
                  </a:lnTo>
                  <a:lnTo>
                    <a:pt x="650" y="1784"/>
                  </a:lnTo>
                  <a:lnTo>
                    <a:pt x="750" y="1737"/>
                  </a:lnTo>
                  <a:lnTo>
                    <a:pt x="844" y="1684"/>
                  </a:lnTo>
                  <a:lnTo>
                    <a:pt x="916" y="1548"/>
                  </a:lnTo>
                  <a:lnTo>
                    <a:pt x="975" y="1412"/>
                  </a:lnTo>
                  <a:lnTo>
                    <a:pt x="1028" y="1270"/>
                  </a:lnTo>
                  <a:lnTo>
                    <a:pt x="1069" y="1128"/>
                  </a:lnTo>
                  <a:lnTo>
                    <a:pt x="1105" y="981"/>
                  </a:lnTo>
                  <a:lnTo>
                    <a:pt x="1128" y="833"/>
                  </a:lnTo>
                  <a:lnTo>
                    <a:pt x="1140" y="685"/>
                  </a:lnTo>
                  <a:lnTo>
                    <a:pt x="1140" y="531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"/>
            <p:cNvSpPr/>
            <p:nvPr/>
          </p:nvSpPr>
          <p:spPr>
            <a:xfrm rot="20317200">
              <a:off x="7004160" y="1327320"/>
              <a:ext cx="102960" cy="228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6" h="1153">
                  <a:moveTo>
                    <a:pt x="526" y="521"/>
                  </a:moveTo>
                  <a:lnTo>
                    <a:pt x="526" y="462"/>
                  </a:lnTo>
                  <a:lnTo>
                    <a:pt x="521" y="396"/>
                  </a:lnTo>
                  <a:lnTo>
                    <a:pt x="503" y="331"/>
                  </a:lnTo>
                  <a:lnTo>
                    <a:pt x="474" y="267"/>
                  </a:lnTo>
                  <a:lnTo>
                    <a:pt x="438" y="202"/>
                  </a:lnTo>
                  <a:lnTo>
                    <a:pt x="397" y="136"/>
                  </a:lnTo>
                  <a:lnTo>
                    <a:pt x="349" y="65"/>
                  </a:lnTo>
                  <a:lnTo>
                    <a:pt x="296" y="0"/>
                  </a:lnTo>
                  <a:lnTo>
                    <a:pt x="296" y="154"/>
                  </a:lnTo>
                  <a:lnTo>
                    <a:pt x="284" y="302"/>
                  </a:lnTo>
                  <a:lnTo>
                    <a:pt x="261" y="450"/>
                  </a:lnTo>
                  <a:lnTo>
                    <a:pt x="225" y="597"/>
                  </a:lnTo>
                  <a:lnTo>
                    <a:pt x="184" y="739"/>
                  </a:lnTo>
                  <a:lnTo>
                    <a:pt x="131" y="881"/>
                  </a:lnTo>
                  <a:lnTo>
                    <a:pt x="72" y="1017"/>
                  </a:lnTo>
                  <a:lnTo>
                    <a:pt x="0" y="1153"/>
                  </a:lnTo>
                  <a:lnTo>
                    <a:pt x="102" y="1088"/>
                  </a:lnTo>
                  <a:lnTo>
                    <a:pt x="196" y="1023"/>
                  </a:lnTo>
                  <a:lnTo>
                    <a:pt x="278" y="945"/>
                  </a:lnTo>
                  <a:lnTo>
                    <a:pt x="349" y="869"/>
                  </a:lnTo>
                  <a:lnTo>
                    <a:pt x="415" y="792"/>
                  </a:lnTo>
                  <a:lnTo>
                    <a:pt x="468" y="704"/>
                  </a:lnTo>
                  <a:lnTo>
                    <a:pt x="485" y="662"/>
                  </a:lnTo>
                  <a:lnTo>
                    <a:pt x="503" y="614"/>
                  </a:lnTo>
                  <a:lnTo>
                    <a:pt x="515" y="567"/>
                  </a:lnTo>
                  <a:lnTo>
                    <a:pt x="526" y="521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"/>
            <p:cNvSpPr/>
            <p:nvPr/>
          </p:nvSpPr>
          <p:spPr>
            <a:xfrm rot="20317200">
              <a:off x="6620760" y="1177920"/>
              <a:ext cx="339480" cy="5792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579240"/>
                <a:gd name="textAreaBottom" fmla="*/ 579240 h 579240"/>
              </a:gdLst>
              <a:ahLst/>
              <a:rect l="textAreaLeft" t="textAreaTop" r="textAreaRight" b="textAreaBottom"/>
              <a:pathLst>
                <a:path w="1713" h="2914">
                  <a:moveTo>
                    <a:pt x="1666" y="710"/>
                  </a:moveTo>
                  <a:lnTo>
                    <a:pt x="1464" y="515"/>
                  </a:lnTo>
                  <a:lnTo>
                    <a:pt x="1259" y="337"/>
                  </a:lnTo>
                  <a:lnTo>
                    <a:pt x="1039" y="159"/>
                  </a:lnTo>
                  <a:lnTo>
                    <a:pt x="815" y="0"/>
                  </a:lnTo>
                  <a:lnTo>
                    <a:pt x="838" y="95"/>
                  </a:lnTo>
                  <a:lnTo>
                    <a:pt x="862" y="183"/>
                  </a:lnTo>
                  <a:lnTo>
                    <a:pt x="874" y="278"/>
                  </a:lnTo>
                  <a:lnTo>
                    <a:pt x="885" y="373"/>
                  </a:lnTo>
                  <a:lnTo>
                    <a:pt x="891" y="467"/>
                  </a:lnTo>
                  <a:lnTo>
                    <a:pt x="897" y="562"/>
                  </a:lnTo>
                  <a:lnTo>
                    <a:pt x="897" y="656"/>
                  </a:lnTo>
                  <a:lnTo>
                    <a:pt x="891" y="751"/>
                  </a:lnTo>
                  <a:lnTo>
                    <a:pt x="874" y="946"/>
                  </a:lnTo>
                  <a:lnTo>
                    <a:pt x="844" y="1135"/>
                  </a:lnTo>
                  <a:lnTo>
                    <a:pt x="803" y="1323"/>
                  </a:lnTo>
                  <a:lnTo>
                    <a:pt x="744" y="1519"/>
                  </a:lnTo>
                  <a:lnTo>
                    <a:pt x="679" y="1703"/>
                  </a:lnTo>
                  <a:lnTo>
                    <a:pt x="609" y="1891"/>
                  </a:lnTo>
                  <a:lnTo>
                    <a:pt x="519" y="2075"/>
                  </a:lnTo>
                  <a:lnTo>
                    <a:pt x="431" y="2252"/>
                  </a:lnTo>
                  <a:lnTo>
                    <a:pt x="330" y="2423"/>
                  </a:lnTo>
                  <a:lnTo>
                    <a:pt x="224" y="2595"/>
                  </a:lnTo>
                  <a:lnTo>
                    <a:pt x="118" y="2760"/>
                  </a:lnTo>
                  <a:lnTo>
                    <a:pt x="0" y="2914"/>
                  </a:lnTo>
                  <a:lnTo>
                    <a:pt x="224" y="2890"/>
                  </a:lnTo>
                  <a:lnTo>
                    <a:pt x="401" y="2867"/>
                  </a:lnTo>
                  <a:lnTo>
                    <a:pt x="602" y="2831"/>
                  </a:lnTo>
                  <a:lnTo>
                    <a:pt x="815" y="2783"/>
                  </a:lnTo>
                  <a:lnTo>
                    <a:pt x="1039" y="2730"/>
                  </a:lnTo>
                  <a:lnTo>
                    <a:pt x="1133" y="2624"/>
                  </a:lnTo>
                  <a:lnTo>
                    <a:pt x="1222" y="2511"/>
                  </a:lnTo>
                  <a:lnTo>
                    <a:pt x="1305" y="2400"/>
                  </a:lnTo>
                  <a:lnTo>
                    <a:pt x="1382" y="2282"/>
                  </a:lnTo>
                  <a:lnTo>
                    <a:pt x="1447" y="2157"/>
                  </a:lnTo>
                  <a:lnTo>
                    <a:pt x="1512" y="2039"/>
                  </a:lnTo>
                  <a:lnTo>
                    <a:pt x="1564" y="1909"/>
                  </a:lnTo>
                  <a:lnTo>
                    <a:pt x="1612" y="1785"/>
                  </a:lnTo>
                  <a:lnTo>
                    <a:pt x="1648" y="1656"/>
                  </a:lnTo>
                  <a:lnTo>
                    <a:pt x="1677" y="1519"/>
                  </a:lnTo>
                  <a:lnTo>
                    <a:pt x="1701" y="1390"/>
                  </a:lnTo>
                  <a:lnTo>
                    <a:pt x="1713" y="1253"/>
                  </a:lnTo>
                  <a:lnTo>
                    <a:pt x="1713" y="1118"/>
                  </a:lnTo>
                  <a:lnTo>
                    <a:pt x="1707" y="981"/>
                  </a:lnTo>
                  <a:lnTo>
                    <a:pt x="1695" y="846"/>
                  </a:lnTo>
                  <a:lnTo>
                    <a:pt x="1666" y="71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6"/>
            <p:cNvSpPr/>
            <p:nvPr/>
          </p:nvSpPr>
          <p:spPr>
            <a:xfrm rot="20317200">
              <a:off x="6346800" y="1142640"/>
              <a:ext cx="447480" cy="699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249" h="3528">
                  <a:moveTo>
                    <a:pt x="1352" y="3510"/>
                  </a:moveTo>
                  <a:lnTo>
                    <a:pt x="1470" y="3356"/>
                  </a:lnTo>
                  <a:lnTo>
                    <a:pt x="1576" y="3191"/>
                  </a:lnTo>
                  <a:lnTo>
                    <a:pt x="1682" y="3019"/>
                  </a:lnTo>
                  <a:lnTo>
                    <a:pt x="1783" y="2848"/>
                  </a:lnTo>
                  <a:lnTo>
                    <a:pt x="1871" y="2671"/>
                  </a:lnTo>
                  <a:lnTo>
                    <a:pt x="1961" y="2487"/>
                  </a:lnTo>
                  <a:lnTo>
                    <a:pt x="2031" y="2299"/>
                  </a:lnTo>
                  <a:lnTo>
                    <a:pt x="2096" y="2115"/>
                  </a:lnTo>
                  <a:lnTo>
                    <a:pt x="2155" y="1919"/>
                  </a:lnTo>
                  <a:lnTo>
                    <a:pt x="2196" y="1731"/>
                  </a:lnTo>
                  <a:lnTo>
                    <a:pt x="2226" y="1542"/>
                  </a:lnTo>
                  <a:lnTo>
                    <a:pt x="2243" y="1347"/>
                  </a:lnTo>
                  <a:lnTo>
                    <a:pt x="2249" y="1252"/>
                  </a:lnTo>
                  <a:lnTo>
                    <a:pt x="2249" y="1158"/>
                  </a:lnTo>
                  <a:lnTo>
                    <a:pt x="2243" y="1063"/>
                  </a:lnTo>
                  <a:lnTo>
                    <a:pt x="2237" y="969"/>
                  </a:lnTo>
                  <a:lnTo>
                    <a:pt x="2226" y="874"/>
                  </a:lnTo>
                  <a:lnTo>
                    <a:pt x="2214" y="779"/>
                  </a:lnTo>
                  <a:lnTo>
                    <a:pt x="2190" y="691"/>
                  </a:lnTo>
                  <a:lnTo>
                    <a:pt x="2167" y="596"/>
                  </a:lnTo>
                  <a:lnTo>
                    <a:pt x="2043" y="508"/>
                  </a:lnTo>
                  <a:lnTo>
                    <a:pt x="1912" y="425"/>
                  </a:lnTo>
                  <a:lnTo>
                    <a:pt x="1777" y="348"/>
                  </a:lnTo>
                  <a:lnTo>
                    <a:pt x="1641" y="272"/>
                  </a:lnTo>
                  <a:lnTo>
                    <a:pt x="1505" y="194"/>
                  </a:lnTo>
                  <a:lnTo>
                    <a:pt x="1364" y="129"/>
                  </a:lnTo>
                  <a:lnTo>
                    <a:pt x="1216" y="59"/>
                  </a:lnTo>
                  <a:lnTo>
                    <a:pt x="1074" y="0"/>
                  </a:lnTo>
                  <a:lnTo>
                    <a:pt x="1103" y="117"/>
                  </a:lnTo>
                  <a:lnTo>
                    <a:pt x="1127" y="241"/>
                  </a:lnTo>
                  <a:lnTo>
                    <a:pt x="1151" y="366"/>
                  </a:lnTo>
                  <a:lnTo>
                    <a:pt x="1169" y="484"/>
                  </a:lnTo>
                  <a:lnTo>
                    <a:pt x="1186" y="608"/>
                  </a:lnTo>
                  <a:lnTo>
                    <a:pt x="1192" y="732"/>
                  </a:lnTo>
                  <a:lnTo>
                    <a:pt x="1198" y="851"/>
                  </a:lnTo>
                  <a:lnTo>
                    <a:pt x="1198" y="975"/>
                  </a:lnTo>
                  <a:lnTo>
                    <a:pt x="1198" y="1092"/>
                  </a:lnTo>
                  <a:lnTo>
                    <a:pt x="1186" y="1217"/>
                  </a:lnTo>
                  <a:lnTo>
                    <a:pt x="1174" y="1335"/>
                  </a:lnTo>
                  <a:lnTo>
                    <a:pt x="1157" y="1454"/>
                  </a:lnTo>
                  <a:lnTo>
                    <a:pt x="1139" y="1571"/>
                  </a:lnTo>
                  <a:lnTo>
                    <a:pt x="1115" y="1684"/>
                  </a:lnTo>
                  <a:lnTo>
                    <a:pt x="1086" y="1802"/>
                  </a:lnTo>
                  <a:lnTo>
                    <a:pt x="1051" y="1914"/>
                  </a:lnTo>
                  <a:lnTo>
                    <a:pt x="1015" y="2027"/>
                  </a:lnTo>
                  <a:lnTo>
                    <a:pt x="974" y="2139"/>
                  </a:lnTo>
                  <a:lnTo>
                    <a:pt x="932" y="2244"/>
                  </a:lnTo>
                  <a:lnTo>
                    <a:pt x="879" y="2352"/>
                  </a:lnTo>
                  <a:lnTo>
                    <a:pt x="826" y="2451"/>
                  </a:lnTo>
                  <a:lnTo>
                    <a:pt x="773" y="2559"/>
                  </a:lnTo>
                  <a:lnTo>
                    <a:pt x="714" y="2659"/>
                  </a:lnTo>
                  <a:lnTo>
                    <a:pt x="649" y="2753"/>
                  </a:lnTo>
                  <a:lnTo>
                    <a:pt x="577" y="2848"/>
                  </a:lnTo>
                  <a:lnTo>
                    <a:pt x="507" y="2942"/>
                  </a:lnTo>
                  <a:lnTo>
                    <a:pt x="430" y="3031"/>
                  </a:lnTo>
                  <a:lnTo>
                    <a:pt x="354" y="3114"/>
                  </a:lnTo>
                  <a:lnTo>
                    <a:pt x="270" y="3203"/>
                  </a:lnTo>
                  <a:lnTo>
                    <a:pt x="182" y="3279"/>
                  </a:lnTo>
                  <a:lnTo>
                    <a:pt x="94" y="3356"/>
                  </a:lnTo>
                  <a:lnTo>
                    <a:pt x="0" y="3433"/>
                  </a:lnTo>
                  <a:lnTo>
                    <a:pt x="164" y="3463"/>
                  </a:lnTo>
                  <a:lnTo>
                    <a:pt x="336" y="3486"/>
                  </a:lnTo>
                  <a:lnTo>
                    <a:pt x="507" y="3504"/>
                  </a:lnTo>
                  <a:lnTo>
                    <a:pt x="679" y="3516"/>
                  </a:lnTo>
                  <a:lnTo>
                    <a:pt x="844" y="3522"/>
                  </a:lnTo>
                  <a:lnTo>
                    <a:pt x="1015" y="3528"/>
                  </a:lnTo>
                  <a:lnTo>
                    <a:pt x="1186" y="3522"/>
                  </a:lnTo>
                  <a:lnTo>
                    <a:pt x="1352" y="3510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"/>
            <p:cNvSpPr/>
            <p:nvPr/>
          </p:nvSpPr>
          <p:spPr>
            <a:xfrm rot="20317200">
              <a:off x="6045120" y="2116080"/>
              <a:ext cx="188640" cy="239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 rot="20317200">
              <a:off x="6015960" y="-84600"/>
              <a:ext cx="1081080" cy="13460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346040"/>
                <a:gd name="textAreaBottom" fmla="*/ 1346040 h 1346040"/>
              </a:gdLst>
              <a:ahLst/>
              <a:rect l="textAreaLeft" t="textAreaTop" r="textAreaRight" b="textAreaBottom"/>
              <a:pathLst>
                <a:path w="5445" h="6784">
                  <a:moveTo>
                    <a:pt x="4796" y="4290"/>
                  </a:moveTo>
                  <a:lnTo>
                    <a:pt x="4713" y="4427"/>
                  </a:lnTo>
                  <a:lnTo>
                    <a:pt x="4631" y="4556"/>
                  </a:lnTo>
                  <a:lnTo>
                    <a:pt x="4547" y="4685"/>
                  </a:lnTo>
                  <a:lnTo>
                    <a:pt x="4453" y="4810"/>
                  </a:lnTo>
                  <a:lnTo>
                    <a:pt x="4359" y="4934"/>
                  </a:lnTo>
                  <a:lnTo>
                    <a:pt x="4263" y="5052"/>
                  </a:lnTo>
                  <a:lnTo>
                    <a:pt x="4157" y="5165"/>
                  </a:lnTo>
                  <a:lnTo>
                    <a:pt x="4057" y="5277"/>
                  </a:lnTo>
                  <a:lnTo>
                    <a:pt x="3951" y="5389"/>
                  </a:lnTo>
                  <a:lnTo>
                    <a:pt x="3838" y="5495"/>
                  </a:lnTo>
                  <a:lnTo>
                    <a:pt x="3614" y="5709"/>
                  </a:lnTo>
                  <a:lnTo>
                    <a:pt x="3378" y="5910"/>
                  </a:lnTo>
                  <a:lnTo>
                    <a:pt x="3141" y="6104"/>
                  </a:lnTo>
                  <a:lnTo>
                    <a:pt x="2934" y="6270"/>
                  </a:lnTo>
                  <a:lnTo>
                    <a:pt x="2810" y="6382"/>
                  </a:lnTo>
                  <a:lnTo>
                    <a:pt x="2669" y="6488"/>
                  </a:lnTo>
                  <a:lnTo>
                    <a:pt x="2533" y="6595"/>
                  </a:lnTo>
                  <a:lnTo>
                    <a:pt x="2397" y="6683"/>
                  </a:lnTo>
                  <a:lnTo>
                    <a:pt x="2332" y="6720"/>
                  </a:lnTo>
                  <a:lnTo>
                    <a:pt x="2273" y="6749"/>
                  </a:lnTo>
                  <a:lnTo>
                    <a:pt x="2220" y="6772"/>
                  </a:lnTo>
                  <a:lnTo>
                    <a:pt x="2172" y="6784"/>
                  </a:lnTo>
                  <a:lnTo>
                    <a:pt x="2108" y="6784"/>
                  </a:lnTo>
                  <a:lnTo>
                    <a:pt x="2020" y="6772"/>
                  </a:lnTo>
                  <a:lnTo>
                    <a:pt x="1924" y="6755"/>
                  </a:lnTo>
                  <a:lnTo>
                    <a:pt x="1813" y="6725"/>
                  </a:lnTo>
                  <a:lnTo>
                    <a:pt x="1689" y="6689"/>
                  </a:lnTo>
                  <a:lnTo>
                    <a:pt x="1558" y="6642"/>
                  </a:lnTo>
                  <a:lnTo>
                    <a:pt x="1293" y="6542"/>
                  </a:lnTo>
                  <a:lnTo>
                    <a:pt x="1027" y="6436"/>
                  </a:lnTo>
                  <a:lnTo>
                    <a:pt x="784" y="6328"/>
                  </a:lnTo>
                  <a:lnTo>
                    <a:pt x="583" y="6235"/>
                  </a:lnTo>
                  <a:lnTo>
                    <a:pt x="454" y="6164"/>
                  </a:lnTo>
                  <a:lnTo>
                    <a:pt x="360" y="6104"/>
                  </a:lnTo>
                  <a:lnTo>
                    <a:pt x="283" y="6051"/>
                  </a:lnTo>
                  <a:lnTo>
                    <a:pt x="223" y="6003"/>
                  </a:lnTo>
                  <a:lnTo>
                    <a:pt x="170" y="5951"/>
                  </a:lnTo>
                  <a:lnTo>
                    <a:pt x="135" y="5892"/>
                  </a:lnTo>
                  <a:lnTo>
                    <a:pt x="105" y="5820"/>
                  </a:lnTo>
                  <a:lnTo>
                    <a:pt x="76" y="5732"/>
                  </a:lnTo>
                  <a:lnTo>
                    <a:pt x="58" y="5626"/>
                  </a:lnTo>
                  <a:lnTo>
                    <a:pt x="29" y="5425"/>
                  </a:lnTo>
                  <a:lnTo>
                    <a:pt x="11" y="5223"/>
                  </a:lnTo>
                  <a:lnTo>
                    <a:pt x="0" y="5017"/>
                  </a:lnTo>
                  <a:lnTo>
                    <a:pt x="0" y="4816"/>
                  </a:lnTo>
                  <a:lnTo>
                    <a:pt x="0" y="4615"/>
                  </a:lnTo>
                  <a:lnTo>
                    <a:pt x="11" y="4420"/>
                  </a:lnTo>
                  <a:lnTo>
                    <a:pt x="29" y="4225"/>
                  </a:lnTo>
                  <a:lnTo>
                    <a:pt x="53" y="4030"/>
                  </a:lnTo>
                  <a:lnTo>
                    <a:pt x="88" y="3834"/>
                  </a:lnTo>
                  <a:lnTo>
                    <a:pt x="123" y="3640"/>
                  </a:lnTo>
                  <a:lnTo>
                    <a:pt x="170" y="3451"/>
                  </a:lnTo>
                  <a:lnTo>
                    <a:pt x="223" y="3261"/>
                  </a:lnTo>
                  <a:lnTo>
                    <a:pt x="283" y="3079"/>
                  </a:lnTo>
                  <a:lnTo>
                    <a:pt x="348" y="2895"/>
                  </a:lnTo>
                  <a:lnTo>
                    <a:pt x="418" y="2713"/>
                  </a:lnTo>
                  <a:lnTo>
                    <a:pt x="495" y="2541"/>
                  </a:lnTo>
                  <a:lnTo>
                    <a:pt x="577" y="2364"/>
                  </a:lnTo>
                  <a:lnTo>
                    <a:pt x="667" y="2192"/>
                  </a:lnTo>
                  <a:lnTo>
                    <a:pt x="761" y="2026"/>
                  </a:lnTo>
                  <a:lnTo>
                    <a:pt x="867" y="1861"/>
                  </a:lnTo>
                  <a:lnTo>
                    <a:pt x="974" y="1702"/>
                  </a:lnTo>
                  <a:lnTo>
                    <a:pt x="1086" y="1549"/>
                  </a:lnTo>
                  <a:lnTo>
                    <a:pt x="1204" y="1395"/>
                  </a:lnTo>
                  <a:lnTo>
                    <a:pt x="1335" y="1252"/>
                  </a:lnTo>
                  <a:lnTo>
                    <a:pt x="1464" y="1111"/>
                  </a:lnTo>
                  <a:lnTo>
                    <a:pt x="1599" y="975"/>
                  </a:lnTo>
                  <a:lnTo>
                    <a:pt x="1742" y="839"/>
                  </a:lnTo>
                  <a:lnTo>
                    <a:pt x="1889" y="715"/>
                  </a:lnTo>
                  <a:lnTo>
                    <a:pt x="1984" y="644"/>
                  </a:lnTo>
                  <a:lnTo>
                    <a:pt x="2096" y="561"/>
                  </a:lnTo>
                  <a:lnTo>
                    <a:pt x="2226" y="473"/>
                  </a:lnTo>
                  <a:lnTo>
                    <a:pt x="2362" y="383"/>
                  </a:lnTo>
                  <a:lnTo>
                    <a:pt x="2509" y="301"/>
                  </a:lnTo>
                  <a:lnTo>
                    <a:pt x="2669" y="218"/>
                  </a:lnTo>
                  <a:lnTo>
                    <a:pt x="2828" y="148"/>
                  </a:lnTo>
                  <a:lnTo>
                    <a:pt x="2988" y="82"/>
                  </a:lnTo>
                  <a:lnTo>
                    <a:pt x="3065" y="58"/>
                  </a:lnTo>
                  <a:lnTo>
                    <a:pt x="3147" y="35"/>
                  </a:lnTo>
                  <a:lnTo>
                    <a:pt x="3224" y="23"/>
                  </a:lnTo>
                  <a:lnTo>
                    <a:pt x="3301" y="11"/>
                  </a:lnTo>
                  <a:lnTo>
                    <a:pt x="3378" y="5"/>
                  </a:lnTo>
                  <a:lnTo>
                    <a:pt x="3454" y="0"/>
                  </a:lnTo>
                  <a:lnTo>
                    <a:pt x="3525" y="5"/>
                  </a:lnTo>
                  <a:lnTo>
                    <a:pt x="3590" y="17"/>
                  </a:lnTo>
                  <a:lnTo>
                    <a:pt x="3662" y="41"/>
                  </a:lnTo>
                  <a:lnTo>
                    <a:pt x="3720" y="64"/>
                  </a:lnTo>
                  <a:lnTo>
                    <a:pt x="3779" y="100"/>
                  </a:lnTo>
                  <a:lnTo>
                    <a:pt x="3838" y="142"/>
                  </a:lnTo>
                  <a:lnTo>
                    <a:pt x="3891" y="189"/>
                  </a:lnTo>
                  <a:lnTo>
                    <a:pt x="3938" y="248"/>
                  </a:lnTo>
                  <a:lnTo>
                    <a:pt x="3981" y="319"/>
                  </a:lnTo>
                  <a:lnTo>
                    <a:pt x="4016" y="395"/>
                  </a:lnTo>
                  <a:lnTo>
                    <a:pt x="4051" y="496"/>
                  </a:lnTo>
                  <a:lnTo>
                    <a:pt x="4080" y="603"/>
                  </a:lnTo>
                  <a:lnTo>
                    <a:pt x="4098" y="703"/>
                  </a:lnTo>
                  <a:lnTo>
                    <a:pt x="4104" y="809"/>
                  </a:lnTo>
                  <a:lnTo>
                    <a:pt x="4104" y="921"/>
                  </a:lnTo>
                  <a:lnTo>
                    <a:pt x="4098" y="1028"/>
                  </a:lnTo>
                  <a:lnTo>
                    <a:pt x="4080" y="1134"/>
                  </a:lnTo>
                  <a:lnTo>
                    <a:pt x="4063" y="1246"/>
                  </a:lnTo>
                  <a:lnTo>
                    <a:pt x="4039" y="1353"/>
                  </a:lnTo>
                  <a:lnTo>
                    <a:pt x="4016" y="1459"/>
                  </a:lnTo>
                  <a:lnTo>
                    <a:pt x="3957" y="1678"/>
                  </a:lnTo>
                  <a:lnTo>
                    <a:pt x="3897" y="1886"/>
                  </a:lnTo>
                  <a:lnTo>
                    <a:pt x="3844" y="2085"/>
                  </a:lnTo>
                  <a:lnTo>
                    <a:pt x="3897" y="2003"/>
                  </a:lnTo>
                  <a:lnTo>
                    <a:pt x="3969" y="1915"/>
                  </a:lnTo>
                  <a:lnTo>
                    <a:pt x="4051" y="1838"/>
                  </a:lnTo>
                  <a:lnTo>
                    <a:pt x="4140" y="1755"/>
                  </a:lnTo>
                  <a:lnTo>
                    <a:pt x="4239" y="1684"/>
                  </a:lnTo>
                  <a:lnTo>
                    <a:pt x="4346" y="1619"/>
                  </a:lnTo>
                  <a:lnTo>
                    <a:pt x="4453" y="1561"/>
                  </a:lnTo>
                  <a:lnTo>
                    <a:pt x="4564" y="1512"/>
                  </a:lnTo>
                  <a:lnTo>
                    <a:pt x="4678" y="1477"/>
                  </a:lnTo>
                  <a:lnTo>
                    <a:pt x="4736" y="1465"/>
                  </a:lnTo>
                  <a:lnTo>
                    <a:pt x="4789" y="1459"/>
                  </a:lnTo>
                  <a:lnTo>
                    <a:pt x="4842" y="1453"/>
                  </a:lnTo>
                  <a:lnTo>
                    <a:pt x="4895" y="1453"/>
                  </a:lnTo>
                  <a:lnTo>
                    <a:pt x="4950" y="1459"/>
                  </a:lnTo>
                  <a:lnTo>
                    <a:pt x="5002" y="1465"/>
                  </a:lnTo>
                  <a:lnTo>
                    <a:pt x="5049" y="1483"/>
                  </a:lnTo>
                  <a:lnTo>
                    <a:pt x="5097" y="1500"/>
                  </a:lnTo>
                  <a:lnTo>
                    <a:pt x="5137" y="1524"/>
                  </a:lnTo>
                  <a:lnTo>
                    <a:pt x="5185" y="1555"/>
                  </a:lnTo>
                  <a:lnTo>
                    <a:pt x="5220" y="1590"/>
                  </a:lnTo>
                  <a:lnTo>
                    <a:pt x="5261" y="1631"/>
                  </a:lnTo>
                  <a:lnTo>
                    <a:pt x="5291" y="1678"/>
                  </a:lnTo>
                  <a:lnTo>
                    <a:pt x="5327" y="1731"/>
                  </a:lnTo>
                  <a:lnTo>
                    <a:pt x="5357" y="1802"/>
                  </a:lnTo>
                  <a:lnTo>
                    <a:pt x="5380" y="1874"/>
                  </a:lnTo>
                  <a:lnTo>
                    <a:pt x="5404" y="1944"/>
                  </a:lnTo>
                  <a:lnTo>
                    <a:pt x="5421" y="2021"/>
                  </a:lnTo>
                  <a:lnTo>
                    <a:pt x="5433" y="2103"/>
                  </a:lnTo>
                  <a:lnTo>
                    <a:pt x="5439" y="2181"/>
                  </a:lnTo>
                  <a:lnTo>
                    <a:pt x="5445" y="2263"/>
                  </a:lnTo>
                  <a:lnTo>
                    <a:pt x="5445" y="2345"/>
                  </a:lnTo>
                  <a:lnTo>
                    <a:pt x="5433" y="2517"/>
                  </a:lnTo>
                  <a:lnTo>
                    <a:pt x="5410" y="2688"/>
                  </a:lnTo>
                  <a:lnTo>
                    <a:pt x="5374" y="2865"/>
                  </a:lnTo>
                  <a:lnTo>
                    <a:pt x="5327" y="3037"/>
                  </a:lnTo>
                  <a:lnTo>
                    <a:pt x="5273" y="3214"/>
                  </a:lnTo>
                  <a:lnTo>
                    <a:pt x="5214" y="3386"/>
                  </a:lnTo>
                  <a:lnTo>
                    <a:pt x="5150" y="3558"/>
                  </a:lnTo>
                  <a:lnTo>
                    <a:pt x="5079" y="3717"/>
                  </a:lnTo>
                  <a:lnTo>
                    <a:pt x="5002" y="3877"/>
                  </a:lnTo>
                  <a:lnTo>
                    <a:pt x="4931" y="4024"/>
                  </a:lnTo>
                  <a:lnTo>
                    <a:pt x="4796" y="4290"/>
                  </a:lnTo>
                  <a:close/>
                </a:path>
              </a:pathLst>
            </a:custGeom>
            <a:solidFill>
              <a:srgbClr val="f8f5b4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9"/>
            <p:cNvSpPr/>
            <p:nvPr/>
          </p:nvSpPr>
          <p:spPr>
            <a:xfrm rot="20317200">
              <a:off x="5971320" y="1418040"/>
              <a:ext cx="352440" cy="75888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777" h="3823">
                  <a:moveTo>
                    <a:pt x="1613" y="1672"/>
                  </a:moveTo>
                  <a:lnTo>
                    <a:pt x="1677" y="1429"/>
                  </a:lnTo>
                  <a:lnTo>
                    <a:pt x="1707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1" y="744"/>
                  </a:lnTo>
                  <a:lnTo>
                    <a:pt x="1765" y="685"/>
                  </a:lnTo>
                  <a:lnTo>
                    <a:pt x="1754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7" y="289"/>
                  </a:lnTo>
                  <a:lnTo>
                    <a:pt x="1595" y="183"/>
                  </a:lnTo>
                  <a:lnTo>
                    <a:pt x="1564" y="136"/>
                  </a:lnTo>
                  <a:lnTo>
                    <a:pt x="1535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3" y="11"/>
                  </a:lnTo>
                  <a:lnTo>
                    <a:pt x="1382" y="0"/>
                  </a:lnTo>
                  <a:lnTo>
                    <a:pt x="1334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6" y="17"/>
                  </a:lnTo>
                  <a:lnTo>
                    <a:pt x="1181" y="30"/>
                  </a:lnTo>
                  <a:lnTo>
                    <a:pt x="1157" y="53"/>
                  </a:lnTo>
                  <a:lnTo>
                    <a:pt x="1128" y="77"/>
                  </a:lnTo>
                  <a:lnTo>
                    <a:pt x="1110" y="106"/>
                  </a:lnTo>
                  <a:lnTo>
                    <a:pt x="1086" y="136"/>
                  </a:lnTo>
                  <a:lnTo>
                    <a:pt x="1075" y="171"/>
                  </a:lnTo>
                  <a:lnTo>
                    <a:pt x="1051" y="242"/>
                  </a:lnTo>
                  <a:lnTo>
                    <a:pt x="1034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27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3" y="1294"/>
                  </a:lnTo>
                  <a:lnTo>
                    <a:pt x="951" y="1501"/>
                  </a:lnTo>
                  <a:lnTo>
                    <a:pt x="891" y="1707"/>
                  </a:lnTo>
                  <a:lnTo>
                    <a:pt x="827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8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5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6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6" y="3640"/>
                  </a:lnTo>
                  <a:lnTo>
                    <a:pt x="18" y="3681"/>
                  </a:lnTo>
                  <a:lnTo>
                    <a:pt x="35" y="3716"/>
                  </a:lnTo>
                  <a:lnTo>
                    <a:pt x="59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1" y="3806"/>
                  </a:lnTo>
                  <a:lnTo>
                    <a:pt x="217" y="3818"/>
                  </a:lnTo>
                  <a:lnTo>
                    <a:pt x="277" y="3823"/>
                  </a:lnTo>
                  <a:lnTo>
                    <a:pt x="325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90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4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0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0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6" y="2103"/>
                  </a:lnTo>
                  <a:lnTo>
                    <a:pt x="1547" y="1885"/>
                  </a:lnTo>
                  <a:lnTo>
                    <a:pt x="1613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 rot="20317200">
              <a:off x="5341680" y="1051200"/>
              <a:ext cx="958680" cy="8524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4833" h="4295">
                  <a:moveTo>
                    <a:pt x="562" y="2801"/>
                  </a:moveTo>
                  <a:lnTo>
                    <a:pt x="502" y="2789"/>
                  </a:lnTo>
                  <a:lnTo>
                    <a:pt x="449" y="2777"/>
                  </a:lnTo>
                  <a:lnTo>
                    <a:pt x="397" y="2777"/>
                  </a:lnTo>
                  <a:lnTo>
                    <a:pt x="349" y="2777"/>
                  </a:lnTo>
                  <a:lnTo>
                    <a:pt x="301" y="2783"/>
                  </a:lnTo>
                  <a:lnTo>
                    <a:pt x="254" y="2795"/>
                  </a:lnTo>
                  <a:lnTo>
                    <a:pt x="219" y="2807"/>
                  </a:lnTo>
                  <a:lnTo>
                    <a:pt x="177" y="2824"/>
                  </a:lnTo>
                  <a:lnTo>
                    <a:pt x="148" y="2848"/>
                  </a:lnTo>
                  <a:lnTo>
                    <a:pt x="119" y="2871"/>
                  </a:lnTo>
                  <a:lnTo>
                    <a:pt x="89" y="2895"/>
                  </a:lnTo>
                  <a:lnTo>
                    <a:pt x="66" y="2924"/>
                  </a:lnTo>
                  <a:lnTo>
                    <a:pt x="47" y="2961"/>
                  </a:lnTo>
                  <a:lnTo>
                    <a:pt x="29" y="2990"/>
                  </a:lnTo>
                  <a:lnTo>
                    <a:pt x="18" y="3025"/>
                  </a:lnTo>
                  <a:lnTo>
                    <a:pt x="12" y="3061"/>
                  </a:lnTo>
                  <a:lnTo>
                    <a:pt x="6" y="3096"/>
                  </a:lnTo>
                  <a:lnTo>
                    <a:pt x="0" y="3132"/>
                  </a:lnTo>
                  <a:lnTo>
                    <a:pt x="6" y="3173"/>
                  </a:lnTo>
                  <a:lnTo>
                    <a:pt x="12" y="3208"/>
                  </a:lnTo>
                  <a:lnTo>
                    <a:pt x="18" y="3244"/>
                  </a:lnTo>
                  <a:lnTo>
                    <a:pt x="29" y="3280"/>
                  </a:lnTo>
                  <a:lnTo>
                    <a:pt x="47" y="3309"/>
                  </a:lnTo>
                  <a:lnTo>
                    <a:pt x="72" y="3345"/>
                  </a:lnTo>
                  <a:lnTo>
                    <a:pt x="95" y="3374"/>
                  </a:lnTo>
                  <a:lnTo>
                    <a:pt x="125" y="3397"/>
                  </a:lnTo>
                  <a:lnTo>
                    <a:pt x="154" y="3421"/>
                  </a:lnTo>
                  <a:lnTo>
                    <a:pt x="190" y="3445"/>
                  </a:lnTo>
                  <a:lnTo>
                    <a:pt x="231" y="3462"/>
                  </a:lnTo>
                  <a:lnTo>
                    <a:pt x="278" y="3480"/>
                  </a:lnTo>
                  <a:lnTo>
                    <a:pt x="325" y="3485"/>
                  </a:lnTo>
                  <a:lnTo>
                    <a:pt x="378" y="3498"/>
                  </a:lnTo>
                  <a:lnTo>
                    <a:pt x="360" y="3546"/>
                  </a:lnTo>
                  <a:lnTo>
                    <a:pt x="342" y="3599"/>
                  </a:lnTo>
                  <a:lnTo>
                    <a:pt x="336" y="3646"/>
                  </a:lnTo>
                  <a:lnTo>
                    <a:pt x="336" y="3687"/>
                  </a:lnTo>
                  <a:lnTo>
                    <a:pt x="349" y="3728"/>
                  </a:lnTo>
                  <a:lnTo>
                    <a:pt x="360" y="3769"/>
                  </a:lnTo>
                  <a:lnTo>
                    <a:pt x="378" y="3805"/>
                  </a:lnTo>
                  <a:lnTo>
                    <a:pt x="397" y="3835"/>
                  </a:lnTo>
                  <a:lnTo>
                    <a:pt x="426" y="3865"/>
                  </a:lnTo>
                  <a:lnTo>
                    <a:pt x="456" y="3894"/>
                  </a:lnTo>
                  <a:lnTo>
                    <a:pt x="491" y="3918"/>
                  </a:lnTo>
                  <a:lnTo>
                    <a:pt x="526" y="3941"/>
                  </a:lnTo>
                  <a:lnTo>
                    <a:pt x="568" y="3959"/>
                  </a:lnTo>
                  <a:lnTo>
                    <a:pt x="609" y="3971"/>
                  </a:lnTo>
                  <a:lnTo>
                    <a:pt x="703" y="3994"/>
                  </a:lnTo>
                  <a:lnTo>
                    <a:pt x="798" y="4006"/>
                  </a:lnTo>
                  <a:lnTo>
                    <a:pt x="892" y="4006"/>
                  </a:lnTo>
                  <a:lnTo>
                    <a:pt x="986" y="3994"/>
                  </a:lnTo>
                  <a:lnTo>
                    <a:pt x="1076" y="3971"/>
                  </a:lnTo>
                  <a:lnTo>
                    <a:pt x="1117" y="3959"/>
                  </a:lnTo>
                  <a:lnTo>
                    <a:pt x="1152" y="3941"/>
                  </a:lnTo>
                  <a:lnTo>
                    <a:pt x="1188" y="3918"/>
                  </a:lnTo>
                  <a:lnTo>
                    <a:pt x="1223" y="3894"/>
                  </a:lnTo>
                  <a:lnTo>
                    <a:pt x="1252" y="3871"/>
                  </a:lnTo>
                  <a:lnTo>
                    <a:pt x="1276" y="3841"/>
                  </a:lnTo>
                  <a:lnTo>
                    <a:pt x="1294" y="3805"/>
                  </a:lnTo>
                  <a:lnTo>
                    <a:pt x="1305" y="3769"/>
                  </a:lnTo>
                  <a:lnTo>
                    <a:pt x="1299" y="3818"/>
                  </a:lnTo>
                  <a:lnTo>
                    <a:pt x="1305" y="3859"/>
                  </a:lnTo>
                  <a:lnTo>
                    <a:pt x="1311" y="3900"/>
                  </a:lnTo>
                  <a:lnTo>
                    <a:pt x="1323" y="3941"/>
                  </a:lnTo>
                  <a:lnTo>
                    <a:pt x="1347" y="3982"/>
                  </a:lnTo>
                  <a:lnTo>
                    <a:pt x="1371" y="4018"/>
                  </a:lnTo>
                  <a:lnTo>
                    <a:pt x="1401" y="4053"/>
                  </a:lnTo>
                  <a:lnTo>
                    <a:pt x="1436" y="4089"/>
                  </a:lnTo>
                  <a:lnTo>
                    <a:pt x="1471" y="4119"/>
                  </a:lnTo>
                  <a:lnTo>
                    <a:pt x="1513" y="4148"/>
                  </a:lnTo>
                  <a:lnTo>
                    <a:pt x="1560" y="4178"/>
                  </a:lnTo>
                  <a:lnTo>
                    <a:pt x="1607" y="4201"/>
                  </a:lnTo>
                  <a:lnTo>
                    <a:pt x="1713" y="4243"/>
                  </a:lnTo>
                  <a:lnTo>
                    <a:pt x="1826" y="4277"/>
                  </a:lnTo>
                  <a:lnTo>
                    <a:pt x="1937" y="4295"/>
                  </a:lnTo>
                  <a:lnTo>
                    <a:pt x="1997" y="4295"/>
                  </a:lnTo>
                  <a:lnTo>
                    <a:pt x="2057" y="4295"/>
                  </a:lnTo>
                  <a:lnTo>
                    <a:pt x="2115" y="4289"/>
                  </a:lnTo>
                  <a:lnTo>
                    <a:pt x="2169" y="4283"/>
                  </a:lnTo>
                  <a:lnTo>
                    <a:pt x="2221" y="4272"/>
                  </a:lnTo>
                  <a:lnTo>
                    <a:pt x="2274" y="4254"/>
                  </a:lnTo>
                  <a:lnTo>
                    <a:pt x="2328" y="4231"/>
                  </a:lnTo>
                  <a:lnTo>
                    <a:pt x="2375" y="4207"/>
                  </a:lnTo>
                  <a:lnTo>
                    <a:pt x="2417" y="4172"/>
                  </a:lnTo>
                  <a:lnTo>
                    <a:pt x="2458" y="4136"/>
                  </a:lnTo>
                  <a:lnTo>
                    <a:pt x="2499" y="4095"/>
                  </a:lnTo>
                  <a:lnTo>
                    <a:pt x="2529" y="4047"/>
                  </a:lnTo>
                  <a:lnTo>
                    <a:pt x="2558" y="4000"/>
                  </a:lnTo>
                  <a:lnTo>
                    <a:pt x="2581" y="3941"/>
                  </a:lnTo>
                  <a:lnTo>
                    <a:pt x="2658" y="3988"/>
                  </a:lnTo>
                  <a:lnTo>
                    <a:pt x="2742" y="4035"/>
                  </a:lnTo>
                  <a:lnTo>
                    <a:pt x="2836" y="4065"/>
                  </a:lnTo>
                  <a:lnTo>
                    <a:pt x="2936" y="4089"/>
                  </a:lnTo>
                  <a:lnTo>
                    <a:pt x="3036" y="4107"/>
                  </a:lnTo>
                  <a:lnTo>
                    <a:pt x="3138" y="4113"/>
                  </a:lnTo>
                  <a:lnTo>
                    <a:pt x="3237" y="4107"/>
                  </a:lnTo>
                  <a:lnTo>
                    <a:pt x="3326" y="4089"/>
                  </a:lnTo>
                  <a:lnTo>
                    <a:pt x="3415" y="4059"/>
                  </a:lnTo>
                  <a:lnTo>
                    <a:pt x="3456" y="4041"/>
                  </a:lnTo>
                  <a:lnTo>
                    <a:pt x="3491" y="4018"/>
                  </a:lnTo>
                  <a:lnTo>
                    <a:pt x="3527" y="3994"/>
                  </a:lnTo>
                  <a:lnTo>
                    <a:pt x="3556" y="3964"/>
                  </a:lnTo>
                  <a:lnTo>
                    <a:pt x="3586" y="3936"/>
                  </a:lnTo>
                  <a:lnTo>
                    <a:pt x="3604" y="3900"/>
                  </a:lnTo>
                  <a:lnTo>
                    <a:pt x="3627" y="3865"/>
                  </a:lnTo>
                  <a:lnTo>
                    <a:pt x="3639" y="3823"/>
                  </a:lnTo>
                  <a:lnTo>
                    <a:pt x="3651" y="3775"/>
                  </a:lnTo>
                  <a:lnTo>
                    <a:pt x="3651" y="3728"/>
                  </a:lnTo>
                  <a:lnTo>
                    <a:pt x="3651" y="3681"/>
                  </a:lnTo>
                  <a:lnTo>
                    <a:pt x="3645" y="3622"/>
                  </a:lnTo>
                  <a:lnTo>
                    <a:pt x="3632" y="3569"/>
                  </a:lnTo>
                  <a:lnTo>
                    <a:pt x="3609" y="3504"/>
                  </a:lnTo>
                  <a:lnTo>
                    <a:pt x="3674" y="3516"/>
                  </a:lnTo>
                  <a:lnTo>
                    <a:pt x="3734" y="3528"/>
                  </a:lnTo>
                  <a:lnTo>
                    <a:pt x="3792" y="3528"/>
                  </a:lnTo>
                  <a:lnTo>
                    <a:pt x="3852" y="3528"/>
                  </a:lnTo>
                  <a:lnTo>
                    <a:pt x="3910" y="3522"/>
                  </a:lnTo>
                  <a:lnTo>
                    <a:pt x="3969" y="3510"/>
                  </a:lnTo>
                  <a:lnTo>
                    <a:pt x="4023" y="3498"/>
                  </a:lnTo>
                  <a:lnTo>
                    <a:pt x="4076" y="3474"/>
                  </a:lnTo>
                  <a:lnTo>
                    <a:pt x="4123" y="3451"/>
                  </a:lnTo>
                  <a:lnTo>
                    <a:pt x="4177" y="3421"/>
                  </a:lnTo>
                  <a:lnTo>
                    <a:pt x="4218" y="3386"/>
                  </a:lnTo>
                  <a:lnTo>
                    <a:pt x="4265" y="3345"/>
                  </a:lnTo>
                  <a:lnTo>
                    <a:pt x="4300" y="3298"/>
                  </a:lnTo>
                  <a:lnTo>
                    <a:pt x="4336" y="3244"/>
                  </a:lnTo>
                  <a:lnTo>
                    <a:pt x="4371" y="3184"/>
                  </a:lnTo>
                  <a:lnTo>
                    <a:pt x="4401" y="3120"/>
                  </a:lnTo>
                  <a:lnTo>
                    <a:pt x="4419" y="3061"/>
                  </a:lnTo>
                  <a:lnTo>
                    <a:pt x="4437" y="3002"/>
                  </a:lnTo>
                  <a:lnTo>
                    <a:pt x="4448" y="2943"/>
                  </a:lnTo>
                  <a:lnTo>
                    <a:pt x="4454" y="2883"/>
                  </a:lnTo>
                  <a:lnTo>
                    <a:pt x="4454" y="2830"/>
                  </a:lnTo>
                  <a:lnTo>
                    <a:pt x="4448" y="2777"/>
                  </a:lnTo>
                  <a:lnTo>
                    <a:pt x="4437" y="2730"/>
                  </a:lnTo>
                  <a:lnTo>
                    <a:pt x="4425" y="2677"/>
                  </a:lnTo>
                  <a:lnTo>
                    <a:pt x="4390" y="2582"/>
                  </a:lnTo>
                  <a:lnTo>
                    <a:pt x="4336" y="2488"/>
                  </a:lnTo>
                  <a:lnTo>
                    <a:pt x="4282" y="2399"/>
                  </a:lnTo>
                  <a:lnTo>
                    <a:pt x="4218" y="2304"/>
                  </a:lnTo>
                  <a:lnTo>
                    <a:pt x="4300" y="2304"/>
                  </a:lnTo>
                  <a:lnTo>
                    <a:pt x="4371" y="2292"/>
                  </a:lnTo>
                  <a:lnTo>
                    <a:pt x="4442" y="2274"/>
                  </a:lnTo>
                  <a:lnTo>
                    <a:pt x="4502" y="2251"/>
                  </a:lnTo>
                  <a:lnTo>
                    <a:pt x="4560" y="2221"/>
                  </a:lnTo>
                  <a:lnTo>
                    <a:pt x="4613" y="2180"/>
                  </a:lnTo>
                  <a:lnTo>
                    <a:pt x="4655" y="2139"/>
                  </a:lnTo>
                  <a:lnTo>
                    <a:pt x="4696" y="2092"/>
                  </a:lnTo>
                  <a:lnTo>
                    <a:pt x="4732" y="2038"/>
                  </a:lnTo>
                  <a:lnTo>
                    <a:pt x="4761" y="1979"/>
                  </a:lnTo>
                  <a:lnTo>
                    <a:pt x="4785" y="1920"/>
                  </a:lnTo>
                  <a:lnTo>
                    <a:pt x="4809" y="1856"/>
                  </a:lnTo>
                  <a:lnTo>
                    <a:pt x="4821" y="1790"/>
                  </a:lnTo>
                  <a:lnTo>
                    <a:pt x="4827" y="1725"/>
                  </a:lnTo>
                  <a:lnTo>
                    <a:pt x="4833" y="1660"/>
                  </a:lnTo>
                  <a:lnTo>
                    <a:pt x="4833" y="1590"/>
                  </a:lnTo>
                  <a:lnTo>
                    <a:pt x="4821" y="1525"/>
                  </a:lnTo>
                  <a:lnTo>
                    <a:pt x="4809" y="1459"/>
                  </a:lnTo>
                  <a:lnTo>
                    <a:pt x="4797" y="1394"/>
                  </a:lnTo>
                  <a:lnTo>
                    <a:pt x="4773" y="1329"/>
                  </a:lnTo>
                  <a:lnTo>
                    <a:pt x="4744" y="1271"/>
                  </a:lnTo>
                  <a:lnTo>
                    <a:pt x="4713" y="1211"/>
                  </a:lnTo>
                  <a:lnTo>
                    <a:pt x="4678" y="1158"/>
                  </a:lnTo>
                  <a:lnTo>
                    <a:pt x="4637" y="1105"/>
                  </a:lnTo>
                  <a:lnTo>
                    <a:pt x="4596" y="1063"/>
                  </a:lnTo>
                  <a:lnTo>
                    <a:pt x="4543" y="1022"/>
                  </a:lnTo>
                  <a:lnTo>
                    <a:pt x="4490" y="986"/>
                  </a:lnTo>
                  <a:lnTo>
                    <a:pt x="4437" y="963"/>
                  </a:lnTo>
                  <a:lnTo>
                    <a:pt x="4371" y="940"/>
                  </a:lnTo>
                  <a:lnTo>
                    <a:pt x="4306" y="927"/>
                  </a:lnTo>
                  <a:lnTo>
                    <a:pt x="4235" y="927"/>
                  </a:lnTo>
                  <a:lnTo>
                    <a:pt x="4159" y="927"/>
                  </a:lnTo>
                  <a:lnTo>
                    <a:pt x="4183" y="915"/>
                  </a:lnTo>
                  <a:lnTo>
                    <a:pt x="4206" y="897"/>
                  </a:lnTo>
                  <a:lnTo>
                    <a:pt x="4224" y="874"/>
                  </a:lnTo>
                  <a:lnTo>
                    <a:pt x="4229" y="856"/>
                  </a:lnTo>
                  <a:lnTo>
                    <a:pt x="4235" y="832"/>
                  </a:lnTo>
                  <a:lnTo>
                    <a:pt x="4235" y="803"/>
                  </a:lnTo>
                  <a:lnTo>
                    <a:pt x="4235" y="780"/>
                  </a:lnTo>
                  <a:lnTo>
                    <a:pt x="4224" y="750"/>
                  </a:lnTo>
                  <a:lnTo>
                    <a:pt x="4200" y="697"/>
                  </a:lnTo>
                  <a:lnTo>
                    <a:pt x="4165" y="632"/>
                  </a:lnTo>
                  <a:lnTo>
                    <a:pt x="4117" y="572"/>
                  </a:lnTo>
                  <a:lnTo>
                    <a:pt x="4059" y="514"/>
                  </a:lnTo>
                  <a:lnTo>
                    <a:pt x="3999" y="449"/>
                  </a:lnTo>
                  <a:lnTo>
                    <a:pt x="3934" y="396"/>
                  </a:lnTo>
                  <a:lnTo>
                    <a:pt x="3810" y="289"/>
                  </a:lnTo>
                  <a:lnTo>
                    <a:pt x="3698" y="207"/>
                  </a:lnTo>
                  <a:lnTo>
                    <a:pt x="3621" y="165"/>
                  </a:lnTo>
                  <a:lnTo>
                    <a:pt x="3533" y="124"/>
                  </a:lnTo>
                  <a:lnTo>
                    <a:pt x="3450" y="89"/>
                  </a:lnTo>
                  <a:lnTo>
                    <a:pt x="3361" y="64"/>
                  </a:lnTo>
                  <a:lnTo>
                    <a:pt x="3279" y="41"/>
                  </a:lnTo>
                  <a:lnTo>
                    <a:pt x="3190" y="23"/>
                  </a:lnTo>
                  <a:lnTo>
                    <a:pt x="3108" y="11"/>
                  </a:lnTo>
                  <a:lnTo>
                    <a:pt x="3024" y="0"/>
                  </a:lnTo>
                  <a:lnTo>
                    <a:pt x="2936" y="0"/>
                  </a:lnTo>
                  <a:lnTo>
                    <a:pt x="2854" y="0"/>
                  </a:lnTo>
                  <a:lnTo>
                    <a:pt x="2771" y="5"/>
                  </a:lnTo>
                  <a:lnTo>
                    <a:pt x="2687" y="17"/>
                  </a:lnTo>
                  <a:lnTo>
                    <a:pt x="2599" y="29"/>
                  </a:lnTo>
                  <a:lnTo>
                    <a:pt x="2517" y="46"/>
                  </a:lnTo>
                  <a:lnTo>
                    <a:pt x="2434" y="71"/>
                  </a:lnTo>
                  <a:lnTo>
                    <a:pt x="2262" y="124"/>
                  </a:lnTo>
                  <a:lnTo>
                    <a:pt x="2044" y="201"/>
                  </a:lnTo>
                  <a:lnTo>
                    <a:pt x="1932" y="242"/>
                  </a:lnTo>
                  <a:lnTo>
                    <a:pt x="1820" y="289"/>
                  </a:lnTo>
                  <a:lnTo>
                    <a:pt x="1707" y="342"/>
                  </a:lnTo>
                  <a:lnTo>
                    <a:pt x="1595" y="402"/>
                  </a:lnTo>
                  <a:lnTo>
                    <a:pt x="1489" y="473"/>
                  </a:lnTo>
                  <a:lnTo>
                    <a:pt x="1382" y="549"/>
                  </a:lnTo>
                  <a:lnTo>
                    <a:pt x="1258" y="662"/>
                  </a:lnTo>
                  <a:lnTo>
                    <a:pt x="1129" y="785"/>
                  </a:lnTo>
                  <a:lnTo>
                    <a:pt x="1058" y="856"/>
                  </a:lnTo>
                  <a:lnTo>
                    <a:pt x="992" y="933"/>
                  </a:lnTo>
                  <a:lnTo>
                    <a:pt x="933" y="1011"/>
                  </a:lnTo>
                  <a:lnTo>
                    <a:pt x="875" y="1093"/>
                  </a:lnTo>
                  <a:lnTo>
                    <a:pt x="816" y="1175"/>
                  </a:lnTo>
                  <a:lnTo>
                    <a:pt x="774" y="1258"/>
                  </a:lnTo>
                  <a:lnTo>
                    <a:pt x="733" y="1347"/>
                  </a:lnTo>
                  <a:lnTo>
                    <a:pt x="703" y="1430"/>
                  </a:lnTo>
                  <a:lnTo>
                    <a:pt x="685" y="1519"/>
                  </a:lnTo>
                  <a:lnTo>
                    <a:pt x="679" y="1607"/>
                  </a:lnTo>
                  <a:lnTo>
                    <a:pt x="679" y="1654"/>
                  </a:lnTo>
                  <a:lnTo>
                    <a:pt x="685" y="1696"/>
                  </a:lnTo>
                  <a:lnTo>
                    <a:pt x="691" y="1742"/>
                  </a:lnTo>
                  <a:lnTo>
                    <a:pt x="709" y="1784"/>
                  </a:lnTo>
                  <a:lnTo>
                    <a:pt x="697" y="1772"/>
                  </a:lnTo>
                  <a:lnTo>
                    <a:pt x="679" y="1766"/>
                  </a:lnTo>
                  <a:lnTo>
                    <a:pt x="661" y="1778"/>
                  </a:lnTo>
                  <a:lnTo>
                    <a:pt x="638" y="1796"/>
                  </a:lnTo>
                  <a:lnTo>
                    <a:pt x="579" y="1861"/>
                  </a:lnTo>
                  <a:lnTo>
                    <a:pt x="520" y="1949"/>
                  </a:lnTo>
                  <a:lnTo>
                    <a:pt x="467" y="2050"/>
                  </a:lnTo>
                  <a:lnTo>
                    <a:pt x="420" y="2145"/>
                  </a:lnTo>
                  <a:lnTo>
                    <a:pt x="385" y="2233"/>
                  </a:lnTo>
                  <a:lnTo>
                    <a:pt x="378" y="2263"/>
                  </a:lnTo>
                  <a:lnTo>
                    <a:pt x="372" y="2286"/>
                  </a:lnTo>
                  <a:lnTo>
                    <a:pt x="378" y="2434"/>
                  </a:lnTo>
                  <a:lnTo>
                    <a:pt x="391" y="2517"/>
                  </a:lnTo>
                  <a:lnTo>
                    <a:pt x="403" y="2599"/>
                  </a:lnTo>
                  <a:lnTo>
                    <a:pt x="426" y="2677"/>
                  </a:lnTo>
                  <a:lnTo>
                    <a:pt x="438" y="2712"/>
                  </a:lnTo>
                  <a:lnTo>
                    <a:pt x="456" y="2742"/>
                  </a:lnTo>
                  <a:lnTo>
                    <a:pt x="479" y="2765"/>
                  </a:lnTo>
                  <a:lnTo>
                    <a:pt x="502" y="2783"/>
                  </a:lnTo>
                  <a:lnTo>
                    <a:pt x="532" y="2795"/>
                  </a:lnTo>
                  <a:lnTo>
                    <a:pt x="562" y="2801"/>
                  </a:lnTo>
                  <a:close/>
                </a:path>
              </a:pathLst>
            </a:custGeom>
            <a:solidFill>
              <a:srgbClr val="f2e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5006880" y="1513080"/>
              <a:ext cx="326880" cy="330840"/>
              <a:chOff x="5006880" y="1513080"/>
              <a:chExt cx="326880" cy="330840"/>
            </a:xfrm>
          </p:grpSpPr>
          <p:sp>
            <p:nvSpPr>
              <p:cNvPr id="729" name="Freeform 21"/>
              <p:cNvSpPr/>
              <p:nvPr/>
            </p:nvSpPr>
            <p:spPr>
              <a:xfrm rot="20317200">
                <a:off x="5045040" y="1549800"/>
                <a:ext cx="250560" cy="25704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258" h="1288">
                    <a:moveTo>
                      <a:pt x="0" y="655"/>
                    </a:moveTo>
                    <a:lnTo>
                      <a:pt x="19" y="732"/>
                    </a:lnTo>
                    <a:lnTo>
                      <a:pt x="48" y="808"/>
                    </a:lnTo>
                    <a:lnTo>
                      <a:pt x="83" y="880"/>
                    </a:lnTo>
                    <a:lnTo>
                      <a:pt x="136" y="951"/>
                    </a:lnTo>
                    <a:lnTo>
                      <a:pt x="195" y="1021"/>
                    </a:lnTo>
                    <a:lnTo>
                      <a:pt x="260" y="1081"/>
                    </a:lnTo>
                    <a:lnTo>
                      <a:pt x="331" y="1134"/>
                    </a:lnTo>
                    <a:lnTo>
                      <a:pt x="408" y="1187"/>
                    </a:lnTo>
                    <a:lnTo>
                      <a:pt x="485" y="1223"/>
                    </a:lnTo>
                    <a:lnTo>
                      <a:pt x="567" y="1258"/>
                    </a:lnTo>
                    <a:lnTo>
                      <a:pt x="650" y="1276"/>
                    </a:lnTo>
                    <a:lnTo>
                      <a:pt x="733" y="1288"/>
                    </a:lnTo>
                    <a:lnTo>
                      <a:pt x="816" y="1288"/>
                    </a:lnTo>
                    <a:lnTo>
                      <a:pt x="857" y="1282"/>
                    </a:lnTo>
                    <a:lnTo>
                      <a:pt x="892" y="1270"/>
                    </a:lnTo>
                    <a:lnTo>
                      <a:pt x="933" y="1258"/>
                    </a:lnTo>
                    <a:lnTo>
                      <a:pt x="969" y="1241"/>
                    </a:lnTo>
                    <a:lnTo>
                      <a:pt x="1004" y="1223"/>
                    </a:lnTo>
                    <a:lnTo>
                      <a:pt x="1040" y="1193"/>
                    </a:lnTo>
                    <a:lnTo>
                      <a:pt x="1076" y="1164"/>
                    </a:lnTo>
                    <a:lnTo>
                      <a:pt x="1105" y="1129"/>
                    </a:lnTo>
                    <a:lnTo>
                      <a:pt x="1135" y="1092"/>
                    </a:lnTo>
                    <a:lnTo>
                      <a:pt x="1158" y="1057"/>
                    </a:lnTo>
                    <a:lnTo>
                      <a:pt x="1205" y="980"/>
                    </a:lnTo>
                    <a:lnTo>
                      <a:pt x="1235" y="892"/>
                    </a:lnTo>
                    <a:lnTo>
                      <a:pt x="1252" y="808"/>
                    </a:lnTo>
                    <a:lnTo>
                      <a:pt x="1258" y="714"/>
                    </a:lnTo>
                    <a:lnTo>
                      <a:pt x="1252" y="626"/>
                    </a:lnTo>
                    <a:lnTo>
                      <a:pt x="1235" y="537"/>
                    </a:lnTo>
                    <a:lnTo>
                      <a:pt x="1211" y="448"/>
                    </a:lnTo>
                    <a:lnTo>
                      <a:pt x="1175" y="366"/>
                    </a:lnTo>
                    <a:lnTo>
                      <a:pt x="1128" y="283"/>
                    </a:lnTo>
                    <a:lnTo>
                      <a:pt x="1070" y="212"/>
                    </a:lnTo>
                    <a:lnTo>
                      <a:pt x="1004" y="147"/>
                    </a:lnTo>
                    <a:lnTo>
                      <a:pt x="933" y="94"/>
                    </a:lnTo>
                    <a:lnTo>
                      <a:pt x="892" y="70"/>
                    </a:lnTo>
                    <a:lnTo>
                      <a:pt x="851" y="52"/>
                    </a:lnTo>
                    <a:lnTo>
                      <a:pt x="804" y="35"/>
                    </a:lnTo>
                    <a:lnTo>
                      <a:pt x="762" y="18"/>
                    </a:lnTo>
                    <a:lnTo>
                      <a:pt x="686" y="5"/>
                    </a:lnTo>
                    <a:lnTo>
                      <a:pt x="614" y="0"/>
                    </a:lnTo>
                    <a:lnTo>
                      <a:pt x="544" y="5"/>
                    </a:lnTo>
                    <a:lnTo>
                      <a:pt x="473" y="18"/>
                    </a:lnTo>
                    <a:lnTo>
                      <a:pt x="402" y="41"/>
                    </a:lnTo>
                    <a:lnTo>
                      <a:pt x="337" y="70"/>
                    </a:lnTo>
                    <a:lnTo>
                      <a:pt x="272" y="106"/>
                    </a:lnTo>
                    <a:lnTo>
                      <a:pt x="219" y="147"/>
                    </a:lnTo>
                    <a:lnTo>
                      <a:pt x="166" y="194"/>
                    </a:lnTo>
                    <a:lnTo>
                      <a:pt x="118" y="254"/>
                    </a:lnTo>
                    <a:lnTo>
                      <a:pt x="77" y="307"/>
                    </a:lnTo>
                    <a:lnTo>
                      <a:pt x="48" y="371"/>
                    </a:lnTo>
                    <a:lnTo>
                      <a:pt x="19" y="437"/>
                    </a:lnTo>
                    <a:lnTo>
                      <a:pt x="6" y="507"/>
                    </a:lnTo>
                    <a:lnTo>
                      <a:pt x="0" y="585"/>
                    </a:lnTo>
                    <a:lnTo>
                      <a:pt x="0" y="65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22"/>
              <p:cNvSpPr/>
              <p:nvPr/>
            </p:nvSpPr>
            <p:spPr>
              <a:xfrm rot="20317200">
                <a:off x="5134680" y="1595520"/>
                <a:ext cx="131760" cy="1602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662" h="809">
                    <a:moveTo>
                      <a:pt x="431" y="809"/>
                    </a:moveTo>
                    <a:lnTo>
                      <a:pt x="378" y="798"/>
                    </a:lnTo>
                    <a:lnTo>
                      <a:pt x="325" y="786"/>
                    </a:lnTo>
                    <a:lnTo>
                      <a:pt x="278" y="762"/>
                    </a:lnTo>
                    <a:lnTo>
                      <a:pt x="230" y="738"/>
                    </a:lnTo>
                    <a:lnTo>
                      <a:pt x="189" y="709"/>
                    </a:lnTo>
                    <a:lnTo>
                      <a:pt x="153" y="680"/>
                    </a:lnTo>
                    <a:lnTo>
                      <a:pt x="124" y="650"/>
                    </a:lnTo>
                    <a:lnTo>
                      <a:pt x="95" y="615"/>
                    </a:lnTo>
                    <a:lnTo>
                      <a:pt x="71" y="573"/>
                    </a:lnTo>
                    <a:lnTo>
                      <a:pt x="48" y="537"/>
                    </a:lnTo>
                    <a:lnTo>
                      <a:pt x="30" y="496"/>
                    </a:lnTo>
                    <a:lnTo>
                      <a:pt x="18" y="455"/>
                    </a:lnTo>
                    <a:lnTo>
                      <a:pt x="6" y="413"/>
                    </a:lnTo>
                    <a:lnTo>
                      <a:pt x="6" y="372"/>
                    </a:lnTo>
                    <a:lnTo>
                      <a:pt x="0" y="331"/>
                    </a:lnTo>
                    <a:lnTo>
                      <a:pt x="6" y="296"/>
                    </a:lnTo>
                    <a:lnTo>
                      <a:pt x="12" y="254"/>
                    </a:lnTo>
                    <a:lnTo>
                      <a:pt x="24" y="218"/>
                    </a:lnTo>
                    <a:lnTo>
                      <a:pt x="36" y="183"/>
                    </a:lnTo>
                    <a:lnTo>
                      <a:pt x="59" y="148"/>
                    </a:lnTo>
                    <a:lnTo>
                      <a:pt x="83" y="118"/>
                    </a:lnTo>
                    <a:lnTo>
                      <a:pt x="106" y="88"/>
                    </a:lnTo>
                    <a:lnTo>
                      <a:pt x="136" y="65"/>
                    </a:lnTo>
                    <a:lnTo>
                      <a:pt x="171" y="41"/>
                    </a:lnTo>
                    <a:lnTo>
                      <a:pt x="213" y="24"/>
                    </a:lnTo>
                    <a:lnTo>
                      <a:pt x="255" y="12"/>
                    </a:lnTo>
                    <a:lnTo>
                      <a:pt x="302" y="0"/>
                    </a:lnTo>
                    <a:lnTo>
                      <a:pt x="355" y="0"/>
                    </a:lnTo>
                    <a:lnTo>
                      <a:pt x="408" y="0"/>
                    </a:lnTo>
                    <a:lnTo>
                      <a:pt x="467" y="12"/>
                    </a:lnTo>
                    <a:lnTo>
                      <a:pt x="532" y="24"/>
                    </a:lnTo>
                    <a:lnTo>
                      <a:pt x="597" y="41"/>
                    </a:lnTo>
                    <a:lnTo>
                      <a:pt x="609" y="47"/>
                    </a:lnTo>
                    <a:lnTo>
                      <a:pt x="621" y="59"/>
                    </a:lnTo>
                    <a:lnTo>
                      <a:pt x="632" y="88"/>
                    </a:lnTo>
                    <a:lnTo>
                      <a:pt x="644" y="130"/>
                    </a:lnTo>
                    <a:lnTo>
                      <a:pt x="656" y="183"/>
                    </a:lnTo>
                    <a:lnTo>
                      <a:pt x="656" y="248"/>
                    </a:lnTo>
                    <a:lnTo>
                      <a:pt x="662" y="314"/>
                    </a:lnTo>
                    <a:lnTo>
                      <a:pt x="656" y="384"/>
                    </a:lnTo>
                    <a:lnTo>
                      <a:pt x="650" y="455"/>
                    </a:lnTo>
                    <a:lnTo>
                      <a:pt x="638" y="525"/>
                    </a:lnTo>
                    <a:lnTo>
                      <a:pt x="621" y="597"/>
                    </a:lnTo>
                    <a:lnTo>
                      <a:pt x="603" y="656"/>
                    </a:lnTo>
                    <a:lnTo>
                      <a:pt x="580" y="715"/>
                    </a:lnTo>
                    <a:lnTo>
                      <a:pt x="549" y="756"/>
                    </a:lnTo>
                    <a:lnTo>
                      <a:pt x="514" y="792"/>
                    </a:lnTo>
                    <a:lnTo>
                      <a:pt x="496" y="804"/>
                    </a:lnTo>
                    <a:lnTo>
                      <a:pt x="478" y="809"/>
                    </a:lnTo>
                    <a:lnTo>
                      <a:pt x="455" y="809"/>
                    </a:lnTo>
                    <a:lnTo>
                      <a:pt x="431" y="809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Freeform 23"/>
            <p:cNvSpPr/>
            <p:nvPr/>
          </p:nvSpPr>
          <p:spPr>
            <a:xfrm rot="20317200">
              <a:off x="5132520" y="1074600"/>
              <a:ext cx="911160" cy="8175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4595" h="4125">
                  <a:moveTo>
                    <a:pt x="3804" y="3546"/>
                  </a:moveTo>
                  <a:lnTo>
                    <a:pt x="3869" y="3487"/>
                  </a:lnTo>
                  <a:lnTo>
                    <a:pt x="3934" y="3422"/>
                  </a:lnTo>
                  <a:lnTo>
                    <a:pt x="3993" y="3345"/>
                  </a:lnTo>
                  <a:lnTo>
                    <a:pt x="4058" y="3269"/>
                  </a:lnTo>
                  <a:lnTo>
                    <a:pt x="4111" y="3179"/>
                  </a:lnTo>
                  <a:lnTo>
                    <a:pt x="4170" y="3091"/>
                  </a:lnTo>
                  <a:lnTo>
                    <a:pt x="4223" y="2997"/>
                  </a:lnTo>
                  <a:lnTo>
                    <a:pt x="4276" y="2896"/>
                  </a:lnTo>
                  <a:lnTo>
                    <a:pt x="4323" y="2790"/>
                  </a:lnTo>
                  <a:lnTo>
                    <a:pt x="4372" y="2684"/>
                  </a:lnTo>
                  <a:lnTo>
                    <a:pt x="4412" y="2571"/>
                  </a:lnTo>
                  <a:lnTo>
                    <a:pt x="4454" y="2459"/>
                  </a:lnTo>
                  <a:lnTo>
                    <a:pt x="4490" y="2346"/>
                  </a:lnTo>
                  <a:lnTo>
                    <a:pt x="4519" y="2228"/>
                  </a:lnTo>
                  <a:lnTo>
                    <a:pt x="4542" y="2110"/>
                  </a:lnTo>
                  <a:lnTo>
                    <a:pt x="4566" y="1992"/>
                  </a:lnTo>
                  <a:lnTo>
                    <a:pt x="4578" y="1874"/>
                  </a:lnTo>
                  <a:lnTo>
                    <a:pt x="4590" y="1761"/>
                  </a:lnTo>
                  <a:lnTo>
                    <a:pt x="4595" y="1643"/>
                  </a:lnTo>
                  <a:lnTo>
                    <a:pt x="4595" y="1531"/>
                  </a:lnTo>
                  <a:lnTo>
                    <a:pt x="4590" y="1419"/>
                  </a:lnTo>
                  <a:lnTo>
                    <a:pt x="4572" y="1306"/>
                  </a:lnTo>
                  <a:lnTo>
                    <a:pt x="4554" y="1200"/>
                  </a:lnTo>
                  <a:lnTo>
                    <a:pt x="4525" y="1099"/>
                  </a:lnTo>
                  <a:lnTo>
                    <a:pt x="4495" y="1000"/>
                  </a:lnTo>
                  <a:lnTo>
                    <a:pt x="4454" y="904"/>
                  </a:lnTo>
                  <a:lnTo>
                    <a:pt x="4401" y="816"/>
                  </a:lnTo>
                  <a:lnTo>
                    <a:pt x="4341" y="733"/>
                  </a:lnTo>
                  <a:lnTo>
                    <a:pt x="4276" y="656"/>
                  </a:lnTo>
                  <a:lnTo>
                    <a:pt x="4206" y="585"/>
                  </a:lnTo>
                  <a:lnTo>
                    <a:pt x="4124" y="521"/>
                  </a:lnTo>
                  <a:lnTo>
                    <a:pt x="4028" y="468"/>
                  </a:lnTo>
                  <a:lnTo>
                    <a:pt x="3957" y="426"/>
                  </a:lnTo>
                  <a:lnTo>
                    <a:pt x="3881" y="397"/>
                  </a:lnTo>
                  <a:lnTo>
                    <a:pt x="3722" y="331"/>
                  </a:lnTo>
                  <a:lnTo>
                    <a:pt x="3556" y="278"/>
                  </a:lnTo>
                  <a:lnTo>
                    <a:pt x="3397" y="231"/>
                  </a:lnTo>
                  <a:lnTo>
                    <a:pt x="3107" y="155"/>
                  </a:lnTo>
                  <a:lnTo>
                    <a:pt x="2824" y="88"/>
                  </a:lnTo>
                  <a:lnTo>
                    <a:pt x="2681" y="59"/>
                  </a:lnTo>
                  <a:lnTo>
                    <a:pt x="2546" y="36"/>
                  </a:lnTo>
                  <a:lnTo>
                    <a:pt x="2404" y="18"/>
                  </a:lnTo>
                  <a:lnTo>
                    <a:pt x="2262" y="6"/>
                  </a:lnTo>
                  <a:lnTo>
                    <a:pt x="2121" y="0"/>
                  </a:lnTo>
                  <a:lnTo>
                    <a:pt x="1984" y="6"/>
                  </a:lnTo>
                  <a:lnTo>
                    <a:pt x="1843" y="18"/>
                  </a:lnTo>
                  <a:lnTo>
                    <a:pt x="1701" y="36"/>
                  </a:lnTo>
                  <a:lnTo>
                    <a:pt x="1565" y="59"/>
                  </a:lnTo>
                  <a:lnTo>
                    <a:pt x="1424" y="101"/>
                  </a:lnTo>
                  <a:lnTo>
                    <a:pt x="1287" y="149"/>
                  </a:lnTo>
                  <a:lnTo>
                    <a:pt x="1146" y="207"/>
                  </a:lnTo>
                  <a:lnTo>
                    <a:pt x="1064" y="248"/>
                  </a:lnTo>
                  <a:lnTo>
                    <a:pt x="986" y="296"/>
                  </a:lnTo>
                  <a:lnTo>
                    <a:pt x="910" y="343"/>
                  </a:lnTo>
                  <a:lnTo>
                    <a:pt x="839" y="397"/>
                  </a:lnTo>
                  <a:lnTo>
                    <a:pt x="774" y="450"/>
                  </a:lnTo>
                  <a:lnTo>
                    <a:pt x="709" y="503"/>
                  </a:lnTo>
                  <a:lnTo>
                    <a:pt x="644" y="567"/>
                  </a:lnTo>
                  <a:lnTo>
                    <a:pt x="585" y="627"/>
                  </a:lnTo>
                  <a:lnTo>
                    <a:pt x="525" y="698"/>
                  </a:lnTo>
                  <a:lnTo>
                    <a:pt x="473" y="763"/>
                  </a:lnTo>
                  <a:lnTo>
                    <a:pt x="426" y="834"/>
                  </a:lnTo>
                  <a:lnTo>
                    <a:pt x="379" y="910"/>
                  </a:lnTo>
                  <a:lnTo>
                    <a:pt x="289" y="1064"/>
                  </a:lnTo>
                  <a:lnTo>
                    <a:pt x="213" y="1223"/>
                  </a:lnTo>
                  <a:lnTo>
                    <a:pt x="177" y="1313"/>
                  </a:lnTo>
                  <a:lnTo>
                    <a:pt x="142" y="1401"/>
                  </a:lnTo>
                  <a:lnTo>
                    <a:pt x="89" y="1585"/>
                  </a:lnTo>
                  <a:lnTo>
                    <a:pt x="48" y="1773"/>
                  </a:lnTo>
                  <a:lnTo>
                    <a:pt x="18" y="1963"/>
                  </a:lnTo>
                  <a:lnTo>
                    <a:pt x="6" y="2056"/>
                  </a:lnTo>
                  <a:lnTo>
                    <a:pt x="0" y="2158"/>
                  </a:lnTo>
                  <a:lnTo>
                    <a:pt x="0" y="2252"/>
                  </a:lnTo>
                  <a:lnTo>
                    <a:pt x="0" y="2352"/>
                  </a:lnTo>
                  <a:lnTo>
                    <a:pt x="6" y="2447"/>
                  </a:lnTo>
                  <a:lnTo>
                    <a:pt x="18" y="2541"/>
                  </a:lnTo>
                  <a:lnTo>
                    <a:pt x="29" y="2636"/>
                  </a:lnTo>
                  <a:lnTo>
                    <a:pt x="48" y="2731"/>
                  </a:lnTo>
                  <a:lnTo>
                    <a:pt x="71" y="2819"/>
                  </a:lnTo>
                  <a:lnTo>
                    <a:pt x="95" y="2913"/>
                  </a:lnTo>
                  <a:lnTo>
                    <a:pt x="124" y="3003"/>
                  </a:lnTo>
                  <a:lnTo>
                    <a:pt x="160" y="3085"/>
                  </a:lnTo>
                  <a:lnTo>
                    <a:pt x="201" y="3174"/>
                  </a:lnTo>
                  <a:lnTo>
                    <a:pt x="242" y="3257"/>
                  </a:lnTo>
                  <a:lnTo>
                    <a:pt x="289" y="3334"/>
                  </a:lnTo>
                  <a:lnTo>
                    <a:pt x="337" y="3410"/>
                  </a:lnTo>
                  <a:lnTo>
                    <a:pt x="396" y="3481"/>
                  </a:lnTo>
                  <a:lnTo>
                    <a:pt x="455" y="3552"/>
                  </a:lnTo>
                  <a:lnTo>
                    <a:pt x="520" y="3623"/>
                  </a:lnTo>
                  <a:lnTo>
                    <a:pt x="590" y="3682"/>
                  </a:lnTo>
                  <a:lnTo>
                    <a:pt x="667" y="3747"/>
                  </a:lnTo>
                  <a:lnTo>
                    <a:pt x="745" y="3799"/>
                  </a:lnTo>
                  <a:lnTo>
                    <a:pt x="833" y="3848"/>
                  </a:lnTo>
                  <a:lnTo>
                    <a:pt x="921" y="3895"/>
                  </a:lnTo>
                  <a:lnTo>
                    <a:pt x="998" y="3931"/>
                  </a:lnTo>
                  <a:lnTo>
                    <a:pt x="1087" y="3966"/>
                  </a:lnTo>
                  <a:lnTo>
                    <a:pt x="1170" y="3995"/>
                  </a:lnTo>
                  <a:lnTo>
                    <a:pt x="1258" y="4024"/>
                  </a:lnTo>
                  <a:lnTo>
                    <a:pt x="1442" y="4065"/>
                  </a:lnTo>
                  <a:lnTo>
                    <a:pt x="1624" y="4101"/>
                  </a:lnTo>
                  <a:lnTo>
                    <a:pt x="1819" y="4119"/>
                  </a:lnTo>
                  <a:lnTo>
                    <a:pt x="2014" y="4125"/>
                  </a:lnTo>
                  <a:lnTo>
                    <a:pt x="2209" y="4119"/>
                  </a:lnTo>
                  <a:lnTo>
                    <a:pt x="2410" y="4107"/>
                  </a:lnTo>
                  <a:lnTo>
                    <a:pt x="2605" y="4077"/>
                  </a:lnTo>
                  <a:lnTo>
                    <a:pt x="2794" y="4036"/>
                  </a:lnTo>
                  <a:lnTo>
                    <a:pt x="2983" y="3983"/>
                  </a:lnTo>
                  <a:lnTo>
                    <a:pt x="3166" y="3918"/>
                  </a:lnTo>
                  <a:lnTo>
                    <a:pt x="3343" y="3842"/>
                  </a:lnTo>
                  <a:lnTo>
                    <a:pt x="3426" y="3799"/>
                  </a:lnTo>
                  <a:lnTo>
                    <a:pt x="3509" y="3753"/>
                  </a:lnTo>
                  <a:lnTo>
                    <a:pt x="3585" y="3705"/>
                  </a:lnTo>
                  <a:lnTo>
                    <a:pt x="3662" y="3659"/>
                  </a:lnTo>
                  <a:lnTo>
                    <a:pt x="3733" y="3600"/>
                  </a:lnTo>
                  <a:lnTo>
                    <a:pt x="3804" y="3546"/>
                  </a:lnTo>
                  <a:close/>
                </a:path>
              </a:pathLst>
            </a:custGeom>
            <a:solidFill>
              <a:srgbClr val="f4d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4"/>
            <p:cNvSpPr/>
            <p:nvPr/>
          </p:nvSpPr>
          <p:spPr>
            <a:xfrm rot="20317200">
              <a:off x="5138280" y="1397880"/>
              <a:ext cx="247680" cy="2721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5"/>
            <p:cNvSpPr/>
            <p:nvPr/>
          </p:nvSpPr>
          <p:spPr>
            <a:xfrm rot="20317200">
              <a:off x="5628240" y="1288080"/>
              <a:ext cx="256320" cy="2721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6"/>
            <p:cNvSpPr/>
            <p:nvPr/>
          </p:nvSpPr>
          <p:spPr>
            <a:xfrm rot="20317200">
              <a:off x="5449320" y="1617840"/>
              <a:ext cx="69480" cy="71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89" h="295">
                  <a:moveTo>
                    <a:pt x="46" y="278"/>
                  </a:moveTo>
                  <a:lnTo>
                    <a:pt x="70" y="289"/>
                  </a:lnTo>
                  <a:lnTo>
                    <a:pt x="105" y="295"/>
                  </a:lnTo>
                  <a:lnTo>
                    <a:pt x="134" y="295"/>
                  </a:lnTo>
                  <a:lnTo>
                    <a:pt x="170" y="289"/>
                  </a:lnTo>
                  <a:lnTo>
                    <a:pt x="206" y="278"/>
                  </a:lnTo>
                  <a:lnTo>
                    <a:pt x="236" y="266"/>
                  </a:lnTo>
                  <a:lnTo>
                    <a:pt x="259" y="248"/>
                  </a:lnTo>
                  <a:lnTo>
                    <a:pt x="277" y="224"/>
                  </a:lnTo>
                  <a:lnTo>
                    <a:pt x="289" y="207"/>
                  </a:lnTo>
                  <a:lnTo>
                    <a:pt x="289" y="195"/>
                  </a:lnTo>
                  <a:lnTo>
                    <a:pt x="283" y="183"/>
                  </a:lnTo>
                  <a:lnTo>
                    <a:pt x="271" y="176"/>
                  </a:lnTo>
                  <a:lnTo>
                    <a:pt x="242" y="164"/>
                  </a:lnTo>
                  <a:lnTo>
                    <a:pt x="218" y="153"/>
                  </a:lnTo>
                  <a:lnTo>
                    <a:pt x="201" y="135"/>
                  </a:lnTo>
                  <a:lnTo>
                    <a:pt x="170" y="100"/>
                  </a:lnTo>
                  <a:lnTo>
                    <a:pt x="147" y="64"/>
                  </a:lnTo>
                  <a:lnTo>
                    <a:pt x="123" y="36"/>
                  </a:lnTo>
                  <a:lnTo>
                    <a:pt x="99" y="11"/>
                  </a:lnTo>
                  <a:lnTo>
                    <a:pt x="87" y="5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5"/>
                  </a:lnTo>
                  <a:lnTo>
                    <a:pt x="46" y="17"/>
                  </a:lnTo>
                  <a:lnTo>
                    <a:pt x="35" y="36"/>
                  </a:lnTo>
                  <a:lnTo>
                    <a:pt x="11" y="94"/>
                  </a:lnTo>
                  <a:lnTo>
                    <a:pt x="0" y="147"/>
                  </a:lnTo>
                  <a:lnTo>
                    <a:pt x="0" y="201"/>
                  </a:lnTo>
                  <a:lnTo>
                    <a:pt x="5" y="224"/>
                  </a:lnTo>
                  <a:lnTo>
                    <a:pt x="17" y="248"/>
                  </a:lnTo>
                  <a:lnTo>
                    <a:pt x="29" y="266"/>
                  </a:lnTo>
                  <a:lnTo>
                    <a:pt x="46" y="278"/>
                  </a:lnTo>
                  <a:close/>
                </a:path>
              </a:pathLst>
            </a:custGeom>
            <a:solidFill>
              <a:srgbClr val="ee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7"/>
            <p:cNvSpPr/>
            <p:nvPr/>
          </p:nvSpPr>
          <p:spPr>
            <a:xfrm rot="20317200">
              <a:off x="5200200" y="1326960"/>
              <a:ext cx="91800" cy="55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0" h="278">
                  <a:moveTo>
                    <a:pt x="0" y="195"/>
                  </a:moveTo>
                  <a:lnTo>
                    <a:pt x="0" y="213"/>
                  </a:lnTo>
                  <a:lnTo>
                    <a:pt x="6" y="224"/>
                  </a:lnTo>
                  <a:lnTo>
                    <a:pt x="17" y="242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64" y="242"/>
                  </a:lnTo>
                  <a:lnTo>
                    <a:pt x="77" y="237"/>
                  </a:lnTo>
                  <a:lnTo>
                    <a:pt x="83" y="219"/>
                  </a:lnTo>
                  <a:lnTo>
                    <a:pt x="94" y="189"/>
                  </a:lnTo>
                  <a:lnTo>
                    <a:pt x="106" y="159"/>
                  </a:lnTo>
                  <a:lnTo>
                    <a:pt x="124" y="135"/>
                  </a:lnTo>
                  <a:lnTo>
                    <a:pt x="141" y="118"/>
                  </a:lnTo>
                  <a:lnTo>
                    <a:pt x="159" y="106"/>
                  </a:lnTo>
                  <a:lnTo>
                    <a:pt x="182" y="94"/>
                  </a:lnTo>
                  <a:lnTo>
                    <a:pt x="206" y="88"/>
                  </a:lnTo>
                  <a:lnTo>
                    <a:pt x="230" y="88"/>
                  </a:lnTo>
                  <a:lnTo>
                    <a:pt x="253" y="88"/>
                  </a:lnTo>
                  <a:lnTo>
                    <a:pt x="277" y="94"/>
                  </a:lnTo>
                  <a:lnTo>
                    <a:pt x="295" y="106"/>
                  </a:lnTo>
                  <a:lnTo>
                    <a:pt x="319" y="124"/>
                  </a:lnTo>
                  <a:lnTo>
                    <a:pt x="336" y="141"/>
                  </a:lnTo>
                  <a:lnTo>
                    <a:pt x="354" y="171"/>
                  </a:lnTo>
                  <a:lnTo>
                    <a:pt x="366" y="201"/>
                  </a:lnTo>
                  <a:lnTo>
                    <a:pt x="378" y="242"/>
                  </a:lnTo>
                  <a:lnTo>
                    <a:pt x="384" y="254"/>
                  </a:lnTo>
                  <a:lnTo>
                    <a:pt x="395" y="266"/>
                  </a:lnTo>
                  <a:lnTo>
                    <a:pt x="413" y="278"/>
                  </a:lnTo>
                  <a:lnTo>
                    <a:pt x="431" y="278"/>
                  </a:lnTo>
                  <a:lnTo>
                    <a:pt x="442" y="272"/>
                  </a:lnTo>
                  <a:lnTo>
                    <a:pt x="454" y="260"/>
                  </a:lnTo>
                  <a:lnTo>
                    <a:pt x="460" y="242"/>
                  </a:lnTo>
                  <a:lnTo>
                    <a:pt x="460" y="224"/>
                  </a:lnTo>
                  <a:lnTo>
                    <a:pt x="448" y="171"/>
                  </a:lnTo>
                  <a:lnTo>
                    <a:pt x="431" y="130"/>
                  </a:lnTo>
                  <a:lnTo>
                    <a:pt x="402" y="88"/>
                  </a:lnTo>
                  <a:lnTo>
                    <a:pt x="372" y="59"/>
                  </a:lnTo>
                  <a:lnTo>
                    <a:pt x="342" y="35"/>
                  </a:lnTo>
                  <a:lnTo>
                    <a:pt x="307" y="18"/>
                  </a:lnTo>
                  <a:lnTo>
                    <a:pt x="271" y="6"/>
                  </a:lnTo>
                  <a:lnTo>
                    <a:pt x="235" y="0"/>
                  </a:lnTo>
                  <a:lnTo>
                    <a:pt x="194" y="0"/>
                  </a:lnTo>
                  <a:lnTo>
                    <a:pt x="159" y="12"/>
                  </a:lnTo>
                  <a:lnTo>
                    <a:pt x="124" y="29"/>
                  </a:lnTo>
                  <a:lnTo>
                    <a:pt x="89" y="47"/>
                  </a:lnTo>
                  <a:lnTo>
                    <a:pt x="64" y="76"/>
                  </a:lnTo>
                  <a:lnTo>
                    <a:pt x="35" y="112"/>
                  </a:lnTo>
                  <a:lnTo>
                    <a:pt x="17" y="14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8"/>
            <p:cNvSpPr/>
            <p:nvPr/>
          </p:nvSpPr>
          <p:spPr>
            <a:xfrm rot="20317200">
              <a:off x="5623560" y="1208520"/>
              <a:ext cx="114120" cy="74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79" h="378">
                  <a:moveTo>
                    <a:pt x="0" y="224"/>
                  </a:moveTo>
                  <a:lnTo>
                    <a:pt x="0" y="242"/>
                  </a:lnTo>
                  <a:lnTo>
                    <a:pt x="6" y="260"/>
                  </a:lnTo>
                  <a:lnTo>
                    <a:pt x="18" y="272"/>
                  </a:lnTo>
                  <a:lnTo>
                    <a:pt x="36" y="278"/>
                  </a:lnTo>
                  <a:lnTo>
                    <a:pt x="54" y="278"/>
                  </a:lnTo>
                  <a:lnTo>
                    <a:pt x="65" y="272"/>
                  </a:lnTo>
                  <a:lnTo>
                    <a:pt x="77" y="260"/>
                  </a:lnTo>
                  <a:lnTo>
                    <a:pt x="83" y="242"/>
                  </a:lnTo>
                  <a:lnTo>
                    <a:pt x="101" y="201"/>
                  </a:lnTo>
                  <a:lnTo>
                    <a:pt x="118" y="160"/>
                  </a:lnTo>
                  <a:lnTo>
                    <a:pt x="142" y="130"/>
                  </a:lnTo>
                  <a:lnTo>
                    <a:pt x="171" y="112"/>
                  </a:lnTo>
                  <a:lnTo>
                    <a:pt x="207" y="94"/>
                  </a:lnTo>
                  <a:lnTo>
                    <a:pt x="236" y="88"/>
                  </a:lnTo>
                  <a:lnTo>
                    <a:pt x="272" y="82"/>
                  </a:lnTo>
                  <a:lnTo>
                    <a:pt x="308" y="88"/>
                  </a:lnTo>
                  <a:lnTo>
                    <a:pt x="343" y="94"/>
                  </a:lnTo>
                  <a:lnTo>
                    <a:pt x="379" y="112"/>
                  </a:lnTo>
                  <a:lnTo>
                    <a:pt x="414" y="136"/>
                  </a:lnTo>
                  <a:lnTo>
                    <a:pt x="443" y="160"/>
                  </a:lnTo>
                  <a:lnTo>
                    <a:pt x="467" y="195"/>
                  </a:lnTo>
                  <a:lnTo>
                    <a:pt x="484" y="236"/>
                  </a:lnTo>
                  <a:lnTo>
                    <a:pt x="496" y="284"/>
                  </a:lnTo>
                  <a:lnTo>
                    <a:pt x="496" y="331"/>
                  </a:lnTo>
                  <a:lnTo>
                    <a:pt x="496" y="349"/>
                  </a:lnTo>
                  <a:lnTo>
                    <a:pt x="508" y="360"/>
                  </a:lnTo>
                  <a:lnTo>
                    <a:pt x="520" y="372"/>
                  </a:lnTo>
                  <a:lnTo>
                    <a:pt x="532" y="378"/>
                  </a:lnTo>
                  <a:lnTo>
                    <a:pt x="549" y="378"/>
                  </a:lnTo>
                  <a:lnTo>
                    <a:pt x="567" y="366"/>
                  </a:lnTo>
                  <a:lnTo>
                    <a:pt x="579" y="354"/>
                  </a:lnTo>
                  <a:lnTo>
                    <a:pt x="579" y="336"/>
                  </a:lnTo>
                  <a:lnTo>
                    <a:pt x="579" y="272"/>
                  </a:lnTo>
                  <a:lnTo>
                    <a:pt x="567" y="207"/>
                  </a:lnTo>
                  <a:lnTo>
                    <a:pt x="543" y="154"/>
                  </a:lnTo>
                  <a:lnTo>
                    <a:pt x="508" y="106"/>
                  </a:lnTo>
                  <a:lnTo>
                    <a:pt x="467" y="64"/>
                  </a:lnTo>
                  <a:lnTo>
                    <a:pt x="420" y="36"/>
                  </a:lnTo>
                  <a:lnTo>
                    <a:pt x="373" y="12"/>
                  </a:lnTo>
                  <a:lnTo>
                    <a:pt x="319" y="0"/>
                  </a:lnTo>
                  <a:lnTo>
                    <a:pt x="267" y="0"/>
                  </a:lnTo>
                  <a:lnTo>
                    <a:pt x="219" y="0"/>
                  </a:lnTo>
                  <a:lnTo>
                    <a:pt x="171" y="17"/>
                  </a:lnTo>
                  <a:lnTo>
                    <a:pt x="124" y="36"/>
                  </a:lnTo>
                  <a:lnTo>
                    <a:pt x="83" y="70"/>
                  </a:lnTo>
                  <a:lnTo>
                    <a:pt x="48" y="112"/>
                  </a:lnTo>
                  <a:lnTo>
                    <a:pt x="18" y="16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5916240" y="1269000"/>
              <a:ext cx="329760" cy="324360"/>
              <a:chOff x="5916240" y="1269000"/>
              <a:chExt cx="329760" cy="324360"/>
            </a:xfrm>
          </p:grpSpPr>
          <p:sp>
            <p:nvSpPr>
              <p:cNvPr id="738" name="Freeform 36"/>
              <p:cNvSpPr/>
              <p:nvPr/>
            </p:nvSpPr>
            <p:spPr>
              <a:xfrm rot="20317200">
                <a:off x="5952240" y="1307160"/>
                <a:ext cx="257040" cy="24768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293" h="1247">
                    <a:moveTo>
                      <a:pt x="1252" y="815"/>
                    </a:moveTo>
                    <a:lnTo>
                      <a:pt x="1216" y="887"/>
                    </a:lnTo>
                    <a:lnTo>
                      <a:pt x="1169" y="952"/>
                    </a:lnTo>
                    <a:lnTo>
                      <a:pt x="1111" y="1011"/>
                    </a:lnTo>
                    <a:lnTo>
                      <a:pt x="1045" y="1070"/>
                    </a:lnTo>
                    <a:lnTo>
                      <a:pt x="974" y="1117"/>
                    </a:lnTo>
                    <a:lnTo>
                      <a:pt x="891" y="1159"/>
                    </a:lnTo>
                    <a:lnTo>
                      <a:pt x="809" y="1195"/>
                    </a:lnTo>
                    <a:lnTo>
                      <a:pt x="720" y="1218"/>
                    </a:lnTo>
                    <a:lnTo>
                      <a:pt x="632" y="1241"/>
                    </a:lnTo>
                    <a:lnTo>
                      <a:pt x="549" y="1247"/>
                    </a:lnTo>
                    <a:lnTo>
                      <a:pt x="461" y="1247"/>
                    </a:lnTo>
                    <a:lnTo>
                      <a:pt x="378" y="1236"/>
                    </a:lnTo>
                    <a:lnTo>
                      <a:pt x="301" y="1212"/>
                    </a:lnTo>
                    <a:lnTo>
                      <a:pt x="265" y="1195"/>
                    </a:lnTo>
                    <a:lnTo>
                      <a:pt x="230" y="1177"/>
                    </a:lnTo>
                    <a:lnTo>
                      <a:pt x="194" y="1153"/>
                    </a:lnTo>
                    <a:lnTo>
                      <a:pt x="165" y="1122"/>
                    </a:lnTo>
                    <a:lnTo>
                      <a:pt x="136" y="1093"/>
                    </a:lnTo>
                    <a:lnTo>
                      <a:pt x="112" y="1064"/>
                    </a:lnTo>
                    <a:lnTo>
                      <a:pt x="83" y="1023"/>
                    </a:lnTo>
                    <a:lnTo>
                      <a:pt x="66" y="981"/>
                    </a:lnTo>
                    <a:lnTo>
                      <a:pt x="42" y="940"/>
                    </a:lnTo>
                    <a:lnTo>
                      <a:pt x="30" y="899"/>
                    </a:lnTo>
                    <a:lnTo>
                      <a:pt x="12" y="809"/>
                    </a:lnTo>
                    <a:lnTo>
                      <a:pt x="0" y="721"/>
                    </a:lnTo>
                    <a:lnTo>
                      <a:pt x="6" y="633"/>
                    </a:lnTo>
                    <a:lnTo>
                      <a:pt x="24" y="544"/>
                    </a:lnTo>
                    <a:lnTo>
                      <a:pt x="53" y="455"/>
                    </a:lnTo>
                    <a:lnTo>
                      <a:pt x="95" y="373"/>
                    </a:lnTo>
                    <a:lnTo>
                      <a:pt x="142" y="296"/>
                    </a:lnTo>
                    <a:lnTo>
                      <a:pt x="201" y="225"/>
                    </a:lnTo>
                    <a:lnTo>
                      <a:pt x="265" y="165"/>
                    </a:lnTo>
                    <a:lnTo>
                      <a:pt x="337" y="107"/>
                    </a:lnTo>
                    <a:lnTo>
                      <a:pt x="419" y="66"/>
                    </a:lnTo>
                    <a:lnTo>
                      <a:pt x="502" y="30"/>
                    </a:lnTo>
                    <a:lnTo>
                      <a:pt x="549" y="18"/>
                    </a:lnTo>
                    <a:lnTo>
                      <a:pt x="596" y="12"/>
                    </a:lnTo>
                    <a:lnTo>
                      <a:pt x="643" y="6"/>
                    </a:lnTo>
                    <a:lnTo>
                      <a:pt x="691" y="0"/>
                    </a:lnTo>
                    <a:lnTo>
                      <a:pt x="762" y="6"/>
                    </a:lnTo>
                    <a:lnTo>
                      <a:pt x="833" y="24"/>
                    </a:lnTo>
                    <a:lnTo>
                      <a:pt x="903" y="48"/>
                    </a:lnTo>
                    <a:lnTo>
                      <a:pt x="968" y="77"/>
                    </a:lnTo>
                    <a:lnTo>
                      <a:pt x="1028" y="118"/>
                    </a:lnTo>
                    <a:lnTo>
                      <a:pt x="1087" y="165"/>
                    </a:lnTo>
                    <a:lnTo>
                      <a:pt x="1134" y="213"/>
                    </a:lnTo>
                    <a:lnTo>
                      <a:pt x="1181" y="272"/>
                    </a:lnTo>
                    <a:lnTo>
                      <a:pt x="1216" y="332"/>
                    </a:lnTo>
                    <a:lnTo>
                      <a:pt x="1246" y="396"/>
                    </a:lnTo>
                    <a:lnTo>
                      <a:pt x="1270" y="461"/>
                    </a:lnTo>
                    <a:lnTo>
                      <a:pt x="1287" y="532"/>
                    </a:lnTo>
                    <a:lnTo>
                      <a:pt x="1293" y="603"/>
                    </a:lnTo>
                    <a:lnTo>
                      <a:pt x="1287" y="674"/>
                    </a:lnTo>
                    <a:lnTo>
                      <a:pt x="1276" y="745"/>
                    </a:lnTo>
                    <a:lnTo>
                      <a:pt x="1252" y="81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7"/>
              <p:cNvSpPr/>
              <p:nvPr/>
            </p:nvSpPr>
            <p:spPr>
              <a:xfrm rot="20317200">
                <a:off x="6004440" y="1360800"/>
                <a:ext cx="127080" cy="1443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638" h="733">
                    <a:moveTo>
                      <a:pt x="0" y="597"/>
                    </a:moveTo>
                    <a:lnTo>
                      <a:pt x="0" y="622"/>
                    </a:lnTo>
                    <a:lnTo>
                      <a:pt x="7" y="645"/>
                    </a:lnTo>
                    <a:lnTo>
                      <a:pt x="24" y="674"/>
                    </a:lnTo>
                    <a:lnTo>
                      <a:pt x="54" y="704"/>
                    </a:lnTo>
                    <a:lnTo>
                      <a:pt x="89" y="721"/>
                    </a:lnTo>
                    <a:lnTo>
                      <a:pt x="131" y="733"/>
                    </a:lnTo>
                    <a:lnTo>
                      <a:pt x="184" y="733"/>
                    </a:lnTo>
                    <a:lnTo>
                      <a:pt x="237" y="733"/>
                    </a:lnTo>
                    <a:lnTo>
                      <a:pt x="290" y="721"/>
                    </a:lnTo>
                    <a:lnTo>
                      <a:pt x="349" y="704"/>
                    </a:lnTo>
                    <a:lnTo>
                      <a:pt x="409" y="680"/>
                    </a:lnTo>
                    <a:lnTo>
                      <a:pt x="462" y="651"/>
                    </a:lnTo>
                    <a:lnTo>
                      <a:pt x="509" y="622"/>
                    </a:lnTo>
                    <a:lnTo>
                      <a:pt x="550" y="579"/>
                    </a:lnTo>
                    <a:lnTo>
                      <a:pt x="585" y="532"/>
                    </a:lnTo>
                    <a:lnTo>
                      <a:pt x="615" y="479"/>
                    </a:lnTo>
                    <a:lnTo>
                      <a:pt x="626" y="426"/>
                    </a:lnTo>
                    <a:lnTo>
                      <a:pt x="638" y="338"/>
                    </a:lnTo>
                    <a:lnTo>
                      <a:pt x="632" y="266"/>
                    </a:lnTo>
                    <a:lnTo>
                      <a:pt x="615" y="201"/>
                    </a:lnTo>
                    <a:lnTo>
                      <a:pt x="585" y="148"/>
                    </a:lnTo>
                    <a:lnTo>
                      <a:pt x="550" y="101"/>
                    </a:lnTo>
                    <a:lnTo>
                      <a:pt x="509" y="72"/>
                    </a:lnTo>
                    <a:lnTo>
                      <a:pt x="462" y="41"/>
                    </a:lnTo>
                    <a:lnTo>
                      <a:pt x="409" y="24"/>
                    </a:lnTo>
                    <a:lnTo>
                      <a:pt x="361" y="6"/>
                    </a:lnTo>
                    <a:lnTo>
                      <a:pt x="308" y="0"/>
                    </a:lnTo>
                    <a:lnTo>
                      <a:pt x="261" y="0"/>
                    </a:lnTo>
                    <a:lnTo>
                      <a:pt x="219" y="0"/>
                    </a:lnTo>
                    <a:lnTo>
                      <a:pt x="184" y="0"/>
                    </a:lnTo>
                    <a:lnTo>
                      <a:pt x="154" y="12"/>
                    </a:lnTo>
                    <a:lnTo>
                      <a:pt x="136" y="18"/>
                    </a:lnTo>
                    <a:lnTo>
                      <a:pt x="131" y="24"/>
                    </a:lnTo>
                    <a:lnTo>
                      <a:pt x="136" y="72"/>
                    </a:lnTo>
                    <a:lnTo>
                      <a:pt x="131" y="119"/>
                    </a:lnTo>
                    <a:lnTo>
                      <a:pt x="119" y="213"/>
                    </a:lnTo>
                    <a:lnTo>
                      <a:pt x="102" y="302"/>
                    </a:lnTo>
                    <a:lnTo>
                      <a:pt x="72" y="391"/>
                    </a:lnTo>
                    <a:lnTo>
                      <a:pt x="24" y="526"/>
                    </a:lnTo>
                    <a:lnTo>
                      <a:pt x="7" y="573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Freeform 38"/>
            <p:cNvSpPr/>
            <p:nvPr/>
          </p:nvSpPr>
          <p:spPr>
            <a:xfrm rot="20317200">
              <a:off x="5490000" y="166392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27" h="438">
                  <a:moveTo>
                    <a:pt x="927" y="130"/>
                  </a:moveTo>
                  <a:lnTo>
                    <a:pt x="903" y="59"/>
                  </a:lnTo>
                  <a:lnTo>
                    <a:pt x="874" y="0"/>
                  </a:lnTo>
                  <a:lnTo>
                    <a:pt x="768" y="47"/>
                  </a:lnTo>
                  <a:lnTo>
                    <a:pt x="650" y="101"/>
                  </a:lnTo>
                  <a:lnTo>
                    <a:pt x="531" y="154"/>
                  </a:lnTo>
                  <a:lnTo>
                    <a:pt x="479" y="172"/>
                  </a:lnTo>
                  <a:lnTo>
                    <a:pt x="431" y="189"/>
                  </a:lnTo>
                  <a:lnTo>
                    <a:pt x="218" y="237"/>
                  </a:lnTo>
                  <a:lnTo>
                    <a:pt x="101" y="266"/>
                  </a:lnTo>
                  <a:lnTo>
                    <a:pt x="12" y="290"/>
                  </a:lnTo>
                  <a:lnTo>
                    <a:pt x="6" y="295"/>
                  </a:lnTo>
                  <a:lnTo>
                    <a:pt x="0" y="307"/>
                  </a:lnTo>
                  <a:lnTo>
                    <a:pt x="6" y="336"/>
                  </a:lnTo>
                  <a:lnTo>
                    <a:pt x="18" y="379"/>
                  </a:lnTo>
                  <a:lnTo>
                    <a:pt x="41" y="426"/>
                  </a:lnTo>
                  <a:lnTo>
                    <a:pt x="101" y="432"/>
                  </a:lnTo>
                  <a:lnTo>
                    <a:pt x="160" y="438"/>
                  </a:lnTo>
                  <a:lnTo>
                    <a:pt x="218" y="438"/>
                  </a:lnTo>
                  <a:lnTo>
                    <a:pt x="277" y="438"/>
                  </a:lnTo>
                  <a:lnTo>
                    <a:pt x="337" y="426"/>
                  </a:lnTo>
                  <a:lnTo>
                    <a:pt x="396" y="414"/>
                  </a:lnTo>
                  <a:lnTo>
                    <a:pt x="449" y="403"/>
                  </a:lnTo>
                  <a:lnTo>
                    <a:pt x="508" y="385"/>
                  </a:lnTo>
                  <a:lnTo>
                    <a:pt x="614" y="336"/>
                  </a:lnTo>
                  <a:lnTo>
                    <a:pt x="721" y="278"/>
                  </a:lnTo>
                  <a:lnTo>
                    <a:pt x="827" y="207"/>
                  </a:lnTo>
                  <a:lnTo>
                    <a:pt x="927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"/>
            <p:cNvSpPr/>
            <p:nvPr/>
          </p:nvSpPr>
          <p:spPr>
            <a:xfrm rot="20317200">
              <a:off x="5606640" y="1731240"/>
              <a:ext cx="120600" cy="134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09" h="679">
                  <a:moveTo>
                    <a:pt x="0" y="562"/>
                  </a:moveTo>
                  <a:lnTo>
                    <a:pt x="41" y="597"/>
                  </a:lnTo>
                  <a:lnTo>
                    <a:pt x="83" y="627"/>
                  </a:lnTo>
                  <a:lnTo>
                    <a:pt x="130" y="656"/>
                  </a:lnTo>
                  <a:lnTo>
                    <a:pt x="182" y="674"/>
                  </a:lnTo>
                  <a:lnTo>
                    <a:pt x="230" y="679"/>
                  </a:lnTo>
                  <a:lnTo>
                    <a:pt x="284" y="679"/>
                  </a:lnTo>
                  <a:lnTo>
                    <a:pt x="337" y="662"/>
                  </a:lnTo>
                  <a:lnTo>
                    <a:pt x="396" y="638"/>
                  </a:lnTo>
                  <a:lnTo>
                    <a:pt x="431" y="615"/>
                  </a:lnTo>
                  <a:lnTo>
                    <a:pt x="460" y="586"/>
                  </a:lnTo>
                  <a:lnTo>
                    <a:pt x="490" y="556"/>
                  </a:lnTo>
                  <a:lnTo>
                    <a:pt x="513" y="520"/>
                  </a:lnTo>
                  <a:lnTo>
                    <a:pt x="531" y="485"/>
                  </a:lnTo>
                  <a:lnTo>
                    <a:pt x="555" y="449"/>
                  </a:lnTo>
                  <a:lnTo>
                    <a:pt x="578" y="366"/>
                  </a:lnTo>
                  <a:lnTo>
                    <a:pt x="603" y="284"/>
                  </a:lnTo>
                  <a:lnTo>
                    <a:pt x="609" y="189"/>
                  </a:lnTo>
                  <a:lnTo>
                    <a:pt x="609" y="95"/>
                  </a:lnTo>
                  <a:lnTo>
                    <a:pt x="603" y="0"/>
                  </a:lnTo>
                  <a:lnTo>
                    <a:pt x="519" y="59"/>
                  </a:lnTo>
                  <a:lnTo>
                    <a:pt x="431" y="118"/>
                  </a:lnTo>
                  <a:lnTo>
                    <a:pt x="348" y="189"/>
                  </a:lnTo>
                  <a:lnTo>
                    <a:pt x="266" y="255"/>
                  </a:lnTo>
                  <a:lnTo>
                    <a:pt x="188" y="325"/>
                  </a:lnTo>
                  <a:lnTo>
                    <a:pt x="118" y="402"/>
                  </a:lnTo>
                  <a:lnTo>
                    <a:pt x="53" y="479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98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0"/>
            <p:cNvSpPr/>
            <p:nvPr/>
          </p:nvSpPr>
          <p:spPr>
            <a:xfrm rot="20317200">
              <a:off x="5522760" y="1680480"/>
              <a:ext cx="188640" cy="177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52" h="893">
                  <a:moveTo>
                    <a:pt x="886" y="0"/>
                  </a:moveTo>
                  <a:lnTo>
                    <a:pt x="786" y="77"/>
                  </a:lnTo>
                  <a:lnTo>
                    <a:pt x="680" y="148"/>
                  </a:lnTo>
                  <a:lnTo>
                    <a:pt x="573" y="206"/>
                  </a:lnTo>
                  <a:lnTo>
                    <a:pt x="467" y="255"/>
                  </a:lnTo>
                  <a:lnTo>
                    <a:pt x="408" y="273"/>
                  </a:lnTo>
                  <a:lnTo>
                    <a:pt x="355" y="284"/>
                  </a:lnTo>
                  <a:lnTo>
                    <a:pt x="296" y="296"/>
                  </a:lnTo>
                  <a:lnTo>
                    <a:pt x="236" y="308"/>
                  </a:lnTo>
                  <a:lnTo>
                    <a:pt x="177" y="308"/>
                  </a:lnTo>
                  <a:lnTo>
                    <a:pt x="119" y="308"/>
                  </a:lnTo>
                  <a:lnTo>
                    <a:pt x="60" y="302"/>
                  </a:lnTo>
                  <a:lnTo>
                    <a:pt x="0" y="296"/>
                  </a:lnTo>
                  <a:lnTo>
                    <a:pt x="89" y="467"/>
                  </a:lnTo>
                  <a:lnTo>
                    <a:pt x="160" y="620"/>
                  </a:lnTo>
                  <a:lnTo>
                    <a:pt x="195" y="691"/>
                  </a:lnTo>
                  <a:lnTo>
                    <a:pt x="242" y="768"/>
                  </a:lnTo>
                  <a:lnTo>
                    <a:pt x="290" y="828"/>
                  </a:lnTo>
                  <a:lnTo>
                    <a:pt x="349" y="893"/>
                  </a:lnTo>
                  <a:lnTo>
                    <a:pt x="402" y="810"/>
                  </a:lnTo>
                  <a:lnTo>
                    <a:pt x="467" y="733"/>
                  </a:lnTo>
                  <a:lnTo>
                    <a:pt x="537" y="656"/>
                  </a:lnTo>
                  <a:lnTo>
                    <a:pt x="615" y="586"/>
                  </a:lnTo>
                  <a:lnTo>
                    <a:pt x="697" y="520"/>
                  </a:lnTo>
                  <a:lnTo>
                    <a:pt x="780" y="449"/>
                  </a:lnTo>
                  <a:lnTo>
                    <a:pt x="868" y="390"/>
                  </a:lnTo>
                  <a:lnTo>
                    <a:pt x="952" y="331"/>
                  </a:lnTo>
                  <a:lnTo>
                    <a:pt x="946" y="243"/>
                  </a:lnTo>
                  <a:lnTo>
                    <a:pt x="927" y="160"/>
                  </a:lnTo>
                  <a:lnTo>
                    <a:pt x="910" y="77"/>
                  </a:lnTo>
                  <a:lnTo>
                    <a:pt x="886" y="0"/>
                  </a:lnTo>
                  <a:close/>
                </a:path>
              </a:pathLst>
            </a:custGeom>
            <a:solidFill>
              <a:srgbClr val="a9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1"/>
            <p:cNvSpPr/>
            <p:nvPr/>
          </p:nvSpPr>
          <p:spPr>
            <a:xfrm rot="19506600">
              <a:off x="5283720" y="1077840"/>
              <a:ext cx="498240" cy="2235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2516" h="1124">
                  <a:moveTo>
                    <a:pt x="0" y="72"/>
                  </a:moveTo>
                  <a:lnTo>
                    <a:pt x="77" y="54"/>
                  </a:lnTo>
                  <a:lnTo>
                    <a:pt x="165" y="36"/>
                  </a:lnTo>
                  <a:lnTo>
                    <a:pt x="283" y="18"/>
                  </a:lnTo>
                  <a:lnTo>
                    <a:pt x="431" y="6"/>
                  </a:lnTo>
                  <a:lnTo>
                    <a:pt x="590" y="0"/>
                  </a:lnTo>
                  <a:lnTo>
                    <a:pt x="774" y="6"/>
                  </a:lnTo>
                  <a:lnTo>
                    <a:pt x="874" y="12"/>
                  </a:lnTo>
                  <a:lnTo>
                    <a:pt x="968" y="24"/>
                  </a:lnTo>
                  <a:lnTo>
                    <a:pt x="1069" y="36"/>
                  </a:lnTo>
                  <a:lnTo>
                    <a:pt x="1175" y="60"/>
                  </a:lnTo>
                  <a:lnTo>
                    <a:pt x="1276" y="84"/>
                  </a:lnTo>
                  <a:lnTo>
                    <a:pt x="1382" y="119"/>
                  </a:lnTo>
                  <a:lnTo>
                    <a:pt x="1488" y="155"/>
                  </a:lnTo>
                  <a:lnTo>
                    <a:pt x="1595" y="202"/>
                  </a:lnTo>
                  <a:lnTo>
                    <a:pt x="1695" y="254"/>
                  </a:lnTo>
                  <a:lnTo>
                    <a:pt x="1802" y="314"/>
                  </a:lnTo>
                  <a:lnTo>
                    <a:pt x="1902" y="379"/>
                  </a:lnTo>
                  <a:lnTo>
                    <a:pt x="2003" y="456"/>
                  </a:lnTo>
                  <a:lnTo>
                    <a:pt x="2097" y="544"/>
                  </a:lnTo>
                  <a:lnTo>
                    <a:pt x="2191" y="640"/>
                  </a:lnTo>
                  <a:lnTo>
                    <a:pt x="2280" y="745"/>
                  </a:lnTo>
                  <a:lnTo>
                    <a:pt x="2363" y="863"/>
                  </a:lnTo>
                  <a:lnTo>
                    <a:pt x="2446" y="988"/>
                  </a:lnTo>
                  <a:lnTo>
                    <a:pt x="2516" y="1124"/>
                  </a:lnTo>
                  <a:lnTo>
                    <a:pt x="2463" y="1076"/>
                  </a:lnTo>
                  <a:lnTo>
                    <a:pt x="2297" y="947"/>
                  </a:lnTo>
                  <a:lnTo>
                    <a:pt x="2185" y="863"/>
                  </a:lnTo>
                  <a:lnTo>
                    <a:pt x="2050" y="769"/>
                  </a:lnTo>
                  <a:lnTo>
                    <a:pt x="1896" y="669"/>
                  </a:lnTo>
                  <a:lnTo>
                    <a:pt x="1725" y="562"/>
                  </a:lnTo>
                  <a:lnTo>
                    <a:pt x="1541" y="462"/>
                  </a:lnTo>
                  <a:lnTo>
                    <a:pt x="1347" y="367"/>
                  </a:lnTo>
                  <a:lnTo>
                    <a:pt x="1134" y="272"/>
                  </a:lnTo>
                  <a:lnTo>
                    <a:pt x="1028" y="237"/>
                  </a:lnTo>
                  <a:lnTo>
                    <a:pt x="921" y="196"/>
                  </a:lnTo>
                  <a:lnTo>
                    <a:pt x="809" y="166"/>
                  </a:lnTo>
                  <a:lnTo>
                    <a:pt x="697" y="137"/>
                  </a:lnTo>
                  <a:lnTo>
                    <a:pt x="578" y="113"/>
                  </a:lnTo>
                  <a:lnTo>
                    <a:pt x="467" y="89"/>
                  </a:lnTo>
                  <a:lnTo>
                    <a:pt x="349" y="78"/>
                  </a:lnTo>
                  <a:lnTo>
                    <a:pt x="230" y="72"/>
                  </a:lnTo>
                  <a:lnTo>
                    <a:pt x="118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2"/>
            <p:cNvSpPr/>
            <p:nvPr/>
          </p:nvSpPr>
          <p:spPr>
            <a:xfrm rot="20317200">
              <a:off x="4765320" y="591840"/>
              <a:ext cx="528480" cy="71100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664" h="3587">
                  <a:moveTo>
                    <a:pt x="101" y="248"/>
                  </a:moveTo>
                  <a:lnTo>
                    <a:pt x="72" y="290"/>
                  </a:lnTo>
                  <a:lnTo>
                    <a:pt x="47" y="330"/>
                  </a:lnTo>
                  <a:lnTo>
                    <a:pt x="29" y="372"/>
                  </a:lnTo>
                  <a:lnTo>
                    <a:pt x="11" y="419"/>
                  </a:lnTo>
                  <a:lnTo>
                    <a:pt x="0" y="461"/>
                  </a:lnTo>
                  <a:lnTo>
                    <a:pt x="0" y="508"/>
                  </a:lnTo>
                  <a:lnTo>
                    <a:pt x="0" y="556"/>
                  </a:lnTo>
                  <a:lnTo>
                    <a:pt x="0" y="603"/>
                  </a:lnTo>
                  <a:lnTo>
                    <a:pt x="130" y="579"/>
                  </a:lnTo>
                  <a:lnTo>
                    <a:pt x="130" y="515"/>
                  </a:lnTo>
                  <a:lnTo>
                    <a:pt x="130" y="485"/>
                  </a:lnTo>
                  <a:lnTo>
                    <a:pt x="142" y="450"/>
                  </a:lnTo>
                  <a:lnTo>
                    <a:pt x="166" y="390"/>
                  </a:lnTo>
                  <a:lnTo>
                    <a:pt x="201" y="330"/>
                  </a:lnTo>
                  <a:lnTo>
                    <a:pt x="242" y="290"/>
                  </a:lnTo>
                  <a:lnTo>
                    <a:pt x="289" y="248"/>
                  </a:lnTo>
                  <a:lnTo>
                    <a:pt x="342" y="213"/>
                  </a:lnTo>
                  <a:lnTo>
                    <a:pt x="390" y="189"/>
                  </a:lnTo>
                  <a:lnTo>
                    <a:pt x="444" y="166"/>
                  </a:lnTo>
                  <a:lnTo>
                    <a:pt x="490" y="149"/>
                  </a:lnTo>
                  <a:lnTo>
                    <a:pt x="532" y="135"/>
                  </a:lnTo>
                  <a:lnTo>
                    <a:pt x="567" y="135"/>
                  </a:lnTo>
                  <a:lnTo>
                    <a:pt x="644" y="135"/>
                  </a:lnTo>
                  <a:lnTo>
                    <a:pt x="721" y="141"/>
                  </a:lnTo>
                  <a:lnTo>
                    <a:pt x="798" y="166"/>
                  </a:lnTo>
                  <a:lnTo>
                    <a:pt x="875" y="189"/>
                  </a:lnTo>
                  <a:lnTo>
                    <a:pt x="951" y="225"/>
                  </a:lnTo>
                  <a:lnTo>
                    <a:pt x="1022" y="272"/>
                  </a:lnTo>
                  <a:lnTo>
                    <a:pt x="1093" y="319"/>
                  </a:lnTo>
                  <a:lnTo>
                    <a:pt x="1164" y="372"/>
                  </a:lnTo>
                  <a:lnTo>
                    <a:pt x="1235" y="425"/>
                  </a:lnTo>
                  <a:lnTo>
                    <a:pt x="1299" y="485"/>
                  </a:lnTo>
                  <a:lnTo>
                    <a:pt x="1424" y="614"/>
                  </a:lnTo>
                  <a:lnTo>
                    <a:pt x="1542" y="745"/>
                  </a:lnTo>
                  <a:lnTo>
                    <a:pt x="1642" y="875"/>
                  </a:lnTo>
                  <a:lnTo>
                    <a:pt x="1755" y="1023"/>
                  </a:lnTo>
                  <a:lnTo>
                    <a:pt x="1860" y="1176"/>
                  </a:lnTo>
                  <a:lnTo>
                    <a:pt x="1961" y="1336"/>
                  </a:lnTo>
                  <a:lnTo>
                    <a:pt x="2055" y="1501"/>
                  </a:lnTo>
                  <a:lnTo>
                    <a:pt x="2138" y="1667"/>
                  </a:lnTo>
                  <a:lnTo>
                    <a:pt x="2215" y="1838"/>
                  </a:lnTo>
                  <a:lnTo>
                    <a:pt x="2286" y="2009"/>
                  </a:lnTo>
                  <a:lnTo>
                    <a:pt x="2344" y="2187"/>
                  </a:lnTo>
                  <a:lnTo>
                    <a:pt x="2398" y="2363"/>
                  </a:lnTo>
                  <a:lnTo>
                    <a:pt x="2440" y="2541"/>
                  </a:lnTo>
                  <a:lnTo>
                    <a:pt x="2475" y="2718"/>
                  </a:lnTo>
                  <a:lnTo>
                    <a:pt x="2505" y="2896"/>
                  </a:lnTo>
                  <a:lnTo>
                    <a:pt x="2522" y="3067"/>
                  </a:lnTo>
                  <a:lnTo>
                    <a:pt x="2528" y="3238"/>
                  </a:lnTo>
                  <a:lnTo>
                    <a:pt x="2528" y="3410"/>
                  </a:lnTo>
                  <a:lnTo>
                    <a:pt x="2516" y="3575"/>
                  </a:lnTo>
                  <a:lnTo>
                    <a:pt x="2652" y="3587"/>
                  </a:lnTo>
                  <a:lnTo>
                    <a:pt x="2658" y="3416"/>
                  </a:lnTo>
                  <a:lnTo>
                    <a:pt x="2664" y="3238"/>
                  </a:lnTo>
                  <a:lnTo>
                    <a:pt x="2652" y="3061"/>
                  </a:lnTo>
                  <a:lnTo>
                    <a:pt x="2634" y="2884"/>
                  </a:lnTo>
                  <a:lnTo>
                    <a:pt x="2605" y="2700"/>
                  </a:lnTo>
                  <a:lnTo>
                    <a:pt x="2570" y="2518"/>
                  </a:lnTo>
                  <a:lnTo>
                    <a:pt x="2522" y="2334"/>
                  </a:lnTo>
                  <a:lnTo>
                    <a:pt x="2469" y="2152"/>
                  </a:lnTo>
                  <a:lnTo>
                    <a:pt x="2411" y="1968"/>
                  </a:lnTo>
                  <a:lnTo>
                    <a:pt x="2333" y="1790"/>
                  </a:lnTo>
                  <a:lnTo>
                    <a:pt x="2257" y="1613"/>
                  </a:lnTo>
                  <a:lnTo>
                    <a:pt x="2168" y="1436"/>
                  </a:lnTo>
                  <a:lnTo>
                    <a:pt x="2074" y="1264"/>
                  </a:lnTo>
                  <a:lnTo>
                    <a:pt x="1973" y="1105"/>
                  </a:lnTo>
                  <a:lnTo>
                    <a:pt x="1860" y="946"/>
                  </a:lnTo>
                  <a:lnTo>
                    <a:pt x="1749" y="792"/>
                  </a:lnTo>
                  <a:lnTo>
                    <a:pt x="1630" y="644"/>
                  </a:lnTo>
                  <a:lnTo>
                    <a:pt x="1501" y="502"/>
                  </a:lnTo>
                  <a:lnTo>
                    <a:pt x="1365" y="366"/>
                  </a:lnTo>
                  <a:lnTo>
                    <a:pt x="1293" y="301"/>
                  </a:lnTo>
                  <a:lnTo>
                    <a:pt x="1217" y="242"/>
                  </a:lnTo>
                  <a:lnTo>
                    <a:pt x="1140" y="189"/>
                  </a:lnTo>
                  <a:lnTo>
                    <a:pt x="1063" y="135"/>
                  </a:lnTo>
                  <a:lnTo>
                    <a:pt x="986" y="94"/>
                  </a:lnTo>
                  <a:lnTo>
                    <a:pt x="904" y="59"/>
                  </a:lnTo>
                  <a:lnTo>
                    <a:pt x="821" y="29"/>
                  </a:lnTo>
                  <a:lnTo>
                    <a:pt x="732" y="12"/>
                  </a:lnTo>
                  <a:lnTo>
                    <a:pt x="649" y="0"/>
                  </a:lnTo>
                  <a:lnTo>
                    <a:pt x="561" y="0"/>
                  </a:lnTo>
                  <a:lnTo>
                    <a:pt x="508" y="6"/>
                  </a:lnTo>
                  <a:lnTo>
                    <a:pt x="449" y="24"/>
                  </a:lnTo>
                  <a:lnTo>
                    <a:pt x="390" y="41"/>
                  </a:lnTo>
                  <a:lnTo>
                    <a:pt x="325" y="71"/>
                  </a:lnTo>
                  <a:lnTo>
                    <a:pt x="266" y="106"/>
                  </a:lnTo>
                  <a:lnTo>
                    <a:pt x="207" y="149"/>
                  </a:lnTo>
                  <a:lnTo>
                    <a:pt x="148" y="195"/>
                  </a:lnTo>
                  <a:lnTo>
                    <a:pt x="101" y="248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3"/>
            <p:cNvSpPr/>
            <p:nvPr/>
          </p:nvSpPr>
          <p:spPr>
            <a:xfrm rot="20317200">
              <a:off x="4662720" y="751320"/>
              <a:ext cx="109440" cy="110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55" h="561">
                  <a:moveTo>
                    <a:pt x="460" y="70"/>
                  </a:moveTo>
                  <a:lnTo>
                    <a:pt x="502" y="111"/>
                  </a:lnTo>
                  <a:lnTo>
                    <a:pt x="526" y="158"/>
                  </a:lnTo>
                  <a:lnTo>
                    <a:pt x="550" y="211"/>
                  </a:lnTo>
                  <a:lnTo>
                    <a:pt x="555" y="266"/>
                  </a:lnTo>
                  <a:lnTo>
                    <a:pt x="555" y="318"/>
                  </a:lnTo>
                  <a:lnTo>
                    <a:pt x="544" y="371"/>
                  </a:lnTo>
                  <a:lnTo>
                    <a:pt x="520" y="419"/>
                  </a:lnTo>
                  <a:lnTo>
                    <a:pt x="484" y="466"/>
                  </a:lnTo>
                  <a:lnTo>
                    <a:pt x="443" y="501"/>
                  </a:lnTo>
                  <a:lnTo>
                    <a:pt x="396" y="530"/>
                  </a:lnTo>
                  <a:lnTo>
                    <a:pt x="343" y="549"/>
                  </a:lnTo>
                  <a:lnTo>
                    <a:pt x="295" y="561"/>
                  </a:lnTo>
                  <a:lnTo>
                    <a:pt x="237" y="555"/>
                  </a:lnTo>
                  <a:lnTo>
                    <a:pt x="190" y="542"/>
                  </a:lnTo>
                  <a:lnTo>
                    <a:pt x="135" y="518"/>
                  </a:lnTo>
                  <a:lnTo>
                    <a:pt x="88" y="490"/>
                  </a:lnTo>
                  <a:lnTo>
                    <a:pt x="53" y="448"/>
                  </a:lnTo>
                  <a:lnTo>
                    <a:pt x="24" y="401"/>
                  </a:lnTo>
                  <a:lnTo>
                    <a:pt x="6" y="348"/>
                  </a:lnTo>
                  <a:lnTo>
                    <a:pt x="0" y="295"/>
                  </a:lnTo>
                  <a:lnTo>
                    <a:pt x="0" y="241"/>
                  </a:lnTo>
                  <a:lnTo>
                    <a:pt x="12" y="188"/>
                  </a:lnTo>
                  <a:lnTo>
                    <a:pt x="36" y="141"/>
                  </a:lnTo>
                  <a:lnTo>
                    <a:pt x="65" y="94"/>
                  </a:lnTo>
                  <a:lnTo>
                    <a:pt x="106" y="52"/>
                  </a:lnTo>
                  <a:lnTo>
                    <a:pt x="153" y="29"/>
                  </a:lnTo>
                  <a:lnTo>
                    <a:pt x="207" y="5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6" y="17"/>
                  </a:lnTo>
                  <a:lnTo>
                    <a:pt x="413" y="35"/>
                  </a:lnTo>
                  <a:lnTo>
                    <a:pt x="460" y="70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4"/>
            <p:cNvSpPr/>
            <p:nvPr/>
          </p:nvSpPr>
          <p:spPr>
            <a:xfrm rot="20317200">
              <a:off x="4680000" y="770760"/>
              <a:ext cx="745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3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07"/>
                  </a:lnTo>
                  <a:lnTo>
                    <a:pt x="302" y="331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60" y="366"/>
                  </a:lnTo>
                  <a:lnTo>
                    <a:pt x="125" y="360"/>
                  </a:lnTo>
                  <a:lnTo>
                    <a:pt x="95" y="342"/>
                  </a:lnTo>
                  <a:lnTo>
                    <a:pt x="65" y="325"/>
                  </a:lnTo>
                  <a:lnTo>
                    <a:pt x="41" y="295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3"/>
                  </a:lnTo>
                  <a:lnTo>
                    <a:pt x="12" y="123"/>
                  </a:lnTo>
                  <a:lnTo>
                    <a:pt x="30" y="88"/>
                  </a:lnTo>
                  <a:lnTo>
                    <a:pt x="47" y="58"/>
                  </a:lnTo>
                  <a:lnTo>
                    <a:pt x="77" y="35"/>
                  </a:lnTo>
                  <a:lnTo>
                    <a:pt x="108" y="17"/>
                  </a:lnTo>
                  <a:lnTo>
                    <a:pt x="143" y="6"/>
                  </a:lnTo>
                  <a:lnTo>
                    <a:pt x="178" y="0"/>
                  </a:lnTo>
                  <a:lnTo>
                    <a:pt x="219" y="0"/>
                  </a:lnTo>
                  <a:lnTo>
                    <a:pt x="249" y="12"/>
                  </a:lnTo>
                  <a:lnTo>
                    <a:pt x="284" y="23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5"/>
            <p:cNvSpPr/>
            <p:nvPr/>
          </p:nvSpPr>
          <p:spPr>
            <a:xfrm rot="20317200">
              <a:off x="5529240" y="348840"/>
              <a:ext cx="264960" cy="836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1341" h="4220">
                  <a:moveTo>
                    <a:pt x="278" y="23"/>
                  </a:moveTo>
                  <a:lnTo>
                    <a:pt x="230" y="41"/>
                  </a:lnTo>
                  <a:lnTo>
                    <a:pt x="189" y="64"/>
                  </a:lnTo>
                  <a:lnTo>
                    <a:pt x="148" y="88"/>
                  </a:lnTo>
                  <a:lnTo>
                    <a:pt x="113" y="112"/>
                  </a:lnTo>
                  <a:lnTo>
                    <a:pt x="77" y="147"/>
                  </a:lnTo>
                  <a:lnTo>
                    <a:pt x="48" y="183"/>
                  </a:lnTo>
                  <a:lnTo>
                    <a:pt x="18" y="218"/>
                  </a:lnTo>
                  <a:lnTo>
                    <a:pt x="0" y="260"/>
                  </a:lnTo>
                  <a:lnTo>
                    <a:pt x="119" y="319"/>
                  </a:lnTo>
                  <a:lnTo>
                    <a:pt x="154" y="260"/>
                  </a:lnTo>
                  <a:lnTo>
                    <a:pt x="172" y="237"/>
                  </a:lnTo>
                  <a:lnTo>
                    <a:pt x="195" y="213"/>
                  </a:lnTo>
                  <a:lnTo>
                    <a:pt x="248" y="178"/>
                  </a:lnTo>
                  <a:lnTo>
                    <a:pt x="313" y="154"/>
                  </a:lnTo>
                  <a:lnTo>
                    <a:pt x="373" y="135"/>
                  </a:lnTo>
                  <a:lnTo>
                    <a:pt x="438" y="129"/>
                  </a:lnTo>
                  <a:lnTo>
                    <a:pt x="497" y="129"/>
                  </a:lnTo>
                  <a:lnTo>
                    <a:pt x="555" y="135"/>
                  </a:lnTo>
                  <a:lnTo>
                    <a:pt x="609" y="147"/>
                  </a:lnTo>
                  <a:lnTo>
                    <a:pt x="655" y="160"/>
                  </a:lnTo>
                  <a:lnTo>
                    <a:pt x="698" y="178"/>
                  </a:lnTo>
                  <a:lnTo>
                    <a:pt x="733" y="195"/>
                  </a:lnTo>
                  <a:lnTo>
                    <a:pt x="792" y="237"/>
                  </a:lnTo>
                  <a:lnTo>
                    <a:pt x="851" y="289"/>
                  </a:lnTo>
                  <a:lnTo>
                    <a:pt x="904" y="348"/>
                  </a:lnTo>
                  <a:lnTo>
                    <a:pt x="951" y="413"/>
                  </a:lnTo>
                  <a:lnTo>
                    <a:pt x="992" y="485"/>
                  </a:lnTo>
                  <a:lnTo>
                    <a:pt x="1029" y="561"/>
                  </a:lnTo>
                  <a:lnTo>
                    <a:pt x="1058" y="644"/>
                  </a:lnTo>
                  <a:lnTo>
                    <a:pt x="1087" y="727"/>
                  </a:lnTo>
                  <a:lnTo>
                    <a:pt x="1111" y="810"/>
                  </a:lnTo>
                  <a:lnTo>
                    <a:pt x="1134" y="898"/>
                  </a:lnTo>
                  <a:lnTo>
                    <a:pt x="1164" y="1076"/>
                  </a:lnTo>
                  <a:lnTo>
                    <a:pt x="1188" y="1246"/>
                  </a:lnTo>
                  <a:lnTo>
                    <a:pt x="1199" y="1412"/>
                  </a:lnTo>
                  <a:lnTo>
                    <a:pt x="1211" y="1596"/>
                  </a:lnTo>
                  <a:lnTo>
                    <a:pt x="1211" y="1784"/>
                  </a:lnTo>
                  <a:lnTo>
                    <a:pt x="1205" y="1974"/>
                  </a:lnTo>
                  <a:lnTo>
                    <a:pt x="1188" y="2156"/>
                  </a:lnTo>
                  <a:lnTo>
                    <a:pt x="1158" y="2346"/>
                  </a:lnTo>
                  <a:lnTo>
                    <a:pt x="1128" y="2529"/>
                  </a:lnTo>
                  <a:lnTo>
                    <a:pt x="1087" y="2711"/>
                  </a:lnTo>
                  <a:lnTo>
                    <a:pt x="1040" y="2895"/>
                  </a:lnTo>
                  <a:lnTo>
                    <a:pt x="980" y="3067"/>
                  </a:lnTo>
                  <a:lnTo>
                    <a:pt x="922" y="3238"/>
                  </a:lnTo>
                  <a:lnTo>
                    <a:pt x="851" y="3404"/>
                  </a:lnTo>
                  <a:lnTo>
                    <a:pt x="774" y="3569"/>
                  </a:lnTo>
                  <a:lnTo>
                    <a:pt x="685" y="3723"/>
                  </a:lnTo>
                  <a:lnTo>
                    <a:pt x="597" y="3864"/>
                  </a:lnTo>
                  <a:lnTo>
                    <a:pt x="503" y="4006"/>
                  </a:lnTo>
                  <a:lnTo>
                    <a:pt x="402" y="4136"/>
                  </a:lnTo>
                  <a:lnTo>
                    <a:pt x="503" y="4220"/>
                  </a:lnTo>
                  <a:lnTo>
                    <a:pt x="609" y="4083"/>
                  </a:lnTo>
                  <a:lnTo>
                    <a:pt x="709" y="3942"/>
                  </a:lnTo>
                  <a:lnTo>
                    <a:pt x="798" y="3787"/>
                  </a:lnTo>
                  <a:lnTo>
                    <a:pt x="886" y="3628"/>
                  </a:lnTo>
                  <a:lnTo>
                    <a:pt x="969" y="3463"/>
                  </a:lnTo>
                  <a:lnTo>
                    <a:pt x="1040" y="3291"/>
                  </a:lnTo>
                  <a:lnTo>
                    <a:pt x="1105" y="3114"/>
                  </a:lnTo>
                  <a:lnTo>
                    <a:pt x="1164" y="2931"/>
                  </a:lnTo>
                  <a:lnTo>
                    <a:pt x="1211" y="2748"/>
                  </a:lnTo>
                  <a:lnTo>
                    <a:pt x="1258" y="2558"/>
                  </a:lnTo>
                  <a:lnTo>
                    <a:pt x="1288" y="2369"/>
                  </a:lnTo>
                  <a:lnTo>
                    <a:pt x="1317" y="2175"/>
                  </a:lnTo>
                  <a:lnTo>
                    <a:pt x="1335" y="1979"/>
                  </a:lnTo>
                  <a:lnTo>
                    <a:pt x="1341" y="1784"/>
                  </a:lnTo>
                  <a:lnTo>
                    <a:pt x="1341" y="1596"/>
                  </a:lnTo>
                  <a:lnTo>
                    <a:pt x="1335" y="1401"/>
                  </a:lnTo>
                  <a:lnTo>
                    <a:pt x="1317" y="1217"/>
                  </a:lnTo>
                  <a:lnTo>
                    <a:pt x="1294" y="1022"/>
                  </a:lnTo>
                  <a:lnTo>
                    <a:pt x="1252" y="833"/>
                  </a:lnTo>
                  <a:lnTo>
                    <a:pt x="1229" y="739"/>
                  </a:lnTo>
                  <a:lnTo>
                    <a:pt x="1205" y="650"/>
                  </a:lnTo>
                  <a:lnTo>
                    <a:pt x="1170" y="561"/>
                  </a:lnTo>
                  <a:lnTo>
                    <a:pt x="1134" y="479"/>
                  </a:lnTo>
                  <a:lnTo>
                    <a:pt x="1093" y="395"/>
                  </a:lnTo>
                  <a:lnTo>
                    <a:pt x="1046" y="319"/>
                  </a:lnTo>
                  <a:lnTo>
                    <a:pt x="992" y="254"/>
                  </a:lnTo>
                  <a:lnTo>
                    <a:pt x="933" y="189"/>
                  </a:lnTo>
                  <a:lnTo>
                    <a:pt x="868" y="129"/>
                  </a:lnTo>
                  <a:lnTo>
                    <a:pt x="798" y="82"/>
                  </a:lnTo>
                  <a:lnTo>
                    <a:pt x="751" y="58"/>
                  </a:lnTo>
                  <a:lnTo>
                    <a:pt x="691" y="35"/>
                  </a:lnTo>
                  <a:lnTo>
                    <a:pt x="632" y="17"/>
                  </a:lnTo>
                  <a:lnTo>
                    <a:pt x="561" y="5"/>
                  </a:lnTo>
                  <a:lnTo>
                    <a:pt x="491" y="0"/>
                  </a:lnTo>
                  <a:lnTo>
                    <a:pt x="420" y="0"/>
                  </a:lnTo>
                  <a:lnTo>
                    <a:pt x="348" y="12"/>
                  </a:lnTo>
                  <a:lnTo>
                    <a:pt x="278" y="23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6"/>
            <p:cNvSpPr/>
            <p:nvPr/>
          </p:nvSpPr>
          <p:spPr>
            <a:xfrm rot="20317200">
              <a:off x="5362560" y="39708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60" h="561">
                  <a:moveTo>
                    <a:pt x="555" y="211"/>
                  </a:moveTo>
                  <a:lnTo>
                    <a:pt x="560" y="271"/>
                  </a:lnTo>
                  <a:lnTo>
                    <a:pt x="555" y="324"/>
                  </a:lnTo>
                  <a:lnTo>
                    <a:pt x="543" y="377"/>
                  </a:lnTo>
                  <a:lnTo>
                    <a:pt x="520" y="425"/>
                  </a:lnTo>
                  <a:lnTo>
                    <a:pt x="490" y="466"/>
                  </a:lnTo>
                  <a:lnTo>
                    <a:pt x="449" y="507"/>
                  </a:lnTo>
                  <a:lnTo>
                    <a:pt x="402" y="530"/>
                  </a:lnTo>
                  <a:lnTo>
                    <a:pt x="349" y="555"/>
                  </a:lnTo>
                  <a:lnTo>
                    <a:pt x="295" y="561"/>
                  </a:lnTo>
                  <a:lnTo>
                    <a:pt x="236" y="555"/>
                  </a:lnTo>
                  <a:lnTo>
                    <a:pt x="189" y="542"/>
                  </a:lnTo>
                  <a:lnTo>
                    <a:pt x="135" y="518"/>
                  </a:lnTo>
                  <a:lnTo>
                    <a:pt x="94" y="490"/>
                  </a:lnTo>
                  <a:lnTo>
                    <a:pt x="59" y="448"/>
                  </a:lnTo>
                  <a:lnTo>
                    <a:pt x="30" y="401"/>
                  </a:lnTo>
                  <a:lnTo>
                    <a:pt x="12" y="348"/>
                  </a:lnTo>
                  <a:lnTo>
                    <a:pt x="0" y="295"/>
                  </a:lnTo>
                  <a:lnTo>
                    <a:pt x="6" y="235"/>
                  </a:lnTo>
                  <a:lnTo>
                    <a:pt x="18" y="188"/>
                  </a:lnTo>
                  <a:lnTo>
                    <a:pt x="42" y="135"/>
                  </a:lnTo>
                  <a:lnTo>
                    <a:pt x="77" y="94"/>
                  </a:lnTo>
                  <a:lnTo>
                    <a:pt x="112" y="59"/>
                  </a:lnTo>
                  <a:lnTo>
                    <a:pt x="159" y="29"/>
                  </a:lnTo>
                  <a:lnTo>
                    <a:pt x="212" y="11"/>
                  </a:lnTo>
                  <a:lnTo>
                    <a:pt x="272" y="0"/>
                  </a:lnTo>
                  <a:lnTo>
                    <a:pt x="325" y="5"/>
                  </a:lnTo>
                  <a:lnTo>
                    <a:pt x="378" y="17"/>
                  </a:lnTo>
                  <a:lnTo>
                    <a:pt x="425" y="40"/>
                  </a:lnTo>
                  <a:lnTo>
                    <a:pt x="466" y="76"/>
                  </a:lnTo>
                  <a:lnTo>
                    <a:pt x="508" y="111"/>
                  </a:lnTo>
                  <a:lnTo>
                    <a:pt x="531" y="158"/>
                  </a:lnTo>
                  <a:lnTo>
                    <a:pt x="555" y="211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7"/>
            <p:cNvSpPr/>
            <p:nvPr/>
          </p:nvSpPr>
          <p:spPr>
            <a:xfrm rot="20317200">
              <a:off x="5381640" y="416160"/>
              <a:ext cx="727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8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13"/>
                  </a:lnTo>
                  <a:lnTo>
                    <a:pt x="302" y="336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59" y="372"/>
                  </a:lnTo>
                  <a:lnTo>
                    <a:pt x="124" y="360"/>
                  </a:lnTo>
                  <a:lnTo>
                    <a:pt x="95" y="348"/>
                  </a:lnTo>
                  <a:lnTo>
                    <a:pt x="65" y="325"/>
                  </a:lnTo>
                  <a:lnTo>
                    <a:pt x="41" y="301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9"/>
                  </a:lnTo>
                  <a:lnTo>
                    <a:pt x="12" y="123"/>
                  </a:lnTo>
                  <a:lnTo>
                    <a:pt x="30" y="94"/>
                  </a:lnTo>
                  <a:lnTo>
                    <a:pt x="47" y="64"/>
                  </a:lnTo>
                  <a:lnTo>
                    <a:pt x="77" y="41"/>
                  </a:lnTo>
                  <a:lnTo>
                    <a:pt x="107" y="17"/>
                  </a:lnTo>
                  <a:lnTo>
                    <a:pt x="142" y="6"/>
                  </a:lnTo>
                  <a:lnTo>
                    <a:pt x="178" y="0"/>
                  </a:lnTo>
                  <a:lnTo>
                    <a:pt x="219" y="6"/>
                  </a:lnTo>
                  <a:lnTo>
                    <a:pt x="249" y="12"/>
                  </a:lnTo>
                  <a:lnTo>
                    <a:pt x="284" y="29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 rot="20317200">
              <a:off x="5294160" y="1495440"/>
              <a:ext cx="64800" cy="71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 rot="20317200">
              <a:off x="5632560" y="1393560"/>
              <a:ext cx="67320" cy="712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1239840" y="3958920"/>
            <a:ext cx="719280" cy="1343880"/>
            <a:chOff x="1239840" y="3958920"/>
            <a:chExt cx="719280" cy="1343880"/>
          </a:xfrm>
        </p:grpSpPr>
        <p:grpSp>
          <p:nvGrpSpPr>
            <p:cNvPr id="753" name=""/>
            <p:cNvGrpSpPr/>
            <p:nvPr/>
          </p:nvGrpSpPr>
          <p:grpSpPr>
            <a:xfrm>
              <a:off x="1314720" y="4746600"/>
              <a:ext cx="547560" cy="556200"/>
              <a:chOff x="1314720" y="4746600"/>
              <a:chExt cx="547560" cy="5562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382760" y="4762080"/>
                <a:ext cx="397440" cy="434880"/>
                <a:chOff x="1382760" y="4762080"/>
                <a:chExt cx="397440" cy="434880"/>
              </a:xfrm>
            </p:grpSpPr>
            <p:sp>
              <p:nvSpPr>
                <p:cNvPr id="755" name="任意多边形 799"/>
                <p:cNvSpPr/>
                <p:nvPr/>
              </p:nvSpPr>
              <p:spPr>
                <a:xfrm>
                  <a:off x="1382760" y="4762080"/>
                  <a:ext cx="397440" cy="434880"/>
                </a:xfrm>
                <a:custGeom>
                  <a:avLst/>
                  <a:gdLst>
                    <a:gd name="textAreaLeft" fmla="*/ 0 w 397440"/>
                    <a:gd name="textAreaRight" fmla="*/ 397800 w 397440"/>
                    <a:gd name="textAreaTop" fmla="*/ 0 h 434880"/>
                    <a:gd name="textAreaBottom" fmla="*/ 435240 h 43488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任意多边形 800"/>
                <p:cNvSpPr/>
                <p:nvPr/>
              </p:nvSpPr>
              <p:spPr>
                <a:xfrm>
                  <a:off x="1436400" y="4833720"/>
                  <a:ext cx="295200" cy="322920"/>
                </a:xfrm>
                <a:custGeom>
                  <a:avLst/>
                  <a:gdLst>
                    <a:gd name="textAreaLeft" fmla="*/ 0 w 295200"/>
                    <a:gd name="textAreaRight" fmla="*/ 295200 w 295200"/>
                    <a:gd name="textAreaTop" fmla="*/ 0 h 322920"/>
                    <a:gd name="textAreaBottom" fmla="*/ 323280 h 32292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314720" y="4794480"/>
                <a:ext cx="547560" cy="508320"/>
                <a:chOff x="1314720" y="4794480"/>
                <a:chExt cx="547560" cy="508320"/>
              </a:xfrm>
            </p:grpSpPr>
            <p:sp>
              <p:nvSpPr>
                <p:cNvPr id="758" name="圆角矩形 795"/>
                <p:cNvSpPr/>
                <p:nvPr/>
              </p:nvSpPr>
              <p:spPr>
                <a:xfrm rot="1750200">
                  <a:off x="1616400" y="5128920"/>
                  <a:ext cx="229680" cy="12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796"/>
                <p:cNvSpPr/>
                <p:nvPr/>
              </p:nvSpPr>
              <p:spPr>
                <a:xfrm rot="9049800">
                  <a:off x="1330560" y="5110200"/>
                  <a:ext cx="229680" cy="12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797"/>
                <p:cNvSpPr/>
                <p:nvPr/>
              </p:nvSpPr>
              <p:spPr>
                <a:xfrm rot="5647200">
                  <a:off x="1543680" y="4865760"/>
                  <a:ext cx="258840" cy="12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圆角矩形 798"/>
                <p:cNvSpPr/>
                <p:nvPr/>
              </p:nvSpPr>
              <p:spPr>
                <a:xfrm rot="4867200">
                  <a:off x="1378440" y="4873680"/>
                  <a:ext cx="258840" cy="12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任意多边形 794"/>
              <p:cNvSpPr/>
              <p:nvPr/>
            </p:nvSpPr>
            <p:spPr>
              <a:xfrm>
                <a:off x="1402200" y="4746600"/>
                <a:ext cx="431640" cy="1368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239840" y="3958920"/>
              <a:ext cx="719280" cy="834480"/>
              <a:chOff x="1239840" y="3958920"/>
              <a:chExt cx="719280" cy="83448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1550880" y="4088160"/>
                <a:ext cx="289440" cy="487800"/>
                <a:chOff x="1550880" y="4088160"/>
                <a:chExt cx="289440" cy="487800"/>
              </a:xfrm>
            </p:grpSpPr>
            <p:sp>
              <p:nvSpPr>
                <p:cNvPr id="765" name="圆角矩形 790"/>
                <p:cNvSpPr/>
                <p:nvPr/>
              </p:nvSpPr>
              <p:spPr>
                <a:xfrm rot="1156200">
                  <a:off x="1623600" y="4098600"/>
                  <a:ext cx="143280" cy="466560"/>
                </a:xfrm>
                <a:custGeom>
                  <a:avLst/>
                  <a:gdLst>
                    <a:gd name="textAreaLeft" fmla="*/ 20880 w 143280"/>
                    <a:gd name="textAreaRight" fmla="*/ 122400 w 143280"/>
                    <a:gd name="textAreaTop" fmla="*/ 20880 h 466560"/>
                    <a:gd name="textAreaBottom" fmla="*/ 445680 h 466560"/>
                  </a:gdLst>
                  <a:ahLst/>
                  <a:rect l="textAreaLeft" t="textAreaTop" r="textAreaRight" b="textAreaBottom"/>
                  <a:pathLst>
                    <a:path w="21600" h="7021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14"/>
                      </a:lnTo>
                      <a:arcTo wR="10800" hR="10800" stAng="10800000" swAng="-5400000"/>
                      <a:lnTo>
                        <a:pt x="10800" y="7021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791"/>
                <p:cNvSpPr/>
                <p:nvPr/>
              </p:nvSpPr>
              <p:spPr>
                <a:xfrm rot="1156200">
                  <a:off x="1641960" y="4161960"/>
                  <a:ext cx="80280" cy="397080"/>
                </a:xfrm>
                <a:custGeom>
                  <a:avLst/>
                  <a:gdLst>
                    <a:gd name="textAreaLeft" fmla="*/ 11520 w 80280"/>
                    <a:gd name="textAreaRight" fmla="*/ 68760 w 80280"/>
                    <a:gd name="textAreaTop" fmla="*/ 11520 h 397080"/>
                    <a:gd name="textAreaBottom" fmla="*/ 385560 h 397080"/>
                  </a:gdLst>
                  <a:ahLst/>
                  <a:rect l="textAreaLeft" t="textAreaTop" r="textAreaRight" b="textAreaBottom"/>
                  <a:pathLst>
                    <a:path w="21600" h="106457">
                      <a:moveTo>
                        <a:pt x="10800" y="0"/>
                      </a:moveTo>
                      <a:arcTo wR="10800" hR="10800" stAng="16200000" swAng="-5400000"/>
                      <a:lnTo>
                        <a:pt x="0" y="95657"/>
                      </a:lnTo>
                      <a:arcTo wR="10800" hR="10800" stAng="10800000" swAng="-5400000"/>
                      <a:lnTo>
                        <a:pt x="10800" y="1064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1280520" y="3958920"/>
                <a:ext cx="307440" cy="486360"/>
                <a:chOff x="1280520" y="3958920"/>
                <a:chExt cx="307440" cy="486360"/>
              </a:xfrm>
            </p:grpSpPr>
            <p:sp>
              <p:nvSpPr>
                <p:cNvPr id="768" name="圆角矩形 788"/>
                <p:cNvSpPr/>
                <p:nvPr/>
              </p:nvSpPr>
              <p:spPr>
                <a:xfrm rot="20281200">
                  <a:off x="1362600" y="3968640"/>
                  <a:ext cx="143280" cy="466560"/>
                </a:xfrm>
                <a:custGeom>
                  <a:avLst/>
                  <a:gdLst>
                    <a:gd name="textAreaLeft" fmla="*/ 20880 w 143280"/>
                    <a:gd name="textAreaRight" fmla="*/ 122400 w 143280"/>
                    <a:gd name="textAreaTop" fmla="*/ 20880 h 466560"/>
                    <a:gd name="textAreaBottom" fmla="*/ 445680 h 466560"/>
                  </a:gdLst>
                  <a:ahLst/>
                  <a:rect l="textAreaLeft" t="textAreaTop" r="textAreaRight" b="textAreaBottom"/>
                  <a:pathLst>
                    <a:path w="21600" h="7021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14"/>
                      </a:lnTo>
                      <a:arcTo wR="10800" hR="10800" stAng="10800000" swAng="-5400000"/>
                      <a:lnTo>
                        <a:pt x="10800" y="7021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789"/>
                <p:cNvSpPr/>
                <p:nvPr/>
              </p:nvSpPr>
              <p:spPr>
                <a:xfrm rot="20281200">
                  <a:off x="1403280" y="4033800"/>
                  <a:ext cx="80280" cy="397080"/>
                </a:xfrm>
                <a:custGeom>
                  <a:avLst/>
                  <a:gdLst>
                    <a:gd name="textAreaLeft" fmla="*/ 11520 w 80280"/>
                    <a:gd name="textAreaRight" fmla="*/ 68760 w 80280"/>
                    <a:gd name="textAreaTop" fmla="*/ 11520 h 397080"/>
                    <a:gd name="textAreaBottom" fmla="*/ 385560 h 397080"/>
                  </a:gdLst>
                  <a:ahLst/>
                  <a:rect l="textAreaLeft" t="textAreaTop" r="textAreaRight" b="textAreaBottom"/>
                  <a:pathLst>
                    <a:path w="21600" h="106457">
                      <a:moveTo>
                        <a:pt x="10800" y="0"/>
                      </a:moveTo>
                      <a:arcTo wR="10800" hR="10800" stAng="16200000" swAng="-5400000"/>
                      <a:lnTo>
                        <a:pt x="0" y="95657"/>
                      </a:lnTo>
                      <a:arcTo wR="10800" hR="10800" stAng="10800000" swAng="-5400000"/>
                      <a:lnTo>
                        <a:pt x="10800" y="1064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" name="任意多边形 766"/>
              <p:cNvSpPr/>
              <p:nvPr/>
            </p:nvSpPr>
            <p:spPr>
              <a:xfrm>
                <a:off x="1326600" y="4309560"/>
                <a:ext cx="567360" cy="483840"/>
              </a:xfrm>
              <a:custGeom>
                <a:avLst/>
                <a:gdLst>
                  <a:gd name="textAreaLeft" fmla="*/ 0 w 567360"/>
                  <a:gd name="textAreaRight" fmla="*/ 567720 w 567360"/>
                  <a:gd name="textAreaTop" fmla="*/ 0 h 483840"/>
                  <a:gd name="textAreaBottom" fmla="*/ 484200 h 48384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1470240" y="4452840"/>
                <a:ext cx="89640" cy="125280"/>
                <a:chOff x="1470240" y="4452840"/>
                <a:chExt cx="89640" cy="125280"/>
              </a:xfrm>
            </p:grpSpPr>
            <p:sp>
              <p:nvSpPr>
                <p:cNvPr id="772" name="椭圆 784"/>
                <p:cNvSpPr/>
                <p:nvPr/>
              </p:nvSpPr>
              <p:spPr>
                <a:xfrm>
                  <a:off x="1470240" y="4452840"/>
                  <a:ext cx="89640" cy="12528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椭圆 785"/>
                <p:cNvSpPr/>
                <p:nvPr/>
              </p:nvSpPr>
              <p:spPr>
                <a:xfrm>
                  <a:off x="1480680" y="4475520"/>
                  <a:ext cx="60840" cy="86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椭圆 786"/>
                <p:cNvSpPr/>
                <p:nvPr/>
              </p:nvSpPr>
              <p:spPr>
                <a:xfrm rot="600000">
                  <a:off x="1475640" y="4470840"/>
                  <a:ext cx="60840" cy="68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787"/>
                <p:cNvSpPr/>
                <p:nvPr/>
              </p:nvSpPr>
              <p:spPr>
                <a:xfrm rot="300000">
                  <a:off x="1503360" y="4514400"/>
                  <a:ext cx="36000" cy="3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1667520" y="4470840"/>
                <a:ext cx="89640" cy="125280"/>
                <a:chOff x="1667520" y="4470840"/>
                <a:chExt cx="89640" cy="125280"/>
              </a:xfrm>
            </p:grpSpPr>
            <p:sp>
              <p:nvSpPr>
                <p:cNvPr id="777" name="椭圆 780"/>
                <p:cNvSpPr/>
                <p:nvPr/>
              </p:nvSpPr>
              <p:spPr>
                <a:xfrm>
                  <a:off x="1667520" y="4470840"/>
                  <a:ext cx="89640" cy="12528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781"/>
                <p:cNvSpPr/>
                <p:nvPr/>
              </p:nvSpPr>
              <p:spPr>
                <a:xfrm>
                  <a:off x="1677960" y="4493520"/>
                  <a:ext cx="60840" cy="86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椭圆 782"/>
                <p:cNvSpPr/>
                <p:nvPr/>
              </p:nvSpPr>
              <p:spPr>
                <a:xfrm rot="600000">
                  <a:off x="1672920" y="4488840"/>
                  <a:ext cx="60840" cy="68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椭圆 783"/>
                <p:cNvSpPr/>
                <p:nvPr/>
              </p:nvSpPr>
              <p:spPr>
                <a:xfrm rot="300000">
                  <a:off x="1700640" y="4532400"/>
                  <a:ext cx="36000" cy="3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圆角矩形 769"/>
              <p:cNvSpPr/>
              <p:nvPr/>
            </p:nvSpPr>
            <p:spPr>
              <a:xfrm rot="7542000">
                <a:off x="1735560" y="4071600"/>
                <a:ext cx="143280" cy="270720"/>
              </a:xfrm>
              <a:custGeom>
                <a:avLst/>
                <a:gdLst>
                  <a:gd name="textAreaLeft" fmla="*/ 20880 w 143280"/>
                  <a:gd name="textAreaRight" fmla="*/ 122400 w 143280"/>
                  <a:gd name="textAreaTop" fmla="*/ 20880 h 270720"/>
                  <a:gd name="textAreaBottom" fmla="*/ 249840 h 270720"/>
                </a:gdLst>
                <a:ahLst/>
                <a:rect l="textAreaLeft" t="textAreaTop" r="textAreaRight" b="textAreaBottom"/>
                <a:pathLst>
                  <a:path w="21600" h="40764">
                    <a:moveTo>
                      <a:pt x="10800" y="0"/>
                    </a:moveTo>
                    <a:arcTo wR="10800" hR="10800" stAng="16200000" swAng="-5400000"/>
                    <a:lnTo>
                      <a:pt x="0" y="29964"/>
                    </a:lnTo>
                    <a:arcTo wR="10800" hR="10800" stAng="10800000" swAng="-5400000"/>
                    <a:lnTo>
                      <a:pt x="10800" y="407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椭圆 770"/>
              <p:cNvSpPr/>
              <p:nvPr/>
            </p:nvSpPr>
            <p:spPr>
              <a:xfrm>
                <a:off x="1326600" y="4542840"/>
                <a:ext cx="232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椭圆 771"/>
              <p:cNvSpPr/>
              <p:nvPr/>
            </p:nvSpPr>
            <p:spPr>
              <a:xfrm>
                <a:off x="1631520" y="4560840"/>
                <a:ext cx="232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1750320" y="4624560"/>
                <a:ext cx="208800" cy="118800"/>
                <a:chOff x="1750320" y="4624560"/>
                <a:chExt cx="208800" cy="118800"/>
              </a:xfrm>
            </p:grpSpPr>
            <p:sp>
              <p:nvSpPr>
                <p:cNvPr id="785" name="任意多边形 778"/>
                <p:cNvSpPr/>
                <p:nvPr/>
              </p:nvSpPr>
              <p:spPr>
                <a:xfrm>
                  <a:off x="1750320" y="4624560"/>
                  <a:ext cx="208800" cy="259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任意多边形 779"/>
                <p:cNvSpPr/>
                <p:nvPr/>
              </p:nvSpPr>
              <p:spPr>
                <a:xfrm rot="1453800">
                  <a:off x="1746360" y="4675320"/>
                  <a:ext cx="208800" cy="259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1239840" y="4614480"/>
                <a:ext cx="208800" cy="118800"/>
                <a:chOff x="1239840" y="4614480"/>
                <a:chExt cx="208800" cy="118800"/>
              </a:xfrm>
            </p:grpSpPr>
            <p:sp>
              <p:nvSpPr>
                <p:cNvPr id="788" name="任意多边形 776"/>
                <p:cNvSpPr/>
                <p:nvPr/>
              </p:nvSpPr>
              <p:spPr>
                <a:xfrm flipH="1">
                  <a:off x="1239840" y="4614480"/>
                  <a:ext cx="208800" cy="25920"/>
                </a:xfrm>
                <a:custGeom>
                  <a:avLst/>
                  <a:gdLst>
                    <a:gd name="textAreaLeft" fmla="*/ 360 w 208800"/>
                    <a:gd name="textAreaRight" fmla="*/ 209520 w 208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任意多边形 777"/>
                <p:cNvSpPr/>
                <p:nvPr/>
              </p:nvSpPr>
              <p:spPr>
                <a:xfrm flipH="1" rot="20146200">
                  <a:off x="1243080" y="4665240"/>
                  <a:ext cx="208800" cy="25920"/>
                </a:xfrm>
                <a:custGeom>
                  <a:avLst/>
                  <a:gdLst>
                    <a:gd name="textAreaLeft" fmla="*/ 360 w 208800"/>
                    <a:gd name="textAreaRight" fmla="*/ 209520 w 208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" name="弦形 774"/>
              <p:cNvSpPr/>
              <p:nvPr/>
            </p:nvSpPr>
            <p:spPr>
              <a:xfrm rot="17476200">
                <a:off x="1557360" y="4595400"/>
                <a:ext cx="75960" cy="471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椭圆 775"/>
              <p:cNvSpPr/>
              <p:nvPr/>
            </p:nvSpPr>
            <p:spPr>
              <a:xfrm>
                <a:off x="1559880" y="4683240"/>
                <a:ext cx="53640" cy="5364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2499840" y="4058640"/>
            <a:ext cx="643320" cy="1199520"/>
            <a:chOff x="2499840" y="4058640"/>
            <a:chExt cx="643320" cy="1199520"/>
          </a:xfrm>
        </p:grpSpPr>
        <p:grpSp>
          <p:nvGrpSpPr>
            <p:cNvPr id="793" name=""/>
            <p:cNvGrpSpPr/>
            <p:nvPr/>
          </p:nvGrpSpPr>
          <p:grpSpPr>
            <a:xfrm>
              <a:off x="2566800" y="4761720"/>
              <a:ext cx="489960" cy="496440"/>
              <a:chOff x="2566800" y="4761720"/>
              <a:chExt cx="489960" cy="4964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2627640" y="4775400"/>
                <a:ext cx="355320" cy="388080"/>
                <a:chOff x="2627640" y="4775400"/>
                <a:chExt cx="355320" cy="388080"/>
              </a:xfrm>
            </p:grpSpPr>
            <p:sp>
              <p:nvSpPr>
                <p:cNvPr id="795" name="任意多边形 839"/>
                <p:cNvSpPr/>
                <p:nvPr/>
              </p:nvSpPr>
              <p:spPr>
                <a:xfrm>
                  <a:off x="2627640" y="4775400"/>
                  <a:ext cx="355320" cy="38808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88080"/>
                    <a:gd name="textAreaBottom" fmla="*/ 388440 h 38808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任意多边形 840"/>
                <p:cNvSpPr/>
                <p:nvPr/>
              </p:nvSpPr>
              <p:spPr>
                <a:xfrm>
                  <a:off x="2675520" y="4839480"/>
                  <a:ext cx="263880" cy="288360"/>
                </a:xfrm>
                <a:custGeom>
                  <a:avLst/>
                  <a:gdLst>
                    <a:gd name="textAreaLeft" fmla="*/ 0 w 263880"/>
                    <a:gd name="textAreaRight" fmla="*/ 264240 w 2638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2566800" y="4804560"/>
                <a:ext cx="489960" cy="453600"/>
                <a:chOff x="2566800" y="4804560"/>
                <a:chExt cx="489960" cy="453600"/>
              </a:xfrm>
            </p:grpSpPr>
            <p:sp>
              <p:nvSpPr>
                <p:cNvPr id="798" name="圆角矩形 835"/>
                <p:cNvSpPr/>
                <p:nvPr/>
              </p:nvSpPr>
              <p:spPr>
                <a:xfrm rot="1750200">
                  <a:off x="2836800" y="5103000"/>
                  <a:ext cx="205560" cy="11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圆角矩形 836"/>
                <p:cNvSpPr/>
                <p:nvPr/>
              </p:nvSpPr>
              <p:spPr>
                <a:xfrm rot="9049800">
                  <a:off x="2580840" y="5086080"/>
                  <a:ext cx="205560" cy="11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圆角矩形 837"/>
                <p:cNvSpPr/>
                <p:nvPr/>
              </p:nvSpPr>
              <p:spPr>
                <a:xfrm rot="5647200">
                  <a:off x="2771280" y="4867920"/>
                  <a:ext cx="23112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圆角矩形 838"/>
                <p:cNvSpPr/>
                <p:nvPr/>
              </p:nvSpPr>
              <p:spPr>
                <a:xfrm rot="4867200">
                  <a:off x="2623320" y="4874760"/>
                  <a:ext cx="23112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任意多边形 834"/>
              <p:cNvSpPr/>
              <p:nvPr/>
            </p:nvSpPr>
            <p:spPr>
              <a:xfrm>
                <a:off x="2645280" y="4761720"/>
                <a:ext cx="385560" cy="122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499840" y="4058640"/>
              <a:ext cx="643320" cy="744840"/>
              <a:chOff x="2499840" y="4058640"/>
              <a:chExt cx="643320" cy="74484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2778480" y="4173840"/>
                <a:ext cx="258480" cy="435600"/>
                <a:chOff x="2778480" y="4173840"/>
                <a:chExt cx="258480" cy="435600"/>
              </a:xfrm>
            </p:grpSpPr>
            <p:sp>
              <p:nvSpPr>
                <p:cNvPr id="805" name="圆角矩形 830"/>
                <p:cNvSpPr/>
                <p:nvPr/>
              </p:nvSpPr>
              <p:spPr>
                <a:xfrm rot="1156200">
                  <a:off x="2843640" y="4183200"/>
                  <a:ext cx="128160" cy="41652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520"/>
                    <a:gd name="textAreaBottom" fmla="*/ 397800 h 416520"/>
                  </a:gdLst>
                  <a:ahLst/>
                  <a:rect l="textAreaLeft" t="textAreaTop" r="textAreaRight" b="textAreaBottom"/>
                  <a:pathLst>
                    <a:path w="21600" h="7006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264"/>
                      </a:lnTo>
                      <a:arcTo wR="10800" hR="10800" stAng="10800000" swAng="-5400000"/>
                      <a:lnTo>
                        <a:pt x="10800" y="700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圆角矩形 831"/>
                <p:cNvSpPr/>
                <p:nvPr/>
              </p:nvSpPr>
              <p:spPr>
                <a:xfrm rot="1156200">
                  <a:off x="2859480" y="424008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2536920" y="4058640"/>
                <a:ext cx="274680" cy="434160"/>
                <a:chOff x="2536920" y="4058640"/>
                <a:chExt cx="274680" cy="434160"/>
              </a:xfrm>
            </p:grpSpPr>
            <p:sp>
              <p:nvSpPr>
                <p:cNvPr id="808" name="圆角矩形 828"/>
                <p:cNvSpPr/>
                <p:nvPr/>
              </p:nvSpPr>
              <p:spPr>
                <a:xfrm rot="20281200">
                  <a:off x="2610000" y="4067280"/>
                  <a:ext cx="128160" cy="41652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520"/>
                    <a:gd name="textAreaBottom" fmla="*/ 397800 h 416520"/>
                  </a:gdLst>
                  <a:ahLst/>
                  <a:rect l="textAreaLeft" t="textAreaTop" r="textAreaRight" b="textAreaBottom"/>
                  <a:pathLst>
                    <a:path w="21600" h="7006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264"/>
                      </a:lnTo>
                      <a:arcTo wR="10800" hR="10800" stAng="10800000" swAng="-5400000"/>
                      <a:lnTo>
                        <a:pt x="10800" y="700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圆角矩形 829"/>
                <p:cNvSpPr/>
                <p:nvPr/>
              </p:nvSpPr>
              <p:spPr>
                <a:xfrm rot="20281200">
                  <a:off x="2646360" y="412524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任意多边形 806"/>
              <p:cNvSpPr/>
              <p:nvPr/>
            </p:nvSpPr>
            <p:spPr>
              <a:xfrm>
                <a:off x="2577960" y="4371480"/>
                <a:ext cx="507240" cy="43200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2706120" y="4499640"/>
                <a:ext cx="79920" cy="111960"/>
                <a:chOff x="2706120" y="4499640"/>
                <a:chExt cx="79920" cy="111960"/>
              </a:xfrm>
            </p:grpSpPr>
            <p:sp>
              <p:nvSpPr>
                <p:cNvPr id="812" name="椭圆 824"/>
                <p:cNvSpPr/>
                <p:nvPr/>
              </p:nvSpPr>
              <p:spPr>
                <a:xfrm>
                  <a:off x="2706120" y="449964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825"/>
                <p:cNvSpPr/>
                <p:nvPr/>
              </p:nvSpPr>
              <p:spPr>
                <a:xfrm>
                  <a:off x="2715480" y="452016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椭圆 826"/>
                <p:cNvSpPr/>
                <p:nvPr/>
              </p:nvSpPr>
              <p:spPr>
                <a:xfrm rot="600000">
                  <a:off x="2710800" y="451512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椭圆 827"/>
                <p:cNvSpPr/>
                <p:nvPr/>
              </p:nvSpPr>
              <p:spPr>
                <a:xfrm rot="300000">
                  <a:off x="2735280" y="455436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2882520" y="4515480"/>
                <a:ext cx="79920" cy="111960"/>
                <a:chOff x="2882520" y="4515480"/>
                <a:chExt cx="79920" cy="111960"/>
              </a:xfrm>
            </p:grpSpPr>
            <p:sp>
              <p:nvSpPr>
                <p:cNvPr id="817" name="椭圆 820"/>
                <p:cNvSpPr/>
                <p:nvPr/>
              </p:nvSpPr>
              <p:spPr>
                <a:xfrm>
                  <a:off x="2882520" y="451548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821"/>
                <p:cNvSpPr/>
                <p:nvPr/>
              </p:nvSpPr>
              <p:spPr>
                <a:xfrm>
                  <a:off x="2891880" y="453600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822"/>
                <p:cNvSpPr/>
                <p:nvPr/>
              </p:nvSpPr>
              <p:spPr>
                <a:xfrm rot="600000">
                  <a:off x="2887200" y="453096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椭圆 823"/>
                <p:cNvSpPr/>
                <p:nvPr/>
              </p:nvSpPr>
              <p:spPr>
                <a:xfrm rot="300000">
                  <a:off x="2911680" y="457020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圆角矩形 809"/>
              <p:cNvSpPr/>
              <p:nvPr/>
            </p:nvSpPr>
            <p:spPr>
              <a:xfrm rot="7542000">
                <a:off x="2943360" y="4159080"/>
                <a:ext cx="128160" cy="241920"/>
              </a:xfrm>
              <a:custGeom>
                <a:avLst/>
                <a:gdLst>
                  <a:gd name="textAreaLeft" fmla="*/ 18720 w 128160"/>
                  <a:gd name="textAreaRight" fmla="*/ 109440 w 128160"/>
                  <a:gd name="textAreaTop" fmla="*/ 18720 h 241920"/>
                  <a:gd name="textAreaBottom" fmla="*/ 223200 h 241920"/>
                </a:gdLst>
                <a:ahLst/>
                <a:rect l="textAreaLeft" t="textAreaTop" r="textAreaRight" b="textAreaBottom"/>
                <a:pathLst>
                  <a:path w="21600" h="40719">
                    <a:moveTo>
                      <a:pt x="10800" y="0"/>
                    </a:moveTo>
                    <a:arcTo wR="10800" hR="10800" stAng="16200000" swAng="-5400000"/>
                    <a:lnTo>
                      <a:pt x="0" y="29919"/>
                    </a:lnTo>
                    <a:arcTo wR="10800" hR="10800" stAng="10800000" swAng="-5400000"/>
                    <a:lnTo>
                      <a:pt x="10800" y="407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椭圆 810"/>
              <p:cNvSpPr/>
              <p:nvPr/>
            </p:nvSpPr>
            <p:spPr>
              <a:xfrm>
                <a:off x="2577960" y="4579560"/>
                <a:ext cx="20808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椭圆 811"/>
              <p:cNvSpPr/>
              <p:nvPr/>
            </p:nvSpPr>
            <p:spPr>
              <a:xfrm>
                <a:off x="2850480" y="4595760"/>
                <a:ext cx="20808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2956680" y="4653000"/>
                <a:ext cx="186480" cy="106200"/>
                <a:chOff x="2956680" y="4653000"/>
                <a:chExt cx="186480" cy="106200"/>
              </a:xfrm>
            </p:grpSpPr>
            <p:sp>
              <p:nvSpPr>
                <p:cNvPr id="825" name="任意多边形 818"/>
                <p:cNvSpPr/>
                <p:nvPr/>
              </p:nvSpPr>
              <p:spPr>
                <a:xfrm>
                  <a:off x="2956680" y="4653000"/>
                  <a:ext cx="186480" cy="23040"/>
                </a:xfrm>
                <a:custGeom>
                  <a:avLst/>
                  <a:gdLst>
                    <a:gd name="textAreaLeft" fmla="*/ 0 w 186480"/>
                    <a:gd name="textAreaRight" fmla="*/ 18684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任意多边形 819"/>
                <p:cNvSpPr/>
                <p:nvPr/>
              </p:nvSpPr>
              <p:spPr>
                <a:xfrm rot="1453800">
                  <a:off x="2953440" y="4698720"/>
                  <a:ext cx="186480" cy="23040"/>
                </a:xfrm>
                <a:custGeom>
                  <a:avLst/>
                  <a:gdLst>
                    <a:gd name="textAreaLeft" fmla="*/ 0 w 186480"/>
                    <a:gd name="textAreaRight" fmla="*/ 18684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2499840" y="4643640"/>
                <a:ext cx="186480" cy="106200"/>
                <a:chOff x="2499840" y="4643640"/>
                <a:chExt cx="186480" cy="106200"/>
              </a:xfrm>
            </p:grpSpPr>
            <p:sp>
              <p:nvSpPr>
                <p:cNvPr id="828" name="任意多边形 816"/>
                <p:cNvSpPr/>
                <p:nvPr/>
              </p:nvSpPr>
              <p:spPr>
                <a:xfrm flipH="1">
                  <a:off x="2499840" y="4643640"/>
                  <a:ext cx="186480" cy="23040"/>
                </a:xfrm>
                <a:custGeom>
                  <a:avLst/>
                  <a:gdLst>
                    <a:gd name="textAreaLeft" fmla="*/ 360 w 186480"/>
                    <a:gd name="textAreaRight" fmla="*/ 18720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任意多边形 817"/>
                <p:cNvSpPr/>
                <p:nvPr/>
              </p:nvSpPr>
              <p:spPr>
                <a:xfrm flipH="1" rot="20146200">
                  <a:off x="2502720" y="4689360"/>
                  <a:ext cx="186480" cy="23040"/>
                </a:xfrm>
                <a:custGeom>
                  <a:avLst/>
                  <a:gdLst>
                    <a:gd name="textAreaLeft" fmla="*/ 360 w 186480"/>
                    <a:gd name="textAreaRight" fmla="*/ 18720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弦形 814"/>
              <p:cNvSpPr/>
              <p:nvPr/>
            </p:nvSpPr>
            <p:spPr>
              <a:xfrm rot="17476200">
                <a:off x="2784240" y="4627440"/>
                <a:ext cx="67680" cy="421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椭圆 815"/>
              <p:cNvSpPr/>
              <p:nvPr/>
            </p:nvSpPr>
            <p:spPr>
              <a:xfrm>
                <a:off x="2786400" y="4705200"/>
                <a:ext cx="47880" cy="4788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1860120" y="4277520"/>
            <a:ext cx="643320" cy="1201320"/>
            <a:chOff x="1860120" y="4277520"/>
            <a:chExt cx="643320" cy="1201320"/>
          </a:xfrm>
        </p:grpSpPr>
        <p:grpSp>
          <p:nvGrpSpPr>
            <p:cNvPr id="833" name=""/>
            <p:cNvGrpSpPr/>
            <p:nvPr/>
          </p:nvGrpSpPr>
          <p:grpSpPr>
            <a:xfrm>
              <a:off x="1927080" y="4981680"/>
              <a:ext cx="489960" cy="497160"/>
              <a:chOff x="1927080" y="4981680"/>
              <a:chExt cx="489960" cy="49716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1987920" y="4995360"/>
                <a:ext cx="355320" cy="388800"/>
                <a:chOff x="1987920" y="4995360"/>
                <a:chExt cx="355320" cy="388800"/>
              </a:xfrm>
            </p:grpSpPr>
            <p:sp>
              <p:nvSpPr>
                <p:cNvPr id="835" name="任意多边形 879"/>
                <p:cNvSpPr/>
                <p:nvPr/>
              </p:nvSpPr>
              <p:spPr>
                <a:xfrm>
                  <a:off x="1987920" y="4995360"/>
                  <a:ext cx="355320" cy="38880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88800"/>
                    <a:gd name="textAreaBottom" fmla="*/ 389160 h 38880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任意多边形 880"/>
                <p:cNvSpPr/>
                <p:nvPr/>
              </p:nvSpPr>
              <p:spPr>
                <a:xfrm>
                  <a:off x="2035800" y="5059440"/>
                  <a:ext cx="263880" cy="288720"/>
                </a:xfrm>
                <a:custGeom>
                  <a:avLst/>
                  <a:gdLst>
                    <a:gd name="textAreaLeft" fmla="*/ 0 w 263880"/>
                    <a:gd name="textAreaRight" fmla="*/ 264240 w 2638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1927080" y="5024520"/>
                <a:ext cx="489960" cy="454320"/>
                <a:chOff x="1927080" y="5024520"/>
                <a:chExt cx="489960" cy="454320"/>
              </a:xfrm>
            </p:grpSpPr>
            <p:sp>
              <p:nvSpPr>
                <p:cNvPr id="838" name="圆角矩形 875"/>
                <p:cNvSpPr/>
                <p:nvPr/>
              </p:nvSpPr>
              <p:spPr>
                <a:xfrm rot="1750200">
                  <a:off x="2196720" y="5323320"/>
                  <a:ext cx="205560" cy="11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圆角矩形 876"/>
                <p:cNvSpPr/>
                <p:nvPr/>
              </p:nvSpPr>
              <p:spPr>
                <a:xfrm rot="9049800">
                  <a:off x="1941480" y="5306760"/>
                  <a:ext cx="205560" cy="11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圆角矩形 877"/>
                <p:cNvSpPr/>
                <p:nvPr/>
              </p:nvSpPr>
              <p:spPr>
                <a:xfrm rot="5647200">
                  <a:off x="2131560" y="5088240"/>
                  <a:ext cx="23148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圆角矩形 878"/>
                <p:cNvSpPr/>
                <p:nvPr/>
              </p:nvSpPr>
              <p:spPr>
                <a:xfrm rot="4867200">
                  <a:off x="1983600" y="5094720"/>
                  <a:ext cx="23148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任意多边形 874"/>
              <p:cNvSpPr/>
              <p:nvPr/>
            </p:nvSpPr>
            <p:spPr>
              <a:xfrm>
                <a:off x="2005560" y="4981680"/>
                <a:ext cx="385560" cy="122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860120" y="4277520"/>
              <a:ext cx="643320" cy="745920"/>
              <a:chOff x="1860120" y="4277520"/>
              <a:chExt cx="643320" cy="74592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2138760" y="4392720"/>
                <a:ext cx="258480" cy="435960"/>
                <a:chOff x="2138760" y="4392720"/>
                <a:chExt cx="258480" cy="435960"/>
              </a:xfrm>
            </p:grpSpPr>
            <p:sp>
              <p:nvSpPr>
                <p:cNvPr id="845" name="圆角矩形 870"/>
                <p:cNvSpPr/>
                <p:nvPr/>
              </p:nvSpPr>
              <p:spPr>
                <a:xfrm rot="1156200">
                  <a:off x="2203560" y="4402080"/>
                  <a:ext cx="128160" cy="41688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880"/>
                    <a:gd name="textAreaBottom" fmla="*/ 398160 h 416880"/>
                  </a:gdLst>
                  <a:ahLst/>
                  <a:rect l="textAreaLeft" t="textAreaTop" r="textAreaRight" b="textAreaBottom"/>
                  <a:pathLst>
                    <a:path w="21600" h="7012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324"/>
                      </a:lnTo>
                      <a:arcTo wR="10800" hR="10800" stAng="10800000" swAng="-5400000"/>
                      <a:lnTo>
                        <a:pt x="10800" y="7012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圆角矩形 871"/>
                <p:cNvSpPr/>
                <p:nvPr/>
              </p:nvSpPr>
              <p:spPr>
                <a:xfrm rot="1156200">
                  <a:off x="2220120" y="445896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1896840" y="4277520"/>
                <a:ext cx="275040" cy="434520"/>
                <a:chOff x="1896840" y="4277520"/>
                <a:chExt cx="275040" cy="434520"/>
              </a:xfrm>
            </p:grpSpPr>
            <p:sp>
              <p:nvSpPr>
                <p:cNvPr id="848" name="圆角矩形 868"/>
                <p:cNvSpPr/>
                <p:nvPr/>
              </p:nvSpPr>
              <p:spPr>
                <a:xfrm rot="20281200">
                  <a:off x="1969920" y="4286160"/>
                  <a:ext cx="128160" cy="41688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880"/>
                    <a:gd name="textAreaBottom" fmla="*/ 398160 h 416880"/>
                  </a:gdLst>
                  <a:ahLst/>
                  <a:rect l="textAreaLeft" t="textAreaTop" r="textAreaRight" b="textAreaBottom"/>
                  <a:pathLst>
                    <a:path w="21600" h="7012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324"/>
                      </a:lnTo>
                      <a:arcTo wR="10800" hR="10800" stAng="10800000" swAng="-5400000"/>
                      <a:lnTo>
                        <a:pt x="10800" y="7012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圆角矩形 869"/>
                <p:cNvSpPr/>
                <p:nvPr/>
              </p:nvSpPr>
              <p:spPr>
                <a:xfrm rot="20281200">
                  <a:off x="2006640" y="434412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任意多边形 846"/>
              <p:cNvSpPr/>
              <p:nvPr/>
            </p:nvSpPr>
            <p:spPr>
              <a:xfrm>
                <a:off x="1938240" y="4590720"/>
                <a:ext cx="507240" cy="4327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2066400" y="4719240"/>
                <a:ext cx="79920" cy="111960"/>
                <a:chOff x="2066400" y="4719240"/>
                <a:chExt cx="79920" cy="111960"/>
              </a:xfrm>
            </p:grpSpPr>
            <p:sp>
              <p:nvSpPr>
                <p:cNvPr id="852" name="椭圆 864"/>
                <p:cNvSpPr/>
                <p:nvPr/>
              </p:nvSpPr>
              <p:spPr>
                <a:xfrm>
                  <a:off x="2066400" y="471924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椭圆 865"/>
                <p:cNvSpPr/>
                <p:nvPr/>
              </p:nvSpPr>
              <p:spPr>
                <a:xfrm>
                  <a:off x="2075760" y="473976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椭圆 866"/>
                <p:cNvSpPr/>
                <p:nvPr/>
              </p:nvSpPr>
              <p:spPr>
                <a:xfrm rot="600000">
                  <a:off x="2071080" y="473472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椭圆 867"/>
                <p:cNvSpPr/>
                <p:nvPr/>
              </p:nvSpPr>
              <p:spPr>
                <a:xfrm rot="300000">
                  <a:off x="2095560" y="477396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2242800" y="4735080"/>
                <a:ext cx="79920" cy="111960"/>
                <a:chOff x="2242800" y="4735080"/>
                <a:chExt cx="79920" cy="111960"/>
              </a:xfrm>
            </p:grpSpPr>
            <p:sp>
              <p:nvSpPr>
                <p:cNvPr id="857" name="椭圆 860"/>
                <p:cNvSpPr/>
                <p:nvPr/>
              </p:nvSpPr>
              <p:spPr>
                <a:xfrm>
                  <a:off x="2242800" y="473508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椭圆 861"/>
                <p:cNvSpPr/>
                <p:nvPr/>
              </p:nvSpPr>
              <p:spPr>
                <a:xfrm>
                  <a:off x="2252160" y="475560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椭圆 862"/>
                <p:cNvSpPr/>
                <p:nvPr/>
              </p:nvSpPr>
              <p:spPr>
                <a:xfrm rot="600000">
                  <a:off x="2247480" y="475056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椭圆 863"/>
                <p:cNvSpPr/>
                <p:nvPr/>
              </p:nvSpPr>
              <p:spPr>
                <a:xfrm rot="300000">
                  <a:off x="2271960" y="478980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圆角矩形 849"/>
              <p:cNvSpPr/>
              <p:nvPr/>
            </p:nvSpPr>
            <p:spPr>
              <a:xfrm rot="7542000">
                <a:off x="2303640" y="4378320"/>
                <a:ext cx="128160" cy="241920"/>
              </a:xfrm>
              <a:custGeom>
                <a:avLst/>
                <a:gdLst>
                  <a:gd name="textAreaLeft" fmla="*/ 18720 w 128160"/>
                  <a:gd name="textAreaRight" fmla="*/ 109440 w 128160"/>
                  <a:gd name="textAreaTop" fmla="*/ 18720 h 241920"/>
                  <a:gd name="textAreaBottom" fmla="*/ 223200 h 241920"/>
                </a:gdLst>
                <a:ahLst/>
                <a:rect l="textAreaLeft" t="textAreaTop" r="textAreaRight" b="textAreaBottom"/>
                <a:pathLst>
                  <a:path w="21600" h="40719">
                    <a:moveTo>
                      <a:pt x="10800" y="0"/>
                    </a:moveTo>
                    <a:arcTo wR="10800" hR="10800" stAng="16200000" swAng="-5400000"/>
                    <a:lnTo>
                      <a:pt x="0" y="29919"/>
                    </a:lnTo>
                    <a:arcTo wR="10800" hR="10800" stAng="10800000" swAng="-5400000"/>
                    <a:lnTo>
                      <a:pt x="10800" y="407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椭圆 850"/>
              <p:cNvSpPr/>
              <p:nvPr/>
            </p:nvSpPr>
            <p:spPr>
              <a:xfrm>
                <a:off x="1938240" y="4799520"/>
                <a:ext cx="208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椭圆 851"/>
              <p:cNvSpPr/>
              <p:nvPr/>
            </p:nvSpPr>
            <p:spPr>
              <a:xfrm>
                <a:off x="2210760" y="4815360"/>
                <a:ext cx="208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2316960" y="4872600"/>
                <a:ext cx="186480" cy="106560"/>
                <a:chOff x="2316960" y="4872600"/>
                <a:chExt cx="186480" cy="106560"/>
              </a:xfrm>
            </p:grpSpPr>
            <p:sp>
              <p:nvSpPr>
                <p:cNvPr id="865" name="任意多边形 858"/>
                <p:cNvSpPr/>
                <p:nvPr/>
              </p:nvSpPr>
              <p:spPr>
                <a:xfrm>
                  <a:off x="2316960" y="4872600"/>
                  <a:ext cx="186480" cy="23400"/>
                </a:xfrm>
                <a:custGeom>
                  <a:avLst/>
                  <a:gdLst>
                    <a:gd name="textAreaLeft" fmla="*/ 0 w 186480"/>
                    <a:gd name="textAreaRight" fmla="*/ 186840 w 1864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任意多边形 859"/>
                <p:cNvSpPr/>
                <p:nvPr/>
              </p:nvSpPr>
              <p:spPr>
                <a:xfrm rot="1453800">
                  <a:off x="2313360" y="4918320"/>
                  <a:ext cx="186480" cy="23400"/>
                </a:xfrm>
                <a:custGeom>
                  <a:avLst/>
                  <a:gdLst>
                    <a:gd name="textAreaLeft" fmla="*/ 0 w 186480"/>
                    <a:gd name="textAreaRight" fmla="*/ 186840 w 1864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1860120" y="4863600"/>
                <a:ext cx="186480" cy="106200"/>
                <a:chOff x="1860120" y="4863600"/>
                <a:chExt cx="186480" cy="106200"/>
              </a:xfrm>
            </p:grpSpPr>
            <p:sp>
              <p:nvSpPr>
                <p:cNvPr id="868" name="任意多边形 856"/>
                <p:cNvSpPr/>
                <p:nvPr/>
              </p:nvSpPr>
              <p:spPr>
                <a:xfrm flipH="1">
                  <a:off x="1860120" y="4863600"/>
                  <a:ext cx="186480" cy="23400"/>
                </a:xfrm>
                <a:custGeom>
                  <a:avLst/>
                  <a:gdLst>
                    <a:gd name="textAreaLeft" fmla="*/ 360 w 186480"/>
                    <a:gd name="textAreaRight" fmla="*/ 187200 w 1864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任意多边形 857"/>
                <p:cNvSpPr/>
                <p:nvPr/>
              </p:nvSpPr>
              <p:spPr>
                <a:xfrm flipH="1" rot="20146200">
                  <a:off x="1863000" y="4909320"/>
                  <a:ext cx="186480" cy="23040"/>
                </a:xfrm>
                <a:custGeom>
                  <a:avLst/>
                  <a:gdLst>
                    <a:gd name="textAreaLeft" fmla="*/ 360 w 186480"/>
                    <a:gd name="textAreaRight" fmla="*/ 18720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弦形 854"/>
              <p:cNvSpPr/>
              <p:nvPr/>
            </p:nvSpPr>
            <p:spPr>
              <a:xfrm rot="17476200">
                <a:off x="2144520" y="4846680"/>
                <a:ext cx="68040" cy="42120"/>
              </a:xfrm>
              <a:custGeom>
                <a:avLst/>
                <a:gdLst>
                  <a:gd name="textAreaLeft" fmla="*/ 0 w 68040"/>
                  <a:gd name="textAreaRight" fmla="*/ 68040 w 680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椭圆 855"/>
              <p:cNvSpPr/>
              <p:nvPr/>
            </p:nvSpPr>
            <p:spPr>
              <a:xfrm>
                <a:off x="2146680" y="4925160"/>
                <a:ext cx="47880" cy="4788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6929280" y="4857840"/>
            <a:ext cx="986040" cy="814320"/>
            <a:chOff x="6929280" y="4857840"/>
            <a:chExt cx="986040" cy="814320"/>
          </a:xfrm>
        </p:grpSpPr>
        <p:sp>
          <p:nvSpPr>
            <p:cNvPr id="873" name="任意多边形 12"/>
            <p:cNvSpPr/>
            <p:nvPr/>
          </p:nvSpPr>
          <p:spPr>
            <a:xfrm>
              <a:off x="6929280" y="4857840"/>
              <a:ext cx="801360" cy="8143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任意多边形 13"/>
            <p:cNvSpPr/>
            <p:nvPr/>
          </p:nvSpPr>
          <p:spPr>
            <a:xfrm>
              <a:off x="7113960" y="4857840"/>
              <a:ext cx="801360" cy="8143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286680" y="4572000"/>
            <a:ext cx="985680" cy="1028880"/>
            <a:chOff x="6286680" y="4572000"/>
            <a:chExt cx="985680" cy="1028880"/>
          </a:xfrm>
        </p:grpSpPr>
        <p:sp>
          <p:nvSpPr>
            <p:cNvPr id="876" name="任意多边形 9"/>
            <p:cNvSpPr/>
            <p:nvPr/>
          </p:nvSpPr>
          <p:spPr>
            <a:xfrm>
              <a:off x="6286680" y="457200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10"/>
            <p:cNvSpPr/>
            <p:nvPr/>
          </p:nvSpPr>
          <p:spPr>
            <a:xfrm>
              <a:off x="6471360" y="457200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Box 882"/>
          <p:cNvSpPr/>
          <p:nvPr/>
        </p:nvSpPr>
        <p:spPr>
          <a:xfrm>
            <a:off x="4368960" y="6386400"/>
            <a:ext cx="30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971440" y="331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兔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E5A-9812-4C20-968B-BEFFBD4223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1143000" y="1428840"/>
            <a:ext cx="928800" cy="1522440"/>
            <a:chOff x="1143000" y="1428840"/>
            <a:chExt cx="928800" cy="1522440"/>
          </a:xfrm>
        </p:grpSpPr>
        <p:sp>
          <p:nvSpPr>
            <p:cNvPr id="885" name="任意多边形 254"/>
            <p:cNvSpPr/>
            <p:nvPr/>
          </p:nvSpPr>
          <p:spPr>
            <a:xfrm flipH="1" rot="1268400">
              <a:off x="1264320" y="2238480"/>
              <a:ext cx="452160" cy="21024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493843" h="333499">
                  <a:moveTo>
                    <a:pt x="257773" y="77694"/>
                  </a:moveTo>
                  <a:cubicBezTo>
                    <a:pt x="303062" y="49627"/>
                    <a:pt x="398220" y="86659"/>
                    <a:pt x="437067" y="77694"/>
                  </a:cubicBezTo>
                  <a:cubicBezTo>
                    <a:pt x="475914" y="68729"/>
                    <a:pt x="493843" y="0"/>
                    <a:pt x="490855" y="23906"/>
                  </a:cubicBezTo>
                  <a:cubicBezTo>
                    <a:pt x="487867" y="47812"/>
                    <a:pt x="490856" y="173317"/>
                    <a:pt x="419138" y="221129"/>
                  </a:cubicBezTo>
                  <a:cubicBezTo>
                    <a:pt x="347420" y="268941"/>
                    <a:pt x="85240" y="323913"/>
                    <a:pt x="42620" y="328706"/>
                  </a:cubicBezTo>
                  <a:cubicBezTo>
                    <a:pt x="0" y="333499"/>
                    <a:pt x="34952" y="285329"/>
                    <a:pt x="163415" y="249890"/>
                  </a:cubicBezTo>
                  <a:cubicBezTo>
                    <a:pt x="194868" y="192491"/>
                    <a:pt x="184423" y="112717"/>
                    <a:pt x="257773" y="77694"/>
                  </a:cubicBezTo>
                  <a:close/>
                </a:path>
              </a:pathLst>
            </a:custGeom>
            <a:solidFill>
              <a:srgbClr val="5ab804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任意多边形 253"/>
            <p:cNvSpPr/>
            <p:nvPr/>
          </p:nvSpPr>
          <p:spPr>
            <a:xfrm>
              <a:off x="1620000" y="2369880"/>
              <a:ext cx="451800" cy="210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493843" h="333499">
                  <a:moveTo>
                    <a:pt x="257773" y="77694"/>
                  </a:moveTo>
                  <a:cubicBezTo>
                    <a:pt x="303062" y="49627"/>
                    <a:pt x="398220" y="86659"/>
                    <a:pt x="437067" y="77694"/>
                  </a:cubicBezTo>
                  <a:cubicBezTo>
                    <a:pt x="475914" y="68729"/>
                    <a:pt x="493843" y="0"/>
                    <a:pt x="490855" y="23906"/>
                  </a:cubicBezTo>
                  <a:cubicBezTo>
                    <a:pt x="487867" y="47812"/>
                    <a:pt x="490856" y="173317"/>
                    <a:pt x="419138" y="221129"/>
                  </a:cubicBezTo>
                  <a:cubicBezTo>
                    <a:pt x="347420" y="268941"/>
                    <a:pt x="85240" y="323913"/>
                    <a:pt x="42620" y="328706"/>
                  </a:cubicBezTo>
                  <a:cubicBezTo>
                    <a:pt x="0" y="333499"/>
                    <a:pt x="34952" y="285329"/>
                    <a:pt x="163415" y="249890"/>
                  </a:cubicBezTo>
                  <a:cubicBezTo>
                    <a:pt x="194868" y="192491"/>
                    <a:pt x="184423" y="112717"/>
                    <a:pt x="257773" y="77694"/>
                  </a:cubicBezTo>
                  <a:close/>
                </a:path>
              </a:pathLst>
            </a:custGeom>
            <a:solidFill>
              <a:srgbClr val="5ab804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任意多边形 252"/>
            <p:cNvSpPr/>
            <p:nvPr/>
          </p:nvSpPr>
          <p:spPr>
            <a:xfrm>
              <a:off x="1557360" y="1855080"/>
              <a:ext cx="112680" cy="109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96200"/>
                <a:gd name="textAreaBottom" fmla="*/ 1096560 h 1096200"/>
              </a:gdLst>
              <a:ahLst/>
              <a:rect l="textAreaLeft" t="textAreaTop" r="textAreaRight" b="textAreaBottom"/>
              <a:pathLst>
                <a:path w="322947" h="2587512">
                  <a:moveTo>
                    <a:pt x="319959" y="1594252"/>
                  </a:moveTo>
                  <a:cubicBezTo>
                    <a:pt x="322947" y="1444840"/>
                    <a:pt x="293382" y="909175"/>
                    <a:pt x="262965" y="675341"/>
                  </a:cubicBezTo>
                  <a:cubicBezTo>
                    <a:pt x="232548" y="441507"/>
                    <a:pt x="170329" y="265953"/>
                    <a:pt x="137459" y="191247"/>
                  </a:cubicBezTo>
                  <a:cubicBezTo>
                    <a:pt x="104589" y="116541"/>
                    <a:pt x="56777" y="0"/>
                    <a:pt x="65742" y="227106"/>
                  </a:cubicBezTo>
                  <a:cubicBezTo>
                    <a:pt x="74707" y="454212"/>
                    <a:pt x="200213" y="1195294"/>
                    <a:pt x="191248" y="1553882"/>
                  </a:cubicBezTo>
                  <a:cubicBezTo>
                    <a:pt x="182283" y="1912470"/>
                    <a:pt x="23906" y="2226235"/>
                    <a:pt x="11953" y="2378635"/>
                  </a:cubicBezTo>
                  <a:cubicBezTo>
                    <a:pt x="0" y="2531035"/>
                    <a:pt x="65443" y="2587512"/>
                    <a:pt x="119530" y="2468282"/>
                  </a:cubicBezTo>
                  <a:cubicBezTo>
                    <a:pt x="186340" y="2176939"/>
                    <a:pt x="300076" y="1852930"/>
                    <a:pt x="319959" y="159425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143000" y="1428840"/>
              <a:ext cx="887040" cy="886680"/>
              <a:chOff x="1143000" y="1428840"/>
              <a:chExt cx="887040" cy="88668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1143000" y="1428840"/>
                <a:ext cx="887040" cy="886680"/>
                <a:chOff x="1143000" y="1428840"/>
                <a:chExt cx="887040" cy="88668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1458000" y="1428840"/>
                  <a:ext cx="257400" cy="886680"/>
                  <a:chOff x="1458000" y="1428840"/>
                  <a:chExt cx="257400" cy="88668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1464840" y="1428840"/>
                    <a:ext cx="250560" cy="356760"/>
                    <a:chOff x="1464840" y="1428840"/>
                    <a:chExt cx="250560" cy="356760"/>
                  </a:xfrm>
                </p:grpSpPr>
                <p:sp>
                  <p:nvSpPr>
                    <p:cNvPr id="892" name="任意多边形 200"/>
                    <p:cNvSpPr/>
                    <p:nvPr/>
                  </p:nvSpPr>
                  <p:spPr>
                    <a:xfrm flipV="1">
                      <a:off x="1464840" y="142884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360 h 351360"/>
                        <a:gd name="textAreaBottom" fmla="*/ 35208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任意多边形 201"/>
                    <p:cNvSpPr/>
                    <p:nvPr/>
                  </p:nvSpPr>
                  <p:spPr>
                    <a:xfrm>
                      <a:off x="1528920" y="16434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任意多边形 202"/>
                    <p:cNvSpPr/>
                    <p:nvPr/>
                  </p:nvSpPr>
                  <p:spPr>
                    <a:xfrm>
                      <a:off x="1584720" y="162864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任意多边形 203"/>
                    <p:cNvSpPr/>
                    <p:nvPr/>
                  </p:nvSpPr>
                  <p:spPr>
                    <a:xfrm flipH="1">
                      <a:off x="1584720" y="16434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1458000" y="1958760"/>
                    <a:ext cx="250560" cy="356760"/>
                    <a:chOff x="1458000" y="1958760"/>
                    <a:chExt cx="250560" cy="356760"/>
                  </a:xfrm>
                </p:grpSpPr>
                <p:sp>
                  <p:nvSpPr>
                    <p:cNvPr id="897" name="任意多边形 196"/>
                    <p:cNvSpPr/>
                    <p:nvPr/>
                  </p:nvSpPr>
                  <p:spPr>
                    <a:xfrm>
                      <a:off x="1458000" y="196416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0 h 351360"/>
                        <a:gd name="textAreaBottom" fmla="*/ 35172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任意多边形 197"/>
                    <p:cNvSpPr/>
                    <p:nvPr/>
                  </p:nvSpPr>
                  <p:spPr>
                    <a:xfrm flipV="1">
                      <a:off x="1522080" y="19584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任意多边形 198"/>
                    <p:cNvSpPr/>
                    <p:nvPr/>
                  </p:nvSpPr>
                  <p:spPr>
                    <a:xfrm flipV="1">
                      <a:off x="1577880" y="197316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任意多边形 199"/>
                    <p:cNvSpPr/>
                    <p:nvPr/>
                  </p:nvSpPr>
                  <p:spPr>
                    <a:xfrm flipH="1" flipV="1">
                      <a:off x="1577880" y="19584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1143000" y="1743120"/>
                  <a:ext cx="887040" cy="257400"/>
                  <a:chOff x="1143000" y="1743120"/>
                  <a:chExt cx="887040" cy="257400"/>
                </a:xfrm>
              </p:grpSpPr>
              <p:grpSp>
                <p:nvGrpSpPr>
                  <p:cNvPr id="902" name=""/>
                  <p:cNvGrpSpPr/>
                  <p:nvPr/>
                </p:nvGrpSpPr>
                <p:grpSpPr>
                  <a:xfrm>
                    <a:off x="1143000" y="1743120"/>
                    <a:ext cx="356760" cy="250560"/>
                    <a:chOff x="1143000" y="1743120"/>
                    <a:chExt cx="356760" cy="250560"/>
                  </a:xfrm>
                </p:grpSpPr>
                <p:sp>
                  <p:nvSpPr>
                    <p:cNvPr id="903" name="任意多边形 211"/>
                    <p:cNvSpPr/>
                    <p:nvPr/>
                  </p:nvSpPr>
                  <p:spPr>
                    <a:xfrm flipV="1" rot="16200000">
                      <a:off x="1193400" y="169272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360 h 351360"/>
                        <a:gd name="textAreaBottom" fmla="*/ 35208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任意多边形 212"/>
                    <p:cNvSpPr/>
                    <p:nvPr/>
                  </p:nvSpPr>
                  <p:spPr>
                    <a:xfrm rot="16200000">
                      <a:off x="1400760" y="18306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任意多边形 213"/>
                    <p:cNvSpPr/>
                    <p:nvPr/>
                  </p:nvSpPr>
                  <p:spPr>
                    <a:xfrm rot="16200000">
                      <a:off x="1405080" y="179352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任意多边形 214"/>
                    <p:cNvSpPr/>
                    <p:nvPr/>
                  </p:nvSpPr>
                  <p:spPr>
                    <a:xfrm flipH="1" rot="16200000">
                      <a:off x="1400400" y="17748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1673280" y="1749960"/>
                    <a:ext cx="356760" cy="250560"/>
                    <a:chOff x="1673280" y="1749960"/>
                    <a:chExt cx="356760" cy="250560"/>
                  </a:xfrm>
                </p:grpSpPr>
                <p:sp>
                  <p:nvSpPr>
                    <p:cNvPr id="908" name="任意多边形 207"/>
                    <p:cNvSpPr/>
                    <p:nvPr/>
                  </p:nvSpPr>
                  <p:spPr>
                    <a:xfrm rot="16200000">
                      <a:off x="1729080" y="169956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0 h 351360"/>
                        <a:gd name="textAreaBottom" fmla="*/ 35172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任意多边形 208"/>
                    <p:cNvSpPr/>
                    <p:nvPr/>
                  </p:nvSpPr>
                  <p:spPr>
                    <a:xfrm flipV="1" rot="16200000">
                      <a:off x="1716480" y="183744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任意多边形 209"/>
                    <p:cNvSpPr/>
                    <p:nvPr/>
                  </p:nvSpPr>
                  <p:spPr>
                    <a:xfrm flipV="1" rot="16200000">
                      <a:off x="1749960" y="180000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任意多边形 210"/>
                    <p:cNvSpPr/>
                    <p:nvPr/>
                  </p:nvSpPr>
                  <p:spPr>
                    <a:xfrm flipH="1" flipV="1" rot="16200000">
                      <a:off x="1716120" y="178164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12" name=""/>
              <p:cNvGrpSpPr/>
              <p:nvPr/>
            </p:nvGrpSpPr>
            <p:grpSpPr>
              <a:xfrm>
                <a:off x="1181880" y="1467720"/>
                <a:ext cx="808920" cy="808920"/>
                <a:chOff x="1181880" y="1467720"/>
                <a:chExt cx="808920" cy="808920"/>
              </a:xfrm>
            </p:grpSpPr>
            <p:grpSp>
              <p:nvGrpSpPr>
                <p:cNvPr id="913" name=""/>
                <p:cNvGrpSpPr/>
                <p:nvPr/>
              </p:nvGrpSpPr>
              <p:grpSpPr>
                <a:xfrm>
                  <a:off x="1181880" y="1472400"/>
                  <a:ext cx="808920" cy="799560"/>
                  <a:chOff x="1181880" y="1472400"/>
                  <a:chExt cx="808920" cy="799560"/>
                </a:xfrm>
              </p:grpSpPr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1565280" y="1472400"/>
                    <a:ext cx="425520" cy="425520"/>
                    <a:chOff x="1565280" y="1472400"/>
                    <a:chExt cx="425520" cy="425520"/>
                  </a:xfrm>
                </p:grpSpPr>
                <p:sp>
                  <p:nvSpPr>
                    <p:cNvPr id="915" name="任意多边形 235"/>
                    <p:cNvSpPr/>
                    <p:nvPr/>
                  </p:nvSpPr>
                  <p:spPr>
                    <a:xfrm flipV="1" rot="2700000">
                      <a:off x="1652760" y="150912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360 h 351360"/>
                        <a:gd name="textAreaBottom" fmla="*/ 35208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任意多边形 236"/>
                    <p:cNvSpPr/>
                    <p:nvPr/>
                  </p:nvSpPr>
                  <p:spPr>
                    <a:xfrm rot="2700000">
                      <a:off x="1648800" y="166788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任意多边形 237"/>
                    <p:cNvSpPr/>
                    <p:nvPr/>
                  </p:nvSpPr>
                  <p:spPr>
                    <a:xfrm rot="2700000">
                      <a:off x="1703880" y="168372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任意多边形 238"/>
                    <p:cNvSpPr/>
                    <p:nvPr/>
                  </p:nvSpPr>
                  <p:spPr>
                    <a:xfrm flipH="1" rot="2700000">
                      <a:off x="1688400" y="170748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1181880" y="1846440"/>
                    <a:ext cx="425520" cy="425520"/>
                    <a:chOff x="1181880" y="1846440"/>
                    <a:chExt cx="425520" cy="425520"/>
                  </a:xfrm>
                </p:grpSpPr>
                <p:sp>
                  <p:nvSpPr>
                    <p:cNvPr id="920" name="任意多边形 231"/>
                    <p:cNvSpPr/>
                    <p:nvPr/>
                  </p:nvSpPr>
                  <p:spPr>
                    <a:xfrm rot="2700000">
                      <a:off x="1269360" y="188352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0 h 351360"/>
                        <a:gd name="textAreaBottom" fmla="*/ 35172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任意多边形 232"/>
                    <p:cNvSpPr/>
                    <p:nvPr/>
                  </p:nvSpPr>
                  <p:spPr>
                    <a:xfrm flipV="1" rot="2700000">
                      <a:off x="1420920" y="18864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任意多边形 233"/>
                    <p:cNvSpPr/>
                    <p:nvPr/>
                  </p:nvSpPr>
                  <p:spPr>
                    <a:xfrm flipV="1" rot="2700000">
                      <a:off x="1455120" y="192240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任意多边形 234"/>
                    <p:cNvSpPr/>
                    <p:nvPr/>
                  </p:nvSpPr>
                  <p:spPr>
                    <a:xfrm flipH="1" flipV="1" rot="2700000">
                      <a:off x="1459800" y="19260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24" name=""/>
                <p:cNvGrpSpPr/>
                <p:nvPr/>
              </p:nvGrpSpPr>
              <p:grpSpPr>
                <a:xfrm>
                  <a:off x="1186920" y="1467720"/>
                  <a:ext cx="799200" cy="808920"/>
                  <a:chOff x="1186920" y="1467720"/>
                  <a:chExt cx="799200" cy="808920"/>
                </a:xfrm>
              </p:grpSpPr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1186920" y="1467720"/>
                    <a:ext cx="425520" cy="425520"/>
                    <a:chOff x="1186920" y="1467720"/>
                    <a:chExt cx="425520" cy="425520"/>
                  </a:xfrm>
                </p:grpSpPr>
                <p:sp>
                  <p:nvSpPr>
                    <p:cNvPr id="926" name="任意多边形 225"/>
                    <p:cNvSpPr/>
                    <p:nvPr/>
                  </p:nvSpPr>
                  <p:spPr>
                    <a:xfrm flipV="1" rot="18900000">
                      <a:off x="1274400" y="150480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360 h 351360"/>
                        <a:gd name="textAreaBottom" fmla="*/ 35208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任意多边形 226"/>
                    <p:cNvSpPr/>
                    <p:nvPr/>
                  </p:nvSpPr>
                  <p:spPr>
                    <a:xfrm rot="18900000">
                      <a:off x="1425960" y="171036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任意多边形 227"/>
                    <p:cNvSpPr/>
                    <p:nvPr/>
                  </p:nvSpPr>
                  <p:spPr>
                    <a:xfrm rot="18900000">
                      <a:off x="1460520" y="167400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任意多边形 228"/>
                    <p:cNvSpPr/>
                    <p:nvPr/>
                  </p:nvSpPr>
                  <p:spPr>
                    <a:xfrm flipH="1" rot="18900000">
                      <a:off x="1465200" y="167112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"/>
                  <p:cNvGrpSpPr/>
                  <p:nvPr/>
                </p:nvGrpSpPr>
                <p:grpSpPr>
                  <a:xfrm>
                    <a:off x="1560600" y="1851120"/>
                    <a:ext cx="425520" cy="425520"/>
                    <a:chOff x="1560600" y="1851120"/>
                    <a:chExt cx="425520" cy="425520"/>
                  </a:xfrm>
                </p:grpSpPr>
                <p:sp>
                  <p:nvSpPr>
                    <p:cNvPr id="931" name="任意多边形 221"/>
                    <p:cNvSpPr/>
                    <p:nvPr/>
                  </p:nvSpPr>
                  <p:spPr>
                    <a:xfrm rot="18900000">
                      <a:off x="1648080" y="188784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0 h 351360"/>
                        <a:gd name="textAreaBottom" fmla="*/ 35172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任意多边形 222"/>
                    <p:cNvSpPr/>
                    <p:nvPr/>
                  </p:nvSpPr>
                  <p:spPr>
                    <a:xfrm flipV="1" rot="18900000">
                      <a:off x="1643760" y="19386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任意多边形 223"/>
                    <p:cNvSpPr/>
                    <p:nvPr/>
                  </p:nvSpPr>
                  <p:spPr>
                    <a:xfrm flipV="1" rot="18900000">
                      <a:off x="1699200" y="192204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任意多边形 224"/>
                    <p:cNvSpPr/>
                    <p:nvPr/>
                  </p:nvSpPr>
                  <p:spPr>
                    <a:xfrm flipH="1" flipV="1" rot="18900000">
                      <a:off x="1683720" y="18990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935" name=""/>
            <p:cNvGrpSpPr/>
            <p:nvPr/>
          </p:nvGrpSpPr>
          <p:grpSpPr>
            <a:xfrm>
              <a:off x="1401480" y="1685880"/>
              <a:ext cx="367200" cy="354240"/>
              <a:chOff x="1401480" y="1685880"/>
              <a:chExt cx="367200" cy="354240"/>
            </a:xfrm>
          </p:grpSpPr>
          <p:sp>
            <p:nvSpPr>
              <p:cNvPr id="936" name="椭圆 241"/>
              <p:cNvSpPr/>
              <p:nvPr/>
            </p:nvSpPr>
            <p:spPr>
              <a:xfrm rot="226800">
                <a:off x="1409400" y="1746000"/>
                <a:ext cx="324720" cy="250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椭圆 243"/>
              <p:cNvSpPr/>
              <p:nvPr/>
            </p:nvSpPr>
            <p:spPr>
              <a:xfrm rot="226800">
                <a:off x="1512360" y="1844280"/>
                <a:ext cx="174240" cy="19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椭圆 242"/>
              <p:cNvSpPr/>
              <p:nvPr/>
            </p:nvSpPr>
            <p:spPr>
              <a:xfrm rot="226800">
                <a:off x="1414080" y="1697040"/>
                <a:ext cx="348120" cy="20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2857680" y="1857240"/>
            <a:ext cx="914040" cy="1428840"/>
            <a:chOff x="2857680" y="1857240"/>
            <a:chExt cx="914040" cy="1428840"/>
          </a:xfrm>
        </p:grpSpPr>
        <p:grpSp>
          <p:nvGrpSpPr>
            <p:cNvPr id="940" name=""/>
            <p:cNvGrpSpPr/>
            <p:nvPr/>
          </p:nvGrpSpPr>
          <p:grpSpPr>
            <a:xfrm>
              <a:off x="2973600" y="2295000"/>
              <a:ext cx="749160" cy="991080"/>
              <a:chOff x="2973600" y="2295000"/>
              <a:chExt cx="749160" cy="991080"/>
            </a:xfrm>
          </p:grpSpPr>
          <p:sp>
            <p:nvSpPr>
              <p:cNvPr id="941" name="任意多边形 258"/>
              <p:cNvSpPr/>
              <p:nvPr/>
            </p:nvSpPr>
            <p:spPr>
              <a:xfrm flipH="1" rot="1268400">
                <a:off x="2993760" y="2641320"/>
                <a:ext cx="408240" cy="189720"/>
              </a:xfrm>
              <a:custGeom>
                <a:avLst/>
                <a:gdLst>
                  <a:gd name="textAreaLeft" fmla="*/ 360 w 408240"/>
                  <a:gd name="textAreaRight" fmla="*/ 408960 w 4082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任意多边形 259"/>
              <p:cNvSpPr/>
              <p:nvPr/>
            </p:nvSpPr>
            <p:spPr>
              <a:xfrm>
                <a:off x="3314520" y="2760120"/>
                <a:ext cx="408240" cy="19008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任意多边形 260"/>
              <p:cNvSpPr/>
              <p:nvPr/>
            </p:nvSpPr>
            <p:spPr>
              <a:xfrm>
                <a:off x="3258000" y="2295000"/>
                <a:ext cx="101880" cy="9910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991080"/>
                  <a:gd name="textAreaBottom" fmla="*/ 991080 h 991080"/>
                </a:gdLst>
                <a:ahLst/>
                <a:rect l="textAreaLeft" t="textAreaTop" r="textAreaRight" b="textAreaBottom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857680" y="1857240"/>
              <a:ext cx="914040" cy="915120"/>
              <a:chOff x="2857680" y="1857240"/>
              <a:chExt cx="914040" cy="9151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2857680" y="1857240"/>
                <a:ext cx="914040" cy="915120"/>
                <a:chOff x="2857680" y="1857240"/>
                <a:chExt cx="914040" cy="91512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2857680" y="1857240"/>
                  <a:ext cx="914040" cy="915120"/>
                  <a:chOff x="2857680" y="1857240"/>
                  <a:chExt cx="914040" cy="915120"/>
                </a:xfrm>
              </p:grpSpPr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3168000" y="1857240"/>
                    <a:ext cx="293400" cy="915120"/>
                    <a:chOff x="3168000" y="1857240"/>
                    <a:chExt cx="293400" cy="915120"/>
                  </a:xfrm>
                </p:grpSpPr>
                <p:grpSp>
                  <p:nvGrpSpPr>
                    <p:cNvPr id="948" name=""/>
                    <p:cNvGrpSpPr/>
                    <p:nvPr/>
                  </p:nvGrpSpPr>
                  <p:grpSpPr>
                    <a:xfrm>
                      <a:off x="3175920" y="1857240"/>
                      <a:ext cx="285480" cy="368280"/>
                      <a:chOff x="3175920" y="1857240"/>
                      <a:chExt cx="285480" cy="368280"/>
                    </a:xfrm>
                  </p:grpSpPr>
                  <p:sp>
                    <p:nvSpPr>
                      <p:cNvPr id="949" name="任意多边形 101"/>
                      <p:cNvSpPr/>
                      <p:nvPr/>
                    </p:nvSpPr>
                    <p:spPr>
                      <a:xfrm flipV="1">
                        <a:off x="3175920" y="1857240"/>
                        <a:ext cx="285480" cy="362880"/>
                      </a:xfrm>
                      <a:custGeom>
                        <a:avLst/>
                        <a:gdLst>
                          <a:gd name="textAreaLeft" fmla="*/ 0 w 285480"/>
                          <a:gd name="textAreaRight" fmla="*/ 285840 w 285480"/>
                          <a:gd name="textAreaTop" fmla="*/ 360 h 362880"/>
                          <a:gd name="textAreaBottom" fmla="*/ 363600 h 362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任意多边形 102"/>
                      <p:cNvSpPr/>
                      <p:nvPr/>
                    </p:nvSpPr>
                    <p:spPr>
                      <a:xfrm>
                        <a:off x="3249000" y="2078640"/>
                        <a:ext cx="63360" cy="14688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任意多边形 103"/>
                      <p:cNvSpPr/>
                      <p:nvPr/>
                    </p:nvSpPr>
                    <p:spPr>
                      <a:xfrm>
                        <a:off x="3312360" y="2063160"/>
                        <a:ext cx="20160" cy="14724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7240"/>
                          <a:gd name="textAreaBottom" fmla="*/ 147240 h 1472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2" name="任意多边形 104"/>
                      <p:cNvSpPr/>
                      <p:nvPr/>
                    </p:nvSpPr>
                    <p:spPr>
                      <a:xfrm flipH="1">
                        <a:off x="3312360" y="2078640"/>
                        <a:ext cx="63360" cy="14688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53" name=""/>
                    <p:cNvGrpSpPr/>
                    <p:nvPr/>
                  </p:nvGrpSpPr>
                  <p:grpSpPr>
                    <a:xfrm>
                      <a:off x="3168000" y="2404080"/>
                      <a:ext cx="285480" cy="368280"/>
                      <a:chOff x="3168000" y="2404080"/>
                      <a:chExt cx="285480" cy="368280"/>
                    </a:xfrm>
                  </p:grpSpPr>
                  <p:sp>
                    <p:nvSpPr>
                      <p:cNvPr id="954" name="任意多边形 106"/>
                      <p:cNvSpPr/>
                      <p:nvPr/>
                    </p:nvSpPr>
                    <p:spPr>
                      <a:xfrm>
                        <a:off x="3168000" y="2409480"/>
                        <a:ext cx="285480" cy="362880"/>
                      </a:xfrm>
                      <a:custGeom>
                        <a:avLst/>
                        <a:gdLst>
                          <a:gd name="textAreaLeft" fmla="*/ 0 w 285480"/>
                          <a:gd name="textAreaRight" fmla="*/ 285840 w 285480"/>
                          <a:gd name="textAreaTop" fmla="*/ 0 h 362880"/>
                          <a:gd name="textAreaBottom" fmla="*/ 363240 h 362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5" name="任意多边形 107"/>
                      <p:cNvSpPr/>
                      <p:nvPr/>
                    </p:nvSpPr>
                    <p:spPr>
                      <a:xfrm flipV="1">
                        <a:off x="3241080" y="2404080"/>
                        <a:ext cx="63360" cy="14688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6" name="任意多边形 108"/>
                      <p:cNvSpPr/>
                      <p:nvPr/>
                    </p:nvSpPr>
                    <p:spPr>
                      <a:xfrm flipV="1">
                        <a:off x="3304440" y="2418840"/>
                        <a:ext cx="20160" cy="14724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7240"/>
                          <a:gd name="textAreaBottom" fmla="*/ 147240 h 1472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7" name="任意多边形 109"/>
                      <p:cNvSpPr/>
                      <p:nvPr/>
                    </p:nvSpPr>
                    <p:spPr>
                      <a:xfrm flipH="1" flipV="1">
                        <a:off x="3304440" y="2404080"/>
                        <a:ext cx="63360" cy="14688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2857680" y="2167920"/>
                    <a:ext cx="914040" cy="293760"/>
                    <a:chOff x="2857680" y="2167920"/>
                    <a:chExt cx="914040" cy="293760"/>
                  </a:xfrm>
                </p:grpSpPr>
                <p:grpSp>
                  <p:nvGrpSpPr>
                    <p:cNvPr id="959" name=""/>
                    <p:cNvGrpSpPr/>
                    <p:nvPr/>
                  </p:nvGrpSpPr>
                  <p:grpSpPr>
                    <a:xfrm>
                      <a:off x="2857680" y="2167920"/>
                      <a:ext cx="367560" cy="285840"/>
                      <a:chOff x="2857680" y="2167920"/>
                      <a:chExt cx="367560" cy="285840"/>
                    </a:xfrm>
                  </p:grpSpPr>
                  <p:sp>
                    <p:nvSpPr>
                      <p:cNvPr id="960" name="任意多边形 153"/>
                      <p:cNvSpPr/>
                      <p:nvPr/>
                    </p:nvSpPr>
                    <p:spPr>
                      <a:xfrm flipV="1" rot="16200000">
                        <a:off x="2895840" y="2129760"/>
                        <a:ext cx="285840" cy="362160"/>
                      </a:xfrm>
                      <a:custGeom>
                        <a:avLst/>
                        <a:gdLst>
                          <a:gd name="textAreaLeft" fmla="*/ 0 w 285840"/>
                          <a:gd name="textAreaRight" fmla="*/ 286200 w 285840"/>
                          <a:gd name="textAreaTop" fmla="*/ 360 h 362160"/>
                          <a:gd name="textAreaBottom" fmla="*/ 362880 h 36216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1" name="任意多边形 154"/>
                      <p:cNvSpPr/>
                      <p:nvPr/>
                    </p:nvSpPr>
                    <p:spPr>
                      <a:xfrm rot="16200000">
                        <a:off x="3120120" y="2275560"/>
                        <a:ext cx="63360" cy="14652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任意多边形 155"/>
                      <p:cNvSpPr/>
                      <p:nvPr/>
                    </p:nvSpPr>
                    <p:spPr>
                      <a:xfrm rot="16200000">
                        <a:off x="3126600" y="2233800"/>
                        <a:ext cx="20160" cy="14688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3" name="任意多边形 156"/>
                      <p:cNvSpPr/>
                      <p:nvPr/>
                    </p:nvSpPr>
                    <p:spPr>
                      <a:xfrm flipH="1" rot="16200000">
                        <a:off x="3119760" y="2212200"/>
                        <a:ext cx="63360" cy="14652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404160" y="2175840"/>
                      <a:ext cx="367560" cy="285840"/>
                      <a:chOff x="3404160" y="2175840"/>
                      <a:chExt cx="367560" cy="285840"/>
                    </a:xfrm>
                  </p:grpSpPr>
                  <p:sp>
                    <p:nvSpPr>
                      <p:cNvPr id="965" name="任意多边形 149"/>
                      <p:cNvSpPr/>
                      <p:nvPr/>
                    </p:nvSpPr>
                    <p:spPr>
                      <a:xfrm rot="16200000">
                        <a:off x="3447720" y="2137680"/>
                        <a:ext cx="285840" cy="362160"/>
                      </a:xfrm>
                      <a:custGeom>
                        <a:avLst/>
                        <a:gdLst>
                          <a:gd name="textAreaLeft" fmla="*/ 0 w 285840"/>
                          <a:gd name="textAreaRight" fmla="*/ 286200 w 285840"/>
                          <a:gd name="textAreaTop" fmla="*/ 0 h 362160"/>
                          <a:gd name="textAreaBottom" fmla="*/ 362520 h 36216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任意多边形 150"/>
                      <p:cNvSpPr/>
                      <p:nvPr/>
                    </p:nvSpPr>
                    <p:spPr>
                      <a:xfrm flipV="1" rot="16200000">
                        <a:off x="3445560" y="2283480"/>
                        <a:ext cx="63360" cy="14652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任意多边形 151"/>
                      <p:cNvSpPr/>
                      <p:nvPr/>
                    </p:nvSpPr>
                    <p:spPr>
                      <a:xfrm flipV="1" rot="16200000">
                        <a:off x="3482640" y="2241720"/>
                        <a:ext cx="20160" cy="14688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任意多边形 152"/>
                      <p:cNvSpPr/>
                      <p:nvPr/>
                    </p:nvSpPr>
                    <p:spPr>
                      <a:xfrm flipH="1" flipV="1" rot="16200000">
                        <a:off x="3445200" y="2220120"/>
                        <a:ext cx="63360" cy="14652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2888280" y="1887120"/>
                  <a:ext cx="853560" cy="854640"/>
                  <a:chOff x="2888280" y="1887120"/>
                  <a:chExt cx="853560" cy="854640"/>
                </a:xfrm>
              </p:grpSpPr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2888280" y="1893240"/>
                    <a:ext cx="853560" cy="842760"/>
                    <a:chOff x="2888280" y="1893240"/>
                    <a:chExt cx="853560" cy="842760"/>
                  </a:xfrm>
                </p:grpSpPr>
                <p:grpSp>
                  <p:nvGrpSpPr>
                    <p:cNvPr id="971" name=""/>
                    <p:cNvGrpSpPr/>
                    <p:nvPr/>
                  </p:nvGrpSpPr>
                  <p:grpSpPr>
                    <a:xfrm>
                      <a:off x="3283920" y="1893240"/>
                      <a:ext cx="457920" cy="458280"/>
                      <a:chOff x="3283920" y="1893240"/>
                      <a:chExt cx="457920" cy="458280"/>
                    </a:xfrm>
                  </p:grpSpPr>
                  <p:sp>
                    <p:nvSpPr>
                      <p:cNvPr id="972" name="任意多边形 177"/>
                      <p:cNvSpPr/>
                      <p:nvPr/>
                    </p:nvSpPr>
                    <p:spPr>
                      <a:xfrm flipV="1" rot="2700000">
                        <a:off x="3369960" y="1940400"/>
                        <a:ext cx="285840" cy="362160"/>
                      </a:xfrm>
                      <a:custGeom>
                        <a:avLst/>
                        <a:gdLst>
                          <a:gd name="textAreaLeft" fmla="*/ 0 w 285840"/>
                          <a:gd name="textAreaRight" fmla="*/ 286200 w 285840"/>
                          <a:gd name="textAreaTop" fmla="*/ 360 h 362160"/>
                          <a:gd name="textAreaBottom" fmla="*/ 362880 h 36216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3" name="任意多边形 178"/>
                      <p:cNvSpPr/>
                      <p:nvPr/>
                    </p:nvSpPr>
                    <p:spPr>
                      <a:xfrm rot="2700000">
                        <a:off x="3373920" y="2102040"/>
                        <a:ext cx="63360" cy="14652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任意多边形 179"/>
                      <p:cNvSpPr/>
                      <p:nvPr/>
                    </p:nvSpPr>
                    <p:spPr>
                      <a:xfrm rot="2700000">
                        <a:off x="3435840" y="2120760"/>
                        <a:ext cx="20160" cy="14688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5" name="任意多边形 180"/>
                      <p:cNvSpPr/>
                      <p:nvPr/>
                    </p:nvSpPr>
                    <p:spPr>
                      <a:xfrm flipH="1" rot="2700000">
                        <a:off x="3418920" y="2146680"/>
                        <a:ext cx="63360" cy="14652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2888280" y="2277720"/>
                      <a:ext cx="457920" cy="458280"/>
                      <a:chOff x="2888280" y="2277720"/>
                      <a:chExt cx="457920" cy="458280"/>
                    </a:xfrm>
                  </p:grpSpPr>
                  <p:sp>
                    <p:nvSpPr>
                      <p:cNvPr id="977" name="任意多边形 173"/>
                      <p:cNvSpPr/>
                      <p:nvPr/>
                    </p:nvSpPr>
                    <p:spPr>
                      <a:xfrm rot="2700000">
                        <a:off x="2974320" y="2325600"/>
                        <a:ext cx="285840" cy="362160"/>
                      </a:xfrm>
                      <a:custGeom>
                        <a:avLst/>
                        <a:gdLst>
                          <a:gd name="textAreaLeft" fmla="*/ 0 w 285840"/>
                          <a:gd name="textAreaRight" fmla="*/ 286200 w 285840"/>
                          <a:gd name="textAreaTop" fmla="*/ 0 h 362160"/>
                          <a:gd name="textAreaBottom" fmla="*/ 362520 h 36216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8" name="任意多边形 174"/>
                      <p:cNvSpPr/>
                      <p:nvPr/>
                    </p:nvSpPr>
                    <p:spPr>
                      <a:xfrm flipV="1" rot="2700000">
                        <a:off x="3138480" y="2326680"/>
                        <a:ext cx="63360" cy="14652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9" name="任意多边形 175"/>
                      <p:cNvSpPr/>
                      <p:nvPr/>
                    </p:nvSpPr>
                    <p:spPr>
                      <a:xfrm flipV="1" rot="2700000">
                        <a:off x="3178800" y="2367000"/>
                        <a:ext cx="20160" cy="14688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0" name="任意多边形 176"/>
                      <p:cNvSpPr/>
                      <p:nvPr/>
                    </p:nvSpPr>
                    <p:spPr>
                      <a:xfrm flipH="1" flipV="1" rot="2700000">
                        <a:off x="3183480" y="2371320"/>
                        <a:ext cx="63360" cy="14652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893680" y="1887120"/>
                    <a:ext cx="843120" cy="854640"/>
                    <a:chOff x="2893680" y="1887120"/>
                    <a:chExt cx="843120" cy="854640"/>
                  </a:xfrm>
                </p:grpSpPr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2893680" y="1887120"/>
                      <a:ext cx="458280" cy="458640"/>
                      <a:chOff x="2893680" y="1887120"/>
                      <a:chExt cx="458280" cy="458640"/>
                    </a:xfrm>
                  </p:grpSpPr>
                  <p:sp>
                    <p:nvSpPr>
                      <p:cNvPr id="983" name="任意多边形 167"/>
                      <p:cNvSpPr/>
                      <p:nvPr/>
                    </p:nvSpPr>
                    <p:spPr>
                      <a:xfrm flipV="1" rot="18900000">
                        <a:off x="2979720" y="1934640"/>
                        <a:ext cx="285480" cy="362880"/>
                      </a:xfrm>
                      <a:custGeom>
                        <a:avLst/>
                        <a:gdLst>
                          <a:gd name="textAreaLeft" fmla="*/ 0 w 285480"/>
                          <a:gd name="textAreaRight" fmla="*/ 285840 w 285480"/>
                          <a:gd name="textAreaTop" fmla="*/ 360 h 362880"/>
                          <a:gd name="textAreaBottom" fmla="*/ 363600 h 362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任意多边形 168"/>
                      <p:cNvSpPr/>
                      <p:nvPr/>
                    </p:nvSpPr>
                    <p:spPr>
                      <a:xfrm rot="18900000">
                        <a:off x="3144240" y="2149920"/>
                        <a:ext cx="63360" cy="14688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任意多边形 169"/>
                      <p:cNvSpPr/>
                      <p:nvPr/>
                    </p:nvSpPr>
                    <p:spPr>
                      <a:xfrm rot="18900000">
                        <a:off x="3184560" y="2109240"/>
                        <a:ext cx="20160" cy="14724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7240"/>
                          <a:gd name="textAreaBottom" fmla="*/ 147240 h 1472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任意多边形 170"/>
                      <p:cNvSpPr/>
                      <p:nvPr/>
                    </p:nvSpPr>
                    <p:spPr>
                      <a:xfrm flipH="1" rot="18900000">
                        <a:off x="3188880" y="2105280"/>
                        <a:ext cx="63360" cy="14688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7" name=""/>
                    <p:cNvGrpSpPr/>
                    <p:nvPr/>
                  </p:nvGrpSpPr>
                  <p:grpSpPr>
                    <a:xfrm>
                      <a:off x="3278520" y="2283120"/>
                      <a:ext cx="458280" cy="458640"/>
                      <a:chOff x="3278520" y="2283120"/>
                      <a:chExt cx="458280" cy="458640"/>
                    </a:xfrm>
                  </p:grpSpPr>
                  <p:sp>
                    <p:nvSpPr>
                      <p:cNvPr id="988" name="任意多边形 163"/>
                      <p:cNvSpPr/>
                      <p:nvPr/>
                    </p:nvSpPr>
                    <p:spPr>
                      <a:xfrm rot="18900000">
                        <a:off x="3364920" y="2331000"/>
                        <a:ext cx="285480" cy="362880"/>
                      </a:xfrm>
                      <a:custGeom>
                        <a:avLst/>
                        <a:gdLst>
                          <a:gd name="textAreaLeft" fmla="*/ 0 w 285480"/>
                          <a:gd name="textAreaRight" fmla="*/ 285840 w 285480"/>
                          <a:gd name="textAreaTop" fmla="*/ 0 h 362880"/>
                          <a:gd name="textAreaBottom" fmla="*/ 363240 h 362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9" name="任意多边形 164"/>
                      <p:cNvSpPr/>
                      <p:nvPr/>
                    </p:nvSpPr>
                    <p:spPr>
                      <a:xfrm flipV="1" rot="18900000">
                        <a:off x="3368880" y="2385720"/>
                        <a:ext cx="63360" cy="14688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0" name="任意多边形 165"/>
                      <p:cNvSpPr/>
                      <p:nvPr/>
                    </p:nvSpPr>
                    <p:spPr>
                      <a:xfrm flipV="1" rot="18900000">
                        <a:off x="3430800" y="2366280"/>
                        <a:ext cx="20160" cy="14724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7240"/>
                          <a:gd name="textAreaBottom" fmla="*/ 147240 h 1472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1" name="任意多边形 166"/>
                      <p:cNvSpPr/>
                      <p:nvPr/>
                    </p:nvSpPr>
                    <p:spPr>
                      <a:xfrm flipH="1" flipV="1" rot="18900000">
                        <a:off x="3413160" y="2341080"/>
                        <a:ext cx="63360" cy="14688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3099240" y="2100600"/>
                <a:ext cx="385560" cy="378720"/>
                <a:chOff x="3099240" y="2100600"/>
                <a:chExt cx="385560" cy="378720"/>
              </a:xfrm>
            </p:grpSpPr>
            <p:sp>
              <p:nvSpPr>
                <p:cNvPr id="993" name="椭圆 247"/>
                <p:cNvSpPr/>
                <p:nvPr/>
              </p:nvSpPr>
              <p:spPr>
                <a:xfrm rot="21111600">
                  <a:off x="3123000" y="2177280"/>
                  <a:ext cx="334800" cy="2592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椭圆 248"/>
                <p:cNvSpPr/>
                <p:nvPr/>
              </p:nvSpPr>
              <p:spPr>
                <a:xfrm rot="21111600">
                  <a:off x="3242880" y="2271240"/>
                  <a:ext cx="17964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椭圆 249"/>
                <p:cNvSpPr/>
                <p:nvPr/>
              </p:nvSpPr>
              <p:spPr>
                <a:xfrm rot="21111600">
                  <a:off x="3112200" y="2124720"/>
                  <a:ext cx="358920" cy="21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6" name=""/>
          <p:cNvGrpSpPr/>
          <p:nvPr/>
        </p:nvGrpSpPr>
        <p:grpSpPr>
          <a:xfrm>
            <a:off x="6357960" y="0"/>
            <a:ext cx="2387520" cy="2228760"/>
            <a:chOff x="6357960" y="0"/>
            <a:chExt cx="2387520" cy="2228760"/>
          </a:xfrm>
        </p:grpSpPr>
        <p:sp>
          <p:nvSpPr>
            <p:cNvPr id="997" name="任意多边形 352"/>
            <p:cNvSpPr/>
            <p:nvPr/>
          </p:nvSpPr>
          <p:spPr>
            <a:xfrm>
              <a:off x="8379000" y="1668600"/>
              <a:ext cx="218880" cy="666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9075" h="66675">
                  <a:moveTo>
                    <a:pt x="0" y="9525"/>
                  </a:moveTo>
                  <a:lnTo>
                    <a:pt x="219075" y="0"/>
                  </a:lnTo>
                  <a:lnTo>
                    <a:pt x="9525" y="66675"/>
                  </a:lnTo>
                  <a:lnTo>
                    <a:pt x="0" y="9525"/>
                  </a:lnTo>
                  <a:close/>
                </a:path>
              </a:pathLst>
            </a:cu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7"/>
            <p:cNvSpPr/>
            <p:nvPr/>
          </p:nvSpPr>
          <p:spPr>
            <a:xfrm>
              <a:off x="6707160" y="1982880"/>
              <a:ext cx="188640" cy="239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7350120" y="0"/>
              <a:ext cx="1000080" cy="137304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5038" h="6920">
                  <a:moveTo>
                    <a:pt x="4713" y="3989"/>
                  </a:moveTo>
                  <a:lnTo>
                    <a:pt x="4661" y="4137"/>
                  </a:lnTo>
                  <a:lnTo>
                    <a:pt x="4602" y="4278"/>
                  </a:lnTo>
                  <a:lnTo>
                    <a:pt x="4537" y="4421"/>
                  </a:lnTo>
                  <a:lnTo>
                    <a:pt x="4471" y="4562"/>
                  </a:lnTo>
                  <a:lnTo>
                    <a:pt x="4400" y="4698"/>
                  </a:lnTo>
                  <a:lnTo>
                    <a:pt x="4324" y="4834"/>
                  </a:lnTo>
                  <a:lnTo>
                    <a:pt x="4241" y="4963"/>
                  </a:lnTo>
                  <a:lnTo>
                    <a:pt x="4158" y="5094"/>
                  </a:lnTo>
                  <a:lnTo>
                    <a:pt x="4075" y="5218"/>
                  </a:lnTo>
                  <a:lnTo>
                    <a:pt x="3987" y="5349"/>
                  </a:lnTo>
                  <a:lnTo>
                    <a:pt x="3798" y="5591"/>
                  </a:lnTo>
                  <a:lnTo>
                    <a:pt x="3604" y="5832"/>
                  </a:lnTo>
                  <a:lnTo>
                    <a:pt x="3402" y="6069"/>
                  </a:lnTo>
                  <a:lnTo>
                    <a:pt x="3238" y="6271"/>
                  </a:lnTo>
                  <a:lnTo>
                    <a:pt x="3125" y="6394"/>
                  </a:lnTo>
                  <a:lnTo>
                    <a:pt x="3012" y="6530"/>
                  </a:lnTo>
                  <a:lnTo>
                    <a:pt x="2889" y="6654"/>
                  </a:lnTo>
                  <a:lnTo>
                    <a:pt x="2776" y="6766"/>
                  </a:lnTo>
                  <a:lnTo>
                    <a:pt x="2717" y="6814"/>
                  </a:lnTo>
                  <a:lnTo>
                    <a:pt x="2664" y="6855"/>
                  </a:lnTo>
                  <a:lnTo>
                    <a:pt x="2617" y="6884"/>
                  </a:lnTo>
                  <a:lnTo>
                    <a:pt x="2570" y="6902"/>
                  </a:lnTo>
                  <a:lnTo>
                    <a:pt x="2504" y="6914"/>
                  </a:lnTo>
                  <a:lnTo>
                    <a:pt x="2422" y="6920"/>
                  </a:lnTo>
                  <a:lnTo>
                    <a:pt x="2321" y="6920"/>
                  </a:lnTo>
                  <a:lnTo>
                    <a:pt x="2203" y="6908"/>
                  </a:lnTo>
                  <a:lnTo>
                    <a:pt x="2079" y="6896"/>
                  </a:lnTo>
                  <a:lnTo>
                    <a:pt x="1944" y="6879"/>
                  </a:lnTo>
                  <a:lnTo>
                    <a:pt x="1666" y="6826"/>
                  </a:lnTo>
                  <a:lnTo>
                    <a:pt x="1382" y="6766"/>
                  </a:lnTo>
                  <a:lnTo>
                    <a:pt x="1122" y="6702"/>
                  </a:lnTo>
                  <a:lnTo>
                    <a:pt x="910" y="6642"/>
                  </a:lnTo>
                  <a:lnTo>
                    <a:pt x="767" y="6595"/>
                  </a:lnTo>
                  <a:lnTo>
                    <a:pt x="668" y="6554"/>
                  </a:lnTo>
                  <a:lnTo>
                    <a:pt x="585" y="6518"/>
                  </a:lnTo>
                  <a:lnTo>
                    <a:pt x="513" y="6483"/>
                  </a:lnTo>
                  <a:lnTo>
                    <a:pt x="455" y="6442"/>
                  </a:lnTo>
                  <a:lnTo>
                    <a:pt x="408" y="6388"/>
                  </a:lnTo>
                  <a:lnTo>
                    <a:pt x="366" y="6323"/>
                  </a:lnTo>
                  <a:lnTo>
                    <a:pt x="325" y="6240"/>
                  </a:lnTo>
                  <a:lnTo>
                    <a:pt x="289" y="6140"/>
                  </a:lnTo>
                  <a:lnTo>
                    <a:pt x="225" y="5945"/>
                  </a:lnTo>
                  <a:lnTo>
                    <a:pt x="171" y="5750"/>
                  </a:lnTo>
                  <a:lnTo>
                    <a:pt x="124" y="5549"/>
                  </a:lnTo>
                  <a:lnTo>
                    <a:pt x="83" y="5349"/>
                  </a:lnTo>
                  <a:lnTo>
                    <a:pt x="53" y="5159"/>
                  </a:lnTo>
                  <a:lnTo>
                    <a:pt x="29" y="4958"/>
                  </a:lnTo>
                  <a:lnTo>
                    <a:pt x="12" y="4763"/>
                  </a:lnTo>
                  <a:lnTo>
                    <a:pt x="0" y="4568"/>
                  </a:lnTo>
                  <a:lnTo>
                    <a:pt x="0" y="4373"/>
                  </a:lnTo>
                  <a:lnTo>
                    <a:pt x="6" y="4173"/>
                  </a:lnTo>
                  <a:lnTo>
                    <a:pt x="12" y="3977"/>
                  </a:lnTo>
                  <a:lnTo>
                    <a:pt x="35" y="3782"/>
                  </a:lnTo>
                  <a:lnTo>
                    <a:pt x="59" y="3593"/>
                  </a:lnTo>
                  <a:lnTo>
                    <a:pt x="89" y="3398"/>
                  </a:lnTo>
                  <a:lnTo>
                    <a:pt x="124" y="3209"/>
                  </a:lnTo>
                  <a:lnTo>
                    <a:pt x="171" y="3020"/>
                  </a:lnTo>
                  <a:lnTo>
                    <a:pt x="225" y="2836"/>
                  </a:lnTo>
                  <a:lnTo>
                    <a:pt x="284" y="2653"/>
                  </a:lnTo>
                  <a:lnTo>
                    <a:pt x="349" y="2470"/>
                  </a:lnTo>
                  <a:lnTo>
                    <a:pt x="419" y="2293"/>
                  </a:lnTo>
                  <a:lnTo>
                    <a:pt x="496" y="2116"/>
                  </a:lnTo>
                  <a:lnTo>
                    <a:pt x="579" y="1944"/>
                  </a:lnTo>
                  <a:lnTo>
                    <a:pt x="673" y="1772"/>
                  </a:lnTo>
                  <a:lnTo>
                    <a:pt x="767" y="1608"/>
                  </a:lnTo>
                  <a:lnTo>
                    <a:pt x="874" y="1442"/>
                  </a:lnTo>
                  <a:lnTo>
                    <a:pt x="987" y="1288"/>
                  </a:lnTo>
                  <a:lnTo>
                    <a:pt x="1098" y="1134"/>
                  </a:lnTo>
                  <a:lnTo>
                    <a:pt x="1223" y="987"/>
                  </a:lnTo>
                  <a:lnTo>
                    <a:pt x="1306" y="892"/>
                  </a:lnTo>
                  <a:lnTo>
                    <a:pt x="1400" y="792"/>
                  </a:lnTo>
                  <a:lnTo>
                    <a:pt x="1512" y="686"/>
                  </a:lnTo>
                  <a:lnTo>
                    <a:pt x="1631" y="573"/>
                  </a:lnTo>
                  <a:lnTo>
                    <a:pt x="1766" y="461"/>
                  </a:lnTo>
                  <a:lnTo>
                    <a:pt x="1902" y="354"/>
                  </a:lnTo>
                  <a:lnTo>
                    <a:pt x="2043" y="254"/>
                  </a:lnTo>
                  <a:lnTo>
                    <a:pt x="2192" y="166"/>
                  </a:lnTo>
                  <a:lnTo>
                    <a:pt x="2269" y="131"/>
                  </a:lnTo>
                  <a:lnTo>
                    <a:pt x="2339" y="94"/>
                  </a:lnTo>
                  <a:lnTo>
                    <a:pt x="2416" y="65"/>
                  </a:lnTo>
                  <a:lnTo>
                    <a:pt x="2492" y="41"/>
                  </a:lnTo>
                  <a:lnTo>
                    <a:pt x="2564" y="17"/>
                  </a:lnTo>
                  <a:lnTo>
                    <a:pt x="2635" y="5"/>
                  </a:lnTo>
                  <a:lnTo>
                    <a:pt x="2705" y="0"/>
                  </a:lnTo>
                  <a:lnTo>
                    <a:pt x="2776" y="0"/>
                  </a:lnTo>
                  <a:lnTo>
                    <a:pt x="2846" y="5"/>
                  </a:lnTo>
                  <a:lnTo>
                    <a:pt x="2913" y="17"/>
                  </a:lnTo>
                  <a:lnTo>
                    <a:pt x="2977" y="41"/>
                  </a:lnTo>
                  <a:lnTo>
                    <a:pt x="3042" y="71"/>
                  </a:lnTo>
                  <a:lnTo>
                    <a:pt x="3101" y="113"/>
                  </a:lnTo>
                  <a:lnTo>
                    <a:pt x="3154" y="160"/>
                  </a:lnTo>
                  <a:lnTo>
                    <a:pt x="3214" y="225"/>
                  </a:lnTo>
                  <a:lnTo>
                    <a:pt x="3261" y="289"/>
                  </a:lnTo>
                  <a:lnTo>
                    <a:pt x="3314" y="384"/>
                  </a:lnTo>
                  <a:lnTo>
                    <a:pt x="3361" y="485"/>
                  </a:lnTo>
                  <a:lnTo>
                    <a:pt x="3397" y="585"/>
                  </a:lnTo>
                  <a:lnTo>
                    <a:pt x="3420" y="686"/>
                  </a:lnTo>
                  <a:lnTo>
                    <a:pt x="3438" y="792"/>
                  </a:lnTo>
                  <a:lnTo>
                    <a:pt x="3449" y="898"/>
                  </a:lnTo>
                  <a:lnTo>
                    <a:pt x="3455" y="1011"/>
                  </a:lnTo>
                  <a:lnTo>
                    <a:pt x="3455" y="1123"/>
                  </a:lnTo>
                  <a:lnTo>
                    <a:pt x="3455" y="1229"/>
                  </a:lnTo>
                  <a:lnTo>
                    <a:pt x="3449" y="1342"/>
                  </a:lnTo>
                  <a:lnTo>
                    <a:pt x="3426" y="1567"/>
                  </a:lnTo>
                  <a:lnTo>
                    <a:pt x="3408" y="1778"/>
                  </a:lnTo>
                  <a:lnTo>
                    <a:pt x="3384" y="1986"/>
                  </a:lnTo>
                  <a:lnTo>
                    <a:pt x="3426" y="1891"/>
                  </a:lnTo>
                  <a:lnTo>
                    <a:pt x="3479" y="1796"/>
                  </a:lnTo>
                  <a:lnTo>
                    <a:pt x="3545" y="1702"/>
                  </a:lnTo>
                  <a:lnTo>
                    <a:pt x="3621" y="1613"/>
                  </a:lnTo>
                  <a:lnTo>
                    <a:pt x="3709" y="1519"/>
                  </a:lnTo>
                  <a:lnTo>
                    <a:pt x="3798" y="1436"/>
                  </a:lnTo>
                  <a:lnTo>
                    <a:pt x="3898" y="1360"/>
                  </a:lnTo>
                  <a:lnTo>
                    <a:pt x="3999" y="1294"/>
                  </a:lnTo>
                  <a:lnTo>
                    <a:pt x="4105" y="1241"/>
                  </a:lnTo>
                  <a:lnTo>
                    <a:pt x="4158" y="1223"/>
                  </a:lnTo>
                  <a:lnTo>
                    <a:pt x="4212" y="1205"/>
                  </a:lnTo>
                  <a:lnTo>
                    <a:pt x="4265" y="1188"/>
                  </a:lnTo>
                  <a:lnTo>
                    <a:pt x="4312" y="1182"/>
                  </a:lnTo>
                  <a:lnTo>
                    <a:pt x="4365" y="1176"/>
                  </a:lnTo>
                  <a:lnTo>
                    <a:pt x="4418" y="1176"/>
                  </a:lnTo>
                  <a:lnTo>
                    <a:pt x="4471" y="1182"/>
                  </a:lnTo>
                  <a:lnTo>
                    <a:pt x="4518" y="1188"/>
                  </a:lnTo>
                  <a:lnTo>
                    <a:pt x="4566" y="1205"/>
                  </a:lnTo>
                  <a:lnTo>
                    <a:pt x="4613" y="1229"/>
                  </a:lnTo>
                  <a:lnTo>
                    <a:pt x="4661" y="1253"/>
                  </a:lnTo>
                  <a:lnTo>
                    <a:pt x="4702" y="1288"/>
                  </a:lnTo>
                  <a:lnTo>
                    <a:pt x="4743" y="1330"/>
                  </a:lnTo>
                  <a:lnTo>
                    <a:pt x="4784" y="1377"/>
                  </a:lnTo>
                  <a:lnTo>
                    <a:pt x="4826" y="1442"/>
                  </a:lnTo>
                  <a:lnTo>
                    <a:pt x="4867" y="1507"/>
                  </a:lnTo>
                  <a:lnTo>
                    <a:pt x="4903" y="1572"/>
                  </a:lnTo>
                  <a:lnTo>
                    <a:pt x="4933" y="1649"/>
                  </a:lnTo>
                  <a:lnTo>
                    <a:pt x="4956" y="1720"/>
                  </a:lnTo>
                  <a:lnTo>
                    <a:pt x="4979" y="1796"/>
                  </a:lnTo>
                  <a:lnTo>
                    <a:pt x="4997" y="1879"/>
                  </a:lnTo>
                  <a:lnTo>
                    <a:pt x="5009" y="1962"/>
                  </a:lnTo>
                  <a:lnTo>
                    <a:pt x="5032" y="2128"/>
                  </a:lnTo>
                  <a:lnTo>
                    <a:pt x="5038" y="2304"/>
                  </a:lnTo>
                  <a:lnTo>
                    <a:pt x="5032" y="2482"/>
                  </a:lnTo>
                  <a:lnTo>
                    <a:pt x="5021" y="2664"/>
                  </a:lnTo>
                  <a:lnTo>
                    <a:pt x="4997" y="2848"/>
                  </a:lnTo>
                  <a:lnTo>
                    <a:pt x="4968" y="3026"/>
                  </a:lnTo>
                  <a:lnTo>
                    <a:pt x="4933" y="3203"/>
                  </a:lnTo>
                  <a:lnTo>
                    <a:pt x="4891" y="3375"/>
                  </a:lnTo>
                  <a:lnTo>
                    <a:pt x="4849" y="3545"/>
                  </a:lnTo>
                  <a:lnTo>
                    <a:pt x="4802" y="3699"/>
                  </a:lnTo>
                  <a:lnTo>
                    <a:pt x="4713" y="3989"/>
                  </a:lnTo>
                  <a:close/>
                </a:path>
              </a:pathLst>
            </a:custGeom>
            <a:solidFill>
              <a:srgbClr val="f5dd9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"/>
            <p:cNvSpPr/>
            <p:nvPr/>
          </p:nvSpPr>
          <p:spPr>
            <a:xfrm>
              <a:off x="6818040" y="1324080"/>
              <a:ext cx="352440" cy="75888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777" h="3823">
                  <a:moveTo>
                    <a:pt x="1612" y="1672"/>
                  </a:moveTo>
                  <a:lnTo>
                    <a:pt x="1677" y="1429"/>
                  </a:lnTo>
                  <a:lnTo>
                    <a:pt x="1706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7" y="744"/>
                  </a:lnTo>
                  <a:lnTo>
                    <a:pt x="1765" y="685"/>
                  </a:lnTo>
                  <a:lnTo>
                    <a:pt x="1753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8" y="289"/>
                  </a:lnTo>
                  <a:lnTo>
                    <a:pt x="1594" y="183"/>
                  </a:lnTo>
                  <a:lnTo>
                    <a:pt x="1565" y="136"/>
                  </a:lnTo>
                  <a:lnTo>
                    <a:pt x="1536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2" y="11"/>
                  </a:lnTo>
                  <a:lnTo>
                    <a:pt x="1387" y="0"/>
                  </a:lnTo>
                  <a:lnTo>
                    <a:pt x="1335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7" y="17"/>
                  </a:lnTo>
                  <a:lnTo>
                    <a:pt x="1180" y="30"/>
                  </a:lnTo>
                  <a:lnTo>
                    <a:pt x="1157" y="53"/>
                  </a:lnTo>
                  <a:lnTo>
                    <a:pt x="1127" y="77"/>
                  </a:lnTo>
                  <a:lnTo>
                    <a:pt x="1109" y="106"/>
                  </a:lnTo>
                  <a:lnTo>
                    <a:pt x="1092" y="136"/>
                  </a:lnTo>
                  <a:lnTo>
                    <a:pt x="1074" y="171"/>
                  </a:lnTo>
                  <a:lnTo>
                    <a:pt x="1051" y="242"/>
                  </a:lnTo>
                  <a:lnTo>
                    <a:pt x="1033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33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4" y="1294"/>
                  </a:lnTo>
                  <a:lnTo>
                    <a:pt x="950" y="1501"/>
                  </a:lnTo>
                  <a:lnTo>
                    <a:pt x="892" y="1707"/>
                  </a:lnTo>
                  <a:lnTo>
                    <a:pt x="826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7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4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5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5" y="3640"/>
                  </a:lnTo>
                  <a:lnTo>
                    <a:pt x="17" y="3681"/>
                  </a:lnTo>
                  <a:lnTo>
                    <a:pt x="35" y="3716"/>
                  </a:lnTo>
                  <a:lnTo>
                    <a:pt x="58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0" y="3806"/>
                  </a:lnTo>
                  <a:lnTo>
                    <a:pt x="218" y="3818"/>
                  </a:lnTo>
                  <a:lnTo>
                    <a:pt x="277" y="3823"/>
                  </a:lnTo>
                  <a:lnTo>
                    <a:pt x="324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89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3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6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1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5" y="2103"/>
                  </a:lnTo>
                  <a:lnTo>
                    <a:pt x="1547" y="1885"/>
                  </a:lnTo>
                  <a:lnTo>
                    <a:pt x="1612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7056360" y="1150920"/>
              <a:ext cx="446040" cy="6030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603000"/>
                <a:gd name="textAreaBottom" fmla="*/ 603000 h 603000"/>
              </a:gdLst>
              <a:ahLst/>
              <a:rect l="textAreaLeft" t="textAreaTop" r="textAreaRight" b="textAreaBottom"/>
              <a:pathLst>
                <a:path w="2250" h="3044">
                  <a:moveTo>
                    <a:pt x="2109" y="0"/>
                  </a:moveTo>
                  <a:lnTo>
                    <a:pt x="1955" y="6"/>
                  </a:lnTo>
                  <a:lnTo>
                    <a:pt x="1802" y="17"/>
                  </a:lnTo>
                  <a:lnTo>
                    <a:pt x="1654" y="35"/>
                  </a:lnTo>
                  <a:lnTo>
                    <a:pt x="1501" y="54"/>
                  </a:lnTo>
                  <a:lnTo>
                    <a:pt x="1258" y="101"/>
                  </a:lnTo>
                  <a:lnTo>
                    <a:pt x="1135" y="125"/>
                  </a:lnTo>
                  <a:lnTo>
                    <a:pt x="1017" y="159"/>
                  </a:lnTo>
                  <a:lnTo>
                    <a:pt x="898" y="195"/>
                  </a:lnTo>
                  <a:lnTo>
                    <a:pt x="786" y="242"/>
                  </a:lnTo>
                  <a:lnTo>
                    <a:pt x="680" y="295"/>
                  </a:lnTo>
                  <a:lnTo>
                    <a:pt x="579" y="355"/>
                  </a:lnTo>
                  <a:lnTo>
                    <a:pt x="497" y="420"/>
                  </a:lnTo>
                  <a:lnTo>
                    <a:pt x="426" y="484"/>
                  </a:lnTo>
                  <a:lnTo>
                    <a:pt x="355" y="550"/>
                  </a:lnTo>
                  <a:lnTo>
                    <a:pt x="290" y="627"/>
                  </a:lnTo>
                  <a:lnTo>
                    <a:pt x="230" y="698"/>
                  </a:lnTo>
                  <a:lnTo>
                    <a:pt x="178" y="774"/>
                  </a:lnTo>
                  <a:lnTo>
                    <a:pt x="131" y="857"/>
                  </a:lnTo>
                  <a:lnTo>
                    <a:pt x="89" y="940"/>
                  </a:lnTo>
                  <a:lnTo>
                    <a:pt x="60" y="1029"/>
                  </a:lnTo>
                  <a:lnTo>
                    <a:pt x="30" y="1111"/>
                  </a:lnTo>
                  <a:lnTo>
                    <a:pt x="13" y="1206"/>
                  </a:lnTo>
                  <a:lnTo>
                    <a:pt x="0" y="1294"/>
                  </a:lnTo>
                  <a:lnTo>
                    <a:pt x="0" y="1389"/>
                  </a:lnTo>
                  <a:lnTo>
                    <a:pt x="0" y="1484"/>
                  </a:lnTo>
                  <a:lnTo>
                    <a:pt x="13" y="1584"/>
                  </a:lnTo>
                  <a:lnTo>
                    <a:pt x="36" y="1684"/>
                  </a:lnTo>
                  <a:lnTo>
                    <a:pt x="65" y="1785"/>
                  </a:lnTo>
                  <a:lnTo>
                    <a:pt x="107" y="1880"/>
                  </a:lnTo>
                  <a:lnTo>
                    <a:pt x="154" y="1980"/>
                  </a:lnTo>
                  <a:lnTo>
                    <a:pt x="213" y="2075"/>
                  </a:lnTo>
                  <a:lnTo>
                    <a:pt x="277" y="2169"/>
                  </a:lnTo>
                  <a:lnTo>
                    <a:pt x="349" y="2263"/>
                  </a:lnTo>
                  <a:lnTo>
                    <a:pt x="426" y="2353"/>
                  </a:lnTo>
                  <a:lnTo>
                    <a:pt x="508" y="2441"/>
                  </a:lnTo>
                  <a:lnTo>
                    <a:pt x="597" y="2523"/>
                  </a:lnTo>
                  <a:lnTo>
                    <a:pt x="686" y="2606"/>
                  </a:lnTo>
                  <a:lnTo>
                    <a:pt x="874" y="2766"/>
                  </a:lnTo>
                  <a:lnTo>
                    <a:pt x="1064" y="2914"/>
                  </a:lnTo>
                  <a:lnTo>
                    <a:pt x="1247" y="3044"/>
                  </a:lnTo>
                  <a:lnTo>
                    <a:pt x="1323" y="2973"/>
                  </a:lnTo>
                  <a:lnTo>
                    <a:pt x="1401" y="2895"/>
                  </a:lnTo>
                  <a:lnTo>
                    <a:pt x="1471" y="2824"/>
                  </a:lnTo>
                  <a:lnTo>
                    <a:pt x="1542" y="2748"/>
                  </a:lnTo>
                  <a:lnTo>
                    <a:pt x="1607" y="2666"/>
                  </a:lnTo>
                  <a:lnTo>
                    <a:pt x="1673" y="2582"/>
                  </a:lnTo>
                  <a:lnTo>
                    <a:pt x="1731" y="2499"/>
                  </a:lnTo>
                  <a:lnTo>
                    <a:pt x="1791" y="2411"/>
                  </a:lnTo>
                  <a:lnTo>
                    <a:pt x="1843" y="2322"/>
                  </a:lnTo>
                  <a:lnTo>
                    <a:pt x="1896" y="2234"/>
                  </a:lnTo>
                  <a:lnTo>
                    <a:pt x="1943" y="2139"/>
                  </a:lnTo>
                  <a:lnTo>
                    <a:pt x="1991" y="2051"/>
                  </a:lnTo>
                  <a:lnTo>
                    <a:pt x="2033" y="1956"/>
                  </a:lnTo>
                  <a:lnTo>
                    <a:pt x="2068" y="1855"/>
                  </a:lnTo>
                  <a:lnTo>
                    <a:pt x="2104" y="1762"/>
                  </a:lnTo>
                  <a:lnTo>
                    <a:pt x="2133" y="1661"/>
                  </a:lnTo>
                  <a:lnTo>
                    <a:pt x="2162" y="1560"/>
                  </a:lnTo>
                  <a:lnTo>
                    <a:pt x="2186" y="1459"/>
                  </a:lnTo>
                  <a:lnTo>
                    <a:pt x="2203" y="1359"/>
                  </a:lnTo>
                  <a:lnTo>
                    <a:pt x="2221" y="1259"/>
                  </a:lnTo>
                  <a:lnTo>
                    <a:pt x="2233" y="1152"/>
                  </a:lnTo>
                  <a:lnTo>
                    <a:pt x="2245" y="1052"/>
                  </a:lnTo>
                  <a:lnTo>
                    <a:pt x="2245" y="946"/>
                  </a:lnTo>
                  <a:lnTo>
                    <a:pt x="2250" y="839"/>
                  </a:lnTo>
                  <a:lnTo>
                    <a:pt x="2245" y="733"/>
                  </a:lnTo>
                  <a:lnTo>
                    <a:pt x="2239" y="633"/>
                  </a:lnTo>
                  <a:lnTo>
                    <a:pt x="2227" y="526"/>
                  </a:lnTo>
                  <a:lnTo>
                    <a:pt x="2209" y="420"/>
                  </a:lnTo>
                  <a:lnTo>
                    <a:pt x="2192" y="313"/>
                  </a:lnTo>
                  <a:lnTo>
                    <a:pt x="2168" y="207"/>
                  </a:lnTo>
                  <a:lnTo>
                    <a:pt x="2139" y="107"/>
                  </a:lnTo>
                  <a:lnTo>
                    <a:pt x="2109" y="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7304040" y="1149480"/>
              <a:ext cx="353880" cy="668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1784" h="3363">
                  <a:moveTo>
                    <a:pt x="1548" y="29"/>
                  </a:moveTo>
                  <a:lnTo>
                    <a:pt x="1376" y="12"/>
                  </a:lnTo>
                  <a:lnTo>
                    <a:pt x="1205" y="6"/>
                  </a:lnTo>
                  <a:lnTo>
                    <a:pt x="1033" y="0"/>
                  </a:lnTo>
                  <a:lnTo>
                    <a:pt x="862" y="6"/>
                  </a:lnTo>
                  <a:lnTo>
                    <a:pt x="892" y="113"/>
                  </a:lnTo>
                  <a:lnTo>
                    <a:pt x="921" y="213"/>
                  </a:lnTo>
                  <a:lnTo>
                    <a:pt x="945" y="319"/>
                  </a:lnTo>
                  <a:lnTo>
                    <a:pt x="962" y="426"/>
                  </a:lnTo>
                  <a:lnTo>
                    <a:pt x="980" y="532"/>
                  </a:lnTo>
                  <a:lnTo>
                    <a:pt x="992" y="639"/>
                  </a:lnTo>
                  <a:lnTo>
                    <a:pt x="998" y="739"/>
                  </a:lnTo>
                  <a:lnTo>
                    <a:pt x="1003" y="845"/>
                  </a:lnTo>
                  <a:lnTo>
                    <a:pt x="998" y="952"/>
                  </a:lnTo>
                  <a:lnTo>
                    <a:pt x="998" y="1058"/>
                  </a:lnTo>
                  <a:lnTo>
                    <a:pt x="986" y="1158"/>
                  </a:lnTo>
                  <a:lnTo>
                    <a:pt x="974" y="1265"/>
                  </a:lnTo>
                  <a:lnTo>
                    <a:pt x="956" y="1365"/>
                  </a:lnTo>
                  <a:lnTo>
                    <a:pt x="939" y="1465"/>
                  </a:lnTo>
                  <a:lnTo>
                    <a:pt x="915" y="1566"/>
                  </a:lnTo>
                  <a:lnTo>
                    <a:pt x="886" y="1667"/>
                  </a:lnTo>
                  <a:lnTo>
                    <a:pt x="857" y="1768"/>
                  </a:lnTo>
                  <a:lnTo>
                    <a:pt x="821" y="1861"/>
                  </a:lnTo>
                  <a:lnTo>
                    <a:pt x="786" y="1962"/>
                  </a:lnTo>
                  <a:lnTo>
                    <a:pt x="744" y="2057"/>
                  </a:lnTo>
                  <a:lnTo>
                    <a:pt x="696" y="2145"/>
                  </a:lnTo>
                  <a:lnTo>
                    <a:pt x="649" y="2240"/>
                  </a:lnTo>
                  <a:lnTo>
                    <a:pt x="596" y="2328"/>
                  </a:lnTo>
                  <a:lnTo>
                    <a:pt x="544" y="2417"/>
                  </a:lnTo>
                  <a:lnTo>
                    <a:pt x="484" y="2505"/>
                  </a:lnTo>
                  <a:lnTo>
                    <a:pt x="426" y="2588"/>
                  </a:lnTo>
                  <a:lnTo>
                    <a:pt x="360" y="2672"/>
                  </a:lnTo>
                  <a:lnTo>
                    <a:pt x="295" y="2754"/>
                  </a:lnTo>
                  <a:lnTo>
                    <a:pt x="224" y="2830"/>
                  </a:lnTo>
                  <a:lnTo>
                    <a:pt x="154" y="2901"/>
                  </a:lnTo>
                  <a:lnTo>
                    <a:pt x="76" y="2979"/>
                  </a:lnTo>
                  <a:lnTo>
                    <a:pt x="0" y="3050"/>
                  </a:lnTo>
                  <a:lnTo>
                    <a:pt x="124" y="3132"/>
                  </a:lnTo>
                  <a:lnTo>
                    <a:pt x="254" y="3216"/>
                  </a:lnTo>
                  <a:lnTo>
                    <a:pt x="389" y="3292"/>
                  </a:lnTo>
                  <a:lnTo>
                    <a:pt x="525" y="3363"/>
                  </a:lnTo>
                  <a:lnTo>
                    <a:pt x="626" y="3286"/>
                  </a:lnTo>
                  <a:lnTo>
                    <a:pt x="720" y="3210"/>
                  </a:lnTo>
                  <a:lnTo>
                    <a:pt x="815" y="3132"/>
                  </a:lnTo>
                  <a:lnTo>
                    <a:pt x="904" y="3050"/>
                  </a:lnTo>
                  <a:lnTo>
                    <a:pt x="986" y="2961"/>
                  </a:lnTo>
                  <a:lnTo>
                    <a:pt x="1068" y="2872"/>
                  </a:lnTo>
                  <a:lnTo>
                    <a:pt x="1152" y="2784"/>
                  </a:lnTo>
                  <a:lnTo>
                    <a:pt x="1223" y="2689"/>
                  </a:lnTo>
                  <a:lnTo>
                    <a:pt x="1293" y="2594"/>
                  </a:lnTo>
                  <a:lnTo>
                    <a:pt x="1358" y="2494"/>
                  </a:lnTo>
                  <a:lnTo>
                    <a:pt x="1417" y="2394"/>
                  </a:lnTo>
                  <a:lnTo>
                    <a:pt x="1477" y="2292"/>
                  </a:lnTo>
                  <a:lnTo>
                    <a:pt x="1530" y="2187"/>
                  </a:lnTo>
                  <a:lnTo>
                    <a:pt x="1577" y="2081"/>
                  </a:lnTo>
                  <a:lnTo>
                    <a:pt x="1618" y="1974"/>
                  </a:lnTo>
                  <a:lnTo>
                    <a:pt x="1659" y="1868"/>
                  </a:lnTo>
                  <a:lnTo>
                    <a:pt x="1689" y="1755"/>
                  </a:lnTo>
                  <a:lnTo>
                    <a:pt x="1718" y="1643"/>
                  </a:lnTo>
                  <a:lnTo>
                    <a:pt x="1742" y="1531"/>
                  </a:lnTo>
                  <a:lnTo>
                    <a:pt x="1759" y="1418"/>
                  </a:lnTo>
                  <a:lnTo>
                    <a:pt x="1778" y="1306"/>
                  </a:lnTo>
                  <a:lnTo>
                    <a:pt x="1784" y="1188"/>
                  </a:lnTo>
                  <a:lnTo>
                    <a:pt x="1784" y="1076"/>
                  </a:lnTo>
                  <a:lnTo>
                    <a:pt x="1784" y="958"/>
                  </a:lnTo>
                  <a:lnTo>
                    <a:pt x="1772" y="839"/>
                  </a:lnTo>
                  <a:lnTo>
                    <a:pt x="1759" y="727"/>
                  </a:lnTo>
                  <a:lnTo>
                    <a:pt x="1736" y="608"/>
                  </a:lnTo>
                  <a:lnTo>
                    <a:pt x="1712" y="490"/>
                  </a:lnTo>
                  <a:lnTo>
                    <a:pt x="1677" y="373"/>
                  </a:lnTo>
                  <a:lnTo>
                    <a:pt x="1641" y="260"/>
                  </a:lnTo>
                  <a:lnTo>
                    <a:pt x="1594" y="142"/>
                  </a:lnTo>
                  <a:lnTo>
                    <a:pt x="1548" y="29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7407360" y="1155600"/>
              <a:ext cx="495000" cy="7491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2493" h="3777">
                  <a:moveTo>
                    <a:pt x="1295" y="3777"/>
                  </a:moveTo>
                  <a:lnTo>
                    <a:pt x="1389" y="3700"/>
                  </a:lnTo>
                  <a:lnTo>
                    <a:pt x="1477" y="3623"/>
                  </a:lnTo>
                  <a:lnTo>
                    <a:pt x="1565" y="3547"/>
                  </a:lnTo>
                  <a:lnTo>
                    <a:pt x="1649" y="3458"/>
                  </a:lnTo>
                  <a:lnTo>
                    <a:pt x="1725" y="3375"/>
                  </a:lnTo>
                  <a:lnTo>
                    <a:pt x="1802" y="3286"/>
                  </a:lnTo>
                  <a:lnTo>
                    <a:pt x="1872" y="3192"/>
                  </a:lnTo>
                  <a:lnTo>
                    <a:pt x="1944" y="3097"/>
                  </a:lnTo>
                  <a:lnTo>
                    <a:pt x="2009" y="3003"/>
                  </a:lnTo>
                  <a:lnTo>
                    <a:pt x="2068" y="2903"/>
                  </a:lnTo>
                  <a:lnTo>
                    <a:pt x="2121" y="2795"/>
                  </a:lnTo>
                  <a:lnTo>
                    <a:pt x="2174" y="2696"/>
                  </a:lnTo>
                  <a:lnTo>
                    <a:pt x="2227" y="2588"/>
                  </a:lnTo>
                  <a:lnTo>
                    <a:pt x="2269" y="2483"/>
                  </a:lnTo>
                  <a:lnTo>
                    <a:pt x="2310" y="2371"/>
                  </a:lnTo>
                  <a:lnTo>
                    <a:pt x="2346" y="2258"/>
                  </a:lnTo>
                  <a:lnTo>
                    <a:pt x="2381" y="2146"/>
                  </a:lnTo>
                  <a:lnTo>
                    <a:pt x="2410" y="2028"/>
                  </a:lnTo>
                  <a:lnTo>
                    <a:pt x="2434" y="1915"/>
                  </a:lnTo>
                  <a:lnTo>
                    <a:pt x="2452" y="1798"/>
                  </a:lnTo>
                  <a:lnTo>
                    <a:pt x="2469" y="1679"/>
                  </a:lnTo>
                  <a:lnTo>
                    <a:pt x="2481" y="1561"/>
                  </a:lnTo>
                  <a:lnTo>
                    <a:pt x="2493" y="1436"/>
                  </a:lnTo>
                  <a:lnTo>
                    <a:pt x="2493" y="1319"/>
                  </a:lnTo>
                  <a:lnTo>
                    <a:pt x="2493" y="1195"/>
                  </a:lnTo>
                  <a:lnTo>
                    <a:pt x="2487" y="1076"/>
                  </a:lnTo>
                  <a:lnTo>
                    <a:pt x="2481" y="952"/>
                  </a:lnTo>
                  <a:lnTo>
                    <a:pt x="2464" y="828"/>
                  </a:lnTo>
                  <a:lnTo>
                    <a:pt x="2446" y="710"/>
                  </a:lnTo>
                  <a:lnTo>
                    <a:pt x="2422" y="585"/>
                  </a:lnTo>
                  <a:lnTo>
                    <a:pt x="2398" y="461"/>
                  </a:lnTo>
                  <a:lnTo>
                    <a:pt x="2369" y="344"/>
                  </a:lnTo>
                  <a:lnTo>
                    <a:pt x="2221" y="284"/>
                  </a:lnTo>
                  <a:lnTo>
                    <a:pt x="2074" y="231"/>
                  </a:lnTo>
                  <a:lnTo>
                    <a:pt x="1926" y="178"/>
                  </a:lnTo>
                  <a:lnTo>
                    <a:pt x="1778" y="136"/>
                  </a:lnTo>
                  <a:lnTo>
                    <a:pt x="1631" y="102"/>
                  </a:lnTo>
                  <a:lnTo>
                    <a:pt x="1477" y="66"/>
                  </a:lnTo>
                  <a:lnTo>
                    <a:pt x="1324" y="43"/>
                  </a:lnTo>
                  <a:lnTo>
                    <a:pt x="1176" y="19"/>
                  </a:lnTo>
                  <a:lnTo>
                    <a:pt x="1023" y="0"/>
                  </a:lnTo>
                  <a:lnTo>
                    <a:pt x="1069" y="113"/>
                  </a:lnTo>
                  <a:lnTo>
                    <a:pt x="1116" y="231"/>
                  </a:lnTo>
                  <a:lnTo>
                    <a:pt x="1152" y="344"/>
                  </a:lnTo>
                  <a:lnTo>
                    <a:pt x="1187" y="461"/>
                  </a:lnTo>
                  <a:lnTo>
                    <a:pt x="1211" y="579"/>
                  </a:lnTo>
                  <a:lnTo>
                    <a:pt x="1234" y="698"/>
                  </a:lnTo>
                  <a:lnTo>
                    <a:pt x="1247" y="810"/>
                  </a:lnTo>
                  <a:lnTo>
                    <a:pt x="1259" y="929"/>
                  </a:lnTo>
                  <a:lnTo>
                    <a:pt x="1259" y="1047"/>
                  </a:lnTo>
                  <a:lnTo>
                    <a:pt x="1259" y="1159"/>
                  </a:lnTo>
                  <a:lnTo>
                    <a:pt x="1253" y="1277"/>
                  </a:lnTo>
                  <a:lnTo>
                    <a:pt x="1234" y="1389"/>
                  </a:lnTo>
                  <a:lnTo>
                    <a:pt x="1217" y="1502"/>
                  </a:lnTo>
                  <a:lnTo>
                    <a:pt x="1193" y="1614"/>
                  </a:lnTo>
                  <a:lnTo>
                    <a:pt x="1164" y="1726"/>
                  </a:lnTo>
                  <a:lnTo>
                    <a:pt x="1134" y="1839"/>
                  </a:lnTo>
                  <a:lnTo>
                    <a:pt x="1093" y="1945"/>
                  </a:lnTo>
                  <a:lnTo>
                    <a:pt x="1052" y="2052"/>
                  </a:lnTo>
                  <a:lnTo>
                    <a:pt x="1005" y="2158"/>
                  </a:lnTo>
                  <a:lnTo>
                    <a:pt x="952" y="2263"/>
                  </a:lnTo>
                  <a:lnTo>
                    <a:pt x="892" y="2365"/>
                  </a:lnTo>
                  <a:lnTo>
                    <a:pt x="833" y="2465"/>
                  </a:lnTo>
                  <a:lnTo>
                    <a:pt x="768" y="2565"/>
                  </a:lnTo>
                  <a:lnTo>
                    <a:pt x="698" y="2660"/>
                  </a:lnTo>
                  <a:lnTo>
                    <a:pt x="627" y="2755"/>
                  </a:lnTo>
                  <a:lnTo>
                    <a:pt x="543" y="2843"/>
                  </a:lnTo>
                  <a:lnTo>
                    <a:pt x="461" y="2932"/>
                  </a:lnTo>
                  <a:lnTo>
                    <a:pt x="379" y="3021"/>
                  </a:lnTo>
                  <a:lnTo>
                    <a:pt x="290" y="3103"/>
                  </a:lnTo>
                  <a:lnTo>
                    <a:pt x="195" y="3181"/>
                  </a:lnTo>
                  <a:lnTo>
                    <a:pt x="101" y="3257"/>
                  </a:lnTo>
                  <a:lnTo>
                    <a:pt x="0" y="3334"/>
                  </a:lnTo>
                  <a:lnTo>
                    <a:pt x="154" y="3410"/>
                  </a:lnTo>
                  <a:lnTo>
                    <a:pt x="307" y="3476"/>
                  </a:lnTo>
                  <a:lnTo>
                    <a:pt x="467" y="3541"/>
                  </a:lnTo>
                  <a:lnTo>
                    <a:pt x="632" y="3599"/>
                  </a:lnTo>
                  <a:lnTo>
                    <a:pt x="791" y="3653"/>
                  </a:lnTo>
                  <a:lnTo>
                    <a:pt x="957" y="3700"/>
                  </a:lnTo>
                  <a:lnTo>
                    <a:pt x="1122" y="3742"/>
                  </a:lnTo>
                  <a:lnTo>
                    <a:pt x="1295" y="3777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8139240" y="1482840"/>
              <a:ext cx="226800" cy="401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140" h="2020">
                  <a:moveTo>
                    <a:pt x="1140" y="531"/>
                  </a:moveTo>
                  <a:lnTo>
                    <a:pt x="1040" y="413"/>
                  </a:lnTo>
                  <a:lnTo>
                    <a:pt x="928" y="295"/>
                  </a:lnTo>
                  <a:lnTo>
                    <a:pt x="738" y="106"/>
                  </a:lnTo>
                  <a:lnTo>
                    <a:pt x="627" y="0"/>
                  </a:lnTo>
                  <a:lnTo>
                    <a:pt x="656" y="136"/>
                  </a:lnTo>
                  <a:lnTo>
                    <a:pt x="668" y="271"/>
                  </a:lnTo>
                  <a:lnTo>
                    <a:pt x="674" y="408"/>
                  </a:lnTo>
                  <a:lnTo>
                    <a:pt x="674" y="543"/>
                  </a:lnTo>
                  <a:lnTo>
                    <a:pt x="662" y="680"/>
                  </a:lnTo>
                  <a:lnTo>
                    <a:pt x="638" y="809"/>
                  </a:lnTo>
                  <a:lnTo>
                    <a:pt x="609" y="946"/>
                  </a:lnTo>
                  <a:lnTo>
                    <a:pt x="573" y="1075"/>
                  </a:lnTo>
                  <a:lnTo>
                    <a:pt x="525" y="1199"/>
                  </a:lnTo>
                  <a:lnTo>
                    <a:pt x="473" y="1329"/>
                  </a:lnTo>
                  <a:lnTo>
                    <a:pt x="408" y="1447"/>
                  </a:lnTo>
                  <a:lnTo>
                    <a:pt x="343" y="1572"/>
                  </a:lnTo>
                  <a:lnTo>
                    <a:pt x="266" y="1690"/>
                  </a:lnTo>
                  <a:lnTo>
                    <a:pt x="183" y="1801"/>
                  </a:lnTo>
                  <a:lnTo>
                    <a:pt x="94" y="1914"/>
                  </a:lnTo>
                  <a:lnTo>
                    <a:pt x="0" y="2020"/>
                  </a:lnTo>
                  <a:lnTo>
                    <a:pt x="225" y="1949"/>
                  </a:lnTo>
                  <a:lnTo>
                    <a:pt x="443" y="1873"/>
                  </a:lnTo>
                  <a:lnTo>
                    <a:pt x="549" y="1832"/>
                  </a:lnTo>
                  <a:lnTo>
                    <a:pt x="650" y="1784"/>
                  </a:lnTo>
                  <a:lnTo>
                    <a:pt x="750" y="1737"/>
                  </a:lnTo>
                  <a:lnTo>
                    <a:pt x="844" y="1684"/>
                  </a:lnTo>
                  <a:lnTo>
                    <a:pt x="916" y="1548"/>
                  </a:lnTo>
                  <a:lnTo>
                    <a:pt x="975" y="1412"/>
                  </a:lnTo>
                  <a:lnTo>
                    <a:pt x="1028" y="1270"/>
                  </a:lnTo>
                  <a:lnTo>
                    <a:pt x="1069" y="1128"/>
                  </a:lnTo>
                  <a:lnTo>
                    <a:pt x="1105" y="981"/>
                  </a:lnTo>
                  <a:lnTo>
                    <a:pt x="1128" y="833"/>
                  </a:lnTo>
                  <a:lnTo>
                    <a:pt x="1140" y="685"/>
                  </a:lnTo>
                  <a:lnTo>
                    <a:pt x="1140" y="531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4"/>
            <p:cNvSpPr/>
            <p:nvPr/>
          </p:nvSpPr>
          <p:spPr>
            <a:xfrm>
              <a:off x="8307360" y="1589040"/>
              <a:ext cx="102960" cy="228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6" h="1153">
                  <a:moveTo>
                    <a:pt x="526" y="521"/>
                  </a:moveTo>
                  <a:lnTo>
                    <a:pt x="526" y="462"/>
                  </a:lnTo>
                  <a:lnTo>
                    <a:pt x="521" y="396"/>
                  </a:lnTo>
                  <a:lnTo>
                    <a:pt x="503" y="331"/>
                  </a:lnTo>
                  <a:lnTo>
                    <a:pt x="474" y="267"/>
                  </a:lnTo>
                  <a:lnTo>
                    <a:pt x="438" y="202"/>
                  </a:lnTo>
                  <a:lnTo>
                    <a:pt x="397" y="136"/>
                  </a:lnTo>
                  <a:lnTo>
                    <a:pt x="349" y="65"/>
                  </a:lnTo>
                  <a:lnTo>
                    <a:pt x="296" y="0"/>
                  </a:lnTo>
                  <a:lnTo>
                    <a:pt x="296" y="154"/>
                  </a:lnTo>
                  <a:lnTo>
                    <a:pt x="284" y="302"/>
                  </a:lnTo>
                  <a:lnTo>
                    <a:pt x="261" y="450"/>
                  </a:lnTo>
                  <a:lnTo>
                    <a:pt x="225" y="597"/>
                  </a:lnTo>
                  <a:lnTo>
                    <a:pt x="184" y="739"/>
                  </a:lnTo>
                  <a:lnTo>
                    <a:pt x="131" y="881"/>
                  </a:lnTo>
                  <a:lnTo>
                    <a:pt x="72" y="1017"/>
                  </a:lnTo>
                  <a:lnTo>
                    <a:pt x="0" y="1153"/>
                  </a:lnTo>
                  <a:lnTo>
                    <a:pt x="102" y="1088"/>
                  </a:lnTo>
                  <a:lnTo>
                    <a:pt x="196" y="1023"/>
                  </a:lnTo>
                  <a:lnTo>
                    <a:pt x="278" y="945"/>
                  </a:lnTo>
                  <a:lnTo>
                    <a:pt x="349" y="869"/>
                  </a:lnTo>
                  <a:lnTo>
                    <a:pt x="415" y="792"/>
                  </a:lnTo>
                  <a:lnTo>
                    <a:pt x="468" y="704"/>
                  </a:lnTo>
                  <a:lnTo>
                    <a:pt x="485" y="662"/>
                  </a:lnTo>
                  <a:lnTo>
                    <a:pt x="503" y="614"/>
                  </a:lnTo>
                  <a:lnTo>
                    <a:pt x="515" y="567"/>
                  </a:lnTo>
                  <a:lnTo>
                    <a:pt x="526" y="521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"/>
            <p:cNvSpPr/>
            <p:nvPr/>
          </p:nvSpPr>
          <p:spPr>
            <a:xfrm>
              <a:off x="7932600" y="1341360"/>
              <a:ext cx="339480" cy="5792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579240"/>
                <a:gd name="textAreaBottom" fmla="*/ 579240 h 579240"/>
              </a:gdLst>
              <a:ahLst/>
              <a:rect l="textAreaLeft" t="textAreaTop" r="textAreaRight" b="textAreaBottom"/>
              <a:pathLst>
                <a:path w="1713" h="2914">
                  <a:moveTo>
                    <a:pt x="1666" y="710"/>
                  </a:moveTo>
                  <a:lnTo>
                    <a:pt x="1464" y="515"/>
                  </a:lnTo>
                  <a:lnTo>
                    <a:pt x="1259" y="337"/>
                  </a:lnTo>
                  <a:lnTo>
                    <a:pt x="1039" y="159"/>
                  </a:lnTo>
                  <a:lnTo>
                    <a:pt x="815" y="0"/>
                  </a:lnTo>
                  <a:lnTo>
                    <a:pt x="838" y="95"/>
                  </a:lnTo>
                  <a:lnTo>
                    <a:pt x="862" y="183"/>
                  </a:lnTo>
                  <a:lnTo>
                    <a:pt x="874" y="278"/>
                  </a:lnTo>
                  <a:lnTo>
                    <a:pt x="885" y="373"/>
                  </a:lnTo>
                  <a:lnTo>
                    <a:pt x="891" y="467"/>
                  </a:lnTo>
                  <a:lnTo>
                    <a:pt x="897" y="562"/>
                  </a:lnTo>
                  <a:lnTo>
                    <a:pt x="897" y="656"/>
                  </a:lnTo>
                  <a:lnTo>
                    <a:pt x="891" y="751"/>
                  </a:lnTo>
                  <a:lnTo>
                    <a:pt x="874" y="946"/>
                  </a:lnTo>
                  <a:lnTo>
                    <a:pt x="844" y="1135"/>
                  </a:lnTo>
                  <a:lnTo>
                    <a:pt x="803" y="1323"/>
                  </a:lnTo>
                  <a:lnTo>
                    <a:pt x="744" y="1519"/>
                  </a:lnTo>
                  <a:lnTo>
                    <a:pt x="679" y="1703"/>
                  </a:lnTo>
                  <a:lnTo>
                    <a:pt x="609" y="1891"/>
                  </a:lnTo>
                  <a:lnTo>
                    <a:pt x="519" y="2075"/>
                  </a:lnTo>
                  <a:lnTo>
                    <a:pt x="431" y="2252"/>
                  </a:lnTo>
                  <a:lnTo>
                    <a:pt x="330" y="2423"/>
                  </a:lnTo>
                  <a:lnTo>
                    <a:pt x="224" y="2595"/>
                  </a:lnTo>
                  <a:lnTo>
                    <a:pt x="118" y="2760"/>
                  </a:lnTo>
                  <a:lnTo>
                    <a:pt x="0" y="2914"/>
                  </a:lnTo>
                  <a:lnTo>
                    <a:pt x="224" y="2890"/>
                  </a:lnTo>
                  <a:lnTo>
                    <a:pt x="401" y="2867"/>
                  </a:lnTo>
                  <a:lnTo>
                    <a:pt x="602" y="2831"/>
                  </a:lnTo>
                  <a:lnTo>
                    <a:pt x="815" y="2783"/>
                  </a:lnTo>
                  <a:lnTo>
                    <a:pt x="1039" y="2730"/>
                  </a:lnTo>
                  <a:lnTo>
                    <a:pt x="1133" y="2624"/>
                  </a:lnTo>
                  <a:lnTo>
                    <a:pt x="1222" y="2511"/>
                  </a:lnTo>
                  <a:lnTo>
                    <a:pt x="1305" y="2400"/>
                  </a:lnTo>
                  <a:lnTo>
                    <a:pt x="1382" y="2282"/>
                  </a:lnTo>
                  <a:lnTo>
                    <a:pt x="1447" y="2157"/>
                  </a:lnTo>
                  <a:lnTo>
                    <a:pt x="1512" y="2039"/>
                  </a:lnTo>
                  <a:lnTo>
                    <a:pt x="1564" y="1909"/>
                  </a:lnTo>
                  <a:lnTo>
                    <a:pt x="1612" y="1785"/>
                  </a:lnTo>
                  <a:lnTo>
                    <a:pt x="1648" y="1656"/>
                  </a:lnTo>
                  <a:lnTo>
                    <a:pt x="1677" y="1519"/>
                  </a:lnTo>
                  <a:lnTo>
                    <a:pt x="1701" y="1390"/>
                  </a:lnTo>
                  <a:lnTo>
                    <a:pt x="1713" y="1253"/>
                  </a:lnTo>
                  <a:lnTo>
                    <a:pt x="1713" y="1118"/>
                  </a:lnTo>
                  <a:lnTo>
                    <a:pt x="1707" y="981"/>
                  </a:lnTo>
                  <a:lnTo>
                    <a:pt x="1695" y="846"/>
                  </a:lnTo>
                  <a:lnTo>
                    <a:pt x="1666" y="71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6"/>
            <p:cNvSpPr/>
            <p:nvPr/>
          </p:nvSpPr>
          <p:spPr>
            <a:xfrm>
              <a:off x="7664400" y="1224000"/>
              <a:ext cx="447480" cy="699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249" h="3528">
                  <a:moveTo>
                    <a:pt x="1352" y="3510"/>
                  </a:moveTo>
                  <a:lnTo>
                    <a:pt x="1470" y="3356"/>
                  </a:lnTo>
                  <a:lnTo>
                    <a:pt x="1576" y="3191"/>
                  </a:lnTo>
                  <a:lnTo>
                    <a:pt x="1682" y="3019"/>
                  </a:lnTo>
                  <a:lnTo>
                    <a:pt x="1783" y="2848"/>
                  </a:lnTo>
                  <a:lnTo>
                    <a:pt x="1871" y="2671"/>
                  </a:lnTo>
                  <a:lnTo>
                    <a:pt x="1961" y="2487"/>
                  </a:lnTo>
                  <a:lnTo>
                    <a:pt x="2031" y="2299"/>
                  </a:lnTo>
                  <a:lnTo>
                    <a:pt x="2096" y="2115"/>
                  </a:lnTo>
                  <a:lnTo>
                    <a:pt x="2155" y="1919"/>
                  </a:lnTo>
                  <a:lnTo>
                    <a:pt x="2196" y="1731"/>
                  </a:lnTo>
                  <a:lnTo>
                    <a:pt x="2226" y="1542"/>
                  </a:lnTo>
                  <a:lnTo>
                    <a:pt x="2243" y="1347"/>
                  </a:lnTo>
                  <a:lnTo>
                    <a:pt x="2249" y="1252"/>
                  </a:lnTo>
                  <a:lnTo>
                    <a:pt x="2249" y="1158"/>
                  </a:lnTo>
                  <a:lnTo>
                    <a:pt x="2243" y="1063"/>
                  </a:lnTo>
                  <a:lnTo>
                    <a:pt x="2237" y="969"/>
                  </a:lnTo>
                  <a:lnTo>
                    <a:pt x="2226" y="874"/>
                  </a:lnTo>
                  <a:lnTo>
                    <a:pt x="2214" y="779"/>
                  </a:lnTo>
                  <a:lnTo>
                    <a:pt x="2190" y="691"/>
                  </a:lnTo>
                  <a:lnTo>
                    <a:pt x="2167" y="596"/>
                  </a:lnTo>
                  <a:lnTo>
                    <a:pt x="2043" y="508"/>
                  </a:lnTo>
                  <a:lnTo>
                    <a:pt x="1912" y="425"/>
                  </a:lnTo>
                  <a:lnTo>
                    <a:pt x="1777" y="348"/>
                  </a:lnTo>
                  <a:lnTo>
                    <a:pt x="1641" y="272"/>
                  </a:lnTo>
                  <a:lnTo>
                    <a:pt x="1505" y="194"/>
                  </a:lnTo>
                  <a:lnTo>
                    <a:pt x="1364" y="129"/>
                  </a:lnTo>
                  <a:lnTo>
                    <a:pt x="1216" y="59"/>
                  </a:lnTo>
                  <a:lnTo>
                    <a:pt x="1074" y="0"/>
                  </a:lnTo>
                  <a:lnTo>
                    <a:pt x="1103" y="117"/>
                  </a:lnTo>
                  <a:lnTo>
                    <a:pt x="1127" y="241"/>
                  </a:lnTo>
                  <a:lnTo>
                    <a:pt x="1151" y="366"/>
                  </a:lnTo>
                  <a:lnTo>
                    <a:pt x="1169" y="484"/>
                  </a:lnTo>
                  <a:lnTo>
                    <a:pt x="1186" y="608"/>
                  </a:lnTo>
                  <a:lnTo>
                    <a:pt x="1192" y="732"/>
                  </a:lnTo>
                  <a:lnTo>
                    <a:pt x="1198" y="851"/>
                  </a:lnTo>
                  <a:lnTo>
                    <a:pt x="1198" y="975"/>
                  </a:lnTo>
                  <a:lnTo>
                    <a:pt x="1198" y="1092"/>
                  </a:lnTo>
                  <a:lnTo>
                    <a:pt x="1186" y="1217"/>
                  </a:lnTo>
                  <a:lnTo>
                    <a:pt x="1174" y="1335"/>
                  </a:lnTo>
                  <a:lnTo>
                    <a:pt x="1157" y="1454"/>
                  </a:lnTo>
                  <a:lnTo>
                    <a:pt x="1139" y="1571"/>
                  </a:lnTo>
                  <a:lnTo>
                    <a:pt x="1115" y="1684"/>
                  </a:lnTo>
                  <a:lnTo>
                    <a:pt x="1086" y="1802"/>
                  </a:lnTo>
                  <a:lnTo>
                    <a:pt x="1051" y="1914"/>
                  </a:lnTo>
                  <a:lnTo>
                    <a:pt x="1015" y="2027"/>
                  </a:lnTo>
                  <a:lnTo>
                    <a:pt x="974" y="2139"/>
                  </a:lnTo>
                  <a:lnTo>
                    <a:pt x="932" y="2244"/>
                  </a:lnTo>
                  <a:lnTo>
                    <a:pt x="879" y="2352"/>
                  </a:lnTo>
                  <a:lnTo>
                    <a:pt x="826" y="2451"/>
                  </a:lnTo>
                  <a:lnTo>
                    <a:pt x="773" y="2559"/>
                  </a:lnTo>
                  <a:lnTo>
                    <a:pt x="714" y="2659"/>
                  </a:lnTo>
                  <a:lnTo>
                    <a:pt x="649" y="2753"/>
                  </a:lnTo>
                  <a:lnTo>
                    <a:pt x="577" y="2848"/>
                  </a:lnTo>
                  <a:lnTo>
                    <a:pt x="507" y="2942"/>
                  </a:lnTo>
                  <a:lnTo>
                    <a:pt x="430" y="3031"/>
                  </a:lnTo>
                  <a:lnTo>
                    <a:pt x="354" y="3114"/>
                  </a:lnTo>
                  <a:lnTo>
                    <a:pt x="270" y="3203"/>
                  </a:lnTo>
                  <a:lnTo>
                    <a:pt x="182" y="3279"/>
                  </a:lnTo>
                  <a:lnTo>
                    <a:pt x="94" y="3356"/>
                  </a:lnTo>
                  <a:lnTo>
                    <a:pt x="0" y="3433"/>
                  </a:lnTo>
                  <a:lnTo>
                    <a:pt x="164" y="3463"/>
                  </a:lnTo>
                  <a:lnTo>
                    <a:pt x="336" y="3486"/>
                  </a:lnTo>
                  <a:lnTo>
                    <a:pt x="507" y="3504"/>
                  </a:lnTo>
                  <a:lnTo>
                    <a:pt x="679" y="3516"/>
                  </a:lnTo>
                  <a:lnTo>
                    <a:pt x="844" y="3522"/>
                  </a:lnTo>
                  <a:lnTo>
                    <a:pt x="1015" y="3528"/>
                  </a:lnTo>
                  <a:lnTo>
                    <a:pt x="1186" y="3522"/>
                  </a:lnTo>
                  <a:lnTo>
                    <a:pt x="1352" y="3510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7"/>
            <p:cNvSpPr/>
            <p:nvPr/>
          </p:nvSpPr>
          <p:spPr>
            <a:xfrm>
              <a:off x="7121520" y="1989360"/>
              <a:ext cx="188640" cy="239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8"/>
            <p:cNvSpPr/>
            <p:nvPr/>
          </p:nvSpPr>
          <p:spPr>
            <a:xfrm>
              <a:off x="7664400" y="53640"/>
              <a:ext cx="1081080" cy="13460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346040"/>
                <a:gd name="textAreaBottom" fmla="*/ 1346040 h 1346040"/>
              </a:gdLst>
              <a:ahLst/>
              <a:rect l="textAreaLeft" t="textAreaTop" r="textAreaRight" b="textAreaBottom"/>
              <a:pathLst>
                <a:path w="5445" h="6784">
                  <a:moveTo>
                    <a:pt x="4796" y="4290"/>
                  </a:moveTo>
                  <a:lnTo>
                    <a:pt x="4713" y="4427"/>
                  </a:lnTo>
                  <a:lnTo>
                    <a:pt x="4631" y="4556"/>
                  </a:lnTo>
                  <a:lnTo>
                    <a:pt x="4547" y="4685"/>
                  </a:lnTo>
                  <a:lnTo>
                    <a:pt x="4453" y="4810"/>
                  </a:lnTo>
                  <a:lnTo>
                    <a:pt x="4359" y="4934"/>
                  </a:lnTo>
                  <a:lnTo>
                    <a:pt x="4263" y="5052"/>
                  </a:lnTo>
                  <a:lnTo>
                    <a:pt x="4157" y="5165"/>
                  </a:lnTo>
                  <a:lnTo>
                    <a:pt x="4057" y="5277"/>
                  </a:lnTo>
                  <a:lnTo>
                    <a:pt x="3951" y="5389"/>
                  </a:lnTo>
                  <a:lnTo>
                    <a:pt x="3838" y="5495"/>
                  </a:lnTo>
                  <a:lnTo>
                    <a:pt x="3614" y="5709"/>
                  </a:lnTo>
                  <a:lnTo>
                    <a:pt x="3378" y="5910"/>
                  </a:lnTo>
                  <a:lnTo>
                    <a:pt x="3141" y="6104"/>
                  </a:lnTo>
                  <a:lnTo>
                    <a:pt x="2934" y="6270"/>
                  </a:lnTo>
                  <a:lnTo>
                    <a:pt x="2810" y="6382"/>
                  </a:lnTo>
                  <a:lnTo>
                    <a:pt x="2669" y="6488"/>
                  </a:lnTo>
                  <a:lnTo>
                    <a:pt x="2533" y="6595"/>
                  </a:lnTo>
                  <a:lnTo>
                    <a:pt x="2397" y="6683"/>
                  </a:lnTo>
                  <a:lnTo>
                    <a:pt x="2332" y="6720"/>
                  </a:lnTo>
                  <a:lnTo>
                    <a:pt x="2273" y="6749"/>
                  </a:lnTo>
                  <a:lnTo>
                    <a:pt x="2220" y="6772"/>
                  </a:lnTo>
                  <a:lnTo>
                    <a:pt x="2172" y="6784"/>
                  </a:lnTo>
                  <a:lnTo>
                    <a:pt x="2108" y="6784"/>
                  </a:lnTo>
                  <a:lnTo>
                    <a:pt x="2020" y="6772"/>
                  </a:lnTo>
                  <a:lnTo>
                    <a:pt x="1924" y="6755"/>
                  </a:lnTo>
                  <a:lnTo>
                    <a:pt x="1813" y="6725"/>
                  </a:lnTo>
                  <a:lnTo>
                    <a:pt x="1689" y="6689"/>
                  </a:lnTo>
                  <a:lnTo>
                    <a:pt x="1558" y="6642"/>
                  </a:lnTo>
                  <a:lnTo>
                    <a:pt x="1293" y="6542"/>
                  </a:lnTo>
                  <a:lnTo>
                    <a:pt x="1027" y="6436"/>
                  </a:lnTo>
                  <a:lnTo>
                    <a:pt x="784" y="6328"/>
                  </a:lnTo>
                  <a:lnTo>
                    <a:pt x="583" y="6235"/>
                  </a:lnTo>
                  <a:lnTo>
                    <a:pt x="454" y="6164"/>
                  </a:lnTo>
                  <a:lnTo>
                    <a:pt x="360" y="6104"/>
                  </a:lnTo>
                  <a:lnTo>
                    <a:pt x="283" y="6051"/>
                  </a:lnTo>
                  <a:lnTo>
                    <a:pt x="223" y="6003"/>
                  </a:lnTo>
                  <a:lnTo>
                    <a:pt x="170" y="5951"/>
                  </a:lnTo>
                  <a:lnTo>
                    <a:pt x="135" y="5892"/>
                  </a:lnTo>
                  <a:lnTo>
                    <a:pt x="105" y="5820"/>
                  </a:lnTo>
                  <a:lnTo>
                    <a:pt x="76" y="5732"/>
                  </a:lnTo>
                  <a:lnTo>
                    <a:pt x="58" y="5626"/>
                  </a:lnTo>
                  <a:lnTo>
                    <a:pt x="29" y="5425"/>
                  </a:lnTo>
                  <a:lnTo>
                    <a:pt x="11" y="5223"/>
                  </a:lnTo>
                  <a:lnTo>
                    <a:pt x="0" y="5017"/>
                  </a:lnTo>
                  <a:lnTo>
                    <a:pt x="0" y="4816"/>
                  </a:lnTo>
                  <a:lnTo>
                    <a:pt x="0" y="4615"/>
                  </a:lnTo>
                  <a:lnTo>
                    <a:pt x="11" y="4420"/>
                  </a:lnTo>
                  <a:lnTo>
                    <a:pt x="29" y="4225"/>
                  </a:lnTo>
                  <a:lnTo>
                    <a:pt x="53" y="4030"/>
                  </a:lnTo>
                  <a:lnTo>
                    <a:pt x="88" y="3834"/>
                  </a:lnTo>
                  <a:lnTo>
                    <a:pt x="123" y="3640"/>
                  </a:lnTo>
                  <a:lnTo>
                    <a:pt x="170" y="3451"/>
                  </a:lnTo>
                  <a:lnTo>
                    <a:pt x="223" y="3261"/>
                  </a:lnTo>
                  <a:lnTo>
                    <a:pt x="283" y="3079"/>
                  </a:lnTo>
                  <a:lnTo>
                    <a:pt x="348" y="2895"/>
                  </a:lnTo>
                  <a:lnTo>
                    <a:pt x="418" y="2713"/>
                  </a:lnTo>
                  <a:lnTo>
                    <a:pt x="495" y="2541"/>
                  </a:lnTo>
                  <a:lnTo>
                    <a:pt x="577" y="2364"/>
                  </a:lnTo>
                  <a:lnTo>
                    <a:pt x="667" y="2192"/>
                  </a:lnTo>
                  <a:lnTo>
                    <a:pt x="761" y="2026"/>
                  </a:lnTo>
                  <a:lnTo>
                    <a:pt x="867" y="1861"/>
                  </a:lnTo>
                  <a:lnTo>
                    <a:pt x="974" y="1702"/>
                  </a:lnTo>
                  <a:lnTo>
                    <a:pt x="1086" y="1549"/>
                  </a:lnTo>
                  <a:lnTo>
                    <a:pt x="1204" y="1395"/>
                  </a:lnTo>
                  <a:lnTo>
                    <a:pt x="1335" y="1252"/>
                  </a:lnTo>
                  <a:lnTo>
                    <a:pt x="1464" y="1111"/>
                  </a:lnTo>
                  <a:lnTo>
                    <a:pt x="1599" y="975"/>
                  </a:lnTo>
                  <a:lnTo>
                    <a:pt x="1742" y="839"/>
                  </a:lnTo>
                  <a:lnTo>
                    <a:pt x="1889" y="715"/>
                  </a:lnTo>
                  <a:lnTo>
                    <a:pt x="1984" y="644"/>
                  </a:lnTo>
                  <a:lnTo>
                    <a:pt x="2096" y="561"/>
                  </a:lnTo>
                  <a:lnTo>
                    <a:pt x="2226" y="473"/>
                  </a:lnTo>
                  <a:lnTo>
                    <a:pt x="2362" y="383"/>
                  </a:lnTo>
                  <a:lnTo>
                    <a:pt x="2509" y="301"/>
                  </a:lnTo>
                  <a:lnTo>
                    <a:pt x="2669" y="218"/>
                  </a:lnTo>
                  <a:lnTo>
                    <a:pt x="2828" y="148"/>
                  </a:lnTo>
                  <a:lnTo>
                    <a:pt x="2988" y="82"/>
                  </a:lnTo>
                  <a:lnTo>
                    <a:pt x="3065" y="58"/>
                  </a:lnTo>
                  <a:lnTo>
                    <a:pt x="3147" y="35"/>
                  </a:lnTo>
                  <a:lnTo>
                    <a:pt x="3224" y="23"/>
                  </a:lnTo>
                  <a:lnTo>
                    <a:pt x="3301" y="11"/>
                  </a:lnTo>
                  <a:lnTo>
                    <a:pt x="3378" y="5"/>
                  </a:lnTo>
                  <a:lnTo>
                    <a:pt x="3454" y="0"/>
                  </a:lnTo>
                  <a:lnTo>
                    <a:pt x="3525" y="5"/>
                  </a:lnTo>
                  <a:lnTo>
                    <a:pt x="3590" y="17"/>
                  </a:lnTo>
                  <a:lnTo>
                    <a:pt x="3662" y="41"/>
                  </a:lnTo>
                  <a:lnTo>
                    <a:pt x="3720" y="64"/>
                  </a:lnTo>
                  <a:lnTo>
                    <a:pt x="3779" y="100"/>
                  </a:lnTo>
                  <a:lnTo>
                    <a:pt x="3838" y="142"/>
                  </a:lnTo>
                  <a:lnTo>
                    <a:pt x="3891" y="189"/>
                  </a:lnTo>
                  <a:lnTo>
                    <a:pt x="3938" y="248"/>
                  </a:lnTo>
                  <a:lnTo>
                    <a:pt x="3981" y="319"/>
                  </a:lnTo>
                  <a:lnTo>
                    <a:pt x="4016" y="395"/>
                  </a:lnTo>
                  <a:lnTo>
                    <a:pt x="4051" y="496"/>
                  </a:lnTo>
                  <a:lnTo>
                    <a:pt x="4080" y="603"/>
                  </a:lnTo>
                  <a:lnTo>
                    <a:pt x="4098" y="703"/>
                  </a:lnTo>
                  <a:lnTo>
                    <a:pt x="4104" y="809"/>
                  </a:lnTo>
                  <a:lnTo>
                    <a:pt x="4104" y="921"/>
                  </a:lnTo>
                  <a:lnTo>
                    <a:pt x="4098" y="1028"/>
                  </a:lnTo>
                  <a:lnTo>
                    <a:pt x="4080" y="1134"/>
                  </a:lnTo>
                  <a:lnTo>
                    <a:pt x="4063" y="1246"/>
                  </a:lnTo>
                  <a:lnTo>
                    <a:pt x="4039" y="1353"/>
                  </a:lnTo>
                  <a:lnTo>
                    <a:pt x="4016" y="1459"/>
                  </a:lnTo>
                  <a:lnTo>
                    <a:pt x="3957" y="1678"/>
                  </a:lnTo>
                  <a:lnTo>
                    <a:pt x="3897" y="1886"/>
                  </a:lnTo>
                  <a:lnTo>
                    <a:pt x="3844" y="2085"/>
                  </a:lnTo>
                  <a:lnTo>
                    <a:pt x="3897" y="2003"/>
                  </a:lnTo>
                  <a:lnTo>
                    <a:pt x="3969" y="1915"/>
                  </a:lnTo>
                  <a:lnTo>
                    <a:pt x="4051" y="1838"/>
                  </a:lnTo>
                  <a:lnTo>
                    <a:pt x="4140" y="1755"/>
                  </a:lnTo>
                  <a:lnTo>
                    <a:pt x="4239" y="1684"/>
                  </a:lnTo>
                  <a:lnTo>
                    <a:pt x="4346" y="1619"/>
                  </a:lnTo>
                  <a:lnTo>
                    <a:pt x="4453" y="1561"/>
                  </a:lnTo>
                  <a:lnTo>
                    <a:pt x="4564" y="1512"/>
                  </a:lnTo>
                  <a:lnTo>
                    <a:pt x="4678" y="1477"/>
                  </a:lnTo>
                  <a:lnTo>
                    <a:pt x="4736" y="1465"/>
                  </a:lnTo>
                  <a:lnTo>
                    <a:pt x="4789" y="1459"/>
                  </a:lnTo>
                  <a:lnTo>
                    <a:pt x="4842" y="1453"/>
                  </a:lnTo>
                  <a:lnTo>
                    <a:pt x="4895" y="1453"/>
                  </a:lnTo>
                  <a:lnTo>
                    <a:pt x="4950" y="1459"/>
                  </a:lnTo>
                  <a:lnTo>
                    <a:pt x="5002" y="1465"/>
                  </a:lnTo>
                  <a:lnTo>
                    <a:pt x="5049" y="1483"/>
                  </a:lnTo>
                  <a:lnTo>
                    <a:pt x="5097" y="1500"/>
                  </a:lnTo>
                  <a:lnTo>
                    <a:pt x="5137" y="1524"/>
                  </a:lnTo>
                  <a:lnTo>
                    <a:pt x="5185" y="1555"/>
                  </a:lnTo>
                  <a:lnTo>
                    <a:pt x="5220" y="1590"/>
                  </a:lnTo>
                  <a:lnTo>
                    <a:pt x="5261" y="1631"/>
                  </a:lnTo>
                  <a:lnTo>
                    <a:pt x="5291" y="1678"/>
                  </a:lnTo>
                  <a:lnTo>
                    <a:pt x="5327" y="1731"/>
                  </a:lnTo>
                  <a:lnTo>
                    <a:pt x="5357" y="1802"/>
                  </a:lnTo>
                  <a:lnTo>
                    <a:pt x="5380" y="1874"/>
                  </a:lnTo>
                  <a:lnTo>
                    <a:pt x="5404" y="1944"/>
                  </a:lnTo>
                  <a:lnTo>
                    <a:pt x="5421" y="2021"/>
                  </a:lnTo>
                  <a:lnTo>
                    <a:pt x="5433" y="2103"/>
                  </a:lnTo>
                  <a:lnTo>
                    <a:pt x="5439" y="2181"/>
                  </a:lnTo>
                  <a:lnTo>
                    <a:pt x="5445" y="2263"/>
                  </a:lnTo>
                  <a:lnTo>
                    <a:pt x="5445" y="2345"/>
                  </a:lnTo>
                  <a:lnTo>
                    <a:pt x="5433" y="2517"/>
                  </a:lnTo>
                  <a:lnTo>
                    <a:pt x="5410" y="2688"/>
                  </a:lnTo>
                  <a:lnTo>
                    <a:pt x="5374" y="2865"/>
                  </a:lnTo>
                  <a:lnTo>
                    <a:pt x="5327" y="3037"/>
                  </a:lnTo>
                  <a:lnTo>
                    <a:pt x="5273" y="3214"/>
                  </a:lnTo>
                  <a:lnTo>
                    <a:pt x="5214" y="3386"/>
                  </a:lnTo>
                  <a:lnTo>
                    <a:pt x="5150" y="3558"/>
                  </a:lnTo>
                  <a:lnTo>
                    <a:pt x="5079" y="3717"/>
                  </a:lnTo>
                  <a:lnTo>
                    <a:pt x="5002" y="3877"/>
                  </a:lnTo>
                  <a:lnTo>
                    <a:pt x="4931" y="4024"/>
                  </a:lnTo>
                  <a:lnTo>
                    <a:pt x="4796" y="4290"/>
                  </a:lnTo>
                  <a:close/>
                </a:path>
              </a:pathLst>
            </a:custGeom>
            <a:solidFill>
              <a:srgbClr val="f8f5b4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9"/>
            <p:cNvSpPr/>
            <p:nvPr/>
          </p:nvSpPr>
          <p:spPr>
            <a:xfrm>
              <a:off x="7207200" y="1324080"/>
              <a:ext cx="352440" cy="75888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777" h="3823">
                  <a:moveTo>
                    <a:pt x="1613" y="1672"/>
                  </a:moveTo>
                  <a:lnTo>
                    <a:pt x="1677" y="1429"/>
                  </a:lnTo>
                  <a:lnTo>
                    <a:pt x="1707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1" y="744"/>
                  </a:lnTo>
                  <a:lnTo>
                    <a:pt x="1765" y="685"/>
                  </a:lnTo>
                  <a:lnTo>
                    <a:pt x="1754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7" y="289"/>
                  </a:lnTo>
                  <a:lnTo>
                    <a:pt x="1595" y="183"/>
                  </a:lnTo>
                  <a:lnTo>
                    <a:pt x="1564" y="136"/>
                  </a:lnTo>
                  <a:lnTo>
                    <a:pt x="1535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3" y="11"/>
                  </a:lnTo>
                  <a:lnTo>
                    <a:pt x="1382" y="0"/>
                  </a:lnTo>
                  <a:lnTo>
                    <a:pt x="1334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6" y="17"/>
                  </a:lnTo>
                  <a:lnTo>
                    <a:pt x="1181" y="30"/>
                  </a:lnTo>
                  <a:lnTo>
                    <a:pt x="1157" y="53"/>
                  </a:lnTo>
                  <a:lnTo>
                    <a:pt x="1128" y="77"/>
                  </a:lnTo>
                  <a:lnTo>
                    <a:pt x="1110" y="106"/>
                  </a:lnTo>
                  <a:lnTo>
                    <a:pt x="1086" y="136"/>
                  </a:lnTo>
                  <a:lnTo>
                    <a:pt x="1075" y="171"/>
                  </a:lnTo>
                  <a:lnTo>
                    <a:pt x="1051" y="242"/>
                  </a:lnTo>
                  <a:lnTo>
                    <a:pt x="1034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27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3" y="1294"/>
                  </a:lnTo>
                  <a:lnTo>
                    <a:pt x="951" y="1501"/>
                  </a:lnTo>
                  <a:lnTo>
                    <a:pt x="891" y="1707"/>
                  </a:lnTo>
                  <a:lnTo>
                    <a:pt x="827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8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5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6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6" y="3640"/>
                  </a:lnTo>
                  <a:lnTo>
                    <a:pt x="18" y="3681"/>
                  </a:lnTo>
                  <a:lnTo>
                    <a:pt x="35" y="3716"/>
                  </a:lnTo>
                  <a:lnTo>
                    <a:pt x="59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1" y="3806"/>
                  </a:lnTo>
                  <a:lnTo>
                    <a:pt x="217" y="3818"/>
                  </a:lnTo>
                  <a:lnTo>
                    <a:pt x="277" y="3823"/>
                  </a:lnTo>
                  <a:lnTo>
                    <a:pt x="325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90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4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0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0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6" y="2103"/>
                  </a:lnTo>
                  <a:lnTo>
                    <a:pt x="1547" y="1885"/>
                  </a:lnTo>
                  <a:lnTo>
                    <a:pt x="1613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0"/>
            <p:cNvSpPr/>
            <p:nvPr/>
          </p:nvSpPr>
          <p:spPr>
            <a:xfrm>
              <a:off x="6716520" y="860400"/>
              <a:ext cx="958680" cy="8524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4833" h="4295">
                  <a:moveTo>
                    <a:pt x="562" y="2801"/>
                  </a:moveTo>
                  <a:lnTo>
                    <a:pt x="502" y="2789"/>
                  </a:lnTo>
                  <a:lnTo>
                    <a:pt x="449" y="2777"/>
                  </a:lnTo>
                  <a:lnTo>
                    <a:pt x="397" y="2777"/>
                  </a:lnTo>
                  <a:lnTo>
                    <a:pt x="349" y="2777"/>
                  </a:lnTo>
                  <a:lnTo>
                    <a:pt x="301" y="2783"/>
                  </a:lnTo>
                  <a:lnTo>
                    <a:pt x="254" y="2795"/>
                  </a:lnTo>
                  <a:lnTo>
                    <a:pt x="219" y="2807"/>
                  </a:lnTo>
                  <a:lnTo>
                    <a:pt x="177" y="2824"/>
                  </a:lnTo>
                  <a:lnTo>
                    <a:pt x="148" y="2848"/>
                  </a:lnTo>
                  <a:lnTo>
                    <a:pt x="119" y="2871"/>
                  </a:lnTo>
                  <a:lnTo>
                    <a:pt x="89" y="2895"/>
                  </a:lnTo>
                  <a:lnTo>
                    <a:pt x="66" y="2924"/>
                  </a:lnTo>
                  <a:lnTo>
                    <a:pt x="47" y="2961"/>
                  </a:lnTo>
                  <a:lnTo>
                    <a:pt x="29" y="2990"/>
                  </a:lnTo>
                  <a:lnTo>
                    <a:pt x="18" y="3025"/>
                  </a:lnTo>
                  <a:lnTo>
                    <a:pt x="12" y="3061"/>
                  </a:lnTo>
                  <a:lnTo>
                    <a:pt x="6" y="3096"/>
                  </a:lnTo>
                  <a:lnTo>
                    <a:pt x="0" y="3132"/>
                  </a:lnTo>
                  <a:lnTo>
                    <a:pt x="6" y="3173"/>
                  </a:lnTo>
                  <a:lnTo>
                    <a:pt x="12" y="3208"/>
                  </a:lnTo>
                  <a:lnTo>
                    <a:pt x="18" y="3244"/>
                  </a:lnTo>
                  <a:lnTo>
                    <a:pt x="29" y="3280"/>
                  </a:lnTo>
                  <a:lnTo>
                    <a:pt x="47" y="3309"/>
                  </a:lnTo>
                  <a:lnTo>
                    <a:pt x="72" y="3345"/>
                  </a:lnTo>
                  <a:lnTo>
                    <a:pt x="95" y="3374"/>
                  </a:lnTo>
                  <a:lnTo>
                    <a:pt x="125" y="3397"/>
                  </a:lnTo>
                  <a:lnTo>
                    <a:pt x="154" y="3421"/>
                  </a:lnTo>
                  <a:lnTo>
                    <a:pt x="190" y="3445"/>
                  </a:lnTo>
                  <a:lnTo>
                    <a:pt x="231" y="3462"/>
                  </a:lnTo>
                  <a:lnTo>
                    <a:pt x="278" y="3480"/>
                  </a:lnTo>
                  <a:lnTo>
                    <a:pt x="325" y="3485"/>
                  </a:lnTo>
                  <a:lnTo>
                    <a:pt x="378" y="3498"/>
                  </a:lnTo>
                  <a:lnTo>
                    <a:pt x="360" y="3546"/>
                  </a:lnTo>
                  <a:lnTo>
                    <a:pt x="342" y="3599"/>
                  </a:lnTo>
                  <a:lnTo>
                    <a:pt x="336" y="3646"/>
                  </a:lnTo>
                  <a:lnTo>
                    <a:pt x="336" y="3687"/>
                  </a:lnTo>
                  <a:lnTo>
                    <a:pt x="349" y="3728"/>
                  </a:lnTo>
                  <a:lnTo>
                    <a:pt x="360" y="3769"/>
                  </a:lnTo>
                  <a:lnTo>
                    <a:pt x="378" y="3805"/>
                  </a:lnTo>
                  <a:lnTo>
                    <a:pt x="397" y="3835"/>
                  </a:lnTo>
                  <a:lnTo>
                    <a:pt x="426" y="3865"/>
                  </a:lnTo>
                  <a:lnTo>
                    <a:pt x="456" y="3894"/>
                  </a:lnTo>
                  <a:lnTo>
                    <a:pt x="491" y="3918"/>
                  </a:lnTo>
                  <a:lnTo>
                    <a:pt x="526" y="3941"/>
                  </a:lnTo>
                  <a:lnTo>
                    <a:pt x="568" y="3959"/>
                  </a:lnTo>
                  <a:lnTo>
                    <a:pt x="609" y="3971"/>
                  </a:lnTo>
                  <a:lnTo>
                    <a:pt x="703" y="3994"/>
                  </a:lnTo>
                  <a:lnTo>
                    <a:pt x="798" y="4006"/>
                  </a:lnTo>
                  <a:lnTo>
                    <a:pt x="892" y="4006"/>
                  </a:lnTo>
                  <a:lnTo>
                    <a:pt x="986" y="3994"/>
                  </a:lnTo>
                  <a:lnTo>
                    <a:pt x="1076" y="3971"/>
                  </a:lnTo>
                  <a:lnTo>
                    <a:pt x="1117" y="3959"/>
                  </a:lnTo>
                  <a:lnTo>
                    <a:pt x="1152" y="3941"/>
                  </a:lnTo>
                  <a:lnTo>
                    <a:pt x="1188" y="3918"/>
                  </a:lnTo>
                  <a:lnTo>
                    <a:pt x="1223" y="3894"/>
                  </a:lnTo>
                  <a:lnTo>
                    <a:pt x="1252" y="3871"/>
                  </a:lnTo>
                  <a:lnTo>
                    <a:pt x="1276" y="3841"/>
                  </a:lnTo>
                  <a:lnTo>
                    <a:pt x="1294" y="3805"/>
                  </a:lnTo>
                  <a:lnTo>
                    <a:pt x="1305" y="3769"/>
                  </a:lnTo>
                  <a:lnTo>
                    <a:pt x="1299" y="3818"/>
                  </a:lnTo>
                  <a:lnTo>
                    <a:pt x="1305" y="3859"/>
                  </a:lnTo>
                  <a:lnTo>
                    <a:pt x="1311" y="3900"/>
                  </a:lnTo>
                  <a:lnTo>
                    <a:pt x="1323" y="3941"/>
                  </a:lnTo>
                  <a:lnTo>
                    <a:pt x="1347" y="3982"/>
                  </a:lnTo>
                  <a:lnTo>
                    <a:pt x="1371" y="4018"/>
                  </a:lnTo>
                  <a:lnTo>
                    <a:pt x="1401" y="4053"/>
                  </a:lnTo>
                  <a:lnTo>
                    <a:pt x="1436" y="4089"/>
                  </a:lnTo>
                  <a:lnTo>
                    <a:pt x="1471" y="4119"/>
                  </a:lnTo>
                  <a:lnTo>
                    <a:pt x="1513" y="4148"/>
                  </a:lnTo>
                  <a:lnTo>
                    <a:pt x="1560" y="4178"/>
                  </a:lnTo>
                  <a:lnTo>
                    <a:pt x="1607" y="4201"/>
                  </a:lnTo>
                  <a:lnTo>
                    <a:pt x="1713" y="4243"/>
                  </a:lnTo>
                  <a:lnTo>
                    <a:pt x="1826" y="4277"/>
                  </a:lnTo>
                  <a:lnTo>
                    <a:pt x="1937" y="4295"/>
                  </a:lnTo>
                  <a:lnTo>
                    <a:pt x="1997" y="4295"/>
                  </a:lnTo>
                  <a:lnTo>
                    <a:pt x="2057" y="4295"/>
                  </a:lnTo>
                  <a:lnTo>
                    <a:pt x="2115" y="4289"/>
                  </a:lnTo>
                  <a:lnTo>
                    <a:pt x="2169" y="4283"/>
                  </a:lnTo>
                  <a:lnTo>
                    <a:pt x="2221" y="4272"/>
                  </a:lnTo>
                  <a:lnTo>
                    <a:pt x="2274" y="4254"/>
                  </a:lnTo>
                  <a:lnTo>
                    <a:pt x="2328" y="4231"/>
                  </a:lnTo>
                  <a:lnTo>
                    <a:pt x="2375" y="4207"/>
                  </a:lnTo>
                  <a:lnTo>
                    <a:pt x="2417" y="4172"/>
                  </a:lnTo>
                  <a:lnTo>
                    <a:pt x="2458" y="4136"/>
                  </a:lnTo>
                  <a:lnTo>
                    <a:pt x="2499" y="4095"/>
                  </a:lnTo>
                  <a:lnTo>
                    <a:pt x="2529" y="4047"/>
                  </a:lnTo>
                  <a:lnTo>
                    <a:pt x="2558" y="4000"/>
                  </a:lnTo>
                  <a:lnTo>
                    <a:pt x="2581" y="3941"/>
                  </a:lnTo>
                  <a:lnTo>
                    <a:pt x="2658" y="3988"/>
                  </a:lnTo>
                  <a:lnTo>
                    <a:pt x="2742" y="4035"/>
                  </a:lnTo>
                  <a:lnTo>
                    <a:pt x="2836" y="4065"/>
                  </a:lnTo>
                  <a:lnTo>
                    <a:pt x="2936" y="4089"/>
                  </a:lnTo>
                  <a:lnTo>
                    <a:pt x="3036" y="4107"/>
                  </a:lnTo>
                  <a:lnTo>
                    <a:pt x="3138" y="4113"/>
                  </a:lnTo>
                  <a:lnTo>
                    <a:pt x="3237" y="4107"/>
                  </a:lnTo>
                  <a:lnTo>
                    <a:pt x="3326" y="4089"/>
                  </a:lnTo>
                  <a:lnTo>
                    <a:pt x="3415" y="4059"/>
                  </a:lnTo>
                  <a:lnTo>
                    <a:pt x="3456" y="4041"/>
                  </a:lnTo>
                  <a:lnTo>
                    <a:pt x="3491" y="4018"/>
                  </a:lnTo>
                  <a:lnTo>
                    <a:pt x="3527" y="3994"/>
                  </a:lnTo>
                  <a:lnTo>
                    <a:pt x="3556" y="3964"/>
                  </a:lnTo>
                  <a:lnTo>
                    <a:pt x="3586" y="3936"/>
                  </a:lnTo>
                  <a:lnTo>
                    <a:pt x="3604" y="3900"/>
                  </a:lnTo>
                  <a:lnTo>
                    <a:pt x="3627" y="3865"/>
                  </a:lnTo>
                  <a:lnTo>
                    <a:pt x="3639" y="3823"/>
                  </a:lnTo>
                  <a:lnTo>
                    <a:pt x="3651" y="3775"/>
                  </a:lnTo>
                  <a:lnTo>
                    <a:pt x="3651" y="3728"/>
                  </a:lnTo>
                  <a:lnTo>
                    <a:pt x="3651" y="3681"/>
                  </a:lnTo>
                  <a:lnTo>
                    <a:pt x="3645" y="3622"/>
                  </a:lnTo>
                  <a:lnTo>
                    <a:pt x="3632" y="3569"/>
                  </a:lnTo>
                  <a:lnTo>
                    <a:pt x="3609" y="3504"/>
                  </a:lnTo>
                  <a:lnTo>
                    <a:pt x="3674" y="3516"/>
                  </a:lnTo>
                  <a:lnTo>
                    <a:pt x="3734" y="3528"/>
                  </a:lnTo>
                  <a:lnTo>
                    <a:pt x="3792" y="3528"/>
                  </a:lnTo>
                  <a:lnTo>
                    <a:pt x="3852" y="3528"/>
                  </a:lnTo>
                  <a:lnTo>
                    <a:pt x="3910" y="3522"/>
                  </a:lnTo>
                  <a:lnTo>
                    <a:pt x="3969" y="3510"/>
                  </a:lnTo>
                  <a:lnTo>
                    <a:pt x="4023" y="3498"/>
                  </a:lnTo>
                  <a:lnTo>
                    <a:pt x="4076" y="3474"/>
                  </a:lnTo>
                  <a:lnTo>
                    <a:pt x="4123" y="3451"/>
                  </a:lnTo>
                  <a:lnTo>
                    <a:pt x="4177" y="3421"/>
                  </a:lnTo>
                  <a:lnTo>
                    <a:pt x="4218" y="3386"/>
                  </a:lnTo>
                  <a:lnTo>
                    <a:pt x="4265" y="3345"/>
                  </a:lnTo>
                  <a:lnTo>
                    <a:pt x="4300" y="3298"/>
                  </a:lnTo>
                  <a:lnTo>
                    <a:pt x="4336" y="3244"/>
                  </a:lnTo>
                  <a:lnTo>
                    <a:pt x="4371" y="3184"/>
                  </a:lnTo>
                  <a:lnTo>
                    <a:pt x="4401" y="3120"/>
                  </a:lnTo>
                  <a:lnTo>
                    <a:pt x="4419" y="3061"/>
                  </a:lnTo>
                  <a:lnTo>
                    <a:pt x="4437" y="3002"/>
                  </a:lnTo>
                  <a:lnTo>
                    <a:pt x="4448" y="2943"/>
                  </a:lnTo>
                  <a:lnTo>
                    <a:pt x="4454" y="2883"/>
                  </a:lnTo>
                  <a:lnTo>
                    <a:pt x="4454" y="2830"/>
                  </a:lnTo>
                  <a:lnTo>
                    <a:pt x="4448" y="2777"/>
                  </a:lnTo>
                  <a:lnTo>
                    <a:pt x="4437" y="2730"/>
                  </a:lnTo>
                  <a:lnTo>
                    <a:pt x="4425" y="2677"/>
                  </a:lnTo>
                  <a:lnTo>
                    <a:pt x="4390" y="2582"/>
                  </a:lnTo>
                  <a:lnTo>
                    <a:pt x="4336" y="2488"/>
                  </a:lnTo>
                  <a:lnTo>
                    <a:pt x="4282" y="2399"/>
                  </a:lnTo>
                  <a:lnTo>
                    <a:pt x="4218" y="2304"/>
                  </a:lnTo>
                  <a:lnTo>
                    <a:pt x="4300" y="2304"/>
                  </a:lnTo>
                  <a:lnTo>
                    <a:pt x="4371" y="2292"/>
                  </a:lnTo>
                  <a:lnTo>
                    <a:pt x="4442" y="2274"/>
                  </a:lnTo>
                  <a:lnTo>
                    <a:pt x="4502" y="2251"/>
                  </a:lnTo>
                  <a:lnTo>
                    <a:pt x="4560" y="2221"/>
                  </a:lnTo>
                  <a:lnTo>
                    <a:pt x="4613" y="2180"/>
                  </a:lnTo>
                  <a:lnTo>
                    <a:pt x="4655" y="2139"/>
                  </a:lnTo>
                  <a:lnTo>
                    <a:pt x="4696" y="2092"/>
                  </a:lnTo>
                  <a:lnTo>
                    <a:pt x="4732" y="2038"/>
                  </a:lnTo>
                  <a:lnTo>
                    <a:pt x="4761" y="1979"/>
                  </a:lnTo>
                  <a:lnTo>
                    <a:pt x="4785" y="1920"/>
                  </a:lnTo>
                  <a:lnTo>
                    <a:pt x="4809" y="1856"/>
                  </a:lnTo>
                  <a:lnTo>
                    <a:pt x="4821" y="1790"/>
                  </a:lnTo>
                  <a:lnTo>
                    <a:pt x="4827" y="1725"/>
                  </a:lnTo>
                  <a:lnTo>
                    <a:pt x="4833" y="1660"/>
                  </a:lnTo>
                  <a:lnTo>
                    <a:pt x="4833" y="1590"/>
                  </a:lnTo>
                  <a:lnTo>
                    <a:pt x="4821" y="1525"/>
                  </a:lnTo>
                  <a:lnTo>
                    <a:pt x="4809" y="1459"/>
                  </a:lnTo>
                  <a:lnTo>
                    <a:pt x="4797" y="1394"/>
                  </a:lnTo>
                  <a:lnTo>
                    <a:pt x="4773" y="1329"/>
                  </a:lnTo>
                  <a:lnTo>
                    <a:pt x="4744" y="1271"/>
                  </a:lnTo>
                  <a:lnTo>
                    <a:pt x="4713" y="1211"/>
                  </a:lnTo>
                  <a:lnTo>
                    <a:pt x="4678" y="1158"/>
                  </a:lnTo>
                  <a:lnTo>
                    <a:pt x="4637" y="1105"/>
                  </a:lnTo>
                  <a:lnTo>
                    <a:pt x="4596" y="1063"/>
                  </a:lnTo>
                  <a:lnTo>
                    <a:pt x="4543" y="1022"/>
                  </a:lnTo>
                  <a:lnTo>
                    <a:pt x="4490" y="986"/>
                  </a:lnTo>
                  <a:lnTo>
                    <a:pt x="4437" y="963"/>
                  </a:lnTo>
                  <a:lnTo>
                    <a:pt x="4371" y="940"/>
                  </a:lnTo>
                  <a:lnTo>
                    <a:pt x="4306" y="927"/>
                  </a:lnTo>
                  <a:lnTo>
                    <a:pt x="4235" y="927"/>
                  </a:lnTo>
                  <a:lnTo>
                    <a:pt x="4159" y="927"/>
                  </a:lnTo>
                  <a:lnTo>
                    <a:pt x="4183" y="915"/>
                  </a:lnTo>
                  <a:lnTo>
                    <a:pt x="4206" y="897"/>
                  </a:lnTo>
                  <a:lnTo>
                    <a:pt x="4224" y="874"/>
                  </a:lnTo>
                  <a:lnTo>
                    <a:pt x="4229" y="856"/>
                  </a:lnTo>
                  <a:lnTo>
                    <a:pt x="4235" y="832"/>
                  </a:lnTo>
                  <a:lnTo>
                    <a:pt x="4235" y="803"/>
                  </a:lnTo>
                  <a:lnTo>
                    <a:pt x="4235" y="780"/>
                  </a:lnTo>
                  <a:lnTo>
                    <a:pt x="4224" y="750"/>
                  </a:lnTo>
                  <a:lnTo>
                    <a:pt x="4200" y="697"/>
                  </a:lnTo>
                  <a:lnTo>
                    <a:pt x="4165" y="632"/>
                  </a:lnTo>
                  <a:lnTo>
                    <a:pt x="4117" y="572"/>
                  </a:lnTo>
                  <a:lnTo>
                    <a:pt x="4059" y="514"/>
                  </a:lnTo>
                  <a:lnTo>
                    <a:pt x="3999" y="449"/>
                  </a:lnTo>
                  <a:lnTo>
                    <a:pt x="3934" y="396"/>
                  </a:lnTo>
                  <a:lnTo>
                    <a:pt x="3810" y="289"/>
                  </a:lnTo>
                  <a:lnTo>
                    <a:pt x="3698" y="207"/>
                  </a:lnTo>
                  <a:lnTo>
                    <a:pt x="3621" y="165"/>
                  </a:lnTo>
                  <a:lnTo>
                    <a:pt x="3533" y="124"/>
                  </a:lnTo>
                  <a:lnTo>
                    <a:pt x="3450" y="89"/>
                  </a:lnTo>
                  <a:lnTo>
                    <a:pt x="3361" y="64"/>
                  </a:lnTo>
                  <a:lnTo>
                    <a:pt x="3279" y="41"/>
                  </a:lnTo>
                  <a:lnTo>
                    <a:pt x="3190" y="23"/>
                  </a:lnTo>
                  <a:lnTo>
                    <a:pt x="3108" y="11"/>
                  </a:lnTo>
                  <a:lnTo>
                    <a:pt x="3024" y="0"/>
                  </a:lnTo>
                  <a:lnTo>
                    <a:pt x="2936" y="0"/>
                  </a:lnTo>
                  <a:lnTo>
                    <a:pt x="2854" y="0"/>
                  </a:lnTo>
                  <a:lnTo>
                    <a:pt x="2771" y="5"/>
                  </a:lnTo>
                  <a:lnTo>
                    <a:pt x="2687" y="17"/>
                  </a:lnTo>
                  <a:lnTo>
                    <a:pt x="2599" y="29"/>
                  </a:lnTo>
                  <a:lnTo>
                    <a:pt x="2517" y="46"/>
                  </a:lnTo>
                  <a:lnTo>
                    <a:pt x="2434" y="71"/>
                  </a:lnTo>
                  <a:lnTo>
                    <a:pt x="2262" y="124"/>
                  </a:lnTo>
                  <a:lnTo>
                    <a:pt x="2044" y="201"/>
                  </a:lnTo>
                  <a:lnTo>
                    <a:pt x="1932" y="242"/>
                  </a:lnTo>
                  <a:lnTo>
                    <a:pt x="1820" y="289"/>
                  </a:lnTo>
                  <a:lnTo>
                    <a:pt x="1707" y="342"/>
                  </a:lnTo>
                  <a:lnTo>
                    <a:pt x="1595" y="402"/>
                  </a:lnTo>
                  <a:lnTo>
                    <a:pt x="1489" y="473"/>
                  </a:lnTo>
                  <a:lnTo>
                    <a:pt x="1382" y="549"/>
                  </a:lnTo>
                  <a:lnTo>
                    <a:pt x="1258" y="662"/>
                  </a:lnTo>
                  <a:lnTo>
                    <a:pt x="1129" y="785"/>
                  </a:lnTo>
                  <a:lnTo>
                    <a:pt x="1058" y="856"/>
                  </a:lnTo>
                  <a:lnTo>
                    <a:pt x="992" y="933"/>
                  </a:lnTo>
                  <a:lnTo>
                    <a:pt x="933" y="1011"/>
                  </a:lnTo>
                  <a:lnTo>
                    <a:pt x="875" y="1093"/>
                  </a:lnTo>
                  <a:lnTo>
                    <a:pt x="816" y="1175"/>
                  </a:lnTo>
                  <a:lnTo>
                    <a:pt x="774" y="1258"/>
                  </a:lnTo>
                  <a:lnTo>
                    <a:pt x="733" y="1347"/>
                  </a:lnTo>
                  <a:lnTo>
                    <a:pt x="703" y="1430"/>
                  </a:lnTo>
                  <a:lnTo>
                    <a:pt x="685" y="1519"/>
                  </a:lnTo>
                  <a:lnTo>
                    <a:pt x="679" y="1607"/>
                  </a:lnTo>
                  <a:lnTo>
                    <a:pt x="679" y="1654"/>
                  </a:lnTo>
                  <a:lnTo>
                    <a:pt x="685" y="1696"/>
                  </a:lnTo>
                  <a:lnTo>
                    <a:pt x="691" y="1742"/>
                  </a:lnTo>
                  <a:lnTo>
                    <a:pt x="709" y="1784"/>
                  </a:lnTo>
                  <a:lnTo>
                    <a:pt x="697" y="1772"/>
                  </a:lnTo>
                  <a:lnTo>
                    <a:pt x="679" y="1766"/>
                  </a:lnTo>
                  <a:lnTo>
                    <a:pt x="661" y="1778"/>
                  </a:lnTo>
                  <a:lnTo>
                    <a:pt x="638" y="1796"/>
                  </a:lnTo>
                  <a:lnTo>
                    <a:pt x="579" y="1861"/>
                  </a:lnTo>
                  <a:lnTo>
                    <a:pt x="520" y="1949"/>
                  </a:lnTo>
                  <a:lnTo>
                    <a:pt x="467" y="2050"/>
                  </a:lnTo>
                  <a:lnTo>
                    <a:pt x="420" y="2145"/>
                  </a:lnTo>
                  <a:lnTo>
                    <a:pt x="385" y="2233"/>
                  </a:lnTo>
                  <a:lnTo>
                    <a:pt x="378" y="2263"/>
                  </a:lnTo>
                  <a:lnTo>
                    <a:pt x="372" y="2286"/>
                  </a:lnTo>
                  <a:lnTo>
                    <a:pt x="378" y="2434"/>
                  </a:lnTo>
                  <a:lnTo>
                    <a:pt x="391" y="2517"/>
                  </a:lnTo>
                  <a:lnTo>
                    <a:pt x="403" y="2599"/>
                  </a:lnTo>
                  <a:lnTo>
                    <a:pt x="426" y="2677"/>
                  </a:lnTo>
                  <a:lnTo>
                    <a:pt x="438" y="2712"/>
                  </a:lnTo>
                  <a:lnTo>
                    <a:pt x="456" y="2742"/>
                  </a:lnTo>
                  <a:lnTo>
                    <a:pt x="479" y="2765"/>
                  </a:lnTo>
                  <a:lnTo>
                    <a:pt x="502" y="2783"/>
                  </a:lnTo>
                  <a:lnTo>
                    <a:pt x="532" y="2795"/>
                  </a:lnTo>
                  <a:lnTo>
                    <a:pt x="562" y="2801"/>
                  </a:lnTo>
                  <a:close/>
                </a:path>
              </a:pathLst>
            </a:custGeom>
            <a:solidFill>
              <a:srgbClr val="f2e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6391080" y="1108080"/>
              <a:ext cx="250560" cy="257040"/>
              <a:chOff x="6391080" y="1108080"/>
              <a:chExt cx="250560" cy="257040"/>
            </a:xfrm>
          </p:grpSpPr>
          <p:sp>
            <p:nvSpPr>
              <p:cNvPr id="1013" name="Freeform 21"/>
              <p:cNvSpPr/>
              <p:nvPr/>
            </p:nvSpPr>
            <p:spPr>
              <a:xfrm>
                <a:off x="6391080" y="1108080"/>
                <a:ext cx="250560" cy="25704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258" h="1288">
                    <a:moveTo>
                      <a:pt x="0" y="655"/>
                    </a:moveTo>
                    <a:lnTo>
                      <a:pt x="19" y="732"/>
                    </a:lnTo>
                    <a:lnTo>
                      <a:pt x="48" y="808"/>
                    </a:lnTo>
                    <a:lnTo>
                      <a:pt x="83" y="880"/>
                    </a:lnTo>
                    <a:lnTo>
                      <a:pt x="136" y="951"/>
                    </a:lnTo>
                    <a:lnTo>
                      <a:pt x="195" y="1021"/>
                    </a:lnTo>
                    <a:lnTo>
                      <a:pt x="260" y="1081"/>
                    </a:lnTo>
                    <a:lnTo>
                      <a:pt x="331" y="1134"/>
                    </a:lnTo>
                    <a:lnTo>
                      <a:pt x="408" y="1187"/>
                    </a:lnTo>
                    <a:lnTo>
                      <a:pt x="485" y="1223"/>
                    </a:lnTo>
                    <a:lnTo>
                      <a:pt x="567" y="1258"/>
                    </a:lnTo>
                    <a:lnTo>
                      <a:pt x="650" y="1276"/>
                    </a:lnTo>
                    <a:lnTo>
                      <a:pt x="733" y="1288"/>
                    </a:lnTo>
                    <a:lnTo>
                      <a:pt x="816" y="1288"/>
                    </a:lnTo>
                    <a:lnTo>
                      <a:pt x="857" y="1282"/>
                    </a:lnTo>
                    <a:lnTo>
                      <a:pt x="892" y="1270"/>
                    </a:lnTo>
                    <a:lnTo>
                      <a:pt x="933" y="1258"/>
                    </a:lnTo>
                    <a:lnTo>
                      <a:pt x="969" y="1241"/>
                    </a:lnTo>
                    <a:lnTo>
                      <a:pt x="1004" y="1223"/>
                    </a:lnTo>
                    <a:lnTo>
                      <a:pt x="1040" y="1193"/>
                    </a:lnTo>
                    <a:lnTo>
                      <a:pt x="1076" y="1164"/>
                    </a:lnTo>
                    <a:lnTo>
                      <a:pt x="1105" y="1129"/>
                    </a:lnTo>
                    <a:lnTo>
                      <a:pt x="1135" y="1092"/>
                    </a:lnTo>
                    <a:lnTo>
                      <a:pt x="1158" y="1057"/>
                    </a:lnTo>
                    <a:lnTo>
                      <a:pt x="1205" y="980"/>
                    </a:lnTo>
                    <a:lnTo>
                      <a:pt x="1235" y="892"/>
                    </a:lnTo>
                    <a:lnTo>
                      <a:pt x="1252" y="808"/>
                    </a:lnTo>
                    <a:lnTo>
                      <a:pt x="1258" y="714"/>
                    </a:lnTo>
                    <a:lnTo>
                      <a:pt x="1252" y="626"/>
                    </a:lnTo>
                    <a:lnTo>
                      <a:pt x="1235" y="537"/>
                    </a:lnTo>
                    <a:lnTo>
                      <a:pt x="1211" y="448"/>
                    </a:lnTo>
                    <a:lnTo>
                      <a:pt x="1175" y="366"/>
                    </a:lnTo>
                    <a:lnTo>
                      <a:pt x="1128" y="283"/>
                    </a:lnTo>
                    <a:lnTo>
                      <a:pt x="1070" y="212"/>
                    </a:lnTo>
                    <a:lnTo>
                      <a:pt x="1004" y="147"/>
                    </a:lnTo>
                    <a:lnTo>
                      <a:pt x="933" y="94"/>
                    </a:lnTo>
                    <a:lnTo>
                      <a:pt x="892" y="70"/>
                    </a:lnTo>
                    <a:lnTo>
                      <a:pt x="851" y="52"/>
                    </a:lnTo>
                    <a:lnTo>
                      <a:pt x="804" y="35"/>
                    </a:lnTo>
                    <a:lnTo>
                      <a:pt x="762" y="18"/>
                    </a:lnTo>
                    <a:lnTo>
                      <a:pt x="686" y="5"/>
                    </a:lnTo>
                    <a:lnTo>
                      <a:pt x="614" y="0"/>
                    </a:lnTo>
                    <a:lnTo>
                      <a:pt x="544" y="5"/>
                    </a:lnTo>
                    <a:lnTo>
                      <a:pt x="473" y="18"/>
                    </a:lnTo>
                    <a:lnTo>
                      <a:pt x="402" y="41"/>
                    </a:lnTo>
                    <a:lnTo>
                      <a:pt x="337" y="70"/>
                    </a:lnTo>
                    <a:lnTo>
                      <a:pt x="272" y="106"/>
                    </a:lnTo>
                    <a:lnTo>
                      <a:pt x="219" y="147"/>
                    </a:lnTo>
                    <a:lnTo>
                      <a:pt x="166" y="194"/>
                    </a:lnTo>
                    <a:lnTo>
                      <a:pt x="118" y="254"/>
                    </a:lnTo>
                    <a:lnTo>
                      <a:pt x="77" y="307"/>
                    </a:lnTo>
                    <a:lnTo>
                      <a:pt x="48" y="371"/>
                    </a:lnTo>
                    <a:lnTo>
                      <a:pt x="19" y="437"/>
                    </a:lnTo>
                    <a:lnTo>
                      <a:pt x="6" y="507"/>
                    </a:lnTo>
                    <a:lnTo>
                      <a:pt x="0" y="585"/>
                    </a:lnTo>
                    <a:lnTo>
                      <a:pt x="0" y="65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2"/>
              <p:cNvSpPr/>
              <p:nvPr/>
            </p:nvSpPr>
            <p:spPr>
              <a:xfrm>
                <a:off x="6480000" y="1164960"/>
                <a:ext cx="131760" cy="1602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662" h="809">
                    <a:moveTo>
                      <a:pt x="431" y="809"/>
                    </a:moveTo>
                    <a:lnTo>
                      <a:pt x="378" y="798"/>
                    </a:lnTo>
                    <a:lnTo>
                      <a:pt x="325" y="786"/>
                    </a:lnTo>
                    <a:lnTo>
                      <a:pt x="278" y="762"/>
                    </a:lnTo>
                    <a:lnTo>
                      <a:pt x="230" y="738"/>
                    </a:lnTo>
                    <a:lnTo>
                      <a:pt x="189" y="709"/>
                    </a:lnTo>
                    <a:lnTo>
                      <a:pt x="153" y="680"/>
                    </a:lnTo>
                    <a:lnTo>
                      <a:pt x="124" y="650"/>
                    </a:lnTo>
                    <a:lnTo>
                      <a:pt x="95" y="615"/>
                    </a:lnTo>
                    <a:lnTo>
                      <a:pt x="71" y="573"/>
                    </a:lnTo>
                    <a:lnTo>
                      <a:pt x="48" y="537"/>
                    </a:lnTo>
                    <a:lnTo>
                      <a:pt x="30" y="496"/>
                    </a:lnTo>
                    <a:lnTo>
                      <a:pt x="18" y="455"/>
                    </a:lnTo>
                    <a:lnTo>
                      <a:pt x="6" y="413"/>
                    </a:lnTo>
                    <a:lnTo>
                      <a:pt x="6" y="372"/>
                    </a:lnTo>
                    <a:lnTo>
                      <a:pt x="0" y="331"/>
                    </a:lnTo>
                    <a:lnTo>
                      <a:pt x="6" y="296"/>
                    </a:lnTo>
                    <a:lnTo>
                      <a:pt x="12" y="254"/>
                    </a:lnTo>
                    <a:lnTo>
                      <a:pt x="24" y="218"/>
                    </a:lnTo>
                    <a:lnTo>
                      <a:pt x="36" y="183"/>
                    </a:lnTo>
                    <a:lnTo>
                      <a:pt x="59" y="148"/>
                    </a:lnTo>
                    <a:lnTo>
                      <a:pt x="83" y="118"/>
                    </a:lnTo>
                    <a:lnTo>
                      <a:pt x="106" y="88"/>
                    </a:lnTo>
                    <a:lnTo>
                      <a:pt x="136" y="65"/>
                    </a:lnTo>
                    <a:lnTo>
                      <a:pt x="171" y="41"/>
                    </a:lnTo>
                    <a:lnTo>
                      <a:pt x="213" y="24"/>
                    </a:lnTo>
                    <a:lnTo>
                      <a:pt x="255" y="12"/>
                    </a:lnTo>
                    <a:lnTo>
                      <a:pt x="302" y="0"/>
                    </a:lnTo>
                    <a:lnTo>
                      <a:pt x="355" y="0"/>
                    </a:lnTo>
                    <a:lnTo>
                      <a:pt x="408" y="0"/>
                    </a:lnTo>
                    <a:lnTo>
                      <a:pt x="467" y="12"/>
                    </a:lnTo>
                    <a:lnTo>
                      <a:pt x="532" y="24"/>
                    </a:lnTo>
                    <a:lnTo>
                      <a:pt x="597" y="41"/>
                    </a:lnTo>
                    <a:lnTo>
                      <a:pt x="609" y="47"/>
                    </a:lnTo>
                    <a:lnTo>
                      <a:pt x="621" y="59"/>
                    </a:lnTo>
                    <a:lnTo>
                      <a:pt x="632" y="88"/>
                    </a:lnTo>
                    <a:lnTo>
                      <a:pt x="644" y="130"/>
                    </a:lnTo>
                    <a:lnTo>
                      <a:pt x="656" y="183"/>
                    </a:lnTo>
                    <a:lnTo>
                      <a:pt x="656" y="248"/>
                    </a:lnTo>
                    <a:lnTo>
                      <a:pt x="662" y="314"/>
                    </a:lnTo>
                    <a:lnTo>
                      <a:pt x="656" y="384"/>
                    </a:lnTo>
                    <a:lnTo>
                      <a:pt x="650" y="455"/>
                    </a:lnTo>
                    <a:lnTo>
                      <a:pt x="638" y="525"/>
                    </a:lnTo>
                    <a:lnTo>
                      <a:pt x="621" y="597"/>
                    </a:lnTo>
                    <a:lnTo>
                      <a:pt x="603" y="656"/>
                    </a:lnTo>
                    <a:lnTo>
                      <a:pt x="580" y="715"/>
                    </a:lnTo>
                    <a:lnTo>
                      <a:pt x="549" y="756"/>
                    </a:lnTo>
                    <a:lnTo>
                      <a:pt x="514" y="792"/>
                    </a:lnTo>
                    <a:lnTo>
                      <a:pt x="496" y="804"/>
                    </a:lnTo>
                    <a:lnTo>
                      <a:pt x="478" y="809"/>
                    </a:lnTo>
                    <a:lnTo>
                      <a:pt x="455" y="809"/>
                    </a:lnTo>
                    <a:lnTo>
                      <a:pt x="431" y="809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5" name="Freeform 23"/>
            <p:cNvSpPr/>
            <p:nvPr/>
          </p:nvSpPr>
          <p:spPr>
            <a:xfrm>
              <a:off x="6521400" y="798480"/>
              <a:ext cx="911160" cy="8175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4595" h="4125">
                  <a:moveTo>
                    <a:pt x="3804" y="3546"/>
                  </a:moveTo>
                  <a:lnTo>
                    <a:pt x="3869" y="3487"/>
                  </a:lnTo>
                  <a:lnTo>
                    <a:pt x="3934" y="3422"/>
                  </a:lnTo>
                  <a:lnTo>
                    <a:pt x="3993" y="3345"/>
                  </a:lnTo>
                  <a:lnTo>
                    <a:pt x="4058" y="3269"/>
                  </a:lnTo>
                  <a:lnTo>
                    <a:pt x="4111" y="3179"/>
                  </a:lnTo>
                  <a:lnTo>
                    <a:pt x="4170" y="3091"/>
                  </a:lnTo>
                  <a:lnTo>
                    <a:pt x="4223" y="2997"/>
                  </a:lnTo>
                  <a:lnTo>
                    <a:pt x="4276" y="2896"/>
                  </a:lnTo>
                  <a:lnTo>
                    <a:pt x="4323" y="2790"/>
                  </a:lnTo>
                  <a:lnTo>
                    <a:pt x="4372" y="2684"/>
                  </a:lnTo>
                  <a:lnTo>
                    <a:pt x="4412" y="2571"/>
                  </a:lnTo>
                  <a:lnTo>
                    <a:pt x="4454" y="2459"/>
                  </a:lnTo>
                  <a:lnTo>
                    <a:pt x="4490" y="2346"/>
                  </a:lnTo>
                  <a:lnTo>
                    <a:pt x="4519" y="2228"/>
                  </a:lnTo>
                  <a:lnTo>
                    <a:pt x="4542" y="2110"/>
                  </a:lnTo>
                  <a:lnTo>
                    <a:pt x="4566" y="1992"/>
                  </a:lnTo>
                  <a:lnTo>
                    <a:pt x="4578" y="1874"/>
                  </a:lnTo>
                  <a:lnTo>
                    <a:pt x="4590" y="1761"/>
                  </a:lnTo>
                  <a:lnTo>
                    <a:pt x="4595" y="1643"/>
                  </a:lnTo>
                  <a:lnTo>
                    <a:pt x="4595" y="1531"/>
                  </a:lnTo>
                  <a:lnTo>
                    <a:pt x="4590" y="1419"/>
                  </a:lnTo>
                  <a:lnTo>
                    <a:pt x="4572" y="1306"/>
                  </a:lnTo>
                  <a:lnTo>
                    <a:pt x="4554" y="1200"/>
                  </a:lnTo>
                  <a:lnTo>
                    <a:pt x="4525" y="1099"/>
                  </a:lnTo>
                  <a:lnTo>
                    <a:pt x="4495" y="1000"/>
                  </a:lnTo>
                  <a:lnTo>
                    <a:pt x="4454" y="904"/>
                  </a:lnTo>
                  <a:lnTo>
                    <a:pt x="4401" y="816"/>
                  </a:lnTo>
                  <a:lnTo>
                    <a:pt x="4341" y="733"/>
                  </a:lnTo>
                  <a:lnTo>
                    <a:pt x="4276" y="656"/>
                  </a:lnTo>
                  <a:lnTo>
                    <a:pt x="4206" y="585"/>
                  </a:lnTo>
                  <a:lnTo>
                    <a:pt x="4124" y="521"/>
                  </a:lnTo>
                  <a:lnTo>
                    <a:pt x="4028" y="468"/>
                  </a:lnTo>
                  <a:lnTo>
                    <a:pt x="3957" y="426"/>
                  </a:lnTo>
                  <a:lnTo>
                    <a:pt x="3881" y="397"/>
                  </a:lnTo>
                  <a:lnTo>
                    <a:pt x="3722" y="331"/>
                  </a:lnTo>
                  <a:lnTo>
                    <a:pt x="3556" y="278"/>
                  </a:lnTo>
                  <a:lnTo>
                    <a:pt x="3397" y="231"/>
                  </a:lnTo>
                  <a:lnTo>
                    <a:pt x="3107" y="155"/>
                  </a:lnTo>
                  <a:lnTo>
                    <a:pt x="2824" y="88"/>
                  </a:lnTo>
                  <a:lnTo>
                    <a:pt x="2681" y="59"/>
                  </a:lnTo>
                  <a:lnTo>
                    <a:pt x="2546" y="36"/>
                  </a:lnTo>
                  <a:lnTo>
                    <a:pt x="2404" y="18"/>
                  </a:lnTo>
                  <a:lnTo>
                    <a:pt x="2262" y="6"/>
                  </a:lnTo>
                  <a:lnTo>
                    <a:pt x="2121" y="0"/>
                  </a:lnTo>
                  <a:lnTo>
                    <a:pt x="1984" y="6"/>
                  </a:lnTo>
                  <a:lnTo>
                    <a:pt x="1843" y="18"/>
                  </a:lnTo>
                  <a:lnTo>
                    <a:pt x="1701" y="36"/>
                  </a:lnTo>
                  <a:lnTo>
                    <a:pt x="1565" y="59"/>
                  </a:lnTo>
                  <a:lnTo>
                    <a:pt x="1424" y="101"/>
                  </a:lnTo>
                  <a:lnTo>
                    <a:pt x="1287" y="149"/>
                  </a:lnTo>
                  <a:lnTo>
                    <a:pt x="1146" y="207"/>
                  </a:lnTo>
                  <a:lnTo>
                    <a:pt x="1064" y="248"/>
                  </a:lnTo>
                  <a:lnTo>
                    <a:pt x="986" y="296"/>
                  </a:lnTo>
                  <a:lnTo>
                    <a:pt x="910" y="343"/>
                  </a:lnTo>
                  <a:lnTo>
                    <a:pt x="839" y="397"/>
                  </a:lnTo>
                  <a:lnTo>
                    <a:pt x="774" y="450"/>
                  </a:lnTo>
                  <a:lnTo>
                    <a:pt x="709" y="503"/>
                  </a:lnTo>
                  <a:lnTo>
                    <a:pt x="644" y="567"/>
                  </a:lnTo>
                  <a:lnTo>
                    <a:pt x="585" y="627"/>
                  </a:lnTo>
                  <a:lnTo>
                    <a:pt x="525" y="698"/>
                  </a:lnTo>
                  <a:lnTo>
                    <a:pt x="473" y="763"/>
                  </a:lnTo>
                  <a:lnTo>
                    <a:pt x="426" y="834"/>
                  </a:lnTo>
                  <a:lnTo>
                    <a:pt x="379" y="910"/>
                  </a:lnTo>
                  <a:lnTo>
                    <a:pt x="289" y="1064"/>
                  </a:lnTo>
                  <a:lnTo>
                    <a:pt x="213" y="1223"/>
                  </a:lnTo>
                  <a:lnTo>
                    <a:pt x="177" y="1313"/>
                  </a:lnTo>
                  <a:lnTo>
                    <a:pt x="142" y="1401"/>
                  </a:lnTo>
                  <a:lnTo>
                    <a:pt x="89" y="1585"/>
                  </a:lnTo>
                  <a:lnTo>
                    <a:pt x="48" y="1773"/>
                  </a:lnTo>
                  <a:lnTo>
                    <a:pt x="18" y="1963"/>
                  </a:lnTo>
                  <a:lnTo>
                    <a:pt x="6" y="2056"/>
                  </a:lnTo>
                  <a:lnTo>
                    <a:pt x="0" y="2158"/>
                  </a:lnTo>
                  <a:lnTo>
                    <a:pt x="0" y="2252"/>
                  </a:lnTo>
                  <a:lnTo>
                    <a:pt x="0" y="2352"/>
                  </a:lnTo>
                  <a:lnTo>
                    <a:pt x="6" y="2447"/>
                  </a:lnTo>
                  <a:lnTo>
                    <a:pt x="18" y="2541"/>
                  </a:lnTo>
                  <a:lnTo>
                    <a:pt x="29" y="2636"/>
                  </a:lnTo>
                  <a:lnTo>
                    <a:pt x="48" y="2731"/>
                  </a:lnTo>
                  <a:lnTo>
                    <a:pt x="71" y="2819"/>
                  </a:lnTo>
                  <a:lnTo>
                    <a:pt x="95" y="2913"/>
                  </a:lnTo>
                  <a:lnTo>
                    <a:pt x="124" y="3003"/>
                  </a:lnTo>
                  <a:lnTo>
                    <a:pt x="160" y="3085"/>
                  </a:lnTo>
                  <a:lnTo>
                    <a:pt x="201" y="3174"/>
                  </a:lnTo>
                  <a:lnTo>
                    <a:pt x="242" y="3257"/>
                  </a:lnTo>
                  <a:lnTo>
                    <a:pt x="289" y="3334"/>
                  </a:lnTo>
                  <a:lnTo>
                    <a:pt x="337" y="3410"/>
                  </a:lnTo>
                  <a:lnTo>
                    <a:pt x="396" y="3481"/>
                  </a:lnTo>
                  <a:lnTo>
                    <a:pt x="455" y="3552"/>
                  </a:lnTo>
                  <a:lnTo>
                    <a:pt x="520" y="3623"/>
                  </a:lnTo>
                  <a:lnTo>
                    <a:pt x="590" y="3682"/>
                  </a:lnTo>
                  <a:lnTo>
                    <a:pt x="667" y="3747"/>
                  </a:lnTo>
                  <a:lnTo>
                    <a:pt x="745" y="3799"/>
                  </a:lnTo>
                  <a:lnTo>
                    <a:pt x="833" y="3848"/>
                  </a:lnTo>
                  <a:lnTo>
                    <a:pt x="921" y="3895"/>
                  </a:lnTo>
                  <a:lnTo>
                    <a:pt x="998" y="3931"/>
                  </a:lnTo>
                  <a:lnTo>
                    <a:pt x="1087" y="3966"/>
                  </a:lnTo>
                  <a:lnTo>
                    <a:pt x="1170" y="3995"/>
                  </a:lnTo>
                  <a:lnTo>
                    <a:pt x="1258" y="4024"/>
                  </a:lnTo>
                  <a:lnTo>
                    <a:pt x="1442" y="4065"/>
                  </a:lnTo>
                  <a:lnTo>
                    <a:pt x="1624" y="4101"/>
                  </a:lnTo>
                  <a:lnTo>
                    <a:pt x="1819" y="4119"/>
                  </a:lnTo>
                  <a:lnTo>
                    <a:pt x="2014" y="4125"/>
                  </a:lnTo>
                  <a:lnTo>
                    <a:pt x="2209" y="4119"/>
                  </a:lnTo>
                  <a:lnTo>
                    <a:pt x="2410" y="4107"/>
                  </a:lnTo>
                  <a:lnTo>
                    <a:pt x="2605" y="4077"/>
                  </a:lnTo>
                  <a:lnTo>
                    <a:pt x="2794" y="4036"/>
                  </a:lnTo>
                  <a:lnTo>
                    <a:pt x="2983" y="3983"/>
                  </a:lnTo>
                  <a:lnTo>
                    <a:pt x="3166" y="3918"/>
                  </a:lnTo>
                  <a:lnTo>
                    <a:pt x="3343" y="3842"/>
                  </a:lnTo>
                  <a:lnTo>
                    <a:pt x="3426" y="3799"/>
                  </a:lnTo>
                  <a:lnTo>
                    <a:pt x="3509" y="3753"/>
                  </a:lnTo>
                  <a:lnTo>
                    <a:pt x="3585" y="3705"/>
                  </a:lnTo>
                  <a:lnTo>
                    <a:pt x="3662" y="3659"/>
                  </a:lnTo>
                  <a:lnTo>
                    <a:pt x="3733" y="3600"/>
                  </a:lnTo>
                  <a:lnTo>
                    <a:pt x="3804" y="3546"/>
                  </a:lnTo>
                  <a:close/>
                </a:path>
              </a:pathLst>
            </a:custGeom>
            <a:solidFill>
              <a:srgbClr val="f4d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4"/>
            <p:cNvSpPr/>
            <p:nvPr/>
          </p:nvSpPr>
          <p:spPr>
            <a:xfrm>
              <a:off x="6530760" y="999360"/>
              <a:ext cx="247680" cy="2721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5"/>
            <p:cNvSpPr/>
            <p:nvPr/>
          </p:nvSpPr>
          <p:spPr>
            <a:xfrm>
              <a:off x="7026840" y="1077120"/>
              <a:ext cx="256320" cy="2721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6"/>
            <p:cNvSpPr/>
            <p:nvPr/>
          </p:nvSpPr>
          <p:spPr>
            <a:xfrm>
              <a:off x="6783120" y="1292040"/>
              <a:ext cx="69480" cy="71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89" h="295">
                  <a:moveTo>
                    <a:pt x="46" y="278"/>
                  </a:moveTo>
                  <a:lnTo>
                    <a:pt x="70" y="289"/>
                  </a:lnTo>
                  <a:lnTo>
                    <a:pt x="105" y="295"/>
                  </a:lnTo>
                  <a:lnTo>
                    <a:pt x="134" y="295"/>
                  </a:lnTo>
                  <a:lnTo>
                    <a:pt x="170" y="289"/>
                  </a:lnTo>
                  <a:lnTo>
                    <a:pt x="206" y="278"/>
                  </a:lnTo>
                  <a:lnTo>
                    <a:pt x="236" y="266"/>
                  </a:lnTo>
                  <a:lnTo>
                    <a:pt x="259" y="248"/>
                  </a:lnTo>
                  <a:lnTo>
                    <a:pt x="277" y="224"/>
                  </a:lnTo>
                  <a:lnTo>
                    <a:pt x="289" y="207"/>
                  </a:lnTo>
                  <a:lnTo>
                    <a:pt x="289" y="195"/>
                  </a:lnTo>
                  <a:lnTo>
                    <a:pt x="283" y="183"/>
                  </a:lnTo>
                  <a:lnTo>
                    <a:pt x="271" y="176"/>
                  </a:lnTo>
                  <a:lnTo>
                    <a:pt x="242" y="164"/>
                  </a:lnTo>
                  <a:lnTo>
                    <a:pt x="218" y="153"/>
                  </a:lnTo>
                  <a:lnTo>
                    <a:pt x="201" y="135"/>
                  </a:lnTo>
                  <a:lnTo>
                    <a:pt x="170" y="100"/>
                  </a:lnTo>
                  <a:lnTo>
                    <a:pt x="147" y="64"/>
                  </a:lnTo>
                  <a:lnTo>
                    <a:pt x="123" y="36"/>
                  </a:lnTo>
                  <a:lnTo>
                    <a:pt x="99" y="11"/>
                  </a:lnTo>
                  <a:lnTo>
                    <a:pt x="87" y="5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5"/>
                  </a:lnTo>
                  <a:lnTo>
                    <a:pt x="46" y="17"/>
                  </a:lnTo>
                  <a:lnTo>
                    <a:pt x="35" y="36"/>
                  </a:lnTo>
                  <a:lnTo>
                    <a:pt x="11" y="94"/>
                  </a:lnTo>
                  <a:lnTo>
                    <a:pt x="0" y="147"/>
                  </a:lnTo>
                  <a:lnTo>
                    <a:pt x="0" y="201"/>
                  </a:lnTo>
                  <a:lnTo>
                    <a:pt x="5" y="224"/>
                  </a:lnTo>
                  <a:lnTo>
                    <a:pt x="17" y="248"/>
                  </a:lnTo>
                  <a:lnTo>
                    <a:pt x="29" y="266"/>
                  </a:lnTo>
                  <a:lnTo>
                    <a:pt x="46" y="278"/>
                  </a:lnTo>
                  <a:close/>
                </a:path>
              </a:pathLst>
            </a:custGeom>
            <a:solidFill>
              <a:srgbClr val="ee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7"/>
            <p:cNvSpPr/>
            <p:nvPr/>
          </p:nvSpPr>
          <p:spPr>
            <a:xfrm>
              <a:off x="6659280" y="934920"/>
              <a:ext cx="91800" cy="55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0" h="278">
                  <a:moveTo>
                    <a:pt x="0" y="195"/>
                  </a:moveTo>
                  <a:lnTo>
                    <a:pt x="0" y="213"/>
                  </a:lnTo>
                  <a:lnTo>
                    <a:pt x="6" y="224"/>
                  </a:lnTo>
                  <a:lnTo>
                    <a:pt x="17" y="242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64" y="242"/>
                  </a:lnTo>
                  <a:lnTo>
                    <a:pt x="77" y="237"/>
                  </a:lnTo>
                  <a:lnTo>
                    <a:pt x="83" y="219"/>
                  </a:lnTo>
                  <a:lnTo>
                    <a:pt x="94" y="189"/>
                  </a:lnTo>
                  <a:lnTo>
                    <a:pt x="106" y="159"/>
                  </a:lnTo>
                  <a:lnTo>
                    <a:pt x="124" y="135"/>
                  </a:lnTo>
                  <a:lnTo>
                    <a:pt x="141" y="118"/>
                  </a:lnTo>
                  <a:lnTo>
                    <a:pt x="159" y="106"/>
                  </a:lnTo>
                  <a:lnTo>
                    <a:pt x="182" y="94"/>
                  </a:lnTo>
                  <a:lnTo>
                    <a:pt x="206" y="88"/>
                  </a:lnTo>
                  <a:lnTo>
                    <a:pt x="230" y="88"/>
                  </a:lnTo>
                  <a:lnTo>
                    <a:pt x="253" y="88"/>
                  </a:lnTo>
                  <a:lnTo>
                    <a:pt x="277" y="94"/>
                  </a:lnTo>
                  <a:lnTo>
                    <a:pt x="295" y="106"/>
                  </a:lnTo>
                  <a:lnTo>
                    <a:pt x="319" y="124"/>
                  </a:lnTo>
                  <a:lnTo>
                    <a:pt x="336" y="141"/>
                  </a:lnTo>
                  <a:lnTo>
                    <a:pt x="354" y="171"/>
                  </a:lnTo>
                  <a:lnTo>
                    <a:pt x="366" y="201"/>
                  </a:lnTo>
                  <a:lnTo>
                    <a:pt x="378" y="242"/>
                  </a:lnTo>
                  <a:lnTo>
                    <a:pt x="384" y="254"/>
                  </a:lnTo>
                  <a:lnTo>
                    <a:pt x="395" y="266"/>
                  </a:lnTo>
                  <a:lnTo>
                    <a:pt x="413" y="278"/>
                  </a:lnTo>
                  <a:lnTo>
                    <a:pt x="431" y="278"/>
                  </a:lnTo>
                  <a:lnTo>
                    <a:pt x="442" y="272"/>
                  </a:lnTo>
                  <a:lnTo>
                    <a:pt x="454" y="260"/>
                  </a:lnTo>
                  <a:lnTo>
                    <a:pt x="460" y="242"/>
                  </a:lnTo>
                  <a:lnTo>
                    <a:pt x="460" y="224"/>
                  </a:lnTo>
                  <a:lnTo>
                    <a:pt x="448" y="171"/>
                  </a:lnTo>
                  <a:lnTo>
                    <a:pt x="431" y="130"/>
                  </a:lnTo>
                  <a:lnTo>
                    <a:pt x="402" y="88"/>
                  </a:lnTo>
                  <a:lnTo>
                    <a:pt x="372" y="59"/>
                  </a:lnTo>
                  <a:lnTo>
                    <a:pt x="342" y="35"/>
                  </a:lnTo>
                  <a:lnTo>
                    <a:pt x="307" y="18"/>
                  </a:lnTo>
                  <a:lnTo>
                    <a:pt x="271" y="6"/>
                  </a:lnTo>
                  <a:lnTo>
                    <a:pt x="235" y="0"/>
                  </a:lnTo>
                  <a:lnTo>
                    <a:pt x="194" y="0"/>
                  </a:lnTo>
                  <a:lnTo>
                    <a:pt x="159" y="12"/>
                  </a:lnTo>
                  <a:lnTo>
                    <a:pt x="124" y="29"/>
                  </a:lnTo>
                  <a:lnTo>
                    <a:pt x="89" y="47"/>
                  </a:lnTo>
                  <a:lnTo>
                    <a:pt x="64" y="76"/>
                  </a:lnTo>
                  <a:lnTo>
                    <a:pt x="35" y="112"/>
                  </a:lnTo>
                  <a:lnTo>
                    <a:pt x="17" y="14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8"/>
            <p:cNvSpPr/>
            <p:nvPr/>
          </p:nvSpPr>
          <p:spPr>
            <a:xfrm>
              <a:off x="7092720" y="982440"/>
              <a:ext cx="114120" cy="74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79" h="378">
                  <a:moveTo>
                    <a:pt x="0" y="224"/>
                  </a:moveTo>
                  <a:lnTo>
                    <a:pt x="0" y="242"/>
                  </a:lnTo>
                  <a:lnTo>
                    <a:pt x="6" y="260"/>
                  </a:lnTo>
                  <a:lnTo>
                    <a:pt x="18" y="272"/>
                  </a:lnTo>
                  <a:lnTo>
                    <a:pt x="36" y="278"/>
                  </a:lnTo>
                  <a:lnTo>
                    <a:pt x="54" y="278"/>
                  </a:lnTo>
                  <a:lnTo>
                    <a:pt x="65" y="272"/>
                  </a:lnTo>
                  <a:lnTo>
                    <a:pt x="77" y="260"/>
                  </a:lnTo>
                  <a:lnTo>
                    <a:pt x="83" y="242"/>
                  </a:lnTo>
                  <a:lnTo>
                    <a:pt x="101" y="201"/>
                  </a:lnTo>
                  <a:lnTo>
                    <a:pt x="118" y="160"/>
                  </a:lnTo>
                  <a:lnTo>
                    <a:pt x="142" y="130"/>
                  </a:lnTo>
                  <a:lnTo>
                    <a:pt x="171" y="112"/>
                  </a:lnTo>
                  <a:lnTo>
                    <a:pt x="207" y="94"/>
                  </a:lnTo>
                  <a:lnTo>
                    <a:pt x="236" y="88"/>
                  </a:lnTo>
                  <a:lnTo>
                    <a:pt x="272" y="82"/>
                  </a:lnTo>
                  <a:lnTo>
                    <a:pt x="308" y="88"/>
                  </a:lnTo>
                  <a:lnTo>
                    <a:pt x="343" y="94"/>
                  </a:lnTo>
                  <a:lnTo>
                    <a:pt x="379" y="112"/>
                  </a:lnTo>
                  <a:lnTo>
                    <a:pt x="414" y="136"/>
                  </a:lnTo>
                  <a:lnTo>
                    <a:pt x="443" y="160"/>
                  </a:lnTo>
                  <a:lnTo>
                    <a:pt x="467" y="195"/>
                  </a:lnTo>
                  <a:lnTo>
                    <a:pt x="484" y="236"/>
                  </a:lnTo>
                  <a:lnTo>
                    <a:pt x="496" y="284"/>
                  </a:lnTo>
                  <a:lnTo>
                    <a:pt x="496" y="331"/>
                  </a:lnTo>
                  <a:lnTo>
                    <a:pt x="496" y="349"/>
                  </a:lnTo>
                  <a:lnTo>
                    <a:pt x="508" y="360"/>
                  </a:lnTo>
                  <a:lnTo>
                    <a:pt x="520" y="372"/>
                  </a:lnTo>
                  <a:lnTo>
                    <a:pt x="532" y="378"/>
                  </a:lnTo>
                  <a:lnTo>
                    <a:pt x="549" y="378"/>
                  </a:lnTo>
                  <a:lnTo>
                    <a:pt x="567" y="366"/>
                  </a:lnTo>
                  <a:lnTo>
                    <a:pt x="579" y="354"/>
                  </a:lnTo>
                  <a:lnTo>
                    <a:pt x="579" y="336"/>
                  </a:lnTo>
                  <a:lnTo>
                    <a:pt x="579" y="272"/>
                  </a:lnTo>
                  <a:lnTo>
                    <a:pt x="567" y="207"/>
                  </a:lnTo>
                  <a:lnTo>
                    <a:pt x="543" y="154"/>
                  </a:lnTo>
                  <a:lnTo>
                    <a:pt x="508" y="106"/>
                  </a:lnTo>
                  <a:lnTo>
                    <a:pt x="467" y="64"/>
                  </a:lnTo>
                  <a:lnTo>
                    <a:pt x="420" y="36"/>
                  </a:lnTo>
                  <a:lnTo>
                    <a:pt x="373" y="12"/>
                  </a:lnTo>
                  <a:lnTo>
                    <a:pt x="319" y="0"/>
                  </a:lnTo>
                  <a:lnTo>
                    <a:pt x="267" y="0"/>
                  </a:lnTo>
                  <a:lnTo>
                    <a:pt x="219" y="0"/>
                  </a:lnTo>
                  <a:lnTo>
                    <a:pt x="171" y="17"/>
                  </a:lnTo>
                  <a:lnTo>
                    <a:pt x="124" y="36"/>
                  </a:lnTo>
                  <a:lnTo>
                    <a:pt x="83" y="70"/>
                  </a:lnTo>
                  <a:lnTo>
                    <a:pt x="48" y="112"/>
                  </a:lnTo>
                  <a:lnTo>
                    <a:pt x="18" y="16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7326360" y="1214280"/>
              <a:ext cx="257040" cy="247680"/>
              <a:chOff x="7326360" y="1214280"/>
              <a:chExt cx="257040" cy="247680"/>
            </a:xfrm>
          </p:grpSpPr>
          <p:sp>
            <p:nvSpPr>
              <p:cNvPr id="1022" name="Freeform 36"/>
              <p:cNvSpPr/>
              <p:nvPr/>
            </p:nvSpPr>
            <p:spPr>
              <a:xfrm>
                <a:off x="7326360" y="1214280"/>
                <a:ext cx="257040" cy="24768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293" h="1247">
                    <a:moveTo>
                      <a:pt x="1252" y="815"/>
                    </a:moveTo>
                    <a:lnTo>
                      <a:pt x="1216" y="887"/>
                    </a:lnTo>
                    <a:lnTo>
                      <a:pt x="1169" y="952"/>
                    </a:lnTo>
                    <a:lnTo>
                      <a:pt x="1111" y="1011"/>
                    </a:lnTo>
                    <a:lnTo>
                      <a:pt x="1045" y="1070"/>
                    </a:lnTo>
                    <a:lnTo>
                      <a:pt x="974" y="1117"/>
                    </a:lnTo>
                    <a:lnTo>
                      <a:pt x="891" y="1159"/>
                    </a:lnTo>
                    <a:lnTo>
                      <a:pt x="809" y="1195"/>
                    </a:lnTo>
                    <a:lnTo>
                      <a:pt x="720" y="1218"/>
                    </a:lnTo>
                    <a:lnTo>
                      <a:pt x="632" y="1241"/>
                    </a:lnTo>
                    <a:lnTo>
                      <a:pt x="549" y="1247"/>
                    </a:lnTo>
                    <a:lnTo>
                      <a:pt x="461" y="1247"/>
                    </a:lnTo>
                    <a:lnTo>
                      <a:pt x="378" y="1236"/>
                    </a:lnTo>
                    <a:lnTo>
                      <a:pt x="301" y="1212"/>
                    </a:lnTo>
                    <a:lnTo>
                      <a:pt x="265" y="1195"/>
                    </a:lnTo>
                    <a:lnTo>
                      <a:pt x="230" y="1177"/>
                    </a:lnTo>
                    <a:lnTo>
                      <a:pt x="194" y="1153"/>
                    </a:lnTo>
                    <a:lnTo>
                      <a:pt x="165" y="1122"/>
                    </a:lnTo>
                    <a:lnTo>
                      <a:pt x="136" y="1093"/>
                    </a:lnTo>
                    <a:lnTo>
                      <a:pt x="112" y="1064"/>
                    </a:lnTo>
                    <a:lnTo>
                      <a:pt x="83" y="1023"/>
                    </a:lnTo>
                    <a:lnTo>
                      <a:pt x="66" y="981"/>
                    </a:lnTo>
                    <a:lnTo>
                      <a:pt x="42" y="940"/>
                    </a:lnTo>
                    <a:lnTo>
                      <a:pt x="30" y="899"/>
                    </a:lnTo>
                    <a:lnTo>
                      <a:pt x="12" y="809"/>
                    </a:lnTo>
                    <a:lnTo>
                      <a:pt x="0" y="721"/>
                    </a:lnTo>
                    <a:lnTo>
                      <a:pt x="6" y="633"/>
                    </a:lnTo>
                    <a:lnTo>
                      <a:pt x="24" y="544"/>
                    </a:lnTo>
                    <a:lnTo>
                      <a:pt x="53" y="455"/>
                    </a:lnTo>
                    <a:lnTo>
                      <a:pt x="95" y="373"/>
                    </a:lnTo>
                    <a:lnTo>
                      <a:pt x="142" y="296"/>
                    </a:lnTo>
                    <a:lnTo>
                      <a:pt x="201" y="225"/>
                    </a:lnTo>
                    <a:lnTo>
                      <a:pt x="265" y="165"/>
                    </a:lnTo>
                    <a:lnTo>
                      <a:pt x="337" y="107"/>
                    </a:lnTo>
                    <a:lnTo>
                      <a:pt x="419" y="66"/>
                    </a:lnTo>
                    <a:lnTo>
                      <a:pt x="502" y="30"/>
                    </a:lnTo>
                    <a:lnTo>
                      <a:pt x="549" y="18"/>
                    </a:lnTo>
                    <a:lnTo>
                      <a:pt x="596" y="12"/>
                    </a:lnTo>
                    <a:lnTo>
                      <a:pt x="643" y="6"/>
                    </a:lnTo>
                    <a:lnTo>
                      <a:pt x="691" y="0"/>
                    </a:lnTo>
                    <a:lnTo>
                      <a:pt x="762" y="6"/>
                    </a:lnTo>
                    <a:lnTo>
                      <a:pt x="833" y="24"/>
                    </a:lnTo>
                    <a:lnTo>
                      <a:pt x="903" y="48"/>
                    </a:lnTo>
                    <a:lnTo>
                      <a:pt x="968" y="77"/>
                    </a:lnTo>
                    <a:lnTo>
                      <a:pt x="1028" y="118"/>
                    </a:lnTo>
                    <a:lnTo>
                      <a:pt x="1087" y="165"/>
                    </a:lnTo>
                    <a:lnTo>
                      <a:pt x="1134" y="213"/>
                    </a:lnTo>
                    <a:lnTo>
                      <a:pt x="1181" y="272"/>
                    </a:lnTo>
                    <a:lnTo>
                      <a:pt x="1216" y="332"/>
                    </a:lnTo>
                    <a:lnTo>
                      <a:pt x="1246" y="396"/>
                    </a:lnTo>
                    <a:lnTo>
                      <a:pt x="1270" y="461"/>
                    </a:lnTo>
                    <a:lnTo>
                      <a:pt x="1287" y="532"/>
                    </a:lnTo>
                    <a:lnTo>
                      <a:pt x="1293" y="603"/>
                    </a:lnTo>
                    <a:lnTo>
                      <a:pt x="1287" y="674"/>
                    </a:lnTo>
                    <a:lnTo>
                      <a:pt x="1276" y="745"/>
                    </a:lnTo>
                    <a:lnTo>
                      <a:pt x="1252" y="81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37"/>
              <p:cNvSpPr/>
              <p:nvPr/>
            </p:nvSpPr>
            <p:spPr>
              <a:xfrm>
                <a:off x="7378560" y="1263240"/>
                <a:ext cx="127080" cy="1443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638" h="733">
                    <a:moveTo>
                      <a:pt x="0" y="597"/>
                    </a:moveTo>
                    <a:lnTo>
                      <a:pt x="0" y="622"/>
                    </a:lnTo>
                    <a:lnTo>
                      <a:pt x="7" y="645"/>
                    </a:lnTo>
                    <a:lnTo>
                      <a:pt x="24" y="674"/>
                    </a:lnTo>
                    <a:lnTo>
                      <a:pt x="54" y="704"/>
                    </a:lnTo>
                    <a:lnTo>
                      <a:pt x="89" y="721"/>
                    </a:lnTo>
                    <a:lnTo>
                      <a:pt x="131" y="733"/>
                    </a:lnTo>
                    <a:lnTo>
                      <a:pt x="184" y="733"/>
                    </a:lnTo>
                    <a:lnTo>
                      <a:pt x="237" y="733"/>
                    </a:lnTo>
                    <a:lnTo>
                      <a:pt x="290" y="721"/>
                    </a:lnTo>
                    <a:lnTo>
                      <a:pt x="349" y="704"/>
                    </a:lnTo>
                    <a:lnTo>
                      <a:pt x="409" y="680"/>
                    </a:lnTo>
                    <a:lnTo>
                      <a:pt x="462" y="651"/>
                    </a:lnTo>
                    <a:lnTo>
                      <a:pt x="509" y="622"/>
                    </a:lnTo>
                    <a:lnTo>
                      <a:pt x="550" y="579"/>
                    </a:lnTo>
                    <a:lnTo>
                      <a:pt x="585" y="532"/>
                    </a:lnTo>
                    <a:lnTo>
                      <a:pt x="615" y="479"/>
                    </a:lnTo>
                    <a:lnTo>
                      <a:pt x="626" y="426"/>
                    </a:lnTo>
                    <a:lnTo>
                      <a:pt x="638" y="338"/>
                    </a:lnTo>
                    <a:lnTo>
                      <a:pt x="632" y="266"/>
                    </a:lnTo>
                    <a:lnTo>
                      <a:pt x="615" y="201"/>
                    </a:lnTo>
                    <a:lnTo>
                      <a:pt x="585" y="148"/>
                    </a:lnTo>
                    <a:lnTo>
                      <a:pt x="550" y="101"/>
                    </a:lnTo>
                    <a:lnTo>
                      <a:pt x="509" y="72"/>
                    </a:lnTo>
                    <a:lnTo>
                      <a:pt x="462" y="41"/>
                    </a:lnTo>
                    <a:lnTo>
                      <a:pt x="409" y="24"/>
                    </a:lnTo>
                    <a:lnTo>
                      <a:pt x="361" y="6"/>
                    </a:lnTo>
                    <a:lnTo>
                      <a:pt x="308" y="0"/>
                    </a:lnTo>
                    <a:lnTo>
                      <a:pt x="261" y="0"/>
                    </a:lnTo>
                    <a:lnTo>
                      <a:pt x="219" y="0"/>
                    </a:lnTo>
                    <a:lnTo>
                      <a:pt x="184" y="0"/>
                    </a:lnTo>
                    <a:lnTo>
                      <a:pt x="154" y="12"/>
                    </a:lnTo>
                    <a:lnTo>
                      <a:pt x="136" y="18"/>
                    </a:lnTo>
                    <a:lnTo>
                      <a:pt x="131" y="24"/>
                    </a:lnTo>
                    <a:lnTo>
                      <a:pt x="136" y="72"/>
                    </a:lnTo>
                    <a:lnTo>
                      <a:pt x="131" y="119"/>
                    </a:lnTo>
                    <a:lnTo>
                      <a:pt x="119" y="213"/>
                    </a:lnTo>
                    <a:lnTo>
                      <a:pt x="102" y="302"/>
                    </a:lnTo>
                    <a:lnTo>
                      <a:pt x="72" y="391"/>
                    </a:lnTo>
                    <a:lnTo>
                      <a:pt x="24" y="526"/>
                    </a:lnTo>
                    <a:lnTo>
                      <a:pt x="7" y="573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4" name="Freeform 38"/>
            <p:cNvSpPr/>
            <p:nvPr/>
          </p:nvSpPr>
          <p:spPr>
            <a:xfrm>
              <a:off x="6797520" y="13701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27" h="438">
                  <a:moveTo>
                    <a:pt x="927" y="130"/>
                  </a:moveTo>
                  <a:lnTo>
                    <a:pt x="903" y="59"/>
                  </a:lnTo>
                  <a:lnTo>
                    <a:pt x="874" y="0"/>
                  </a:lnTo>
                  <a:lnTo>
                    <a:pt x="768" y="47"/>
                  </a:lnTo>
                  <a:lnTo>
                    <a:pt x="650" y="101"/>
                  </a:lnTo>
                  <a:lnTo>
                    <a:pt x="531" y="154"/>
                  </a:lnTo>
                  <a:lnTo>
                    <a:pt x="479" y="172"/>
                  </a:lnTo>
                  <a:lnTo>
                    <a:pt x="431" y="189"/>
                  </a:lnTo>
                  <a:lnTo>
                    <a:pt x="218" y="237"/>
                  </a:lnTo>
                  <a:lnTo>
                    <a:pt x="101" y="266"/>
                  </a:lnTo>
                  <a:lnTo>
                    <a:pt x="12" y="290"/>
                  </a:lnTo>
                  <a:lnTo>
                    <a:pt x="6" y="295"/>
                  </a:lnTo>
                  <a:lnTo>
                    <a:pt x="0" y="307"/>
                  </a:lnTo>
                  <a:lnTo>
                    <a:pt x="6" y="336"/>
                  </a:lnTo>
                  <a:lnTo>
                    <a:pt x="18" y="379"/>
                  </a:lnTo>
                  <a:lnTo>
                    <a:pt x="41" y="426"/>
                  </a:lnTo>
                  <a:lnTo>
                    <a:pt x="101" y="432"/>
                  </a:lnTo>
                  <a:lnTo>
                    <a:pt x="160" y="438"/>
                  </a:lnTo>
                  <a:lnTo>
                    <a:pt x="218" y="438"/>
                  </a:lnTo>
                  <a:lnTo>
                    <a:pt x="277" y="438"/>
                  </a:lnTo>
                  <a:lnTo>
                    <a:pt x="337" y="426"/>
                  </a:lnTo>
                  <a:lnTo>
                    <a:pt x="396" y="414"/>
                  </a:lnTo>
                  <a:lnTo>
                    <a:pt x="449" y="403"/>
                  </a:lnTo>
                  <a:lnTo>
                    <a:pt x="508" y="385"/>
                  </a:lnTo>
                  <a:lnTo>
                    <a:pt x="614" y="336"/>
                  </a:lnTo>
                  <a:lnTo>
                    <a:pt x="721" y="278"/>
                  </a:lnTo>
                  <a:lnTo>
                    <a:pt x="827" y="207"/>
                  </a:lnTo>
                  <a:lnTo>
                    <a:pt x="927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9"/>
            <p:cNvSpPr/>
            <p:nvPr/>
          </p:nvSpPr>
          <p:spPr>
            <a:xfrm>
              <a:off x="6875280" y="1461960"/>
              <a:ext cx="120600" cy="134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09" h="679">
                  <a:moveTo>
                    <a:pt x="0" y="562"/>
                  </a:moveTo>
                  <a:lnTo>
                    <a:pt x="41" y="597"/>
                  </a:lnTo>
                  <a:lnTo>
                    <a:pt x="83" y="627"/>
                  </a:lnTo>
                  <a:lnTo>
                    <a:pt x="130" y="656"/>
                  </a:lnTo>
                  <a:lnTo>
                    <a:pt x="182" y="674"/>
                  </a:lnTo>
                  <a:lnTo>
                    <a:pt x="230" y="679"/>
                  </a:lnTo>
                  <a:lnTo>
                    <a:pt x="284" y="679"/>
                  </a:lnTo>
                  <a:lnTo>
                    <a:pt x="337" y="662"/>
                  </a:lnTo>
                  <a:lnTo>
                    <a:pt x="396" y="638"/>
                  </a:lnTo>
                  <a:lnTo>
                    <a:pt x="431" y="615"/>
                  </a:lnTo>
                  <a:lnTo>
                    <a:pt x="460" y="586"/>
                  </a:lnTo>
                  <a:lnTo>
                    <a:pt x="490" y="556"/>
                  </a:lnTo>
                  <a:lnTo>
                    <a:pt x="513" y="520"/>
                  </a:lnTo>
                  <a:lnTo>
                    <a:pt x="531" y="485"/>
                  </a:lnTo>
                  <a:lnTo>
                    <a:pt x="555" y="449"/>
                  </a:lnTo>
                  <a:lnTo>
                    <a:pt x="578" y="366"/>
                  </a:lnTo>
                  <a:lnTo>
                    <a:pt x="603" y="284"/>
                  </a:lnTo>
                  <a:lnTo>
                    <a:pt x="609" y="189"/>
                  </a:lnTo>
                  <a:lnTo>
                    <a:pt x="609" y="95"/>
                  </a:lnTo>
                  <a:lnTo>
                    <a:pt x="603" y="0"/>
                  </a:lnTo>
                  <a:lnTo>
                    <a:pt x="519" y="59"/>
                  </a:lnTo>
                  <a:lnTo>
                    <a:pt x="431" y="118"/>
                  </a:lnTo>
                  <a:lnTo>
                    <a:pt x="348" y="189"/>
                  </a:lnTo>
                  <a:lnTo>
                    <a:pt x="266" y="255"/>
                  </a:lnTo>
                  <a:lnTo>
                    <a:pt x="188" y="325"/>
                  </a:lnTo>
                  <a:lnTo>
                    <a:pt x="118" y="402"/>
                  </a:lnTo>
                  <a:lnTo>
                    <a:pt x="53" y="479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98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0"/>
            <p:cNvSpPr/>
            <p:nvPr/>
          </p:nvSpPr>
          <p:spPr>
            <a:xfrm>
              <a:off x="6805440" y="1395360"/>
              <a:ext cx="188640" cy="177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52" h="893">
                  <a:moveTo>
                    <a:pt x="886" y="0"/>
                  </a:moveTo>
                  <a:lnTo>
                    <a:pt x="786" y="77"/>
                  </a:lnTo>
                  <a:lnTo>
                    <a:pt x="680" y="148"/>
                  </a:lnTo>
                  <a:lnTo>
                    <a:pt x="573" y="206"/>
                  </a:lnTo>
                  <a:lnTo>
                    <a:pt x="467" y="255"/>
                  </a:lnTo>
                  <a:lnTo>
                    <a:pt x="408" y="273"/>
                  </a:lnTo>
                  <a:lnTo>
                    <a:pt x="355" y="284"/>
                  </a:lnTo>
                  <a:lnTo>
                    <a:pt x="296" y="296"/>
                  </a:lnTo>
                  <a:lnTo>
                    <a:pt x="236" y="308"/>
                  </a:lnTo>
                  <a:lnTo>
                    <a:pt x="177" y="308"/>
                  </a:lnTo>
                  <a:lnTo>
                    <a:pt x="119" y="308"/>
                  </a:lnTo>
                  <a:lnTo>
                    <a:pt x="60" y="302"/>
                  </a:lnTo>
                  <a:lnTo>
                    <a:pt x="0" y="296"/>
                  </a:lnTo>
                  <a:lnTo>
                    <a:pt x="89" y="467"/>
                  </a:lnTo>
                  <a:lnTo>
                    <a:pt x="160" y="620"/>
                  </a:lnTo>
                  <a:lnTo>
                    <a:pt x="195" y="691"/>
                  </a:lnTo>
                  <a:lnTo>
                    <a:pt x="242" y="768"/>
                  </a:lnTo>
                  <a:lnTo>
                    <a:pt x="290" y="828"/>
                  </a:lnTo>
                  <a:lnTo>
                    <a:pt x="349" y="893"/>
                  </a:lnTo>
                  <a:lnTo>
                    <a:pt x="402" y="810"/>
                  </a:lnTo>
                  <a:lnTo>
                    <a:pt x="467" y="733"/>
                  </a:lnTo>
                  <a:lnTo>
                    <a:pt x="537" y="656"/>
                  </a:lnTo>
                  <a:lnTo>
                    <a:pt x="615" y="586"/>
                  </a:lnTo>
                  <a:lnTo>
                    <a:pt x="697" y="520"/>
                  </a:lnTo>
                  <a:lnTo>
                    <a:pt x="780" y="449"/>
                  </a:lnTo>
                  <a:lnTo>
                    <a:pt x="868" y="390"/>
                  </a:lnTo>
                  <a:lnTo>
                    <a:pt x="952" y="331"/>
                  </a:lnTo>
                  <a:lnTo>
                    <a:pt x="946" y="243"/>
                  </a:lnTo>
                  <a:lnTo>
                    <a:pt x="927" y="160"/>
                  </a:lnTo>
                  <a:lnTo>
                    <a:pt x="910" y="77"/>
                  </a:lnTo>
                  <a:lnTo>
                    <a:pt x="886" y="0"/>
                  </a:lnTo>
                  <a:close/>
                </a:path>
              </a:pathLst>
            </a:custGeom>
            <a:solidFill>
              <a:srgbClr val="a9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1"/>
            <p:cNvSpPr/>
            <p:nvPr/>
          </p:nvSpPr>
          <p:spPr>
            <a:xfrm rot="20789400">
              <a:off x="6783120" y="801360"/>
              <a:ext cx="498240" cy="2235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2516" h="1124">
                  <a:moveTo>
                    <a:pt x="0" y="72"/>
                  </a:moveTo>
                  <a:lnTo>
                    <a:pt x="77" y="54"/>
                  </a:lnTo>
                  <a:lnTo>
                    <a:pt x="165" y="36"/>
                  </a:lnTo>
                  <a:lnTo>
                    <a:pt x="283" y="18"/>
                  </a:lnTo>
                  <a:lnTo>
                    <a:pt x="431" y="6"/>
                  </a:lnTo>
                  <a:lnTo>
                    <a:pt x="590" y="0"/>
                  </a:lnTo>
                  <a:lnTo>
                    <a:pt x="774" y="6"/>
                  </a:lnTo>
                  <a:lnTo>
                    <a:pt x="874" y="12"/>
                  </a:lnTo>
                  <a:lnTo>
                    <a:pt x="968" y="24"/>
                  </a:lnTo>
                  <a:lnTo>
                    <a:pt x="1069" y="36"/>
                  </a:lnTo>
                  <a:lnTo>
                    <a:pt x="1175" y="60"/>
                  </a:lnTo>
                  <a:lnTo>
                    <a:pt x="1276" y="84"/>
                  </a:lnTo>
                  <a:lnTo>
                    <a:pt x="1382" y="119"/>
                  </a:lnTo>
                  <a:lnTo>
                    <a:pt x="1488" y="155"/>
                  </a:lnTo>
                  <a:lnTo>
                    <a:pt x="1595" y="202"/>
                  </a:lnTo>
                  <a:lnTo>
                    <a:pt x="1695" y="254"/>
                  </a:lnTo>
                  <a:lnTo>
                    <a:pt x="1802" y="314"/>
                  </a:lnTo>
                  <a:lnTo>
                    <a:pt x="1902" y="379"/>
                  </a:lnTo>
                  <a:lnTo>
                    <a:pt x="2003" y="456"/>
                  </a:lnTo>
                  <a:lnTo>
                    <a:pt x="2097" y="544"/>
                  </a:lnTo>
                  <a:lnTo>
                    <a:pt x="2191" y="640"/>
                  </a:lnTo>
                  <a:lnTo>
                    <a:pt x="2280" y="745"/>
                  </a:lnTo>
                  <a:lnTo>
                    <a:pt x="2363" y="863"/>
                  </a:lnTo>
                  <a:lnTo>
                    <a:pt x="2446" y="988"/>
                  </a:lnTo>
                  <a:lnTo>
                    <a:pt x="2516" y="1124"/>
                  </a:lnTo>
                  <a:lnTo>
                    <a:pt x="2463" y="1076"/>
                  </a:lnTo>
                  <a:lnTo>
                    <a:pt x="2297" y="947"/>
                  </a:lnTo>
                  <a:lnTo>
                    <a:pt x="2185" y="863"/>
                  </a:lnTo>
                  <a:lnTo>
                    <a:pt x="2050" y="769"/>
                  </a:lnTo>
                  <a:lnTo>
                    <a:pt x="1896" y="669"/>
                  </a:lnTo>
                  <a:lnTo>
                    <a:pt x="1725" y="562"/>
                  </a:lnTo>
                  <a:lnTo>
                    <a:pt x="1541" y="462"/>
                  </a:lnTo>
                  <a:lnTo>
                    <a:pt x="1347" y="367"/>
                  </a:lnTo>
                  <a:lnTo>
                    <a:pt x="1134" y="272"/>
                  </a:lnTo>
                  <a:lnTo>
                    <a:pt x="1028" y="237"/>
                  </a:lnTo>
                  <a:lnTo>
                    <a:pt x="921" y="196"/>
                  </a:lnTo>
                  <a:lnTo>
                    <a:pt x="809" y="166"/>
                  </a:lnTo>
                  <a:lnTo>
                    <a:pt x="697" y="137"/>
                  </a:lnTo>
                  <a:lnTo>
                    <a:pt x="578" y="113"/>
                  </a:lnTo>
                  <a:lnTo>
                    <a:pt x="467" y="89"/>
                  </a:lnTo>
                  <a:lnTo>
                    <a:pt x="349" y="78"/>
                  </a:lnTo>
                  <a:lnTo>
                    <a:pt x="230" y="72"/>
                  </a:lnTo>
                  <a:lnTo>
                    <a:pt x="118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2"/>
            <p:cNvSpPr/>
            <p:nvPr/>
          </p:nvSpPr>
          <p:spPr>
            <a:xfrm>
              <a:off x="6387840" y="149040"/>
              <a:ext cx="528480" cy="71100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664" h="3587">
                  <a:moveTo>
                    <a:pt x="101" y="248"/>
                  </a:moveTo>
                  <a:lnTo>
                    <a:pt x="72" y="290"/>
                  </a:lnTo>
                  <a:lnTo>
                    <a:pt x="47" y="330"/>
                  </a:lnTo>
                  <a:lnTo>
                    <a:pt x="29" y="372"/>
                  </a:lnTo>
                  <a:lnTo>
                    <a:pt x="11" y="419"/>
                  </a:lnTo>
                  <a:lnTo>
                    <a:pt x="0" y="461"/>
                  </a:lnTo>
                  <a:lnTo>
                    <a:pt x="0" y="508"/>
                  </a:lnTo>
                  <a:lnTo>
                    <a:pt x="0" y="556"/>
                  </a:lnTo>
                  <a:lnTo>
                    <a:pt x="0" y="603"/>
                  </a:lnTo>
                  <a:lnTo>
                    <a:pt x="130" y="579"/>
                  </a:lnTo>
                  <a:lnTo>
                    <a:pt x="130" y="515"/>
                  </a:lnTo>
                  <a:lnTo>
                    <a:pt x="130" y="485"/>
                  </a:lnTo>
                  <a:lnTo>
                    <a:pt x="142" y="450"/>
                  </a:lnTo>
                  <a:lnTo>
                    <a:pt x="166" y="390"/>
                  </a:lnTo>
                  <a:lnTo>
                    <a:pt x="201" y="330"/>
                  </a:lnTo>
                  <a:lnTo>
                    <a:pt x="242" y="290"/>
                  </a:lnTo>
                  <a:lnTo>
                    <a:pt x="289" y="248"/>
                  </a:lnTo>
                  <a:lnTo>
                    <a:pt x="342" y="213"/>
                  </a:lnTo>
                  <a:lnTo>
                    <a:pt x="390" y="189"/>
                  </a:lnTo>
                  <a:lnTo>
                    <a:pt x="444" y="166"/>
                  </a:lnTo>
                  <a:lnTo>
                    <a:pt x="490" y="149"/>
                  </a:lnTo>
                  <a:lnTo>
                    <a:pt x="532" y="135"/>
                  </a:lnTo>
                  <a:lnTo>
                    <a:pt x="567" y="135"/>
                  </a:lnTo>
                  <a:lnTo>
                    <a:pt x="644" y="135"/>
                  </a:lnTo>
                  <a:lnTo>
                    <a:pt x="721" y="141"/>
                  </a:lnTo>
                  <a:lnTo>
                    <a:pt x="798" y="166"/>
                  </a:lnTo>
                  <a:lnTo>
                    <a:pt x="875" y="189"/>
                  </a:lnTo>
                  <a:lnTo>
                    <a:pt x="951" y="225"/>
                  </a:lnTo>
                  <a:lnTo>
                    <a:pt x="1022" y="272"/>
                  </a:lnTo>
                  <a:lnTo>
                    <a:pt x="1093" y="319"/>
                  </a:lnTo>
                  <a:lnTo>
                    <a:pt x="1164" y="372"/>
                  </a:lnTo>
                  <a:lnTo>
                    <a:pt x="1235" y="425"/>
                  </a:lnTo>
                  <a:lnTo>
                    <a:pt x="1299" y="485"/>
                  </a:lnTo>
                  <a:lnTo>
                    <a:pt x="1424" y="614"/>
                  </a:lnTo>
                  <a:lnTo>
                    <a:pt x="1542" y="745"/>
                  </a:lnTo>
                  <a:lnTo>
                    <a:pt x="1642" y="875"/>
                  </a:lnTo>
                  <a:lnTo>
                    <a:pt x="1755" y="1023"/>
                  </a:lnTo>
                  <a:lnTo>
                    <a:pt x="1860" y="1176"/>
                  </a:lnTo>
                  <a:lnTo>
                    <a:pt x="1961" y="1336"/>
                  </a:lnTo>
                  <a:lnTo>
                    <a:pt x="2055" y="1501"/>
                  </a:lnTo>
                  <a:lnTo>
                    <a:pt x="2138" y="1667"/>
                  </a:lnTo>
                  <a:lnTo>
                    <a:pt x="2215" y="1838"/>
                  </a:lnTo>
                  <a:lnTo>
                    <a:pt x="2286" y="2009"/>
                  </a:lnTo>
                  <a:lnTo>
                    <a:pt x="2344" y="2187"/>
                  </a:lnTo>
                  <a:lnTo>
                    <a:pt x="2398" y="2363"/>
                  </a:lnTo>
                  <a:lnTo>
                    <a:pt x="2440" y="2541"/>
                  </a:lnTo>
                  <a:lnTo>
                    <a:pt x="2475" y="2718"/>
                  </a:lnTo>
                  <a:lnTo>
                    <a:pt x="2505" y="2896"/>
                  </a:lnTo>
                  <a:lnTo>
                    <a:pt x="2522" y="3067"/>
                  </a:lnTo>
                  <a:lnTo>
                    <a:pt x="2528" y="3238"/>
                  </a:lnTo>
                  <a:lnTo>
                    <a:pt x="2528" y="3410"/>
                  </a:lnTo>
                  <a:lnTo>
                    <a:pt x="2516" y="3575"/>
                  </a:lnTo>
                  <a:lnTo>
                    <a:pt x="2652" y="3587"/>
                  </a:lnTo>
                  <a:lnTo>
                    <a:pt x="2658" y="3416"/>
                  </a:lnTo>
                  <a:lnTo>
                    <a:pt x="2664" y="3238"/>
                  </a:lnTo>
                  <a:lnTo>
                    <a:pt x="2652" y="3061"/>
                  </a:lnTo>
                  <a:lnTo>
                    <a:pt x="2634" y="2884"/>
                  </a:lnTo>
                  <a:lnTo>
                    <a:pt x="2605" y="2700"/>
                  </a:lnTo>
                  <a:lnTo>
                    <a:pt x="2570" y="2518"/>
                  </a:lnTo>
                  <a:lnTo>
                    <a:pt x="2522" y="2334"/>
                  </a:lnTo>
                  <a:lnTo>
                    <a:pt x="2469" y="2152"/>
                  </a:lnTo>
                  <a:lnTo>
                    <a:pt x="2411" y="1968"/>
                  </a:lnTo>
                  <a:lnTo>
                    <a:pt x="2333" y="1790"/>
                  </a:lnTo>
                  <a:lnTo>
                    <a:pt x="2257" y="1613"/>
                  </a:lnTo>
                  <a:lnTo>
                    <a:pt x="2168" y="1436"/>
                  </a:lnTo>
                  <a:lnTo>
                    <a:pt x="2074" y="1264"/>
                  </a:lnTo>
                  <a:lnTo>
                    <a:pt x="1973" y="1105"/>
                  </a:lnTo>
                  <a:lnTo>
                    <a:pt x="1860" y="946"/>
                  </a:lnTo>
                  <a:lnTo>
                    <a:pt x="1749" y="792"/>
                  </a:lnTo>
                  <a:lnTo>
                    <a:pt x="1630" y="644"/>
                  </a:lnTo>
                  <a:lnTo>
                    <a:pt x="1501" y="502"/>
                  </a:lnTo>
                  <a:lnTo>
                    <a:pt x="1365" y="366"/>
                  </a:lnTo>
                  <a:lnTo>
                    <a:pt x="1293" y="301"/>
                  </a:lnTo>
                  <a:lnTo>
                    <a:pt x="1217" y="242"/>
                  </a:lnTo>
                  <a:lnTo>
                    <a:pt x="1140" y="189"/>
                  </a:lnTo>
                  <a:lnTo>
                    <a:pt x="1063" y="135"/>
                  </a:lnTo>
                  <a:lnTo>
                    <a:pt x="986" y="94"/>
                  </a:lnTo>
                  <a:lnTo>
                    <a:pt x="904" y="59"/>
                  </a:lnTo>
                  <a:lnTo>
                    <a:pt x="821" y="29"/>
                  </a:lnTo>
                  <a:lnTo>
                    <a:pt x="732" y="12"/>
                  </a:lnTo>
                  <a:lnTo>
                    <a:pt x="649" y="0"/>
                  </a:lnTo>
                  <a:lnTo>
                    <a:pt x="561" y="0"/>
                  </a:lnTo>
                  <a:lnTo>
                    <a:pt x="508" y="6"/>
                  </a:lnTo>
                  <a:lnTo>
                    <a:pt x="449" y="24"/>
                  </a:lnTo>
                  <a:lnTo>
                    <a:pt x="390" y="41"/>
                  </a:lnTo>
                  <a:lnTo>
                    <a:pt x="325" y="71"/>
                  </a:lnTo>
                  <a:lnTo>
                    <a:pt x="266" y="106"/>
                  </a:lnTo>
                  <a:lnTo>
                    <a:pt x="207" y="149"/>
                  </a:lnTo>
                  <a:lnTo>
                    <a:pt x="148" y="195"/>
                  </a:lnTo>
                  <a:lnTo>
                    <a:pt x="101" y="248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3"/>
            <p:cNvSpPr/>
            <p:nvPr/>
          </p:nvSpPr>
          <p:spPr>
            <a:xfrm>
              <a:off x="6357960" y="204480"/>
              <a:ext cx="109440" cy="110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55" h="561">
                  <a:moveTo>
                    <a:pt x="460" y="70"/>
                  </a:moveTo>
                  <a:lnTo>
                    <a:pt x="502" y="111"/>
                  </a:lnTo>
                  <a:lnTo>
                    <a:pt x="526" y="158"/>
                  </a:lnTo>
                  <a:lnTo>
                    <a:pt x="550" y="211"/>
                  </a:lnTo>
                  <a:lnTo>
                    <a:pt x="555" y="266"/>
                  </a:lnTo>
                  <a:lnTo>
                    <a:pt x="555" y="318"/>
                  </a:lnTo>
                  <a:lnTo>
                    <a:pt x="544" y="371"/>
                  </a:lnTo>
                  <a:lnTo>
                    <a:pt x="520" y="419"/>
                  </a:lnTo>
                  <a:lnTo>
                    <a:pt x="484" y="466"/>
                  </a:lnTo>
                  <a:lnTo>
                    <a:pt x="443" y="501"/>
                  </a:lnTo>
                  <a:lnTo>
                    <a:pt x="396" y="530"/>
                  </a:lnTo>
                  <a:lnTo>
                    <a:pt x="343" y="549"/>
                  </a:lnTo>
                  <a:lnTo>
                    <a:pt x="295" y="561"/>
                  </a:lnTo>
                  <a:lnTo>
                    <a:pt x="237" y="555"/>
                  </a:lnTo>
                  <a:lnTo>
                    <a:pt x="190" y="542"/>
                  </a:lnTo>
                  <a:lnTo>
                    <a:pt x="135" y="518"/>
                  </a:lnTo>
                  <a:lnTo>
                    <a:pt x="88" y="490"/>
                  </a:lnTo>
                  <a:lnTo>
                    <a:pt x="53" y="448"/>
                  </a:lnTo>
                  <a:lnTo>
                    <a:pt x="24" y="401"/>
                  </a:lnTo>
                  <a:lnTo>
                    <a:pt x="6" y="348"/>
                  </a:lnTo>
                  <a:lnTo>
                    <a:pt x="0" y="295"/>
                  </a:lnTo>
                  <a:lnTo>
                    <a:pt x="0" y="241"/>
                  </a:lnTo>
                  <a:lnTo>
                    <a:pt x="12" y="188"/>
                  </a:lnTo>
                  <a:lnTo>
                    <a:pt x="36" y="141"/>
                  </a:lnTo>
                  <a:lnTo>
                    <a:pt x="65" y="94"/>
                  </a:lnTo>
                  <a:lnTo>
                    <a:pt x="106" y="52"/>
                  </a:lnTo>
                  <a:lnTo>
                    <a:pt x="153" y="29"/>
                  </a:lnTo>
                  <a:lnTo>
                    <a:pt x="207" y="5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6" y="17"/>
                  </a:lnTo>
                  <a:lnTo>
                    <a:pt x="413" y="35"/>
                  </a:lnTo>
                  <a:lnTo>
                    <a:pt x="460" y="70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4"/>
            <p:cNvSpPr/>
            <p:nvPr/>
          </p:nvSpPr>
          <p:spPr>
            <a:xfrm>
              <a:off x="6375240" y="223560"/>
              <a:ext cx="745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3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07"/>
                  </a:lnTo>
                  <a:lnTo>
                    <a:pt x="302" y="331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60" y="366"/>
                  </a:lnTo>
                  <a:lnTo>
                    <a:pt x="125" y="360"/>
                  </a:lnTo>
                  <a:lnTo>
                    <a:pt x="95" y="342"/>
                  </a:lnTo>
                  <a:lnTo>
                    <a:pt x="65" y="325"/>
                  </a:lnTo>
                  <a:lnTo>
                    <a:pt x="41" y="295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3"/>
                  </a:lnTo>
                  <a:lnTo>
                    <a:pt x="12" y="123"/>
                  </a:lnTo>
                  <a:lnTo>
                    <a:pt x="30" y="88"/>
                  </a:lnTo>
                  <a:lnTo>
                    <a:pt x="47" y="58"/>
                  </a:lnTo>
                  <a:lnTo>
                    <a:pt x="77" y="35"/>
                  </a:lnTo>
                  <a:lnTo>
                    <a:pt x="108" y="17"/>
                  </a:lnTo>
                  <a:lnTo>
                    <a:pt x="143" y="6"/>
                  </a:lnTo>
                  <a:lnTo>
                    <a:pt x="178" y="0"/>
                  </a:lnTo>
                  <a:lnTo>
                    <a:pt x="219" y="0"/>
                  </a:lnTo>
                  <a:lnTo>
                    <a:pt x="249" y="12"/>
                  </a:lnTo>
                  <a:lnTo>
                    <a:pt x="284" y="23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5"/>
            <p:cNvSpPr/>
            <p:nvPr/>
          </p:nvSpPr>
          <p:spPr>
            <a:xfrm>
              <a:off x="7173720" y="149040"/>
              <a:ext cx="264960" cy="836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1341" h="4220">
                  <a:moveTo>
                    <a:pt x="278" y="23"/>
                  </a:moveTo>
                  <a:lnTo>
                    <a:pt x="230" y="41"/>
                  </a:lnTo>
                  <a:lnTo>
                    <a:pt x="189" y="64"/>
                  </a:lnTo>
                  <a:lnTo>
                    <a:pt x="148" y="88"/>
                  </a:lnTo>
                  <a:lnTo>
                    <a:pt x="113" y="112"/>
                  </a:lnTo>
                  <a:lnTo>
                    <a:pt x="77" y="147"/>
                  </a:lnTo>
                  <a:lnTo>
                    <a:pt x="48" y="183"/>
                  </a:lnTo>
                  <a:lnTo>
                    <a:pt x="18" y="218"/>
                  </a:lnTo>
                  <a:lnTo>
                    <a:pt x="0" y="260"/>
                  </a:lnTo>
                  <a:lnTo>
                    <a:pt x="119" y="319"/>
                  </a:lnTo>
                  <a:lnTo>
                    <a:pt x="154" y="260"/>
                  </a:lnTo>
                  <a:lnTo>
                    <a:pt x="172" y="237"/>
                  </a:lnTo>
                  <a:lnTo>
                    <a:pt x="195" y="213"/>
                  </a:lnTo>
                  <a:lnTo>
                    <a:pt x="248" y="178"/>
                  </a:lnTo>
                  <a:lnTo>
                    <a:pt x="313" y="154"/>
                  </a:lnTo>
                  <a:lnTo>
                    <a:pt x="373" y="135"/>
                  </a:lnTo>
                  <a:lnTo>
                    <a:pt x="438" y="129"/>
                  </a:lnTo>
                  <a:lnTo>
                    <a:pt x="497" y="129"/>
                  </a:lnTo>
                  <a:lnTo>
                    <a:pt x="555" y="135"/>
                  </a:lnTo>
                  <a:lnTo>
                    <a:pt x="609" y="147"/>
                  </a:lnTo>
                  <a:lnTo>
                    <a:pt x="655" y="160"/>
                  </a:lnTo>
                  <a:lnTo>
                    <a:pt x="698" y="178"/>
                  </a:lnTo>
                  <a:lnTo>
                    <a:pt x="733" y="195"/>
                  </a:lnTo>
                  <a:lnTo>
                    <a:pt x="792" y="237"/>
                  </a:lnTo>
                  <a:lnTo>
                    <a:pt x="851" y="289"/>
                  </a:lnTo>
                  <a:lnTo>
                    <a:pt x="904" y="348"/>
                  </a:lnTo>
                  <a:lnTo>
                    <a:pt x="951" y="413"/>
                  </a:lnTo>
                  <a:lnTo>
                    <a:pt x="992" y="485"/>
                  </a:lnTo>
                  <a:lnTo>
                    <a:pt x="1029" y="561"/>
                  </a:lnTo>
                  <a:lnTo>
                    <a:pt x="1058" y="644"/>
                  </a:lnTo>
                  <a:lnTo>
                    <a:pt x="1087" y="727"/>
                  </a:lnTo>
                  <a:lnTo>
                    <a:pt x="1111" y="810"/>
                  </a:lnTo>
                  <a:lnTo>
                    <a:pt x="1134" y="898"/>
                  </a:lnTo>
                  <a:lnTo>
                    <a:pt x="1164" y="1076"/>
                  </a:lnTo>
                  <a:lnTo>
                    <a:pt x="1188" y="1246"/>
                  </a:lnTo>
                  <a:lnTo>
                    <a:pt x="1199" y="1412"/>
                  </a:lnTo>
                  <a:lnTo>
                    <a:pt x="1211" y="1596"/>
                  </a:lnTo>
                  <a:lnTo>
                    <a:pt x="1211" y="1784"/>
                  </a:lnTo>
                  <a:lnTo>
                    <a:pt x="1205" y="1974"/>
                  </a:lnTo>
                  <a:lnTo>
                    <a:pt x="1188" y="2156"/>
                  </a:lnTo>
                  <a:lnTo>
                    <a:pt x="1158" y="2346"/>
                  </a:lnTo>
                  <a:lnTo>
                    <a:pt x="1128" y="2529"/>
                  </a:lnTo>
                  <a:lnTo>
                    <a:pt x="1087" y="2711"/>
                  </a:lnTo>
                  <a:lnTo>
                    <a:pt x="1040" y="2895"/>
                  </a:lnTo>
                  <a:lnTo>
                    <a:pt x="980" y="3067"/>
                  </a:lnTo>
                  <a:lnTo>
                    <a:pt x="922" y="3238"/>
                  </a:lnTo>
                  <a:lnTo>
                    <a:pt x="851" y="3404"/>
                  </a:lnTo>
                  <a:lnTo>
                    <a:pt x="774" y="3569"/>
                  </a:lnTo>
                  <a:lnTo>
                    <a:pt x="685" y="3723"/>
                  </a:lnTo>
                  <a:lnTo>
                    <a:pt x="597" y="3864"/>
                  </a:lnTo>
                  <a:lnTo>
                    <a:pt x="503" y="4006"/>
                  </a:lnTo>
                  <a:lnTo>
                    <a:pt x="402" y="4136"/>
                  </a:lnTo>
                  <a:lnTo>
                    <a:pt x="503" y="4220"/>
                  </a:lnTo>
                  <a:lnTo>
                    <a:pt x="609" y="4083"/>
                  </a:lnTo>
                  <a:lnTo>
                    <a:pt x="709" y="3942"/>
                  </a:lnTo>
                  <a:lnTo>
                    <a:pt x="798" y="3787"/>
                  </a:lnTo>
                  <a:lnTo>
                    <a:pt x="886" y="3628"/>
                  </a:lnTo>
                  <a:lnTo>
                    <a:pt x="969" y="3463"/>
                  </a:lnTo>
                  <a:lnTo>
                    <a:pt x="1040" y="3291"/>
                  </a:lnTo>
                  <a:lnTo>
                    <a:pt x="1105" y="3114"/>
                  </a:lnTo>
                  <a:lnTo>
                    <a:pt x="1164" y="2931"/>
                  </a:lnTo>
                  <a:lnTo>
                    <a:pt x="1211" y="2748"/>
                  </a:lnTo>
                  <a:lnTo>
                    <a:pt x="1258" y="2558"/>
                  </a:lnTo>
                  <a:lnTo>
                    <a:pt x="1288" y="2369"/>
                  </a:lnTo>
                  <a:lnTo>
                    <a:pt x="1317" y="2175"/>
                  </a:lnTo>
                  <a:lnTo>
                    <a:pt x="1335" y="1979"/>
                  </a:lnTo>
                  <a:lnTo>
                    <a:pt x="1341" y="1784"/>
                  </a:lnTo>
                  <a:lnTo>
                    <a:pt x="1341" y="1596"/>
                  </a:lnTo>
                  <a:lnTo>
                    <a:pt x="1335" y="1401"/>
                  </a:lnTo>
                  <a:lnTo>
                    <a:pt x="1317" y="1217"/>
                  </a:lnTo>
                  <a:lnTo>
                    <a:pt x="1294" y="1022"/>
                  </a:lnTo>
                  <a:lnTo>
                    <a:pt x="1252" y="833"/>
                  </a:lnTo>
                  <a:lnTo>
                    <a:pt x="1229" y="739"/>
                  </a:lnTo>
                  <a:lnTo>
                    <a:pt x="1205" y="650"/>
                  </a:lnTo>
                  <a:lnTo>
                    <a:pt x="1170" y="561"/>
                  </a:lnTo>
                  <a:lnTo>
                    <a:pt x="1134" y="479"/>
                  </a:lnTo>
                  <a:lnTo>
                    <a:pt x="1093" y="395"/>
                  </a:lnTo>
                  <a:lnTo>
                    <a:pt x="1046" y="319"/>
                  </a:lnTo>
                  <a:lnTo>
                    <a:pt x="992" y="254"/>
                  </a:lnTo>
                  <a:lnTo>
                    <a:pt x="933" y="189"/>
                  </a:lnTo>
                  <a:lnTo>
                    <a:pt x="868" y="129"/>
                  </a:lnTo>
                  <a:lnTo>
                    <a:pt x="798" y="82"/>
                  </a:lnTo>
                  <a:lnTo>
                    <a:pt x="751" y="58"/>
                  </a:lnTo>
                  <a:lnTo>
                    <a:pt x="691" y="35"/>
                  </a:lnTo>
                  <a:lnTo>
                    <a:pt x="632" y="17"/>
                  </a:lnTo>
                  <a:lnTo>
                    <a:pt x="561" y="5"/>
                  </a:lnTo>
                  <a:lnTo>
                    <a:pt x="491" y="0"/>
                  </a:lnTo>
                  <a:lnTo>
                    <a:pt x="420" y="0"/>
                  </a:lnTo>
                  <a:lnTo>
                    <a:pt x="348" y="12"/>
                  </a:lnTo>
                  <a:lnTo>
                    <a:pt x="278" y="23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6"/>
            <p:cNvSpPr/>
            <p:nvPr/>
          </p:nvSpPr>
          <p:spPr>
            <a:xfrm>
              <a:off x="7138800" y="12996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60" h="561">
                  <a:moveTo>
                    <a:pt x="555" y="211"/>
                  </a:moveTo>
                  <a:lnTo>
                    <a:pt x="560" y="271"/>
                  </a:lnTo>
                  <a:lnTo>
                    <a:pt x="555" y="324"/>
                  </a:lnTo>
                  <a:lnTo>
                    <a:pt x="543" y="377"/>
                  </a:lnTo>
                  <a:lnTo>
                    <a:pt x="520" y="425"/>
                  </a:lnTo>
                  <a:lnTo>
                    <a:pt x="490" y="466"/>
                  </a:lnTo>
                  <a:lnTo>
                    <a:pt x="449" y="507"/>
                  </a:lnTo>
                  <a:lnTo>
                    <a:pt x="402" y="530"/>
                  </a:lnTo>
                  <a:lnTo>
                    <a:pt x="349" y="555"/>
                  </a:lnTo>
                  <a:lnTo>
                    <a:pt x="295" y="561"/>
                  </a:lnTo>
                  <a:lnTo>
                    <a:pt x="236" y="555"/>
                  </a:lnTo>
                  <a:lnTo>
                    <a:pt x="189" y="542"/>
                  </a:lnTo>
                  <a:lnTo>
                    <a:pt x="135" y="518"/>
                  </a:lnTo>
                  <a:lnTo>
                    <a:pt x="94" y="490"/>
                  </a:lnTo>
                  <a:lnTo>
                    <a:pt x="59" y="448"/>
                  </a:lnTo>
                  <a:lnTo>
                    <a:pt x="30" y="401"/>
                  </a:lnTo>
                  <a:lnTo>
                    <a:pt x="12" y="348"/>
                  </a:lnTo>
                  <a:lnTo>
                    <a:pt x="0" y="295"/>
                  </a:lnTo>
                  <a:lnTo>
                    <a:pt x="6" y="235"/>
                  </a:lnTo>
                  <a:lnTo>
                    <a:pt x="18" y="188"/>
                  </a:lnTo>
                  <a:lnTo>
                    <a:pt x="42" y="135"/>
                  </a:lnTo>
                  <a:lnTo>
                    <a:pt x="77" y="94"/>
                  </a:lnTo>
                  <a:lnTo>
                    <a:pt x="112" y="59"/>
                  </a:lnTo>
                  <a:lnTo>
                    <a:pt x="159" y="29"/>
                  </a:lnTo>
                  <a:lnTo>
                    <a:pt x="212" y="11"/>
                  </a:lnTo>
                  <a:lnTo>
                    <a:pt x="272" y="0"/>
                  </a:lnTo>
                  <a:lnTo>
                    <a:pt x="325" y="5"/>
                  </a:lnTo>
                  <a:lnTo>
                    <a:pt x="378" y="17"/>
                  </a:lnTo>
                  <a:lnTo>
                    <a:pt x="425" y="40"/>
                  </a:lnTo>
                  <a:lnTo>
                    <a:pt x="466" y="76"/>
                  </a:lnTo>
                  <a:lnTo>
                    <a:pt x="508" y="111"/>
                  </a:lnTo>
                  <a:lnTo>
                    <a:pt x="531" y="158"/>
                  </a:lnTo>
                  <a:lnTo>
                    <a:pt x="555" y="211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7"/>
            <p:cNvSpPr/>
            <p:nvPr/>
          </p:nvSpPr>
          <p:spPr>
            <a:xfrm>
              <a:off x="7157880" y="149040"/>
              <a:ext cx="727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8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13"/>
                  </a:lnTo>
                  <a:lnTo>
                    <a:pt x="302" y="336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59" y="372"/>
                  </a:lnTo>
                  <a:lnTo>
                    <a:pt x="124" y="360"/>
                  </a:lnTo>
                  <a:lnTo>
                    <a:pt x="95" y="348"/>
                  </a:lnTo>
                  <a:lnTo>
                    <a:pt x="65" y="325"/>
                  </a:lnTo>
                  <a:lnTo>
                    <a:pt x="41" y="301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9"/>
                  </a:lnTo>
                  <a:lnTo>
                    <a:pt x="12" y="123"/>
                  </a:lnTo>
                  <a:lnTo>
                    <a:pt x="30" y="94"/>
                  </a:lnTo>
                  <a:lnTo>
                    <a:pt x="47" y="64"/>
                  </a:lnTo>
                  <a:lnTo>
                    <a:pt x="77" y="41"/>
                  </a:lnTo>
                  <a:lnTo>
                    <a:pt x="107" y="17"/>
                  </a:lnTo>
                  <a:lnTo>
                    <a:pt x="142" y="6"/>
                  </a:lnTo>
                  <a:lnTo>
                    <a:pt x="178" y="0"/>
                  </a:lnTo>
                  <a:lnTo>
                    <a:pt x="219" y="6"/>
                  </a:lnTo>
                  <a:lnTo>
                    <a:pt x="249" y="12"/>
                  </a:lnTo>
                  <a:lnTo>
                    <a:pt x="284" y="29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4"/>
            <p:cNvSpPr/>
            <p:nvPr/>
          </p:nvSpPr>
          <p:spPr>
            <a:xfrm>
              <a:off x="6683400" y="1120680"/>
              <a:ext cx="64800" cy="71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5"/>
            <p:cNvSpPr/>
            <p:nvPr/>
          </p:nvSpPr>
          <p:spPr>
            <a:xfrm>
              <a:off x="7035840" y="1149480"/>
              <a:ext cx="67320" cy="712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3499920" y="674640"/>
            <a:ext cx="2866320" cy="5352480"/>
            <a:chOff x="3499920" y="674640"/>
            <a:chExt cx="2866320" cy="5352480"/>
          </a:xfrm>
        </p:grpSpPr>
        <p:grpSp>
          <p:nvGrpSpPr>
            <p:cNvPr id="1037" name=""/>
            <p:cNvGrpSpPr/>
            <p:nvPr/>
          </p:nvGrpSpPr>
          <p:grpSpPr>
            <a:xfrm>
              <a:off x="3799800" y="3812760"/>
              <a:ext cx="2180520" cy="2214360"/>
              <a:chOff x="3799800" y="3812760"/>
              <a:chExt cx="2180520" cy="221436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4070160" y="3875040"/>
                <a:ext cx="1582560" cy="1731960"/>
                <a:chOff x="4070160" y="3875040"/>
                <a:chExt cx="1582560" cy="1731960"/>
              </a:xfrm>
            </p:grpSpPr>
            <p:sp>
              <p:nvSpPr>
                <p:cNvPr id="1039" name="任意多边形 283"/>
                <p:cNvSpPr/>
                <p:nvPr/>
              </p:nvSpPr>
              <p:spPr>
                <a:xfrm>
                  <a:off x="4070160" y="3875040"/>
                  <a:ext cx="1582560" cy="1731960"/>
                </a:xfrm>
                <a:custGeom>
                  <a:avLst/>
                  <a:gdLst>
                    <a:gd name="textAreaLeft" fmla="*/ 0 w 1582560"/>
                    <a:gd name="textAreaRight" fmla="*/ 1582920 w 1582560"/>
                    <a:gd name="textAreaTop" fmla="*/ 0 h 1731960"/>
                    <a:gd name="textAreaBottom" fmla="*/ 1732320 h 173196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任意多边形 284"/>
                <p:cNvSpPr/>
                <p:nvPr/>
              </p:nvSpPr>
              <p:spPr>
                <a:xfrm>
                  <a:off x="4284360" y="4160520"/>
                  <a:ext cx="1175040" cy="1285920"/>
                </a:xfrm>
                <a:custGeom>
                  <a:avLst/>
                  <a:gdLst>
                    <a:gd name="textAreaLeft" fmla="*/ 0 w 1175040"/>
                    <a:gd name="textAreaRight" fmla="*/ 1175400 w 1175040"/>
                    <a:gd name="textAreaTop" fmla="*/ 0 h 1285920"/>
                    <a:gd name="textAreaBottom" fmla="*/ 1286280 h 128592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3799800" y="4004280"/>
                <a:ext cx="2180520" cy="2022840"/>
                <a:chOff x="3799800" y="4004280"/>
                <a:chExt cx="2180520" cy="2022840"/>
              </a:xfrm>
            </p:grpSpPr>
            <p:sp>
              <p:nvSpPr>
                <p:cNvPr id="1042" name="圆角矩形 279"/>
                <p:cNvSpPr/>
                <p:nvPr/>
              </p:nvSpPr>
              <p:spPr>
                <a:xfrm rot="1750200">
                  <a:off x="5001120" y="533556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圆角矩形 280"/>
                <p:cNvSpPr/>
                <p:nvPr/>
              </p:nvSpPr>
              <p:spPr>
                <a:xfrm rot="9049800">
                  <a:off x="3863160" y="526284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圆角矩形 281"/>
                <p:cNvSpPr/>
                <p:nvPr/>
              </p:nvSpPr>
              <p:spPr>
                <a:xfrm rot="5647200">
                  <a:off x="4711320" y="428796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圆角矩形 282"/>
                <p:cNvSpPr/>
                <p:nvPr/>
              </p:nvSpPr>
              <p:spPr>
                <a:xfrm rot="4867200">
                  <a:off x="4052160" y="432000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任意多边形 278"/>
              <p:cNvSpPr/>
              <p:nvPr/>
            </p:nvSpPr>
            <p:spPr>
              <a:xfrm>
                <a:off x="4148280" y="3812760"/>
                <a:ext cx="1717920" cy="544680"/>
              </a:xfrm>
              <a:custGeom>
                <a:avLst/>
                <a:gdLst>
                  <a:gd name="textAreaLeft" fmla="*/ 0 w 1717920"/>
                  <a:gd name="textAreaRight" fmla="*/ 1718280 w 171792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3499920" y="674640"/>
              <a:ext cx="2866320" cy="3324240"/>
              <a:chOff x="3499920" y="674640"/>
              <a:chExt cx="2866320" cy="332424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4740480" y="1189800"/>
                <a:ext cx="1152360" cy="1942200"/>
                <a:chOff x="4740480" y="1189800"/>
                <a:chExt cx="1152360" cy="1942200"/>
              </a:xfrm>
            </p:grpSpPr>
            <p:sp>
              <p:nvSpPr>
                <p:cNvPr id="1049" name="圆角矩形 274"/>
                <p:cNvSpPr/>
                <p:nvPr/>
              </p:nvSpPr>
              <p:spPr>
                <a:xfrm rot="1156200">
                  <a:off x="5031000" y="123192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圆角矩形 275"/>
                <p:cNvSpPr/>
                <p:nvPr/>
              </p:nvSpPr>
              <p:spPr>
                <a:xfrm rot="1156200">
                  <a:off x="5104080" y="148608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3662640" y="674640"/>
                <a:ext cx="1225080" cy="1936440"/>
                <a:chOff x="3662640" y="674640"/>
                <a:chExt cx="1225080" cy="1936440"/>
              </a:xfrm>
            </p:grpSpPr>
            <p:sp>
              <p:nvSpPr>
                <p:cNvPr id="1052" name="圆角矩形 272"/>
                <p:cNvSpPr/>
                <p:nvPr/>
              </p:nvSpPr>
              <p:spPr>
                <a:xfrm rot="20281200">
                  <a:off x="3989160" y="71388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圆角矩形 273"/>
                <p:cNvSpPr/>
                <p:nvPr/>
              </p:nvSpPr>
              <p:spPr>
                <a:xfrm rot="20281200">
                  <a:off x="4151520" y="97380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任意多边形 187"/>
              <p:cNvSpPr/>
              <p:nvPr/>
            </p:nvSpPr>
            <p:spPr>
              <a:xfrm>
                <a:off x="3846960" y="2071440"/>
                <a:ext cx="2260080" cy="1927440"/>
              </a:xfrm>
              <a:custGeom>
                <a:avLst/>
                <a:gdLst>
                  <a:gd name="textAreaLeft" fmla="*/ 0 w 2260080"/>
                  <a:gd name="textAreaRight" fmla="*/ 2260440 w 2260080"/>
                  <a:gd name="textAreaTop" fmla="*/ 0 h 1927440"/>
                  <a:gd name="textAreaBottom" fmla="*/ 1927800 h 192744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4418280" y="2643120"/>
                <a:ext cx="356760" cy="500040"/>
                <a:chOff x="4418280" y="2643120"/>
                <a:chExt cx="356760" cy="500040"/>
              </a:xfrm>
            </p:grpSpPr>
            <p:sp>
              <p:nvSpPr>
                <p:cNvPr id="1056" name="椭圆 268"/>
                <p:cNvSpPr/>
                <p:nvPr/>
              </p:nvSpPr>
              <p:spPr>
                <a:xfrm>
                  <a:off x="4418280" y="264312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椭圆 269"/>
                <p:cNvSpPr/>
                <p:nvPr/>
              </p:nvSpPr>
              <p:spPr>
                <a:xfrm>
                  <a:off x="4460400" y="273456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椭圆 270"/>
                <p:cNvSpPr/>
                <p:nvPr/>
              </p:nvSpPr>
              <p:spPr>
                <a:xfrm rot="600000">
                  <a:off x="4440240" y="271476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椭圆 271"/>
                <p:cNvSpPr/>
                <p:nvPr/>
              </p:nvSpPr>
              <p:spPr>
                <a:xfrm rot="300000">
                  <a:off x="4550040" y="288936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203800" y="2714760"/>
                <a:ext cx="356760" cy="500040"/>
                <a:chOff x="5203800" y="2714760"/>
                <a:chExt cx="356760" cy="500040"/>
              </a:xfrm>
            </p:grpSpPr>
            <p:sp>
              <p:nvSpPr>
                <p:cNvPr id="1061" name="椭圆 264"/>
                <p:cNvSpPr/>
                <p:nvPr/>
              </p:nvSpPr>
              <p:spPr>
                <a:xfrm>
                  <a:off x="5203800" y="271476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椭圆 265"/>
                <p:cNvSpPr/>
                <p:nvPr/>
              </p:nvSpPr>
              <p:spPr>
                <a:xfrm>
                  <a:off x="5245920" y="280620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椭圆 266"/>
                <p:cNvSpPr/>
                <p:nvPr/>
              </p:nvSpPr>
              <p:spPr>
                <a:xfrm rot="600000">
                  <a:off x="5225760" y="278640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椭圆 267"/>
                <p:cNvSpPr/>
                <p:nvPr/>
              </p:nvSpPr>
              <p:spPr>
                <a:xfrm rot="300000">
                  <a:off x="5335560" y="296100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5" name="圆角矩形 190"/>
              <p:cNvSpPr/>
              <p:nvPr/>
            </p:nvSpPr>
            <p:spPr>
              <a:xfrm rot="7542000">
                <a:off x="5475600" y="1123560"/>
                <a:ext cx="571320" cy="1078920"/>
              </a:xfrm>
              <a:custGeom>
                <a:avLst/>
                <a:gdLst>
                  <a:gd name="textAreaLeft" fmla="*/ 83520 w 571320"/>
                  <a:gd name="textAreaRight" fmla="*/ 487800 w 571320"/>
                  <a:gd name="textAreaTop" fmla="*/ 83520 h 1078920"/>
                  <a:gd name="textAreaBottom" fmla="*/ 995400 h 1078920"/>
                </a:gdLst>
                <a:ahLst/>
                <a:rect l="textAreaLeft" t="textAreaTop" r="textAreaRight" b="textAreaBottom"/>
                <a:pathLst>
                  <a:path w="21600" h="40779">
                    <a:moveTo>
                      <a:pt x="10800" y="0"/>
                    </a:moveTo>
                    <a:arcTo wR="10800" hR="10800" stAng="16200000" swAng="-5400000"/>
                    <a:lnTo>
                      <a:pt x="0" y="29979"/>
                    </a:lnTo>
                    <a:arcTo wR="10800" hR="10800" stAng="10800000" swAng="-5400000"/>
                    <a:lnTo>
                      <a:pt x="10800" y="40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椭圆 191"/>
              <p:cNvSpPr/>
              <p:nvPr/>
            </p:nvSpPr>
            <p:spPr>
              <a:xfrm>
                <a:off x="3846960" y="300024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椭圆 192"/>
              <p:cNvSpPr/>
              <p:nvPr/>
            </p:nvSpPr>
            <p:spPr>
              <a:xfrm>
                <a:off x="5060880" y="307188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5535000" y="3326400"/>
                <a:ext cx="830880" cy="473760"/>
                <a:chOff x="5535000" y="3326400"/>
                <a:chExt cx="830880" cy="473760"/>
              </a:xfrm>
            </p:grpSpPr>
            <p:sp>
              <p:nvSpPr>
                <p:cNvPr id="1069" name="任意多边形 262"/>
                <p:cNvSpPr/>
                <p:nvPr/>
              </p:nvSpPr>
              <p:spPr>
                <a:xfrm>
                  <a:off x="5535000" y="3326400"/>
                  <a:ext cx="830880" cy="10368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任意多边形 263"/>
                <p:cNvSpPr/>
                <p:nvPr/>
              </p:nvSpPr>
              <p:spPr>
                <a:xfrm rot="1453800">
                  <a:off x="5519520" y="3530160"/>
                  <a:ext cx="830880" cy="10368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3499920" y="3286080"/>
                <a:ext cx="830880" cy="474120"/>
                <a:chOff x="3499920" y="3286080"/>
                <a:chExt cx="830880" cy="474120"/>
              </a:xfrm>
            </p:grpSpPr>
            <p:sp>
              <p:nvSpPr>
                <p:cNvPr id="1072" name="任意多边形 256"/>
                <p:cNvSpPr/>
                <p:nvPr/>
              </p:nvSpPr>
              <p:spPr>
                <a:xfrm flipH="1">
                  <a:off x="3499920" y="3286080"/>
                  <a:ext cx="830880" cy="103680"/>
                </a:xfrm>
                <a:custGeom>
                  <a:avLst/>
                  <a:gdLst>
                    <a:gd name="textAreaLeft" fmla="*/ 360 w 830880"/>
                    <a:gd name="textAreaRight" fmla="*/ 83160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任意多边形 261"/>
                <p:cNvSpPr/>
                <p:nvPr/>
              </p:nvSpPr>
              <p:spPr>
                <a:xfrm flipH="1" rot="20146200">
                  <a:off x="3514680" y="3489840"/>
                  <a:ext cx="830880" cy="104040"/>
                </a:xfrm>
                <a:custGeom>
                  <a:avLst/>
                  <a:gdLst>
                    <a:gd name="textAreaLeft" fmla="*/ 360 w 830880"/>
                    <a:gd name="textAreaRight" fmla="*/ 831600 w 83088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4" name="弦形 250"/>
              <p:cNvSpPr/>
              <p:nvPr/>
            </p:nvSpPr>
            <p:spPr>
              <a:xfrm rot="17476200">
                <a:off x="4766400" y="3213000"/>
                <a:ext cx="303120" cy="1882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椭圆 255"/>
              <p:cNvSpPr/>
              <p:nvPr/>
            </p:nvSpPr>
            <p:spPr>
              <a:xfrm>
                <a:off x="4775400" y="3560400"/>
                <a:ext cx="214200" cy="21420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6" name=""/>
          <p:cNvGrpSpPr/>
          <p:nvPr/>
        </p:nvGrpSpPr>
        <p:grpSpPr>
          <a:xfrm>
            <a:off x="904680" y="4107240"/>
            <a:ext cx="1905480" cy="2097000"/>
            <a:chOff x="904680" y="4107240"/>
            <a:chExt cx="1905480" cy="2097000"/>
          </a:xfrm>
        </p:grpSpPr>
        <p:grpSp>
          <p:nvGrpSpPr>
            <p:cNvPr id="1077" name=""/>
            <p:cNvGrpSpPr/>
            <p:nvPr/>
          </p:nvGrpSpPr>
          <p:grpSpPr>
            <a:xfrm>
              <a:off x="904680" y="4107240"/>
              <a:ext cx="1905480" cy="2097000"/>
              <a:chOff x="904680" y="4107240"/>
              <a:chExt cx="1905480" cy="2097000"/>
            </a:xfrm>
          </p:grpSpPr>
          <p:sp>
            <p:nvSpPr>
              <p:cNvPr id="1078" name="任意多边形 295"/>
              <p:cNvSpPr/>
              <p:nvPr/>
            </p:nvSpPr>
            <p:spPr>
              <a:xfrm rot="14884200">
                <a:off x="1257840" y="4170960"/>
                <a:ext cx="1199160" cy="1571400"/>
              </a:xfrm>
              <a:custGeom>
                <a:avLst/>
                <a:gdLst>
                  <a:gd name="textAreaLeft" fmla="*/ 0 w 1199160"/>
                  <a:gd name="textAreaRight" fmla="*/ 1199520 w 1199160"/>
                  <a:gd name="textAreaTop" fmla="*/ 0 h 1571400"/>
                  <a:gd name="textAreaBottom" fmla="*/ 1571760 h 157140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任意多边形 296"/>
              <p:cNvSpPr/>
              <p:nvPr/>
            </p:nvSpPr>
            <p:spPr>
              <a:xfrm rot="14884200">
                <a:off x="1103760" y="4539600"/>
                <a:ext cx="1103400" cy="1067400"/>
              </a:xfrm>
              <a:custGeom>
                <a:avLst/>
                <a:gdLst>
                  <a:gd name="textAreaLeft" fmla="*/ 0 w 1103400"/>
                  <a:gd name="textAreaRight" fmla="*/ 1103760 w 1103400"/>
                  <a:gd name="textAreaTop" fmla="*/ 0 h 1067400"/>
                  <a:gd name="textAreaBottom" fmla="*/ 1067760 h 106740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椭圆 297"/>
              <p:cNvSpPr/>
              <p:nvPr/>
            </p:nvSpPr>
            <p:spPr>
              <a:xfrm rot="20283600">
                <a:off x="1379520" y="5096520"/>
                <a:ext cx="1002600" cy="4363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任意多边形 298"/>
              <p:cNvSpPr/>
              <p:nvPr/>
            </p:nvSpPr>
            <p:spPr>
              <a:xfrm rot="20883600">
                <a:off x="1603080" y="5045040"/>
                <a:ext cx="699840" cy="109836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椭圆 299"/>
              <p:cNvSpPr/>
              <p:nvPr/>
            </p:nvSpPr>
            <p:spPr>
              <a:xfrm>
                <a:off x="1535400" y="4670640"/>
                <a:ext cx="286560" cy="2984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椭圆 300"/>
              <p:cNvSpPr/>
              <p:nvPr/>
            </p:nvSpPr>
            <p:spPr>
              <a:xfrm rot="19710600">
                <a:off x="2012760" y="4471200"/>
                <a:ext cx="238680" cy="2984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 301"/>
              <p:cNvSpPr/>
              <p:nvPr/>
            </p:nvSpPr>
            <p:spPr>
              <a:xfrm rot="19710600">
                <a:off x="1201680" y="4954320"/>
                <a:ext cx="210960" cy="2444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 302"/>
              <p:cNvSpPr/>
              <p:nvPr/>
            </p:nvSpPr>
            <p:spPr>
              <a:xfrm rot="10490400">
                <a:off x="2424240" y="4977360"/>
                <a:ext cx="217440" cy="24444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任意多边形 303"/>
              <p:cNvSpPr/>
              <p:nvPr/>
            </p:nvSpPr>
            <p:spPr>
              <a:xfrm>
                <a:off x="1764000" y="5220000"/>
                <a:ext cx="224640" cy="20124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任意多边形 304"/>
              <p:cNvSpPr/>
              <p:nvPr/>
            </p:nvSpPr>
            <p:spPr>
              <a:xfrm>
                <a:off x="2013120" y="5220720"/>
                <a:ext cx="143280" cy="1015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新月形 305"/>
              <p:cNvSpPr/>
              <p:nvPr/>
            </p:nvSpPr>
            <p:spPr>
              <a:xfrm rot="15871800">
                <a:off x="1918800" y="5699160"/>
                <a:ext cx="248400" cy="4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新月形 306"/>
              <p:cNvSpPr/>
              <p:nvPr/>
            </p:nvSpPr>
            <p:spPr>
              <a:xfrm rot="15871800">
                <a:off x="2014560" y="5875560"/>
                <a:ext cx="68760" cy="21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椭圆 287"/>
            <p:cNvSpPr/>
            <p:nvPr/>
          </p:nvSpPr>
          <p:spPr>
            <a:xfrm>
              <a:off x="2063880" y="5396760"/>
              <a:ext cx="19548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2149200" y="5464440"/>
              <a:ext cx="123840" cy="135720"/>
              <a:chOff x="2149200" y="5464440"/>
              <a:chExt cx="123840" cy="135720"/>
            </a:xfrm>
          </p:grpSpPr>
          <p:sp>
            <p:nvSpPr>
              <p:cNvPr id="1092" name="椭圆 293"/>
              <p:cNvSpPr/>
              <p:nvPr/>
            </p:nvSpPr>
            <p:spPr>
              <a:xfrm>
                <a:off x="2163240" y="5464440"/>
                <a:ext cx="109800" cy="135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椭圆 294"/>
              <p:cNvSpPr/>
              <p:nvPr/>
            </p:nvSpPr>
            <p:spPr>
              <a:xfrm>
                <a:off x="2149200" y="5475240"/>
                <a:ext cx="69840" cy="8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椭圆 289"/>
            <p:cNvSpPr/>
            <p:nvPr/>
          </p:nvSpPr>
          <p:spPr>
            <a:xfrm>
              <a:off x="1868040" y="5396760"/>
              <a:ext cx="19548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1938600" y="5493240"/>
              <a:ext cx="123840" cy="135720"/>
              <a:chOff x="1938600" y="5493240"/>
              <a:chExt cx="123840" cy="135720"/>
            </a:xfrm>
          </p:grpSpPr>
          <p:sp>
            <p:nvSpPr>
              <p:cNvPr id="1096" name="椭圆 291"/>
              <p:cNvSpPr/>
              <p:nvPr/>
            </p:nvSpPr>
            <p:spPr>
              <a:xfrm>
                <a:off x="1952640" y="5493240"/>
                <a:ext cx="109800" cy="135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椭圆 292"/>
              <p:cNvSpPr/>
              <p:nvPr/>
            </p:nvSpPr>
            <p:spPr>
              <a:xfrm>
                <a:off x="1938600" y="5504040"/>
                <a:ext cx="69840" cy="8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8" name="TextBox 307"/>
          <p:cNvSpPr/>
          <p:nvPr/>
        </p:nvSpPr>
        <p:spPr>
          <a:xfrm>
            <a:off x="4143240" y="62150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308"/>
          <p:cNvSpPr/>
          <p:nvPr/>
        </p:nvSpPr>
        <p:spPr>
          <a:xfrm>
            <a:off x="6000840" y="5143680"/>
            <a:ext cx="257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1:02:00Z</dcterms:created>
  <dc:creator>User</dc:creator>
  <dc:description/>
  <cp:keywords>三联素材 免费下载</cp:keywords>
  <dc:language>en-US</dc:language>
  <cp:lastModifiedBy>User</cp:lastModifiedBy>
  <dcterms:modified xsi:type="dcterms:W3CDTF">2015-07-21T02:46:46Z</dcterms:modified>
  <cp:revision>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