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3.png" ContentType="image/png"/>
  <Override PartName="/ppt/media/image10.gif" ContentType="image/gif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png" ContentType="image/png"/>
  <Override PartName="/ppt/media/image11.gif" ContentType="image/gif"/>
  <Override PartName="/ppt/media/image30.jpeg" ContentType="image/jpeg"/>
  <Override PartName="/ppt/media/image36.jpeg" ContentType="image/jpeg"/>
  <Override PartName="/ppt/media/image9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D44-59E3-40A7-8AE3-047ED085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44E-DB7E-488B-9242-AEE994DF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8061-6B05-43D2-A8A3-5F168456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9031-3D8F-4264-BAFC-42FDB88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E786-AC73-4284-87E0-CFA2790A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86B9-7900-4297-8919-E0F34BC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A6D8-8231-486E-A726-2C216F0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1C9C-6766-49E4-A0F1-9365765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D8CC-A68A-42AB-AE13-8439E6E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B271-364D-435A-BE8B-52B3E993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ADE0-FB37-4495-B3E0-8A9EB7E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F2F7-786C-414A-A2D0-F092419F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2D6-C00E-423D-A6AF-D827B61D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BA30-9466-4D52-88D4-282E40F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A50C-9E0F-4CE6-AC03-AA58131C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BD6B-7623-4644-B8B0-BD341410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B4D1-D7EE-4026-BCA3-D8307DA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2F47-D6B3-4F06-9350-ED308A9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62D1B-9F12-4370-A4EC-485424F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938C3-12FE-48EF-BDFE-A87FA81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9E497-B503-478D-A144-A8E7633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1457-C5CB-4A36-83C2-2599C6D0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7D8A1-1FB8-44B3-99F4-97D5F73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91E-999D-4253-B854-AA3D72E2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9F91-827F-4E57-AA23-5D758E93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299E-8F86-45D7-83A1-14DC05CF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EE4C-D25C-40E8-ABED-F5E4C8B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4AF7-3CED-4657-8081-EB98933A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8AE03-E46D-41C7-9D79-3D9521A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1739-7E14-4712-95D3-8F419FA3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D314-29C2-4639-B8FA-0E76B8B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E2E0-44CD-4BE3-A00F-3DE1740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68592-80A6-4C7E-BFF7-4FFB48D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662BF-7BBE-43EB-9BFB-DE05C2F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58A8E-4C73-431A-9DD4-3249E5F6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53AD-0B1C-4D3C-816F-C1A1040A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56696-12BF-42EB-AECA-C41EC53D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A9D9-D876-4F96-844C-1CB1AA6A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3311-2693-43AD-970F-00964B0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A62A-3426-4C2F-A4FD-AB1DC63B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6741-1E1D-4FA6-B18D-509C07EF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5BE24-336D-442B-BB6C-67F4F41C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D58F3-2DAD-43C0-AB97-56EF7B5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C999-855E-46F7-8B7A-BCA83100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DB78-38C0-40D1-83D1-D62C85A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2433-CF41-48D6-8026-E97E216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05BD-F1E3-4FEB-AFC2-FEA7D982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EEB03-4A29-4A0C-8F01-96A34462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3BBF4-D41D-4959-80FB-B93BFE06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B54B-46C2-489E-94E1-1CA71494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47B4-14EF-4A72-80A4-F1A8AE7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FD12C-A239-4FF2-B0F8-C026827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5E9B9-DBA6-42EE-8AF3-F0D280D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B3C4-201E-4989-9D3B-A098EDED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5D2B6-3EA4-4FAA-9F52-AF6017F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D86E-93DE-4A3C-A082-489C38C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F79C-E0AA-4CE5-81F3-6E21F50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0DDC-50DB-40AB-A573-868348A2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DD2F7-EB5C-4D8E-B70D-8ABAC636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02A4-F015-4CDC-B5E0-CDB421AB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B1D65-89A8-4171-9659-11B15387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49E12-A3FF-48CD-A952-DFAC927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E6FF5-7E62-4849-9D47-932F9E4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954D1-BB38-40CE-A5E8-0085786A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B325-0CA5-460B-8B98-52386DB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4A882-1865-4409-979F-121981D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62CD8-317E-4DB9-A357-3FD910D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762D1-9531-4653-8872-F7DDFF72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06146-E221-4961-B4ED-F7D0932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367FA-FF69-451A-BA9B-43F611F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98AF1-2F59-414A-97BE-C154821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1C51B-DE31-4508-BF38-3C2E9A08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4511A-FD4A-4706-B387-A31D5148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43CE1-1530-48DE-8EE6-A8BE80E0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AA842-D552-439C-B744-B411688E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083A0-4243-4529-BFAA-19AD723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B9991-F03B-4E76-A52B-EC550FC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31C02-5FA6-461C-924C-A7B2814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C7E92-58C1-4479-9874-8F616DF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ACAEC-0E3B-4C1C-9F8E-0AFB31F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D303D-5FB8-4299-B3D2-A0E5B4C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BEE7F-880A-4B4D-92BE-B0D1CD1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36897-8756-4827-BBC0-75AE275C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66E01-5E74-40C2-BB09-B94C05E3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92CCF-770B-405D-809B-A10559A1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4E2-B22F-4191-B548-B35B3A19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A14-830E-4B5A-96DA-6FADEC6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C1C-2377-4762-9219-2C4BA1E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C2D-7902-4EE7-B189-36979367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E3C-B7A8-4A49-83EC-1C5882E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A43-2D57-4CEF-B938-7E6DC867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5EE-6432-47FB-A7C1-9BC11C1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564D-C24B-4A68-8644-99734BE1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978A-D840-4AEE-806C-E1FAF992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DEAD-7CFA-4DB0-B75E-74AB51E5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D6BE-0C75-4B3E-A99D-9CC9F3F2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6DC-5B09-4077-ACD1-157CAD9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24CD-6D5F-4696-803E-3048A73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0A94-07C9-4067-81F0-8D49484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A1A-17BE-4C1E-A5C2-4B246FF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CB7-C5FE-4FEC-AE50-90C91AD2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BB32-02D5-4975-9EEB-7CC4A2B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83AC-E6BF-43DB-921F-ADDECB72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90D-35F5-4ADF-8692-F49DE70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27C3-2CE6-4417-837E-2F8DD4C4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3EF78-3698-4C46-BA94-75AD430E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8DF5-A49C-491E-A906-1D11630D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9B09-1AEC-4D50-9966-3DCCC998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D75A-5282-4DFB-96F1-A94F1C2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539-948E-4437-851D-0C39DA07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58800" y="331560"/>
            <a:ext cx="7826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4B32-0025-4721-B872-23495C9D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47F0-5815-43DD-BF23-1CA09A3D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6D3F-F4D5-4B2D-81E6-FF1EF7D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5108-C6F3-469B-B054-277F9DC3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A3B3-A58D-4EBE-90A7-30FCC87D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ED2B-964D-490A-844A-16F202DE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9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248E-35AD-4E28-91FC-289B5048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63B5-13D0-46FB-B8C9-1D98128C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8A1B-4067-4C28-80C6-2BEF899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7C74-7143-449E-AC64-027D306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hyperlink" Target="http://www.51ppt.com.cn/" TargetMode="External"/><Relationship Id="rId6" Type="http://schemas.openxmlformats.org/officeDocument/2006/relationships/hyperlink" Target="http://www.51ppt.com.cn/" TargetMode="External"/><Relationship Id="rId7" Type="http://schemas.openxmlformats.org/officeDocument/2006/relationships/hyperlink" Target="http://www.51ppt.com.cn/" TargetMode="External"/><Relationship Id="rId8" Type="http://schemas.openxmlformats.org/officeDocument/2006/relationships/hyperlink" Target="http://www.51ppt.com.cn/" TargetMode="External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hyperlink" Target="http://www.51ppt.com.cn/" TargetMode="External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7F5-FA64-4CD5-A17E-7B3B2DA4CD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矩形 6" descr=""/>
          <p:cNvPicPr/>
          <p:nvPr/>
        </p:nvPicPr>
        <p:blipFill>
          <a:blip r:embed="rId3"/>
          <a:stretch/>
        </p:blipFill>
        <p:spPr>
          <a:xfrm>
            <a:off x="5950080" y="5589720"/>
            <a:ext cx="2163600" cy="5554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A53-DA0E-4536-8B60-9176B9AC74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2992-814A-447B-AE8B-D085D0B2FA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矩形 6" descr=""/>
          <p:cNvPicPr/>
          <p:nvPr/>
        </p:nvPicPr>
        <p:blipFill>
          <a:blip r:embed="rId3"/>
          <a:stretch/>
        </p:blipFill>
        <p:spPr>
          <a:xfrm>
            <a:off x="5950080" y="5589720"/>
            <a:ext cx="216360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277920"/>
            <a:ext cx="9144000" cy="1136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DFC3-A9CE-4949-B52F-33233F063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8" descr="green_grass"/>
          <p:cNvPicPr/>
          <p:nvPr/>
        </p:nvPicPr>
        <p:blipFill>
          <a:blip r:embed="rId3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dt" idx="22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B88C-B826-47AB-9017-848040459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277920"/>
            <a:ext cx="9144000" cy="196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8" descr="green_grass"/>
          <p:cNvPicPr/>
          <p:nvPr/>
        </p:nvPicPr>
        <p:blipFill>
          <a:blip r:embed="rId3"/>
          <a:srcRect l="0" t="0" r="0" b="12967"/>
          <a:stretch/>
        </p:blipFill>
        <p:spPr>
          <a:xfrm>
            <a:off x="0" y="5548320"/>
            <a:ext cx="9144000" cy="130968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30E-1424-4004-8854-E11EB1DF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Num" idx="28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835C-CF9C-4DFB-959D-F73A47588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90" name="Rectangle 5" descr=""/>
            <p:cNvPicPr/>
            <p:nvPr/>
          </p:nvPicPr>
          <p:blipFill>
            <a:blip r:embed="rId3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4915800" y="6142680"/>
              <a:ext cx="4116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202" name="Rectangle 5" descr=""/>
            <p:cNvPicPr/>
            <p:nvPr/>
          </p:nvPicPr>
          <p:blipFill>
            <a:blip r:embed="rId3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"/>
            <p:cNvSpPr/>
            <p:nvPr/>
          </p:nvSpPr>
          <p:spPr>
            <a:xfrm>
              <a:off x="4915800" y="6142680"/>
              <a:ext cx="4116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矩形 5" descr=""/>
          <p:cNvPicPr/>
          <p:nvPr/>
        </p:nvPicPr>
        <p:blipFill>
          <a:blip r:embed="rId4"/>
          <a:stretch/>
        </p:blipFill>
        <p:spPr>
          <a:xfrm>
            <a:off x="6303960" y="5419800"/>
            <a:ext cx="2852640" cy="71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2011ABF2-B9D1-4314-A67B-7D5581E87AC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Rectangle 5"/>
          <p:cNvGrpSpPr/>
          <p:nvPr/>
        </p:nvGrpSpPr>
        <p:grpSpPr>
          <a:xfrm>
            <a:off x="4910040" y="6137280"/>
            <a:ext cx="4129200" cy="31680"/>
            <a:chOff x="4910040" y="6137280"/>
            <a:chExt cx="4129200" cy="31680"/>
          </a:xfrm>
        </p:grpSpPr>
        <p:pic>
          <p:nvPicPr>
            <p:cNvPr id="286" name="Rectangle 5" descr=""/>
            <p:cNvPicPr/>
            <p:nvPr/>
          </p:nvPicPr>
          <p:blipFill>
            <a:blip r:embed="rId3"/>
            <a:stretch/>
          </p:blipFill>
          <p:spPr>
            <a:xfrm>
              <a:off x="4910040" y="6137280"/>
              <a:ext cx="41292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4"/>
            <p:cNvSpPr/>
            <p:nvPr/>
          </p:nvSpPr>
          <p:spPr>
            <a:xfrm>
              <a:off x="4915800" y="6142680"/>
              <a:ext cx="4116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-19440" bIns="-19440" anchor="ctr">
              <a:no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8"/>
          <p:cNvSpPr/>
          <p:nvPr/>
        </p:nvSpPr>
        <p:spPr>
          <a:xfrm>
            <a:off x="6135840" y="6229440"/>
            <a:ext cx="278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矩形 5" descr=""/>
          <p:cNvPicPr/>
          <p:nvPr/>
        </p:nvPicPr>
        <p:blipFill>
          <a:blip r:embed="rId4"/>
          <a:stretch/>
        </p:blipFill>
        <p:spPr>
          <a:xfrm>
            <a:off x="6102360" y="5626080"/>
            <a:ext cx="2852640" cy="7192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6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7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6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8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0D4-64BE-432A-B544-951190CFD4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7561-900A-42A3-9250-776ABF5C6E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6"/>
          <p:cNvSpPr/>
          <p:nvPr/>
        </p:nvSpPr>
        <p:spPr>
          <a:xfrm flipV="1" rot="10800000">
            <a:off x="5790960" y="571392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无忧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1299292250&amp;tn=baiduimagedetail&amp;word=&#32972;&#26223;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41160402&amp;tn=baiduimagedetail&amp;word=&#32972;&#26223;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4716360" y="393372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郭沫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WordArt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84360" y="1000080"/>
            <a:ext cx="5754600" cy="25844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cc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cc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" descr="g3"/>
          <p:cNvPicPr/>
          <p:nvPr/>
        </p:nvPicPr>
        <p:blipFill>
          <a:blip r:embed="rId2"/>
          <a:stretch/>
        </p:blipFill>
        <p:spPr>
          <a:xfrm>
            <a:off x="5181480" y="39625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g2"/>
          <p:cNvPicPr/>
          <p:nvPr/>
        </p:nvPicPr>
        <p:blipFill>
          <a:blip r:embed="rId3"/>
          <a:stretch/>
        </p:blipFill>
        <p:spPr>
          <a:xfrm>
            <a:off x="533520" y="3962520"/>
            <a:ext cx="3962160" cy="28954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g1"/>
          <p:cNvPicPr/>
          <p:nvPr/>
        </p:nvPicPr>
        <p:blipFill>
          <a:blip r:embed="rId4"/>
          <a:stretch/>
        </p:blipFill>
        <p:spPr>
          <a:xfrm>
            <a:off x="4267080" y="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m3"/>
          <p:cNvPicPr/>
          <p:nvPr/>
        </p:nvPicPr>
        <p:blipFill>
          <a:blip r:embed="rId5"/>
          <a:stretch/>
        </p:blipFill>
        <p:spPr>
          <a:xfrm>
            <a:off x="0" y="0"/>
            <a:ext cx="3276720" cy="396252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9"/>
          <p:cNvSpPr/>
          <p:nvPr/>
        </p:nvSpPr>
        <p:spPr>
          <a:xfrm>
            <a:off x="232560" y="380880"/>
            <a:ext cx="789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026" descr="郭沫若"/>
          <p:cNvPicPr/>
          <p:nvPr/>
        </p:nvPicPr>
        <p:blipFill>
          <a:blip r:embed="rId1"/>
          <a:stretch/>
        </p:blipFill>
        <p:spPr>
          <a:xfrm>
            <a:off x="0" y="1371600"/>
            <a:ext cx="3676680" cy="54864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1027"/>
          <p:cNvSpPr/>
          <p:nvPr/>
        </p:nvSpPr>
        <p:spPr>
          <a:xfrm>
            <a:off x="922320" y="212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郭沫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29"/>
          <p:cNvSpPr/>
          <p:nvPr/>
        </p:nvSpPr>
        <p:spPr>
          <a:xfrm>
            <a:off x="3886200" y="533520"/>
            <a:ext cx="49528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隶书"/>
              </a:rPr>
              <a:t>郭沫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89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978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: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作家、诗人、历史学家、剧作家、考古学家、古文字学家、社会活动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隶书"/>
              </a:rPr>
              <a:t>代表作：诗集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女神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历史剧 ：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屈原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棠棣之花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虎符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高渐离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  <a:ea typeface="隶书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隶书"/>
              </a:rPr>
              <a:t>南冠草</a:t>
            </a:r>
            <a:r>
              <a:rPr b="0" lang="en-US" sz="2400" spc="-1" strike="noStrike">
                <a:solidFill>
                  <a:srgbClr val="ff00ff"/>
                </a:solidFill>
                <a:latin typeface="宋体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zhaopian-2-01"/>
          <p:cNvPicPr/>
          <p:nvPr/>
        </p:nvPicPr>
        <p:blipFill>
          <a:blip r:embed="rId1"/>
          <a:stretch/>
        </p:blipFill>
        <p:spPr>
          <a:xfrm>
            <a:off x="3809880" y="304920"/>
            <a:ext cx="2594160" cy="24382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" descr="人物照片"/>
          <p:cNvPicPr/>
          <p:nvPr/>
        </p:nvPicPr>
        <p:blipFill>
          <a:blip r:embed="rId2"/>
          <a:stretch/>
        </p:blipFill>
        <p:spPr>
          <a:xfrm>
            <a:off x="1447920" y="304920"/>
            <a:ext cx="2133360" cy="2438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mmdd551d2000112223"/>
          <p:cNvPicPr/>
          <p:nvPr/>
        </p:nvPicPr>
        <p:blipFill>
          <a:blip r:embed="rId3"/>
          <a:stretch/>
        </p:blipFill>
        <p:spPr>
          <a:xfrm>
            <a:off x="6477120" y="228600"/>
            <a:ext cx="2438280" cy="38862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5"/>
          <p:cNvGrpSpPr/>
          <p:nvPr/>
        </p:nvGrpSpPr>
        <p:grpSpPr>
          <a:xfrm>
            <a:off x="6400800" y="4572000"/>
            <a:ext cx="2514600" cy="989280"/>
            <a:chOff x="6400800" y="4572000"/>
            <a:chExt cx="2514600" cy="989280"/>
          </a:xfrm>
        </p:grpSpPr>
        <p:grpSp>
          <p:nvGrpSpPr>
            <p:cNvPr id="756" name="Group 6"/>
            <p:cNvGrpSpPr/>
            <p:nvPr/>
          </p:nvGrpSpPr>
          <p:grpSpPr>
            <a:xfrm>
              <a:off x="6400800" y="4572000"/>
              <a:ext cx="2514600" cy="987840"/>
              <a:chOff x="6400800" y="4572000"/>
              <a:chExt cx="2514600" cy="987840"/>
            </a:xfrm>
          </p:grpSpPr>
          <p:sp>
            <p:nvSpPr>
              <p:cNvPr id="757" name="Rectangle 7"/>
              <p:cNvSpPr/>
              <p:nvPr/>
            </p:nvSpPr>
            <p:spPr>
              <a:xfrm>
                <a:off x="6400800" y="4572000"/>
                <a:ext cx="2514600" cy="98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ff33"/>
                    </a:solidFill>
                    <a:latin typeface="Times New Roman"/>
                    <a:ea typeface="_x000b__x000c_"/>
                  </a:rPr>
                  <a:t>在日本九州大学医学部学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8"/>
              <p:cNvSpPr/>
              <p:nvPr/>
            </p:nvSpPr>
            <p:spPr>
              <a:xfrm>
                <a:off x="6400800" y="4572000"/>
                <a:ext cx="2514600" cy="9878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Rectangle 9"/>
            <p:cNvSpPr/>
            <p:nvPr/>
          </p:nvSpPr>
          <p:spPr>
            <a:xfrm>
              <a:off x="6400800" y="4572000"/>
              <a:ext cx="2514600" cy="989280"/>
            </a:xfrm>
            <a:prstGeom prst="rect">
              <a:avLst/>
            </a:prstGeom>
            <a:noFill/>
            <a:ln cap="sq"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Picture 10" descr="mmdd551d2000112227"/>
          <p:cNvPicPr/>
          <p:nvPr/>
        </p:nvPicPr>
        <p:blipFill>
          <a:blip r:embed="rId4"/>
          <a:stretch/>
        </p:blipFill>
        <p:spPr>
          <a:xfrm>
            <a:off x="1295280" y="2819520"/>
            <a:ext cx="48006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11"/>
          <p:cNvGrpSpPr/>
          <p:nvPr/>
        </p:nvGrpSpPr>
        <p:grpSpPr>
          <a:xfrm>
            <a:off x="990720" y="5715000"/>
            <a:ext cx="5410080" cy="1141560"/>
            <a:chOff x="990720" y="5715000"/>
            <a:chExt cx="5410080" cy="1141560"/>
          </a:xfrm>
        </p:grpSpPr>
        <p:grpSp>
          <p:nvGrpSpPr>
            <p:cNvPr id="762" name="Group 12"/>
            <p:cNvGrpSpPr/>
            <p:nvPr/>
          </p:nvGrpSpPr>
          <p:grpSpPr>
            <a:xfrm>
              <a:off x="990720" y="5715000"/>
              <a:ext cx="5410080" cy="1140120"/>
              <a:chOff x="990720" y="5715000"/>
              <a:chExt cx="5410080" cy="1140120"/>
            </a:xfrm>
          </p:grpSpPr>
          <p:sp>
            <p:nvSpPr>
              <p:cNvPr id="763" name="Rectangle 13"/>
              <p:cNvSpPr/>
              <p:nvPr/>
            </p:nvSpPr>
            <p:spPr>
              <a:xfrm>
                <a:off x="990720" y="5715000"/>
                <a:ext cx="541008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14"/>
              <p:cNvSpPr/>
              <p:nvPr/>
            </p:nvSpPr>
            <p:spPr>
              <a:xfrm>
                <a:off x="990720" y="5715000"/>
                <a:ext cx="5410080" cy="1140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Rectangle 15"/>
            <p:cNvSpPr/>
            <p:nvPr/>
          </p:nvSpPr>
          <p:spPr>
            <a:xfrm>
              <a:off x="990720" y="5715000"/>
              <a:ext cx="5410080" cy="1141560"/>
            </a:xfrm>
            <a:prstGeom prst="rect">
              <a:avLst/>
            </a:prstGeom>
            <a:noFill/>
            <a:ln cap="sq"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1940</a:t>
              </a: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年与友人沈从文、</a:t>
              </a: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</a:rPr>
                <a:t>萧</a:t>
              </a: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珊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Times New Roman"/>
                  <a:ea typeface="_x000b__x000c_"/>
                </a:rPr>
                <a:t>张兆和、王树藏等在昆明西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Text Box 16"/>
          <p:cNvSpPr/>
          <p:nvPr/>
        </p:nvSpPr>
        <p:spPr>
          <a:xfrm>
            <a:off x="304920" y="304920"/>
            <a:ext cx="761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郭沫若相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xin_7bdd7d6b8be54592a39df833d3e13554_2627_111601"/>
          <p:cNvPicPr/>
          <p:nvPr/>
        </p:nvPicPr>
        <p:blipFill>
          <a:blip r:embed="rId1"/>
          <a:stretch/>
        </p:blipFill>
        <p:spPr>
          <a:xfrm>
            <a:off x="304920" y="685800"/>
            <a:ext cx="3490920" cy="53341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l_91d"/>
          <p:cNvPicPr/>
          <p:nvPr/>
        </p:nvPicPr>
        <p:blipFill>
          <a:blip r:embed="rId2"/>
          <a:stretch/>
        </p:blipFill>
        <p:spPr>
          <a:xfrm>
            <a:off x="3886200" y="1066680"/>
            <a:ext cx="4952880" cy="46069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1027"/>
          <p:cNvSpPr/>
          <p:nvPr/>
        </p:nvSpPr>
        <p:spPr>
          <a:xfrm>
            <a:off x="2765160" y="3808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写作背景及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28"/>
          <p:cNvSpPr/>
          <p:nvPr/>
        </p:nvSpPr>
        <p:spPr>
          <a:xfrm>
            <a:off x="304920" y="1143000"/>
            <a:ext cx="815328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4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正是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抗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相持阶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半壁河山沦于敌手，国民党政府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消极抗日、积极反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悍然发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皖南事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郭沫若面对这样的政治现实义愤填膺，创作了历史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以批判国民党反动派的黑暗统治，展示了现实世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光明与黑暗，正义与邪恶，爱国与卖国的尖锐斗争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起到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借古讽今，古为今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050"/>
          <p:cNvSpPr/>
          <p:nvPr/>
        </p:nvSpPr>
        <p:spPr>
          <a:xfrm>
            <a:off x="517680" y="1163520"/>
            <a:ext cx="809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屈原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在当年国民党统治的中心──重庆上演，产生过巨大的影响。尤其是“雷电颂”一幕中的独白，激起过许多爱国者的共鸣。每次演出都被观众爆发出的雷鸣般的掌声所淹没。这个剧最终被国民党当局禁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2051" descr="102"/>
          <p:cNvPicPr/>
          <p:nvPr/>
        </p:nvPicPr>
        <p:blipFill>
          <a:blip r:embed="rId1"/>
          <a:stretch/>
        </p:blipFill>
        <p:spPr>
          <a:xfrm>
            <a:off x="7956720" y="5734080"/>
            <a:ext cx="780840" cy="79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0" y="0"/>
            <a:ext cx="91440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睥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ì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n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ì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波澜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l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鞺鞺鞳鞈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tāng 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污秽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hu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ì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稽首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qǐ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迸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g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罪孽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脚镣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l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咆哮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o xi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o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眩目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xu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伫立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z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ù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木梗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gěng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驰骋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chěng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虐待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üè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雷霆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ng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徘徊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 hu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á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i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忏悔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n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郢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ǐ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</a:rPr>
              <a:t>ng 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5"/>
          <p:cNvSpPr/>
          <p:nvPr/>
        </p:nvSpPr>
        <p:spPr>
          <a:xfrm>
            <a:off x="250920" y="365040"/>
            <a:ext cx="889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睥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眼睛斜着看，形容高傲的样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虐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用残暴狠毒的手段待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播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摆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鞭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鞭打。比喻抨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雷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雷暴；霹雳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比喻威力或怒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228600" y="228600"/>
            <a:ext cx="8686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踌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犹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祈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一种宗教仪式，信仰宗教的人向神默告自己的愿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忏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向神表示悔过，请求宽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罪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迷信的人认为应受到报应的罪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驰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；奔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徘徊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在一个地方来回地走。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比喻犹疑不决。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比喻事物在某个范围内浮动、起伏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咆哮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形容水流的奔腾轰鸣，也形容人的暴怒喊叫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污秽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不干净的东西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Arial"/>
              </a:rPr>
              <a:t>拖泥带水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比喻说话、写文章不简洁或做事不干脆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4" descr="102"/>
          <p:cNvPicPr/>
          <p:nvPr/>
        </p:nvPicPr>
        <p:blipFill>
          <a:blip r:embed="rId1"/>
          <a:stretch/>
        </p:blipFill>
        <p:spPr>
          <a:xfrm>
            <a:off x="7667640" y="5734080"/>
            <a:ext cx="781200" cy="79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4"/>
          <p:cNvSpPr/>
          <p:nvPr/>
        </p:nvSpPr>
        <p:spPr>
          <a:xfrm>
            <a:off x="2268360" y="1628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屈原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2195640" y="6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话剧的基本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2195640" y="263700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写作背景及作者介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195640" y="3573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生字词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2195640" y="450864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感悟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2268360" y="544500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精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11" descr="circum"/>
          <p:cNvPicPr/>
          <p:nvPr/>
        </p:nvPicPr>
        <p:blipFill>
          <a:blip r:embed="rId2"/>
          <a:stretch/>
        </p:blipFill>
        <p:spPr>
          <a:xfrm>
            <a:off x="1547640" y="83664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2" descr="circum"/>
          <p:cNvPicPr/>
          <p:nvPr/>
        </p:nvPicPr>
        <p:blipFill>
          <a:blip r:embed="rId3"/>
          <a:stretch/>
        </p:blipFill>
        <p:spPr>
          <a:xfrm>
            <a:off x="1547640" y="177336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3" descr="circum"/>
          <p:cNvPicPr/>
          <p:nvPr/>
        </p:nvPicPr>
        <p:blipFill>
          <a:blip r:embed="rId4"/>
          <a:stretch/>
        </p:blipFill>
        <p:spPr>
          <a:xfrm>
            <a:off x="1547640" y="285264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4" descr="circum"/>
          <p:cNvPicPr/>
          <p:nvPr/>
        </p:nvPicPr>
        <p:blipFill>
          <a:blip r:embed="rId5"/>
          <a:stretch/>
        </p:blipFill>
        <p:spPr>
          <a:xfrm>
            <a:off x="1547640" y="3716280"/>
            <a:ext cx="594000" cy="419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5" descr="circum"/>
          <p:cNvPicPr/>
          <p:nvPr/>
        </p:nvPicPr>
        <p:blipFill>
          <a:blip r:embed="rId6"/>
          <a:stretch/>
        </p:blipFill>
        <p:spPr>
          <a:xfrm>
            <a:off x="1547640" y="4581360"/>
            <a:ext cx="594000" cy="419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6" descr="circum"/>
          <p:cNvPicPr/>
          <p:nvPr/>
        </p:nvPicPr>
        <p:blipFill>
          <a:blip r:embed="rId7"/>
          <a:stretch/>
        </p:blipFill>
        <p:spPr>
          <a:xfrm>
            <a:off x="1547640" y="5516640"/>
            <a:ext cx="594000" cy="419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033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31"/>
          <p:cNvSpPr/>
          <p:nvPr/>
        </p:nvSpPr>
        <p:spPr>
          <a:xfrm>
            <a:off x="1692360" y="620640"/>
            <a:ext cx="64800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全剧分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橘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受诬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招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被囚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雷电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课文节选自第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五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幕的第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场，是全剧的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高潮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034"/>
          <p:cNvSpPr/>
          <p:nvPr/>
        </p:nvSpPr>
        <p:spPr>
          <a:xfrm>
            <a:off x="6405480" y="12924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剧情简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1028"/>
          <p:cNvSpPr/>
          <p:nvPr/>
        </p:nvSpPr>
        <p:spPr>
          <a:xfrm>
            <a:off x="533520" y="160020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午夜已经过去，黎明尚未来临时。靳尚前来布置和催促郑詹尹立即执行南后毒死屈原、纵火焚尸的密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地点在东皇太一庙正殿，神像林立，阴森可怖，给人以令人窒息的气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自然景象是雷电交加，狂风大作，无边的黑夜在颤动，在撕裂，在爆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029"/>
          <p:cNvSpPr/>
          <p:nvPr/>
        </p:nvSpPr>
        <p:spPr>
          <a:xfrm>
            <a:off x="457200" y="30492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亲近作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045"/>
          <p:cNvSpPr/>
          <p:nvPr/>
        </p:nvSpPr>
        <p:spPr>
          <a:xfrm>
            <a:off x="971640" y="69228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1046" descr="屈原3"/>
          <p:cNvPicPr/>
          <p:nvPr/>
        </p:nvPicPr>
        <p:blipFill>
          <a:blip r:embed="rId2"/>
          <a:stretch/>
        </p:blipFill>
        <p:spPr>
          <a:xfrm>
            <a:off x="900000" y="1844640"/>
            <a:ext cx="5651640" cy="4241880"/>
          </a:xfrm>
          <a:prstGeom prst="rect">
            <a:avLst/>
          </a:prstGeom>
          <a:ln w="0">
            <a:noFill/>
          </a:ln>
        </p:spPr>
      </p:pic>
      <p:pic>
        <p:nvPicPr>
          <p:cNvPr id="786" name="雷电颂.mp3" descr=""/>
          <p:cNvPicPr/>
          <p:nvPr/>
        </p:nvPicPr>
        <p:blipFill>
          <a:blip r:embed="rId3"/>
          <a:stretch/>
        </p:blipFill>
        <p:spPr>
          <a:xfrm>
            <a:off x="7812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5798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900" spc="-1" strike="noStrike">
                <a:solidFill>
                  <a:srgbClr val="002760"/>
                </a:solidFill>
                <a:latin typeface="Arial"/>
              </a:rPr>
              <a:t>使用规范说明</a:t>
            </a:r>
            <a:endParaRPr b="1" i="1" lang="en-US" sz="29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3"/>
          <p:cNvSpPr/>
          <p:nvPr/>
        </p:nvSpPr>
        <p:spPr>
          <a:xfrm>
            <a:off x="304920" y="404640"/>
            <a:ext cx="8839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朗读全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注意不同句子，不同语段要用不同语气、语调、语速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问题探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与以往的课文相比，此文在形式上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结合课文背景，根据你的理解，谈谈课文的主要内容和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4067280" y="41497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是屈原的内心独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5" descr="102"/>
          <p:cNvPicPr/>
          <p:nvPr/>
        </p:nvPicPr>
        <p:blipFill>
          <a:blip r:embed="rId1"/>
          <a:stretch/>
        </p:blipFill>
        <p:spPr>
          <a:xfrm>
            <a:off x="8362800" y="6066000"/>
            <a:ext cx="7812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研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762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原的内心独白表达了哪两个方面的思想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现在课文的结构层次方面是怎样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304920" y="36212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一层次 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-8)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诗人呼唤与歌颂风雷电这些伟大的自然力，表达对黑暗的愤激和对光明的礼赞与向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539640" y="198108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课文表达了屈原歌颂风雷电、怒斥神祗的两方面的思想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89080" y="5602320"/>
            <a:ext cx="87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二层次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-13)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：借指斥神鬼偶像来抨击昏庸腐朽的当权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02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研读赏析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027"/>
          <p:cNvSpPr/>
          <p:nvPr/>
        </p:nvSpPr>
        <p:spPr>
          <a:xfrm>
            <a:off x="609480" y="9810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原的独白写了哪些景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029"/>
          <p:cNvSpPr/>
          <p:nvPr/>
        </p:nvSpPr>
        <p:spPr>
          <a:xfrm>
            <a:off x="539640" y="22924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风雷电，洞庭湖、东海、长江，有形的长剑、无形的长剑，没有阴谋，没有污秽、没有自私自利的没有人的小岛，“土偶木梗”的群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4"/>
          <p:cNvSpPr/>
          <p:nvPr/>
        </p:nvSpPr>
        <p:spPr>
          <a:xfrm>
            <a:off x="1187280" y="1197000"/>
            <a:ext cx="68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写这些景象时，运用了什么手法？仔细分析一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1476360" y="3860640"/>
            <a:ext cx="49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象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026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1027"/>
          <p:cNvSpPr/>
          <p:nvPr/>
        </p:nvSpPr>
        <p:spPr>
          <a:xfrm>
            <a:off x="395280" y="765000"/>
            <a:ext cx="3024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雷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洞庭湖、东海、长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形的长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偶木梗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阴谋、没有污秽、没有自私自利的没有人的小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1028"/>
          <p:cNvSpPr/>
          <p:nvPr/>
        </p:nvSpPr>
        <p:spPr>
          <a:xfrm>
            <a:off x="4140360" y="549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世间追求正义、光明的变革力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029"/>
          <p:cNvSpPr/>
          <p:nvPr/>
        </p:nvSpPr>
        <p:spPr>
          <a:xfrm>
            <a:off x="4932720" y="155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民群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030"/>
          <p:cNvSpPr/>
          <p:nvPr/>
        </p:nvSpPr>
        <p:spPr>
          <a:xfrm>
            <a:off x="4500720" y="22766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坚定的信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031"/>
          <p:cNvSpPr/>
          <p:nvPr/>
        </p:nvSpPr>
        <p:spPr>
          <a:xfrm>
            <a:off x="4500720" y="4149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社会现实极端憎恶而企求寄托灵魂的一方净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1032"/>
          <p:cNvSpPr/>
          <p:nvPr/>
        </p:nvSpPr>
        <p:spPr>
          <a:xfrm>
            <a:off x="3132000" y="105264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033"/>
          <p:cNvSpPr/>
          <p:nvPr/>
        </p:nvSpPr>
        <p:spPr>
          <a:xfrm>
            <a:off x="3419640" y="184464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035"/>
          <p:cNvSpPr/>
          <p:nvPr/>
        </p:nvSpPr>
        <p:spPr>
          <a:xfrm>
            <a:off x="3203640" y="3213000"/>
            <a:ext cx="115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036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委婉曲折含蓄  化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抽象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具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形象可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037"/>
          <p:cNvSpPr/>
          <p:nvPr/>
        </p:nvSpPr>
        <p:spPr>
          <a:xfrm>
            <a:off x="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038"/>
          <p:cNvSpPr/>
          <p:nvPr/>
        </p:nvSpPr>
        <p:spPr>
          <a:xfrm>
            <a:off x="4500720" y="2997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无德无能，欺民惑众的官僚统治集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40"/>
          <p:cNvSpPr/>
          <p:nvPr/>
        </p:nvSpPr>
        <p:spPr>
          <a:xfrm>
            <a:off x="0" y="530064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041"/>
          <p:cNvSpPr/>
          <p:nvPr/>
        </p:nvSpPr>
        <p:spPr>
          <a:xfrm>
            <a:off x="3132000" y="2565360"/>
            <a:ext cx="111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042"/>
          <p:cNvSpPr/>
          <p:nvPr/>
        </p:nvSpPr>
        <p:spPr>
          <a:xfrm flipV="1">
            <a:off x="3276720" y="4652640"/>
            <a:ext cx="1092240" cy="4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3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971640" y="22860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抒情主人公通过呼唤风、雷、电表达了一种怎样的思想感情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684360" y="24922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对风雷电的呼唤与歌颂，表现了诗人对黑暗世界的强烈愤懑和摧毁黑暗的热望，也表明了诗人对光明未来的热烈追求。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话剧释义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话剧艺术，一般是指以对话和动作作为主要表现手段的戏剧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在欧洲各国，话剧被通称为戏剧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WordArt 2"/>
          <p:cNvSpPr txBox="1"/>
          <p:nvPr/>
        </p:nvSpPr>
        <p:spPr>
          <a:xfrm>
            <a:off x="971640" y="1916280"/>
            <a:ext cx="698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评点屈原的形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1e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990720" y="3886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爱国爱民，忠贞不屈，有着浩然正气和英勇无畏的斗争精神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422388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你认为屈原是一个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2473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4"/>
          <p:cNvSpPr/>
          <p:nvPr/>
        </p:nvSpPr>
        <p:spPr>
          <a:xfrm>
            <a:off x="179280" y="404640"/>
            <a:ext cx="8474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屈原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义和光明的化身。痛恨黑暗，向往光明，蔑视鬼神，鞭挞一切污秽，誓与丑恶奸佞们战斗到底。对风雷电的呼唤和歌颂，表现了他横扫一切邪恶的顽强战斗精神。虽桎梏加身，但不屈不挠，浩然正气凛然不可侵犯，充分表现了忠于祖国，热爱人民的高尚情操和崇高理想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屈原是正义和光明的化身，是战斗不屈的战士的形象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6" descr="s1"/>
          <p:cNvPicPr/>
          <p:nvPr/>
        </p:nvPicPr>
        <p:blipFill>
          <a:blip r:embed="rId2"/>
          <a:stretch/>
        </p:blipFill>
        <p:spPr>
          <a:xfrm>
            <a:off x="3352680" y="0"/>
            <a:ext cx="5232600" cy="68580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3"/>
          <p:cNvSpPr/>
          <p:nvPr/>
        </p:nvSpPr>
        <p:spPr>
          <a:xfrm>
            <a:off x="755640" y="1773360"/>
            <a:ext cx="5435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</a:rPr>
              <a:t>《</a:t>
            </a:r>
            <a:r>
              <a:rPr b="1" lang="zh-CN" sz="3700" spc="-1" strike="noStrike">
                <a:solidFill>
                  <a:srgbClr val="009900"/>
                </a:solidFill>
                <a:latin typeface="Times New Roman"/>
              </a:rPr>
              <a:t>雷电颂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</a:rPr>
              <a:t>》</a:t>
            </a:r>
            <a:r>
              <a:rPr b="1" lang="zh-CN" sz="3700" spc="-1" strike="noStrike">
                <a:solidFill>
                  <a:srgbClr val="009900"/>
                </a:solidFill>
                <a:latin typeface="Times New Roman"/>
              </a:rPr>
              <a:t>既然是屈原的内心独白，请找出最感兴趣的句子和段落，朗读给大家听，并说说这里写出了屈原怎样的内心情感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457200" y="5335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品昧语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4"/>
          <p:cNvSpPr/>
          <p:nvPr/>
        </p:nvSpPr>
        <p:spPr>
          <a:xfrm>
            <a:off x="1258920" y="981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风！你咆哮吧！咆哮吧！尽力地咆哮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1332000" y="299736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几句是对风的呼喊，流露出屈原对风的急切的渴盼，风是改变黑暗的变革力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4"/>
          <p:cNvSpPr/>
          <p:nvPr/>
        </p:nvSpPr>
        <p:spPr>
          <a:xfrm>
            <a:off x="971640" y="47628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）火！你在天边，你在眼前，你在我的四面，我知道你就是宇宙的生命，你就是我的生命，你就是我呀！我这熊熊地燃烧着的生命，我这快要使我全身炸裂的怒火，难道就不能迸射出光明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1258920" y="40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几句是屈原对光明的狂热的呼喊，表达了诗人对光明未来的热烈向往与追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4"/>
          <p:cNvSpPr/>
          <p:nvPr/>
        </p:nvSpPr>
        <p:spPr>
          <a:xfrm>
            <a:off x="611280" y="333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）把你这东皇太一烧毁了吧！把你这云中君烧毁了吧！你们这些土偶木梗，你们高坐在神位上有什么德能？你们只是产生黑暗的父亲和母亲。啊，你，你完全是一片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755640" y="37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这几句深刻地指出了产生社会黑暗的根源。表现了作者鞭挞一切污秽、横扫一切邪恶的顽强战斗精神，表现了他与黑暗势力决斗到底的浩然正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3" descr="屈原"/>
          <p:cNvPicPr/>
          <p:nvPr/>
        </p:nvPicPr>
        <p:blipFill>
          <a:blip r:embed="rId2"/>
          <a:stretch/>
        </p:blipFill>
        <p:spPr>
          <a:xfrm>
            <a:off x="5981760" y="990720"/>
            <a:ext cx="3162240" cy="586728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4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独白激情澎湃，气象雄浑，作者是如何做到这一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764280" y="1371600"/>
            <a:ext cx="2465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兼呼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和反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用短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6"/>
          <p:cNvSpPr/>
          <p:nvPr/>
        </p:nvSpPr>
        <p:spPr>
          <a:xfrm>
            <a:off x="940320" y="2057400"/>
            <a:ext cx="389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爱憎表达最直接有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7"/>
          <p:cNvSpPr/>
          <p:nvPr/>
        </p:nvSpPr>
        <p:spPr>
          <a:xfrm>
            <a:off x="0" y="3657600"/>
            <a:ext cx="76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句式整齐，感情表达更强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8"/>
          <p:cNvSpPr/>
          <p:nvPr/>
        </p:nvSpPr>
        <p:spPr>
          <a:xfrm>
            <a:off x="0" y="53341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语气急促，情感激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WordArt 2"/>
          <p:cNvSpPr txBox="1"/>
          <p:nvPr/>
        </p:nvSpPr>
        <p:spPr>
          <a:xfrm>
            <a:off x="0" y="228600"/>
            <a:ext cx="2340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重温经典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2057400" y="2286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哈姆莱特独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4"/>
          <p:cNvSpPr/>
          <p:nvPr/>
        </p:nvSpPr>
        <p:spPr>
          <a:xfrm>
            <a:off x="5292720" y="98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英） 莎士比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304920" y="1341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存还是毁灭，这是一个值得考虑的问题；默然忍受命运的暴虐的毒箭，或是挺身反抗人世的无涯的苦难，通过斗争把它们扫清，这两种行为，哪一种更高贵？死了，睡着了什么都完了；要是在这一种睡眠当中，我们心头的创痛，以及其他无数血肉之躯所不能避免的打击，都可以从此消失，那正是我们求之不得的结局。死了，睡着了，睡着了也许还会做梦，阻碍就在这儿；因为当我们摆脱了这一具腐朽的皮囊以后，在那死的睡眠里，究竟将要做些什么梦，那不能不使我们踌躇顾虑。人们甘心久困于患难之中，也就是为了这个缘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2"/>
          <p:cNvSpPr/>
          <p:nvPr/>
        </p:nvSpPr>
        <p:spPr>
          <a:xfrm>
            <a:off x="685800" y="28195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以前学过的郭沫若诗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天上的街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静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相比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抒情方式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WordArt 3"/>
          <p:cNvSpPr txBox="1"/>
          <p:nvPr/>
        </p:nvSpPr>
        <p:spPr>
          <a:xfrm>
            <a:off x="826920" y="765000"/>
            <a:ext cx="583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对比引申，把握抒情方式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457200" y="1828800"/>
            <a:ext cx="79246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300" spc="-1" strike="noStrike">
                <a:solidFill>
                  <a:srgbClr val="0000ff"/>
                </a:solidFill>
                <a:latin typeface="Times New Roman"/>
              </a:rPr>
              <a:t>戏剧是由演员扮演角色，在舞台上当众表演故事情节的一种艺术。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戏剧的文学部分，通称剧本，是文学的一大类别，与诗歌、散文、小说并列。</a:t>
            </a:r>
            <a:br>
              <a:rPr sz="3300"/>
            </a:b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      戏剧的基本要素是</a:t>
            </a:r>
            <a:r>
              <a:rPr b="1" lang="zh-CN" sz="3300" spc="-1" strike="noStrike">
                <a:solidFill>
                  <a:srgbClr val="cc0000"/>
                </a:solidFill>
                <a:latin typeface="Times New Roman"/>
              </a:rPr>
              <a:t>矛盾冲突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通过具体的舞台形象再现社会的生活斗争，激发观众强烈的情感反应，达到熏陶教育的目的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WordArt 3"/>
          <p:cNvSpPr txBox="1"/>
          <p:nvPr/>
        </p:nvSpPr>
        <p:spPr>
          <a:xfrm>
            <a:off x="2438280" y="533520"/>
            <a:ext cx="3888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戏剧知识推介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u=2628527076,1618357183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4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分析比较：郭沫若的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lt;&l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天上的街市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gt;&g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lt;&l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静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&gt;&gt;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与本文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250920" y="1844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上的街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是借景抒情，通过意象，隐隐流露出淡淡的忧伤，清幽、典雅、含蓄，节奏徐缓，音调和谐，想象贴切新颖，有着古典诗词的意境和韵味，如一首小夜曲，流过人们的心田，给人美的享受。“雷电颂”是“侮辱增加到最深度，彻底蹂躏诗人自尊的灵魂，，喷薄而出的诗。”它不仅是刻画屈原典型性格的最重要的一笔．是屈原斗争精神最突出的体现，而且它使全剧主题思想鲜明地突现出来。这篇散文诗，想像瑰丽奇特，把屈原和风雷电融为一体，达到物我同化的境地，显示了追求光明，毁灭一切黑暗的力量，使屈原的形象成为光明与正义的化身，塑造了千古不朽的爱国者的形象。所以感情鄙喷薄而出，不可阻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3" descr="u=52912102,1896979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492200" cy="11160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4"/>
          <p:cNvSpPr/>
          <p:nvPr/>
        </p:nvSpPr>
        <p:spPr>
          <a:xfrm>
            <a:off x="380880" y="1219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是一篇悲壮、慷慨、激昂的抒情独白。屈原召唤着风暴雷电等雄伟的自然力量，他与风暴雷电已完全融为一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让我们用自己最激越的感情，朗读课文，走进屈原丰富的内心世界，感受这雷与电的洗礼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WordArt 6"/>
          <p:cNvSpPr txBox="1"/>
          <p:nvPr/>
        </p:nvSpPr>
        <p:spPr>
          <a:xfrm>
            <a:off x="457200" y="457200"/>
            <a:ext cx="14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束语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Bar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304920" y="304920"/>
            <a:ext cx="83818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布置作业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练习三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背诵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1-6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拓展阅读历史剧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《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屈原</a:t>
            </a:r>
            <a:r>
              <a:rPr b="1" lang="en-US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》</a:t>
            </a:r>
            <a:r>
              <a:rPr b="1" lang="zh-CN" sz="4800" spc="-1" strike="noStrike">
                <a:solidFill>
                  <a:srgbClr val="009900"/>
                </a:solidFill>
                <a:latin typeface="华文中宋"/>
                <a:ea typeface="华文中宋"/>
              </a:rPr>
              <a:t>，全貌性感受作品的思想内容，写出内容，写出自己的心得体会。</a:t>
            </a: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1066680" y="12193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雷电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舞台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685800" y="2362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为舞台上屈原的动作、形象外貌作了必要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交代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，为读者理解下文的震天撼地的呼喊作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铺垫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102"/>
          <p:cNvPicPr/>
          <p:nvPr/>
        </p:nvPicPr>
        <p:blipFill>
          <a:blip r:embed="rId2"/>
          <a:stretch/>
        </p:blipFill>
        <p:spPr>
          <a:xfrm>
            <a:off x="7667640" y="5734080"/>
            <a:ext cx="78120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5"/>
          <p:cNvSpPr/>
          <p:nvPr/>
        </p:nvSpPr>
        <p:spPr>
          <a:xfrm>
            <a:off x="1908000" y="950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3" descr="030124quyuan1"/>
          <p:cNvPicPr/>
          <p:nvPr/>
        </p:nvPicPr>
        <p:blipFill>
          <a:blip r:embed="rId1"/>
          <a:stretch/>
        </p:blipFill>
        <p:spPr>
          <a:xfrm>
            <a:off x="990720" y="304920"/>
            <a:ext cx="4647960" cy="556236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4"/>
          <p:cNvSpPr/>
          <p:nvPr/>
        </p:nvSpPr>
        <p:spPr>
          <a:xfrm>
            <a:off x="4136400" y="59436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，便是屈原，我国第一位伟大的爱国诗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WordArt 6"/>
          <p:cNvSpPr txBox="1"/>
          <p:nvPr/>
        </p:nvSpPr>
        <p:spPr>
          <a:xfrm rot="5400000">
            <a:off x="5371560" y="2095560"/>
            <a:ext cx="358164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屈原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屈原1"/>
          <p:cNvPicPr/>
          <p:nvPr/>
        </p:nvPicPr>
        <p:blipFill>
          <a:blip r:embed="rId2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380880" y="1295280"/>
            <a:ext cx="8305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屈原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名平，字原，又自云名正则，字灵均。我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位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伟大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爱国主义诗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战国时楚国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。他用楚辞的形式写了我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首政治抒情诗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离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因看透了秦国吞并六国的野心，力劝楚怀王齐抗秦，后来遭奸人陷害，罢官放逐，但心仍系国。楚国被攻后，自投汨罗江而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屈原3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3"/>
          <p:cNvSpPr/>
          <p:nvPr/>
        </p:nvSpPr>
        <p:spPr>
          <a:xfrm>
            <a:off x="2354760" y="5181480"/>
            <a:ext cx="42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99"/>
                </a:solidFill>
                <a:latin typeface="Arial"/>
                <a:ea typeface="华文隶书"/>
              </a:rPr>
              <a:t>屈 原 的 故 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9:07:13Z</dcterms:created>
  <dc:creator/>
  <dc:description/>
  <cp:keywords>幻灯片之家 http:/www.eeppt.com</cp:keywords>
  <dc:language>en-US</dc:language>
  <cp:lastModifiedBy/>
  <dcterms:modified xsi:type="dcterms:W3CDTF">2015-07-20T06:06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