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DC4-FA32-4D7E-9373-E92FE1B6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86B-9DBC-4551-BC23-1EB8F914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D52-BDAA-447C-B81F-49B254FE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554-3CEE-43CF-93DC-E0F65989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6E2-525C-4508-9564-C6FF3459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CBC-E4FA-476C-A9CC-45BB8752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48B-438F-4BAF-A333-A89A5506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3FC-5BB6-44EB-9F17-406DB4E9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687-7238-4D77-B4FD-6E7C098A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DB3-682D-4C43-A5DE-3AD25DE1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711-B717-4271-A474-18512D20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053-EA1B-4ED2-84B3-7B9A2BF4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57CF-CE1C-4D34-B565-524CF22890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4"/>
          <p:cNvSpPr/>
          <p:nvPr/>
        </p:nvSpPr>
        <p:spPr>
          <a:xfrm rot="2709000">
            <a:off x="911520" y="-1399320"/>
            <a:ext cx="9657000" cy="9661320"/>
          </a:xfrm>
          <a:custGeom>
            <a:avLst/>
            <a:gdLst/>
            <a:ahLst/>
            <a:rect l="l" t="t" r="r" b="b"/>
            <a:pathLst>
              <a:path w="9662232" h="9662041">
                <a:moveTo>
                  <a:pt x="810646" y="5631839"/>
                </a:moveTo>
                <a:lnTo>
                  <a:pt x="4051389" y="8855635"/>
                </a:lnTo>
                <a:cubicBezTo>
                  <a:pt x="3943397" y="8966582"/>
                  <a:pt x="3792361" y="9035181"/>
                  <a:pt x="3625303" y="9035181"/>
                </a:cubicBezTo>
                <a:lnTo>
                  <a:pt x="1236733" y="9035181"/>
                </a:lnTo>
                <a:cubicBezTo>
                  <a:pt x="906931" y="9035181"/>
                  <a:pt x="639573" y="8767823"/>
                  <a:pt x="639573" y="8438021"/>
                </a:cubicBezTo>
                <a:lnTo>
                  <a:pt x="639573" y="6049451"/>
                </a:lnTo>
                <a:cubicBezTo>
                  <a:pt x="639573" y="5886708"/>
                  <a:pt x="704675" y="5739170"/>
                  <a:pt x="810646" y="5631839"/>
                </a:cubicBezTo>
                <a:close/>
                <a:moveTo>
                  <a:pt x="0" y="4825433"/>
                </a:moveTo>
                <a:lnTo>
                  <a:pt x="4800196" y="0"/>
                </a:lnTo>
                <a:lnTo>
                  <a:pt x="9662232" y="4836608"/>
                </a:lnTo>
                <a:lnTo>
                  <a:pt x="4862035" y="9662041"/>
                </a:lnTo>
                <a:lnTo>
                  <a:pt x="4051389" y="8855635"/>
                </a:lnTo>
                <a:cubicBezTo>
                  <a:pt x="4157361" y="8748304"/>
                  <a:pt x="4222463" y="8600765"/>
                  <a:pt x="4222463" y="8438021"/>
                </a:cubicBezTo>
                <a:lnTo>
                  <a:pt x="4222463" y="6049451"/>
                </a:lnTo>
                <a:cubicBezTo>
                  <a:pt x="4222463" y="5719649"/>
                  <a:pt x="3955105" y="5452291"/>
                  <a:pt x="3625303" y="5452291"/>
                </a:cubicBezTo>
                <a:lnTo>
                  <a:pt x="1236733" y="5452291"/>
                </a:lnTo>
                <a:cubicBezTo>
                  <a:pt x="1069675" y="5452291"/>
                  <a:pt x="918638" y="5520891"/>
                  <a:pt x="810646" y="5631839"/>
                </a:cubicBezTo>
                <a:lnTo>
                  <a:pt x="0" y="4825433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65520" y="2033280"/>
            <a:ext cx="2790720" cy="2790720"/>
            <a:chOff x="965520" y="2033280"/>
            <a:chExt cx="2790720" cy="2790720"/>
          </a:xfrm>
        </p:grpSpPr>
        <p:sp>
          <p:nvSpPr>
            <p:cNvPr id="43" name="圆角矩形 2"/>
            <p:cNvSpPr/>
            <p:nvPr/>
          </p:nvSpPr>
          <p:spPr>
            <a:xfrm rot="2709000">
              <a:off x="1380240" y="2448360"/>
              <a:ext cx="1968840" cy="196704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圆角矩形 6"/>
            <p:cNvSpPr/>
            <p:nvPr/>
          </p:nvSpPr>
          <p:spPr>
            <a:xfrm rot="2709000">
              <a:off x="1373400" y="2442240"/>
              <a:ext cx="1974240" cy="1972440"/>
            </a:xfrm>
            <a:custGeom>
              <a:avLst/>
              <a:gdLst/>
              <a:ahLst/>
              <a:rect l="l" t="t" r="r" b="b"/>
              <a:pathLst>
                <a:path w="2777564" h="2777564">
                  <a:moveTo>
                    <a:pt x="126227" y="157202"/>
                  </a:moveTo>
                  <a:cubicBezTo>
                    <a:pt x="125134" y="158295"/>
                    <a:pt x="124048" y="159394"/>
                    <a:pt x="123267" y="160791"/>
                  </a:cubicBezTo>
                  <a:lnTo>
                    <a:pt x="2628063" y="2652488"/>
                  </a:lnTo>
                  <a:cubicBezTo>
                    <a:pt x="2709969" y="2569531"/>
                    <a:pt x="2760287" y="2455498"/>
                    <a:pt x="2760287" y="2329712"/>
                  </a:cubicBezTo>
                  <a:lnTo>
                    <a:pt x="2760287" y="483567"/>
                  </a:lnTo>
                  <a:cubicBezTo>
                    <a:pt x="2760287" y="228660"/>
                    <a:pt x="2553645" y="22018"/>
                    <a:pt x="2298737" y="22018"/>
                  </a:cubicBezTo>
                  <a:lnTo>
                    <a:pt x="452593" y="22018"/>
                  </a:lnTo>
                  <a:cubicBezTo>
                    <a:pt x="325139" y="22018"/>
                    <a:pt x="209751" y="73678"/>
                    <a:pt x="126227" y="157202"/>
                  </a:cubicBezTo>
                  <a:close/>
                  <a:moveTo>
                    <a:pt x="135591" y="135591"/>
                  </a:moveTo>
                  <a:cubicBezTo>
                    <a:pt x="219366" y="51816"/>
                    <a:pt x="335100" y="0"/>
                    <a:pt x="462937" y="0"/>
                  </a:cubicBezTo>
                  <a:lnTo>
                    <a:pt x="2314627" y="0"/>
                  </a:lnTo>
                  <a:cubicBezTo>
                    <a:pt x="2570300" y="0"/>
                    <a:pt x="2777564" y="207264"/>
                    <a:pt x="2777564" y="462937"/>
                  </a:cubicBezTo>
                  <a:lnTo>
                    <a:pt x="2777564" y="2314627"/>
                  </a:lnTo>
                  <a:cubicBezTo>
                    <a:pt x="2777564" y="2570300"/>
                    <a:pt x="2570300" y="2777564"/>
                    <a:pt x="2314627" y="2777564"/>
                  </a:cubicBezTo>
                  <a:lnTo>
                    <a:pt x="462937" y="2777564"/>
                  </a:lnTo>
                  <a:cubicBezTo>
                    <a:pt x="207264" y="2777564"/>
                    <a:pt x="0" y="2570300"/>
                    <a:pt x="0" y="2314627"/>
                  </a:cubicBezTo>
                  <a:lnTo>
                    <a:pt x="0" y="462937"/>
                  </a:lnTo>
                  <a:cubicBezTo>
                    <a:pt x="0" y="335101"/>
                    <a:pt x="51816" y="219366"/>
                    <a:pt x="135591" y="135591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TextBox 10"/>
          <p:cNvSpPr/>
          <p:nvPr/>
        </p:nvSpPr>
        <p:spPr>
          <a:xfrm>
            <a:off x="1389240" y="304308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LO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4686480" y="177480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5788080" y="578628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5740560" y="2843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作者：怪儿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5003640" y="42926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7"/>
          <p:cNvSpPr/>
          <p:nvPr/>
        </p:nvSpPr>
        <p:spPr>
          <a:xfrm>
            <a:off x="2792520" y="0"/>
            <a:ext cx="6351480" cy="6858000"/>
          </a:xfrm>
          <a:custGeom>
            <a:avLst/>
            <a:gdLst/>
            <a:ahLst/>
            <a:rect l="l" t="t" r="r" b="b"/>
            <a:pathLst>
              <a:path w="6350881" h="6858000">
                <a:moveTo>
                  <a:pt x="6932" y="0"/>
                </a:moveTo>
                <a:lnTo>
                  <a:pt x="6350881" y="0"/>
                </a:lnTo>
                <a:lnTo>
                  <a:pt x="6350881" y="6858000"/>
                </a:lnTo>
                <a:lnTo>
                  <a:pt x="0" y="6858000"/>
                </a:lnTo>
                <a:cubicBezTo>
                  <a:pt x="94478" y="6815102"/>
                  <a:pt x="182596" y="6754408"/>
                  <a:pt x="260303" y="6676908"/>
                </a:cubicBezTo>
                <a:lnTo>
                  <a:pt x="2861394" y="4082772"/>
                </a:lnTo>
                <a:cubicBezTo>
                  <a:pt x="3220541" y="3724586"/>
                  <a:pt x="3221319" y="3143073"/>
                  <a:pt x="2863133" y="2783926"/>
                </a:cubicBezTo>
                <a:lnTo>
                  <a:pt x="268996" y="182835"/>
                </a:lnTo>
                <a:cubicBezTo>
                  <a:pt x="190879" y="104508"/>
                  <a:pt x="102139" y="43226"/>
                  <a:pt x="6932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圆角矩形 8"/>
          <p:cNvSpPr/>
          <p:nvPr/>
        </p:nvSpPr>
        <p:spPr>
          <a:xfrm rot="2697600">
            <a:off x="720720" y="1595160"/>
            <a:ext cx="3666960" cy="36669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1122480" y="292104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4973760" y="98100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5908680" y="587700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6029280" y="20494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作者：怪儿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918040" y="34988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圆角矩形 2"/>
          <p:cNvSpPr/>
          <p:nvPr/>
        </p:nvSpPr>
        <p:spPr>
          <a:xfrm rot="19139400">
            <a:off x="-744120" y="4196880"/>
            <a:ext cx="1593720" cy="1706760"/>
          </a:xfrm>
          <a:custGeom>
            <a:avLst/>
            <a:gdLst/>
            <a:ahLst/>
            <a:rect l="l" t="t" r="r" b="b"/>
            <a:pathLst>
              <a:path w="1597651" h="1706458">
                <a:moveTo>
                  <a:pt x="1512441" y="46160"/>
                </a:moveTo>
                <a:cubicBezTo>
                  <a:pt x="1565088" y="98806"/>
                  <a:pt x="1597651" y="171537"/>
                  <a:pt x="1597651" y="251874"/>
                </a:cubicBezTo>
                <a:lnTo>
                  <a:pt x="1597651" y="1415534"/>
                </a:lnTo>
                <a:cubicBezTo>
                  <a:pt x="1597651" y="1576207"/>
                  <a:pt x="1467400" y="1706458"/>
                  <a:pt x="1306727" y="1706458"/>
                </a:cubicBezTo>
                <a:lnTo>
                  <a:pt x="143066" y="1706458"/>
                </a:lnTo>
                <a:cubicBezTo>
                  <a:pt x="90797" y="1706458"/>
                  <a:pt x="41747" y="1692673"/>
                  <a:pt x="0" y="1667407"/>
                </a:cubicBezTo>
                <a:lnTo>
                  <a:pt x="1449792" y="0"/>
                </a:lnTo>
                <a:cubicBezTo>
                  <a:pt x="1473203" y="11824"/>
                  <a:pt x="1494048" y="27766"/>
                  <a:pt x="1512441" y="46160"/>
                </a:cubicBezTo>
                <a:close/>
              </a:path>
            </a:pathLst>
          </a:custGeom>
          <a:solidFill>
            <a:srgbClr val="f9a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圆角矩形 3"/>
          <p:cNvSpPr/>
          <p:nvPr/>
        </p:nvSpPr>
        <p:spPr>
          <a:xfrm rot="19139400">
            <a:off x="625320" y="2894040"/>
            <a:ext cx="1744920" cy="17445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圆角矩形 4"/>
          <p:cNvSpPr/>
          <p:nvPr/>
        </p:nvSpPr>
        <p:spPr>
          <a:xfrm rot="19139400">
            <a:off x="2152440" y="1564920"/>
            <a:ext cx="1744560" cy="1746360"/>
          </a:xfrm>
          <a:custGeom>
            <a:avLst/>
            <a:gdLst>
              <a:gd name="textAreaLeft" fmla="*/ 84960 w 1744560"/>
              <a:gd name="textAreaRight" fmla="*/ 1659600 w 1744560"/>
              <a:gd name="textAreaTop" fmla="*/ 84960 h 1746360"/>
              <a:gd name="textAreaBottom" fmla="*/ 1661400 h 1746360"/>
            </a:gdLst>
            <a:ahLst/>
            <a:rect l="textAreaLeft" t="textAreaTop" r="textAreaRight" b="textAreaBottom"/>
            <a:pathLst>
              <a:path w="21600" h="21622">
                <a:moveTo>
                  <a:pt x="3600" y="0"/>
                </a:moveTo>
                <a:arcTo wR="3600" hR="3600" stAng="16200000" swAng="-5400000"/>
                <a:lnTo>
                  <a:pt x="0" y="18022"/>
                </a:lnTo>
                <a:arcTo wR="3600" hR="3600" stAng="10800000" swAng="-5400000"/>
                <a:lnTo>
                  <a:pt x="18000" y="216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5"/>
          <p:cNvSpPr/>
          <p:nvPr/>
        </p:nvSpPr>
        <p:spPr>
          <a:xfrm rot="19139400">
            <a:off x="369720" y="5684400"/>
            <a:ext cx="1744920" cy="1744920"/>
          </a:xfrm>
          <a:custGeom>
            <a:avLst/>
            <a:gdLst/>
            <a:ahLst/>
            <a:rect l="l" t="t" r="r" b="b"/>
            <a:pathLst>
              <a:path w="1745509" h="1745508">
                <a:moveTo>
                  <a:pt x="1660299" y="85209"/>
                </a:moveTo>
                <a:cubicBezTo>
                  <a:pt x="1712946" y="137856"/>
                  <a:pt x="1745509" y="210587"/>
                  <a:pt x="1745509" y="290924"/>
                </a:cubicBezTo>
                <a:lnTo>
                  <a:pt x="1745509" y="1454584"/>
                </a:lnTo>
                <a:cubicBezTo>
                  <a:pt x="1745509" y="1615257"/>
                  <a:pt x="1615258" y="1745508"/>
                  <a:pt x="1454585" y="1745508"/>
                </a:cubicBezTo>
                <a:lnTo>
                  <a:pt x="1417657" y="1745508"/>
                </a:lnTo>
                <a:lnTo>
                  <a:pt x="0" y="512870"/>
                </a:lnTo>
                <a:lnTo>
                  <a:pt x="0" y="290924"/>
                </a:lnTo>
                <a:cubicBezTo>
                  <a:pt x="0" y="130251"/>
                  <a:pt x="130251" y="0"/>
                  <a:pt x="290924" y="0"/>
                </a:cubicBezTo>
                <a:lnTo>
                  <a:pt x="1454585" y="0"/>
                </a:lnTo>
                <a:cubicBezTo>
                  <a:pt x="1534921" y="0"/>
                  <a:pt x="1607652" y="32563"/>
                  <a:pt x="1660299" y="85209"/>
                </a:cubicBezTo>
                <a:close/>
              </a:path>
            </a:pathLst>
          </a:cu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6"/>
          <p:cNvSpPr/>
          <p:nvPr/>
        </p:nvSpPr>
        <p:spPr>
          <a:xfrm rot="19139400">
            <a:off x="1886040" y="4365360"/>
            <a:ext cx="1746000" cy="174600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7"/>
          <p:cNvSpPr/>
          <p:nvPr/>
        </p:nvSpPr>
        <p:spPr>
          <a:xfrm rot="19139400">
            <a:off x="3412800" y="3038040"/>
            <a:ext cx="1746360" cy="174456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4440240" y="1557360"/>
            <a:ext cx="406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历经多少轮回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516640" y="26798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（作者：怪儿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11"/>
          <p:cNvSpPr/>
          <p:nvPr/>
        </p:nvSpPr>
        <p:spPr>
          <a:xfrm>
            <a:off x="876132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8400960" y="0"/>
            <a:ext cx="203400" cy="68580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5219640" y="41720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0" lang="en-US" sz="4400" spc="-1" strike="noStrike">
                <a:solidFill>
                  <a:srgbClr val="00b0f0"/>
                </a:solidFill>
                <a:latin typeface="Calibri"/>
                <a:ea typeface="微软雅黑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5148360" y="5786280"/>
            <a:ext cx="296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将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的前世今世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现在</a:t>
            </a:r>
            <a:r>
              <a:rPr b="0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过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圆角矩形 4"/>
          <p:cNvSpPr/>
          <p:nvPr/>
        </p:nvSpPr>
        <p:spPr>
          <a:xfrm>
            <a:off x="3708360" y="189000"/>
            <a:ext cx="142920" cy="1443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144360"/>
              <a:gd name="textAreaBottom" fmla="*/ 137520 h 144360"/>
            </a:gdLst>
            <a:ahLst/>
            <a:rect l="textAreaLeft" t="textAreaTop" r="textAreaRight" b="textAreaBottom"/>
            <a:pathLst>
              <a:path w="21600" h="21817">
                <a:moveTo>
                  <a:pt x="3600" y="0"/>
                </a:moveTo>
                <a:arcTo wR="3600" hR="3600" stAng="16200000" swAng="-5400000"/>
                <a:lnTo>
                  <a:pt x="0" y="18217"/>
                </a:lnTo>
                <a:arcTo wR="3600" hR="3600" stAng="10800000" swAng="-5400000"/>
                <a:lnTo>
                  <a:pt x="18000" y="21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圆角矩形 6"/>
          <p:cNvSpPr/>
          <p:nvPr/>
        </p:nvSpPr>
        <p:spPr>
          <a:xfrm>
            <a:off x="3747960" y="0"/>
            <a:ext cx="289080" cy="28728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圆角矩形 1"/>
          <p:cNvSpPr/>
          <p:nvPr/>
        </p:nvSpPr>
        <p:spPr>
          <a:xfrm>
            <a:off x="4211640" y="404640"/>
            <a:ext cx="216000" cy="216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圆角矩形 3"/>
          <p:cNvSpPr/>
          <p:nvPr/>
        </p:nvSpPr>
        <p:spPr>
          <a:xfrm>
            <a:off x="4579920" y="141120"/>
            <a:ext cx="560520" cy="479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圆角矩形 2"/>
          <p:cNvSpPr/>
          <p:nvPr/>
        </p:nvSpPr>
        <p:spPr>
          <a:xfrm>
            <a:off x="4363920" y="557280"/>
            <a:ext cx="216000" cy="216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圆角矩形 7"/>
          <p:cNvSpPr/>
          <p:nvPr/>
        </p:nvSpPr>
        <p:spPr>
          <a:xfrm>
            <a:off x="5651640" y="141120"/>
            <a:ext cx="614160" cy="61452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4520"/>
              <a:gd name="textAreaBottom" fmla="*/ 584640 h 61452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圆角矩形 8"/>
          <p:cNvSpPr/>
          <p:nvPr/>
        </p:nvSpPr>
        <p:spPr>
          <a:xfrm>
            <a:off x="5189400" y="630360"/>
            <a:ext cx="462240" cy="461880"/>
          </a:xfrm>
          <a:prstGeom prst="roundRect">
            <a:avLst>
              <a:gd name="adj" fmla="val 16667"/>
            </a:avLst>
          </a:prstGeom>
          <a:solidFill>
            <a:srgbClr val="f9a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圆角矩形 9"/>
          <p:cNvSpPr/>
          <p:nvPr/>
        </p:nvSpPr>
        <p:spPr>
          <a:xfrm>
            <a:off x="8748720" y="2693880"/>
            <a:ext cx="349200" cy="351000"/>
          </a:xfrm>
          <a:custGeom>
            <a:avLst/>
            <a:gdLst>
              <a:gd name="textAreaLeft" fmla="*/ 16920 w 349200"/>
              <a:gd name="textAreaRight" fmla="*/ 332280 w 349200"/>
              <a:gd name="textAreaTop" fmla="*/ 16920 h 351000"/>
              <a:gd name="textAreaBottom" fmla="*/ 334080 h 351000"/>
            </a:gdLst>
            <a:ahLst/>
            <a:rect l="textAreaLeft" t="textAreaTop" r="textAreaRight" b="textAreaBottom"/>
            <a:pathLst>
              <a:path w="21600" h="21711">
                <a:moveTo>
                  <a:pt x="3600" y="0"/>
                </a:moveTo>
                <a:arcTo wR="3600" hR="3600" stAng="16200000" swAng="-5400000"/>
                <a:lnTo>
                  <a:pt x="0" y="18111"/>
                </a:lnTo>
                <a:arcTo wR="3600" hR="3600" stAng="10800000" swAng="-5400000"/>
                <a:lnTo>
                  <a:pt x="18000" y="21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圆角矩形 10"/>
          <p:cNvSpPr/>
          <p:nvPr/>
        </p:nvSpPr>
        <p:spPr>
          <a:xfrm>
            <a:off x="8402760" y="1916280"/>
            <a:ext cx="614160" cy="61596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5960"/>
              <a:gd name="textAreaBottom" fmla="*/ 586080 h 615960"/>
            </a:gdLst>
            <a:ahLst/>
            <a:rect l="textAreaLeft" t="textAreaTop" r="textAreaRight" b="textAreaBottom"/>
            <a:pathLst>
              <a:path w="21600" h="21663">
                <a:moveTo>
                  <a:pt x="3600" y="0"/>
                </a:moveTo>
                <a:arcTo wR="3600" hR="3600" stAng="16200000" swAng="-5400000"/>
                <a:lnTo>
                  <a:pt x="0" y="18063"/>
                </a:lnTo>
                <a:arcTo wR="3600" hR="3600" stAng="10800000" swAng="-5400000"/>
                <a:lnTo>
                  <a:pt x="18000" y="21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圆角矩形 11"/>
          <p:cNvSpPr/>
          <p:nvPr/>
        </p:nvSpPr>
        <p:spPr>
          <a:xfrm>
            <a:off x="6551640" y="34920"/>
            <a:ext cx="614160" cy="614520"/>
          </a:xfrm>
          <a:custGeom>
            <a:avLst/>
            <a:gdLst>
              <a:gd name="textAreaLeft" fmla="*/ 29880 w 614160"/>
              <a:gd name="textAreaRight" fmla="*/ 584280 w 614160"/>
              <a:gd name="textAreaTop" fmla="*/ 29880 h 614520"/>
              <a:gd name="textAreaBottom" fmla="*/ 584640 h 61452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圆角矩形 12"/>
          <p:cNvSpPr/>
          <p:nvPr/>
        </p:nvSpPr>
        <p:spPr>
          <a:xfrm>
            <a:off x="7297560" y="339840"/>
            <a:ext cx="309600" cy="30960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圆角矩形 13"/>
          <p:cNvSpPr/>
          <p:nvPr/>
        </p:nvSpPr>
        <p:spPr>
          <a:xfrm>
            <a:off x="7451640" y="96840"/>
            <a:ext cx="614520" cy="614520"/>
          </a:xfrm>
          <a:prstGeom prst="roundRect">
            <a:avLst>
              <a:gd name="adj" fmla="val 16667"/>
            </a:avLst>
          </a:prstGeom>
          <a:solidFill>
            <a:srgbClr val="de6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圆角矩形 14"/>
          <p:cNvSpPr/>
          <p:nvPr/>
        </p:nvSpPr>
        <p:spPr>
          <a:xfrm>
            <a:off x="8691480" y="19080"/>
            <a:ext cx="385920" cy="3855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圆角矩形 15"/>
          <p:cNvSpPr/>
          <p:nvPr/>
        </p:nvSpPr>
        <p:spPr>
          <a:xfrm>
            <a:off x="8329680" y="404640"/>
            <a:ext cx="687240" cy="687600"/>
          </a:xfrm>
          <a:custGeom>
            <a:avLst/>
            <a:gdLst>
              <a:gd name="textAreaLeft" fmla="*/ 33480 w 687240"/>
              <a:gd name="textAreaRight" fmla="*/ 653760 w 687240"/>
              <a:gd name="textAreaTop" fmla="*/ 33480 h 687600"/>
              <a:gd name="textAreaBottom" fmla="*/ 654120 h 68760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圆角矩形 17"/>
          <p:cNvSpPr/>
          <p:nvPr/>
        </p:nvSpPr>
        <p:spPr>
          <a:xfrm>
            <a:off x="8691480" y="1378080"/>
            <a:ext cx="289080" cy="288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圆角矩形 5"/>
          <p:cNvSpPr/>
          <p:nvPr/>
        </p:nvSpPr>
        <p:spPr>
          <a:xfrm>
            <a:off x="3924360" y="4428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圆角矩形 18"/>
          <p:cNvSpPr/>
          <p:nvPr/>
        </p:nvSpPr>
        <p:spPr>
          <a:xfrm>
            <a:off x="6245280" y="512640"/>
            <a:ext cx="614160" cy="5446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圆角矩形 19"/>
          <p:cNvSpPr/>
          <p:nvPr/>
        </p:nvSpPr>
        <p:spPr>
          <a:xfrm>
            <a:off x="7759800" y="1173240"/>
            <a:ext cx="728640" cy="72864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圆角矩形 16"/>
          <p:cNvSpPr/>
          <p:nvPr/>
        </p:nvSpPr>
        <p:spPr>
          <a:xfrm>
            <a:off x="8370720" y="1057320"/>
            <a:ext cx="316080" cy="315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圆角矩形 20"/>
          <p:cNvSpPr/>
          <p:nvPr/>
        </p:nvSpPr>
        <p:spPr>
          <a:xfrm>
            <a:off x="8848800" y="3121200"/>
            <a:ext cx="307800" cy="3078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圆角矩形 21"/>
          <p:cNvSpPr/>
          <p:nvPr/>
        </p:nvSpPr>
        <p:spPr>
          <a:xfrm>
            <a:off x="8402760" y="3273480"/>
            <a:ext cx="461880" cy="46188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圆角矩形 22"/>
          <p:cNvSpPr/>
          <p:nvPr/>
        </p:nvSpPr>
        <p:spPr>
          <a:xfrm>
            <a:off x="8802720" y="3754440"/>
            <a:ext cx="363600" cy="363600"/>
          </a:xfrm>
          <a:prstGeom prst="roundRect">
            <a:avLst>
              <a:gd name="adj" fmla="val 16667"/>
            </a:avLst>
          </a:prstGeom>
          <a:solidFill>
            <a:srgbClr val="78db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圆角矩形 24"/>
          <p:cNvSpPr/>
          <p:nvPr/>
        </p:nvSpPr>
        <p:spPr>
          <a:xfrm>
            <a:off x="8242200" y="6364440"/>
            <a:ext cx="287280" cy="285480"/>
          </a:xfrm>
          <a:prstGeom prst="roundRect">
            <a:avLst>
              <a:gd name="adj" fmla="val 16667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圆角矩形 25"/>
          <p:cNvSpPr/>
          <p:nvPr/>
        </p:nvSpPr>
        <p:spPr>
          <a:xfrm>
            <a:off x="7997760" y="6561000"/>
            <a:ext cx="289080" cy="289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圆角矩形 26"/>
          <p:cNvSpPr/>
          <p:nvPr/>
        </p:nvSpPr>
        <p:spPr>
          <a:xfrm>
            <a:off x="8402760" y="6716880"/>
            <a:ext cx="174600" cy="17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圆角矩形 27"/>
          <p:cNvSpPr/>
          <p:nvPr/>
        </p:nvSpPr>
        <p:spPr>
          <a:xfrm>
            <a:off x="8744040" y="5877000"/>
            <a:ext cx="307800" cy="3078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圆角矩形 28"/>
          <p:cNvSpPr/>
          <p:nvPr/>
        </p:nvSpPr>
        <p:spPr>
          <a:xfrm>
            <a:off x="8386920" y="6049800"/>
            <a:ext cx="306360" cy="308160"/>
          </a:xfrm>
          <a:custGeom>
            <a:avLst/>
            <a:gdLst>
              <a:gd name="textAreaLeft" fmla="*/ 14760 w 306360"/>
              <a:gd name="textAreaRight" fmla="*/ 291600 w 306360"/>
              <a:gd name="textAreaTop" fmla="*/ 14760 h 308160"/>
              <a:gd name="textAreaBottom" fmla="*/ 293400 h 308160"/>
            </a:gdLst>
            <a:ahLst/>
            <a:rect l="textAreaLeft" t="textAreaTop" r="textAreaRight" b="textAreaBottom"/>
            <a:pathLst>
              <a:path w="21600" h="21727">
                <a:moveTo>
                  <a:pt x="3600" y="0"/>
                </a:moveTo>
                <a:arcTo wR="3600" hR="3600" stAng="16200000" swAng="-5400000"/>
                <a:lnTo>
                  <a:pt x="0" y="18127"/>
                </a:lnTo>
                <a:arcTo wR="3600" hR="3600" stAng="10800000" swAng="-5400000"/>
                <a:lnTo>
                  <a:pt x="18000" y="217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2d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圆角矩形 29"/>
          <p:cNvSpPr/>
          <p:nvPr/>
        </p:nvSpPr>
        <p:spPr>
          <a:xfrm>
            <a:off x="8558280" y="6203880"/>
            <a:ext cx="550800" cy="550800"/>
          </a:xfrm>
          <a:prstGeom prst="roundRect">
            <a:avLst>
              <a:gd name="adj" fmla="val 16667"/>
            </a:avLst>
          </a:prstGeom>
          <a:solidFill>
            <a:srgbClr val="50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圆角矩形 30"/>
          <p:cNvSpPr/>
          <p:nvPr/>
        </p:nvSpPr>
        <p:spPr>
          <a:xfrm>
            <a:off x="8520120" y="4087800"/>
            <a:ext cx="365040" cy="36504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圆角矩形 23"/>
          <p:cNvSpPr/>
          <p:nvPr/>
        </p:nvSpPr>
        <p:spPr>
          <a:xfrm>
            <a:off x="8537400" y="4394160"/>
            <a:ext cx="581040" cy="581040"/>
          </a:xfrm>
          <a:prstGeom prst="roundRect">
            <a:avLst>
              <a:gd name="adj" fmla="val 16667"/>
            </a:avLst>
          </a:prstGeom>
          <a:solidFill>
            <a:srgbClr val="2f1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圆角矩形 31"/>
          <p:cNvSpPr/>
          <p:nvPr/>
        </p:nvSpPr>
        <p:spPr>
          <a:xfrm>
            <a:off x="8705880" y="5064120"/>
            <a:ext cx="384120" cy="38412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圆角矩形 32"/>
          <p:cNvSpPr/>
          <p:nvPr/>
        </p:nvSpPr>
        <p:spPr>
          <a:xfrm>
            <a:off x="8632800" y="5467320"/>
            <a:ext cx="461880" cy="40968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圆角矩形 33"/>
          <p:cNvSpPr/>
          <p:nvPr/>
        </p:nvSpPr>
        <p:spPr>
          <a:xfrm>
            <a:off x="8370720" y="5159520"/>
            <a:ext cx="289080" cy="288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835280" y="1916280"/>
            <a:ext cx="4608360" cy="830160"/>
            <a:chOff x="1835280" y="1916280"/>
            <a:chExt cx="4608360" cy="830160"/>
          </a:xfrm>
        </p:grpSpPr>
        <p:grpSp>
          <p:nvGrpSpPr>
            <p:cNvPr id="104" name=""/>
            <p:cNvGrpSpPr/>
            <p:nvPr/>
          </p:nvGrpSpPr>
          <p:grpSpPr>
            <a:xfrm>
              <a:off x="1835280" y="1916280"/>
              <a:ext cx="800280" cy="830160"/>
              <a:chOff x="1835280" y="1916280"/>
              <a:chExt cx="800280" cy="830160"/>
            </a:xfrm>
          </p:grpSpPr>
          <p:sp>
            <p:nvSpPr>
              <p:cNvPr id="105" name="圆角矩形 37"/>
              <p:cNvSpPr/>
              <p:nvPr/>
            </p:nvSpPr>
            <p:spPr>
              <a:xfrm>
                <a:off x="1915560" y="2025360"/>
                <a:ext cx="720000" cy="721080"/>
              </a:xfrm>
              <a:custGeom>
                <a:avLst/>
                <a:gdLst>
                  <a:gd name="textAreaLeft" fmla="*/ 34920 w 720000"/>
                  <a:gd name="textAreaRight" fmla="*/ 685080 w 720000"/>
                  <a:gd name="textAreaTop" fmla="*/ 34920 h 721080"/>
                  <a:gd name="textAreaBottom" fmla="*/ 686160 h 721080"/>
                </a:gdLst>
                <a:ahLst/>
                <a:rect l="textAreaLeft" t="textAreaTop" r="textAreaRight" b="textAreaBottom"/>
                <a:pathLst>
                  <a:path w="21600" h="21632">
                    <a:moveTo>
                      <a:pt x="3600" y="0"/>
                    </a:moveTo>
                    <a:arcTo wR="3600" hR="3600" stAng="16200000" swAng="-5400000"/>
                    <a:lnTo>
                      <a:pt x="0" y="18032"/>
                    </a:lnTo>
                    <a:arcTo wR="3600" hR="3600" stAng="10800000" swAng="-5400000"/>
                    <a:lnTo>
                      <a:pt x="18000" y="216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圆角矩形 36"/>
              <p:cNvSpPr/>
              <p:nvPr/>
            </p:nvSpPr>
            <p:spPr>
              <a:xfrm>
                <a:off x="1835280" y="1916280"/>
                <a:ext cx="720000" cy="721080"/>
              </a:xfrm>
              <a:custGeom>
                <a:avLst/>
                <a:gdLst>
                  <a:gd name="textAreaLeft" fmla="*/ 34920 w 720000"/>
                  <a:gd name="textAreaRight" fmla="*/ 685080 w 720000"/>
                  <a:gd name="textAreaTop" fmla="*/ 34920 h 721080"/>
                  <a:gd name="textAreaBottom" fmla="*/ 686160 h 721080"/>
                </a:gdLst>
                <a:ahLst/>
                <a:rect l="textAreaLeft" t="textAreaTop" r="textAreaRight" b="textAreaBottom"/>
                <a:pathLst>
                  <a:path w="21600" h="21632">
                    <a:moveTo>
                      <a:pt x="3600" y="0"/>
                    </a:moveTo>
                    <a:arcTo wR="3600" hR="3600" stAng="16200000" swAng="-5400000"/>
                    <a:lnTo>
                      <a:pt x="0" y="18032"/>
                    </a:lnTo>
                    <a:arcTo wR="3600" hR="3600" stAng="10800000" swAng="-5400000"/>
                    <a:lnTo>
                      <a:pt x="18000" y="216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TextBox 38"/>
              <p:cNvSpPr/>
              <p:nvPr/>
            </p:nvSpPr>
            <p:spPr>
              <a:xfrm>
                <a:off x="1842120" y="1932120"/>
                <a:ext cx="743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" name="直接连接符 41"/>
            <p:cNvSpPr/>
            <p:nvPr/>
          </p:nvSpPr>
          <p:spPr>
            <a:xfrm>
              <a:off x="2771280" y="2736000"/>
              <a:ext cx="367236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827360" y="2997360"/>
            <a:ext cx="4646520" cy="828360"/>
            <a:chOff x="1827360" y="2997360"/>
            <a:chExt cx="4646520" cy="828360"/>
          </a:xfrm>
        </p:grpSpPr>
        <p:grpSp>
          <p:nvGrpSpPr>
            <p:cNvPr id="110" name=""/>
            <p:cNvGrpSpPr/>
            <p:nvPr/>
          </p:nvGrpSpPr>
          <p:grpSpPr>
            <a:xfrm>
              <a:off x="1827360" y="2997360"/>
              <a:ext cx="839160" cy="828360"/>
              <a:chOff x="1827360" y="2997360"/>
              <a:chExt cx="839160" cy="828360"/>
            </a:xfrm>
          </p:grpSpPr>
          <p:sp>
            <p:nvSpPr>
              <p:cNvPr id="111" name="圆角矩形 46"/>
              <p:cNvSpPr/>
              <p:nvPr/>
            </p:nvSpPr>
            <p:spPr>
              <a:xfrm>
                <a:off x="1946520" y="3106080"/>
                <a:ext cx="72000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圆角矩形 47"/>
              <p:cNvSpPr/>
              <p:nvPr/>
            </p:nvSpPr>
            <p:spPr>
              <a:xfrm>
                <a:off x="1866240" y="2997360"/>
                <a:ext cx="72000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Box 48"/>
              <p:cNvSpPr/>
              <p:nvPr/>
            </p:nvSpPr>
            <p:spPr>
              <a:xfrm>
                <a:off x="1827360" y="3013200"/>
                <a:ext cx="785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4" name="直接连接符 45"/>
            <p:cNvSpPr/>
            <p:nvPr/>
          </p:nvSpPr>
          <p:spPr>
            <a:xfrm>
              <a:off x="2802240" y="3815280"/>
              <a:ext cx="367164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857240" y="4076640"/>
            <a:ext cx="4646880" cy="828720"/>
            <a:chOff x="1857240" y="4076640"/>
            <a:chExt cx="4646880" cy="828720"/>
          </a:xfrm>
        </p:grpSpPr>
        <p:grpSp>
          <p:nvGrpSpPr>
            <p:cNvPr id="116" name=""/>
            <p:cNvGrpSpPr/>
            <p:nvPr/>
          </p:nvGrpSpPr>
          <p:grpSpPr>
            <a:xfrm>
              <a:off x="1857240" y="4076640"/>
              <a:ext cx="839160" cy="828720"/>
              <a:chOff x="1857240" y="4076640"/>
              <a:chExt cx="839160" cy="828720"/>
            </a:xfrm>
          </p:grpSpPr>
          <p:sp>
            <p:nvSpPr>
              <p:cNvPr id="117" name="圆角矩形 52"/>
              <p:cNvSpPr/>
              <p:nvPr/>
            </p:nvSpPr>
            <p:spPr>
              <a:xfrm>
                <a:off x="1976400" y="4185360"/>
                <a:ext cx="720000" cy="720000"/>
              </a:xfrm>
              <a:prstGeom prst="roundRect">
                <a:avLst>
                  <a:gd name="adj" fmla="val 16667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圆角矩形 53"/>
              <p:cNvSpPr/>
              <p:nvPr/>
            </p:nvSpPr>
            <p:spPr>
              <a:xfrm>
                <a:off x="1896120" y="4076640"/>
                <a:ext cx="720000" cy="720000"/>
              </a:xfrm>
              <a:prstGeom prst="roundRect">
                <a:avLst>
                  <a:gd name="adj" fmla="val 16667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TextBox 54"/>
              <p:cNvSpPr/>
              <p:nvPr/>
            </p:nvSpPr>
            <p:spPr>
              <a:xfrm>
                <a:off x="1857240" y="4092480"/>
                <a:ext cx="785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PART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0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直接连接符 51"/>
            <p:cNvSpPr/>
            <p:nvPr/>
          </p:nvSpPr>
          <p:spPr>
            <a:xfrm>
              <a:off x="2832120" y="4894920"/>
              <a:ext cx="3672000" cy="10440"/>
            </a:xfrm>
            <a:prstGeom prst="line">
              <a:avLst/>
            </a:prstGeom>
            <a:ln w="2844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TextBox 55"/>
          <p:cNvSpPr/>
          <p:nvPr/>
        </p:nvSpPr>
        <p:spPr>
          <a:xfrm>
            <a:off x="3226680" y="206064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6"/>
          <p:cNvSpPr/>
          <p:nvPr/>
        </p:nvSpPr>
        <p:spPr>
          <a:xfrm>
            <a:off x="3271320" y="304956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7"/>
          <p:cNvSpPr/>
          <p:nvPr/>
        </p:nvSpPr>
        <p:spPr>
          <a:xfrm>
            <a:off x="3271320" y="416088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3da9eb"/>
                </a:solidFill>
                <a:latin typeface="微软雅黑"/>
                <a:ea typeface="微软雅黑"/>
              </a:rPr>
              <a:t>相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B72-66AA-45B8-886D-80CBFBF64C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"/>
          <p:cNvSpPr/>
          <p:nvPr/>
        </p:nvSpPr>
        <p:spPr>
          <a:xfrm rot="19387200">
            <a:off x="-1095120" y="-590400"/>
            <a:ext cx="4500720" cy="2158920"/>
          </a:xfrm>
          <a:custGeom>
            <a:avLst/>
            <a:gdLst/>
            <a:ahLst/>
            <a:rect l="l" t="t" r="r" b="b"/>
            <a:pathLst>
              <a:path w="4505489" h="2162815">
                <a:moveTo>
                  <a:pt x="1622595" y="0"/>
                </a:moveTo>
                <a:lnTo>
                  <a:pt x="4505489" y="2162815"/>
                </a:lnTo>
                <a:lnTo>
                  <a:pt x="0" y="2162815"/>
                </a:lnTo>
                <a:lnTo>
                  <a:pt x="1622595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"/>
          <p:cNvSpPr/>
          <p:nvPr/>
        </p:nvSpPr>
        <p:spPr>
          <a:xfrm rot="19387200">
            <a:off x="7658280" y="6256080"/>
            <a:ext cx="1830240" cy="534960"/>
          </a:xfrm>
          <a:custGeom>
            <a:avLst/>
            <a:gdLst/>
            <a:ahLst/>
            <a:rect l="l" t="t" r="r" b="b"/>
            <a:pathLst>
              <a:path w="1828892" h="535756">
                <a:moveTo>
                  <a:pt x="1828892" y="0"/>
                </a:moveTo>
                <a:lnTo>
                  <a:pt x="1426955" y="535756"/>
                </a:lnTo>
                <a:lnTo>
                  <a:pt x="714128" y="535756"/>
                </a:lnTo>
                <a:lnTo>
                  <a:pt x="0" y="0"/>
                </a:lnTo>
                <a:lnTo>
                  <a:pt x="1828892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接连接符 4"/>
          <p:cNvSpPr/>
          <p:nvPr/>
        </p:nvSpPr>
        <p:spPr>
          <a:xfrm>
            <a:off x="4427640" y="1484280"/>
            <a:ext cx="4321080" cy="0"/>
          </a:xfrm>
          <a:prstGeom prst="line">
            <a:avLst/>
          </a:prstGeom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243040" y="755640"/>
            <a:ext cx="22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蓝与白</a:t>
            </a:r>
            <a:r>
              <a:rPr b="0" lang="en-US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分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469880" y="2467080"/>
            <a:ext cx="876600" cy="865080"/>
            <a:chOff x="1469880" y="2467080"/>
            <a:chExt cx="876600" cy="865080"/>
          </a:xfrm>
        </p:grpSpPr>
        <p:sp>
          <p:nvSpPr>
            <p:cNvPr id="132" name="同心圆 8"/>
            <p:cNvSpPr/>
            <p:nvPr/>
          </p:nvSpPr>
          <p:spPr>
            <a:xfrm>
              <a:off x="1469880" y="2467080"/>
              <a:ext cx="876600" cy="865080"/>
            </a:xfrm>
            <a:custGeom>
              <a:avLst/>
              <a:gdLst/>
              <a:ahLst/>
              <a:rect l="l" t="t" r="r" b="b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0"/>
            <p:cNvSpPr/>
            <p:nvPr/>
          </p:nvSpPr>
          <p:spPr>
            <a:xfrm>
              <a:off x="1716480" y="2637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469880" y="3619440"/>
            <a:ext cx="876600" cy="865080"/>
            <a:chOff x="1469880" y="3619440"/>
            <a:chExt cx="876600" cy="865080"/>
          </a:xfrm>
        </p:grpSpPr>
        <p:sp>
          <p:nvSpPr>
            <p:cNvPr id="135" name="同心圆 8"/>
            <p:cNvSpPr/>
            <p:nvPr/>
          </p:nvSpPr>
          <p:spPr>
            <a:xfrm>
              <a:off x="1469880" y="3619440"/>
              <a:ext cx="876600" cy="865080"/>
            </a:xfrm>
            <a:custGeom>
              <a:avLst/>
              <a:gdLst/>
              <a:ahLst/>
              <a:rect l="l" t="t" r="r" b="b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14"/>
            <p:cNvSpPr/>
            <p:nvPr/>
          </p:nvSpPr>
          <p:spPr>
            <a:xfrm>
              <a:off x="1721880" y="3768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490760" y="4724280"/>
            <a:ext cx="876240" cy="865440"/>
            <a:chOff x="1490760" y="4724280"/>
            <a:chExt cx="876240" cy="865440"/>
          </a:xfrm>
        </p:grpSpPr>
        <p:sp>
          <p:nvSpPr>
            <p:cNvPr id="138" name="同心圆 8"/>
            <p:cNvSpPr/>
            <p:nvPr/>
          </p:nvSpPr>
          <p:spPr>
            <a:xfrm>
              <a:off x="1490760" y="4724280"/>
              <a:ext cx="876240" cy="865440"/>
            </a:xfrm>
            <a:custGeom>
              <a:avLst/>
              <a:gdLst/>
              <a:ahLst/>
              <a:rect l="l" t="t" r="r" b="b"/>
              <a:pathLst>
                <a:path w="1872208" h="1847798">
                  <a:moveTo>
                    <a:pt x="1080120" y="0"/>
                  </a:moveTo>
                  <a:cubicBezTo>
                    <a:pt x="1528835" y="68181"/>
                    <a:pt x="1872208" y="455941"/>
                    <a:pt x="1872208" y="923899"/>
                  </a:cubicBezTo>
                  <a:cubicBezTo>
                    <a:pt x="1872208" y="1391858"/>
                    <a:pt x="1528835" y="1779617"/>
                    <a:pt x="1080120" y="1847798"/>
                  </a:cubicBezTo>
                  <a:lnTo>
                    <a:pt x="1080120" y="1367018"/>
                  </a:lnTo>
                  <a:cubicBezTo>
                    <a:pt x="1268486" y="1308200"/>
                    <a:pt x="1404156" y="1131893"/>
                    <a:pt x="1404156" y="923899"/>
                  </a:cubicBezTo>
                  <a:cubicBezTo>
                    <a:pt x="1404156" y="715905"/>
                    <a:pt x="1268486" y="539598"/>
                    <a:pt x="1080120" y="480780"/>
                  </a:cubicBezTo>
                  <a:lnTo>
                    <a:pt x="1080120" y="0"/>
                  </a:lnTo>
                  <a:close/>
                  <a:moveTo>
                    <a:pt x="792088" y="0"/>
                  </a:moveTo>
                  <a:lnTo>
                    <a:pt x="792088" y="480780"/>
                  </a:lnTo>
                  <a:cubicBezTo>
                    <a:pt x="603722" y="539598"/>
                    <a:pt x="468052" y="715905"/>
                    <a:pt x="468052" y="923899"/>
                  </a:cubicBezTo>
                  <a:cubicBezTo>
                    <a:pt x="468052" y="1131893"/>
                    <a:pt x="603722" y="1308200"/>
                    <a:pt x="792088" y="1367018"/>
                  </a:cubicBezTo>
                  <a:lnTo>
                    <a:pt x="792088" y="1847798"/>
                  </a:lnTo>
                  <a:cubicBezTo>
                    <a:pt x="343373" y="1779617"/>
                    <a:pt x="0" y="1391858"/>
                    <a:pt x="0" y="923899"/>
                  </a:cubicBezTo>
                  <a:cubicBezTo>
                    <a:pt x="0" y="455941"/>
                    <a:pt x="343373" y="68181"/>
                    <a:pt x="792088" y="0"/>
                  </a:cubicBez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7"/>
            <p:cNvSpPr/>
            <p:nvPr/>
          </p:nvSpPr>
          <p:spPr>
            <a:xfrm>
              <a:off x="1739160" y="4883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9d9d9"/>
                  </a:solidFill>
                  <a:latin typeface="HelveticaNeueLT Std Blk Ex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18"/>
          <p:cNvSpPr/>
          <p:nvPr/>
        </p:nvSpPr>
        <p:spPr>
          <a:xfrm>
            <a:off x="2373480" y="3125880"/>
            <a:ext cx="4711680" cy="123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9"/>
          <p:cNvSpPr/>
          <p:nvPr/>
        </p:nvSpPr>
        <p:spPr>
          <a:xfrm>
            <a:off x="2367000" y="3295800"/>
            <a:ext cx="4710240" cy="45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20"/>
          <p:cNvSpPr/>
          <p:nvPr/>
        </p:nvSpPr>
        <p:spPr>
          <a:xfrm>
            <a:off x="2376360" y="4270320"/>
            <a:ext cx="4710240" cy="123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21"/>
          <p:cNvSpPr/>
          <p:nvPr/>
        </p:nvSpPr>
        <p:spPr>
          <a:xfrm>
            <a:off x="2368440" y="4441680"/>
            <a:ext cx="4711680" cy="44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22"/>
          <p:cNvSpPr/>
          <p:nvPr/>
        </p:nvSpPr>
        <p:spPr>
          <a:xfrm>
            <a:off x="2381400" y="5345280"/>
            <a:ext cx="4711680" cy="12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3"/>
          <p:cNvSpPr/>
          <p:nvPr/>
        </p:nvSpPr>
        <p:spPr>
          <a:xfrm>
            <a:off x="2374920" y="5514840"/>
            <a:ext cx="4710240" cy="46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4"/>
          <p:cNvSpPr/>
          <p:nvPr/>
        </p:nvSpPr>
        <p:spPr>
          <a:xfrm rot="19387200">
            <a:off x="5744880" y="5616360"/>
            <a:ext cx="3956040" cy="536400"/>
          </a:xfrm>
          <a:custGeom>
            <a:avLst/>
            <a:gdLst/>
            <a:ahLst/>
            <a:rect l="l" t="t" r="r" b="b"/>
            <a:pathLst>
              <a:path w="3956149" h="535757">
                <a:moveTo>
                  <a:pt x="3956149" y="1"/>
                </a:moveTo>
                <a:lnTo>
                  <a:pt x="3554213" y="535756"/>
                </a:lnTo>
                <a:lnTo>
                  <a:pt x="714130" y="535757"/>
                </a:lnTo>
                <a:lnTo>
                  <a:pt x="0" y="0"/>
                </a:lnTo>
                <a:lnTo>
                  <a:pt x="3956149" y="1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直角三角形 9"/>
          <p:cNvSpPr/>
          <p:nvPr/>
        </p:nvSpPr>
        <p:spPr>
          <a:xfrm rot="16200000">
            <a:off x="6605640" y="4319640"/>
            <a:ext cx="2736720" cy="234000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直角三角形 8"/>
          <p:cNvSpPr/>
          <p:nvPr/>
        </p:nvSpPr>
        <p:spPr>
          <a:xfrm rot="16200000">
            <a:off x="6899040" y="4612680"/>
            <a:ext cx="2421000" cy="20685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4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6d9f1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7600" y="108360"/>
            <a:ext cx="747720" cy="693000"/>
            <a:chOff x="147600" y="108360"/>
            <a:chExt cx="747720" cy="693000"/>
          </a:xfrm>
        </p:grpSpPr>
        <p:sp>
          <p:nvSpPr>
            <p:cNvPr id="151" name="圆角矩形 15"/>
            <p:cNvSpPr/>
            <p:nvPr/>
          </p:nvSpPr>
          <p:spPr>
            <a:xfrm rot="2748000">
              <a:off x="301680" y="211320"/>
              <a:ext cx="493560" cy="486720"/>
            </a:xfrm>
            <a:custGeom>
              <a:avLst/>
              <a:gdLst/>
              <a:ahLst/>
              <a:rect l="l" t="t" r="r" b="b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圆角矩形 15"/>
            <p:cNvSpPr/>
            <p:nvPr/>
          </p:nvSpPr>
          <p:spPr>
            <a:xfrm flipH="1" rot="18852000">
              <a:off x="246960" y="211320"/>
              <a:ext cx="493560" cy="486360"/>
            </a:xfrm>
            <a:custGeom>
              <a:avLst/>
              <a:gdLst/>
              <a:ahLst/>
              <a:rect l="l" t="t" r="r" b="b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Box 6"/>
          <p:cNvSpPr/>
          <p:nvPr/>
        </p:nvSpPr>
        <p:spPr>
          <a:xfrm>
            <a:off x="1258920" y="1317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今生无缘，来生再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角三角形 5"/>
          <p:cNvSpPr/>
          <p:nvPr/>
        </p:nvSpPr>
        <p:spPr>
          <a:xfrm rot="16200000">
            <a:off x="7308000" y="5021640"/>
            <a:ext cx="1979640" cy="1692360"/>
          </a:xfrm>
          <a:prstGeom prst="rtTriangle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773360"/>
            <a:ext cx="5959440" cy="3875040"/>
            <a:chOff x="1116000" y="1773360"/>
            <a:chExt cx="5959440" cy="3875040"/>
          </a:xfrm>
        </p:grpSpPr>
        <p:sp>
          <p:nvSpPr>
            <p:cNvPr id="156" name="矩形 10"/>
            <p:cNvSpPr/>
            <p:nvPr/>
          </p:nvSpPr>
          <p:spPr>
            <a:xfrm>
              <a:off x="1116000" y="1773360"/>
              <a:ext cx="5959440" cy="3875040"/>
            </a:xfrm>
            <a:prstGeom prst="rect">
              <a:avLst/>
            </a:prstGeom>
            <a:noFill/>
            <a:ln w="38160">
              <a:solidFill>
                <a:srgbClr val="00b0f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11"/>
            <p:cNvSpPr/>
            <p:nvPr/>
          </p:nvSpPr>
          <p:spPr>
            <a:xfrm>
              <a:off x="1653840" y="2156040"/>
              <a:ext cx="2441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故事章节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Box 12"/>
            <p:cNvSpPr/>
            <p:nvPr/>
          </p:nvSpPr>
          <p:spPr>
            <a:xfrm>
              <a:off x="3024000" y="4053240"/>
              <a:ext cx="309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Calibri"/>
                  <a:ea typeface="微软雅黑"/>
                </a:rPr>
                <a:t>过渡页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TextBox 14"/>
          <p:cNvSpPr/>
          <p:nvPr/>
        </p:nvSpPr>
        <p:spPr>
          <a:xfrm>
            <a:off x="8210520" y="609300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Blk Ex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燕尾形 2"/>
          <p:cNvSpPr/>
          <p:nvPr/>
        </p:nvSpPr>
        <p:spPr>
          <a:xfrm>
            <a:off x="21600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燕尾形 3"/>
          <p:cNvSpPr/>
          <p:nvPr/>
        </p:nvSpPr>
        <p:spPr>
          <a:xfrm>
            <a:off x="52236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燕尾形 4"/>
          <p:cNvSpPr/>
          <p:nvPr/>
        </p:nvSpPr>
        <p:spPr>
          <a:xfrm>
            <a:off x="1314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燕尾形 5"/>
          <p:cNvSpPr/>
          <p:nvPr/>
        </p:nvSpPr>
        <p:spPr>
          <a:xfrm>
            <a:off x="160164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燕尾形 6"/>
          <p:cNvSpPr/>
          <p:nvPr/>
        </p:nvSpPr>
        <p:spPr>
          <a:xfrm>
            <a:off x="244800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燕尾形 7"/>
          <p:cNvSpPr/>
          <p:nvPr/>
        </p:nvSpPr>
        <p:spPr>
          <a:xfrm>
            <a:off x="273672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3529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燕尾形 9"/>
          <p:cNvSpPr/>
          <p:nvPr/>
        </p:nvSpPr>
        <p:spPr>
          <a:xfrm>
            <a:off x="3833640" y="6505560"/>
            <a:ext cx="378000" cy="331920"/>
          </a:xfrm>
          <a:custGeom>
            <a:avLst/>
            <a:gdLst>
              <a:gd name="textAreaLeft" fmla="*/ 0 w 378000"/>
              <a:gd name="textAreaRight" fmla="*/ 378360 w 3780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燕尾形 10"/>
          <p:cNvSpPr/>
          <p:nvPr/>
        </p:nvSpPr>
        <p:spPr>
          <a:xfrm>
            <a:off x="462600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燕尾形 11"/>
          <p:cNvSpPr/>
          <p:nvPr/>
        </p:nvSpPr>
        <p:spPr>
          <a:xfrm>
            <a:off x="4915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燕尾形 12"/>
          <p:cNvSpPr/>
          <p:nvPr/>
        </p:nvSpPr>
        <p:spPr>
          <a:xfrm>
            <a:off x="5761080" y="6505560"/>
            <a:ext cx="377640" cy="3319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燕尾形 13"/>
          <p:cNvSpPr/>
          <p:nvPr/>
        </p:nvSpPr>
        <p:spPr>
          <a:xfrm>
            <a:off x="6048360" y="6505560"/>
            <a:ext cx="378000" cy="331920"/>
          </a:xfrm>
          <a:custGeom>
            <a:avLst/>
            <a:gdLst>
              <a:gd name="textAreaLeft" fmla="*/ 0 w 378000"/>
              <a:gd name="textAreaRight" fmla="*/ 378360 w 3780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燕尾形 14"/>
          <p:cNvSpPr/>
          <p:nvPr/>
        </p:nvSpPr>
        <p:spPr>
          <a:xfrm>
            <a:off x="6840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燕尾形 15"/>
          <p:cNvSpPr/>
          <p:nvPr/>
        </p:nvSpPr>
        <p:spPr>
          <a:xfrm>
            <a:off x="7147080" y="6524640"/>
            <a:ext cx="377640" cy="333360"/>
          </a:xfrm>
          <a:custGeom>
            <a:avLst/>
            <a:gdLst>
              <a:gd name="textAreaLeft" fmla="*/ 0 w 377640"/>
              <a:gd name="textAreaRight" fmla="*/ 378000 w 377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燕尾形 16"/>
          <p:cNvSpPr/>
          <p:nvPr/>
        </p:nvSpPr>
        <p:spPr>
          <a:xfrm>
            <a:off x="793908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燕尾形 17"/>
          <p:cNvSpPr/>
          <p:nvPr/>
        </p:nvSpPr>
        <p:spPr>
          <a:xfrm>
            <a:off x="8226360" y="6524640"/>
            <a:ext cx="378000" cy="333360"/>
          </a:xfrm>
          <a:custGeom>
            <a:avLst/>
            <a:gdLst>
              <a:gd name="textAreaLeft" fmla="*/ 0 w 378000"/>
              <a:gd name="textAreaRight" fmla="*/ 378360 w 37800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090" y="0"/>
                </a:lnTo>
                <a:lnTo>
                  <a:pt x="21600" y="10800"/>
                </a:lnTo>
                <a:lnTo>
                  <a:pt x="12090" y="21600"/>
                </a:lnTo>
                <a:lnTo>
                  <a:pt x="0" y="21600"/>
                </a:lnTo>
                <a:lnTo>
                  <a:pt x="951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0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21"/>
          <p:cNvSpPr/>
          <p:nvPr/>
        </p:nvSpPr>
        <p:spPr>
          <a:xfrm>
            <a:off x="0" y="333360"/>
            <a:ext cx="9144000" cy="93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01640" y="1512720"/>
            <a:ext cx="5959800" cy="3875400"/>
            <a:chOff x="1601640" y="1512720"/>
            <a:chExt cx="5959800" cy="3875400"/>
          </a:xfrm>
        </p:grpSpPr>
        <p:sp>
          <p:nvSpPr>
            <p:cNvPr id="180" name="矩形 36"/>
            <p:cNvSpPr/>
            <p:nvPr/>
          </p:nvSpPr>
          <p:spPr>
            <a:xfrm>
              <a:off x="1601640" y="1512720"/>
              <a:ext cx="5959800" cy="3875400"/>
            </a:xfrm>
            <a:prstGeom prst="rect">
              <a:avLst/>
            </a:prstGeom>
            <a:noFill/>
            <a:ln w="38160">
              <a:solidFill>
                <a:srgbClr val="00b0f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Box 37"/>
            <p:cNvSpPr/>
            <p:nvPr/>
          </p:nvSpPr>
          <p:spPr>
            <a:xfrm>
              <a:off x="1690560" y="2039400"/>
              <a:ext cx="2441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故事章节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TextBox 38"/>
            <p:cNvSpPr/>
            <p:nvPr/>
          </p:nvSpPr>
          <p:spPr>
            <a:xfrm>
              <a:off x="3060720" y="3936600"/>
              <a:ext cx="309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b0f0"/>
                  </a:solidFill>
                  <a:latin typeface="Calibri"/>
                  <a:ea typeface="微软雅黑"/>
                </a:rPr>
                <a:t>过渡页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TextBox 24"/>
          <p:cNvSpPr/>
          <p:nvPr/>
        </p:nvSpPr>
        <p:spPr>
          <a:xfrm>
            <a:off x="1314360" y="599112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感谢您，曾经出现在我的生命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783520" y="660600"/>
            <a:ext cx="3576960" cy="3317400"/>
            <a:chOff x="2783520" y="660600"/>
            <a:chExt cx="3576960" cy="3317400"/>
          </a:xfrm>
        </p:grpSpPr>
        <p:sp>
          <p:nvSpPr>
            <p:cNvPr id="185" name="圆角矩形 15"/>
            <p:cNvSpPr/>
            <p:nvPr/>
          </p:nvSpPr>
          <p:spPr>
            <a:xfrm rot="2748000">
              <a:off x="3521880" y="1154160"/>
              <a:ext cx="2360880" cy="2329200"/>
            </a:xfrm>
            <a:custGeom>
              <a:avLst/>
              <a:gdLst/>
              <a:ahLst/>
              <a:rect l="l" t="t" r="r" b="b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圆角矩形 15"/>
            <p:cNvSpPr/>
            <p:nvPr/>
          </p:nvSpPr>
          <p:spPr>
            <a:xfrm flipH="1" rot="18852000">
              <a:off x="3260520" y="1155240"/>
              <a:ext cx="2360880" cy="2329200"/>
            </a:xfrm>
            <a:custGeom>
              <a:avLst/>
              <a:gdLst/>
              <a:ahLst/>
              <a:rect l="l" t="t" r="r" b="b"/>
              <a:pathLst>
                <a:path w="1378064" h="1359908">
                  <a:moveTo>
                    <a:pt x="8208" y="70304"/>
                  </a:moveTo>
                  <a:cubicBezTo>
                    <a:pt x="51645" y="26867"/>
                    <a:pt x="111653" y="0"/>
                    <a:pt x="177935" y="0"/>
                  </a:cubicBezTo>
                  <a:lnTo>
                    <a:pt x="1138033" y="0"/>
                  </a:lnTo>
                  <a:cubicBezTo>
                    <a:pt x="1270598" y="0"/>
                    <a:pt x="1378064" y="107466"/>
                    <a:pt x="1378064" y="240031"/>
                  </a:cubicBezTo>
                  <a:lnTo>
                    <a:pt x="1378064" y="1200129"/>
                  </a:lnTo>
                  <a:cubicBezTo>
                    <a:pt x="1378064" y="1261775"/>
                    <a:pt x="1354825" y="1317994"/>
                    <a:pt x="1315969" y="1359908"/>
                  </a:cubicBezTo>
                  <a:lnTo>
                    <a:pt x="1079065" y="1129541"/>
                  </a:lnTo>
                  <a:lnTo>
                    <a:pt x="1086335" y="1091030"/>
                  </a:lnTo>
                  <a:lnTo>
                    <a:pt x="1086335" y="450590"/>
                  </a:lnTo>
                  <a:cubicBezTo>
                    <a:pt x="1086335" y="362162"/>
                    <a:pt x="1014649" y="290476"/>
                    <a:pt x="926220" y="290476"/>
                  </a:cubicBezTo>
                  <a:lnTo>
                    <a:pt x="285780" y="290476"/>
                  </a:lnTo>
                  <a:cubicBezTo>
                    <a:pt x="265344" y="290476"/>
                    <a:pt x="245802" y="294304"/>
                    <a:pt x="228154" y="302110"/>
                  </a:cubicBezTo>
                  <a:lnTo>
                    <a:pt x="0" y="80252"/>
                  </a:lnTo>
                  <a:cubicBezTo>
                    <a:pt x="2212" y="76462"/>
                    <a:pt x="5169" y="73342"/>
                    <a:pt x="8208" y="70304"/>
                  </a:cubicBezTo>
                  <a:close/>
                </a:path>
              </a:pathLst>
            </a:custGeom>
            <a:solidFill>
              <a:srgbClr val="00b0f0"/>
            </a:solidFill>
            <a:ln w="32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TextBox 4"/>
          <p:cNvSpPr/>
          <p:nvPr/>
        </p:nvSpPr>
        <p:spPr>
          <a:xfrm>
            <a:off x="3862440" y="2016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2995560" y="45086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Calibri"/>
                <a:ea typeface="微软雅黑"/>
              </a:rPr>
              <a:t>大结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3024360" y="5238720"/>
            <a:ext cx="30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  <a:ea typeface="微软雅黑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2195640" y="4270320"/>
            <a:ext cx="4711680" cy="123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2484360" y="3892680"/>
            <a:ext cx="41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Calibri"/>
                <a:ea typeface="微软雅黑"/>
              </a:rPr>
              <a:t>人生只若如初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06:56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2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