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laser.wav" ContentType="audio/x-wav"/>
  <Override PartName="/ppt/media/image4.png" ContentType="image/png"/>
  <Override PartName="/ppt/media/image7.jpeg" ContentType="image/jpeg"/>
  <Override PartName="/ppt/media/image14.png" ContentType="image/png"/>
  <Override PartName="/ppt/media/image13.jpeg" ContentType="image/jpeg"/>
  <Override PartName="/ppt/media/image5.jpeg" ContentType="image/jpeg"/>
  <Override PartName="/ppt/media/image15.png" ContentType="image/png"/>
  <Override PartName="/ppt/media/image12.gif" ContentType="image/gif"/>
  <Override PartName="/ppt/media/image1.png" ContentType="image/png"/>
  <Override PartName="/ppt/media/image2.png" ContentType="image/png"/>
  <Override PartName="/ppt/media/image10.jpeg" ContentType="image/jpeg"/>
  <Override PartName="/ppt/media/whoosh.wav" ContentType="audio/x-wav"/>
  <Override PartName="/ppt/media/image3.png" ContentType="image/png"/>
  <Override PartName="/ppt/media/image6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B755-79B8-448E-835F-4747D552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7449-132A-4555-B2EF-A66D32B9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72C7-7A11-41E0-88CD-AECD6891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D392-983C-41FB-971F-D025EEB9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AC8B-00DE-4D8F-B81E-6CC6B021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7653-C64E-4F24-864B-0B3793F4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432A-CE4C-48EB-8089-35CE99B5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3008-0CFA-4A5F-AE2E-3021A859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D50D-B81C-4A39-99D7-3F744F69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047B-5690-4ECA-BDC4-4DA1E12E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1CEE-D1D2-476C-A525-B8114AFA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FAF3-9E40-4264-A19A-C59B94C6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DEAC-BF9F-4822-9792-00D9E3A18F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rcRect l="414" t="4698" r="398" b="47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3"/>
          <a:srcRect l="398" t="4698" r="414" b="47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4"/>
          <p:cNvGrpSpPr/>
          <p:nvPr/>
        </p:nvGrpSpPr>
        <p:grpSpPr>
          <a:xfrm>
            <a:off x="1444680" y="147600"/>
            <a:ext cx="576360" cy="576360"/>
            <a:chOff x="1444680" y="147600"/>
            <a:chExt cx="576360" cy="576360"/>
          </a:xfrm>
        </p:grpSpPr>
        <p:sp>
          <p:nvSpPr>
            <p:cNvPr id="44" name="AutoShape 5"/>
            <p:cNvSpPr/>
            <p:nvPr/>
          </p:nvSpPr>
          <p:spPr>
            <a:xfrm>
              <a:off x="1512360" y="215280"/>
              <a:ext cx="440280" cy="440280"/>
            </a:xfrm>
            <a:custGeom>
              <a:avLst/>
              <a:gdLst>
                <a:gd name="textAreaLeft" fmla="*/ 64080 w 440280"/>
                <a:gd name="textAreaRight" fmla="*/ 376200 w 440280"/>
                <a:gd name="textAreaTop" fmla="*/ 64080 h 440280"/>
                <a:gd name="textAreaBottom" fmla="*/ 376200 h 44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05" y="10800"/>
                  </a:moveTo>
                  <a:cubicBezTo>
                    <a:pt x="1905" y="15713"/>
                    <a:pt x="5887" y="19695"/>
                    <a:pt x="10800" y="19695"/>
                  </a:cubicBezTo>
                  <a:cubicBezTo>
                    <a:pt x="15713" y="19695"/>
                    <a:pt x="19695" y="15713"/>
                    <a:pt x="19695" y="10800"/>
                  </a:cubicBezTo>
                  <a:cubicBezTo>
                    <a:pt x="19695" y="5887"/>
                    <a:pt x="15713" y="1905"/>
                    <a:pt x="10800" y="1905"/>
                  </a:cubicBezTo>
                  <a:cubicBezTo>
                    <a:pt x="5887" y="1905"/>
                    <a:pt x="1905" y="5887"/>
                    <a:pt x="1905" y="10800"/>
                  </a:cubicBez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6"/>
            <p:cNvSpPr/>
            <p:nvPr/>
          </p:nvSpPr>
          <p:spPr>
            <a:xfrm>
              <a:off x="1444680" y="147600"/>
              <a:ext cx="576360" cy="576360"/>
            </a:xfrm>
            <a:custGeom>
              <a:avLst/>
              <a:gdLst>
                <a:gd name="textAreaLeft" fmla="*/ 84240 w 576360"/>
                <a:gd name="textAreaRight" fmla="*/ 492120 w 576360"/>
                <a:gd name="textAreaTop" fmla="*/ 84240 h 576360"/>
                <a:gd name="textAreaBottom" fmla="*/ 4921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812" y="10800"/>
                  </a:moveTo>
                  <a:cubicBezTo>
                    <a:pt x="812" y="16316"/>
                    <a:pt x="5284" y="20788"/>
                    <a:pt x="10800" y="20788"/>
                  </a:cubicBezTo>
                  <a:cubicBezTo>
                    <a:pt x="16316" y="20788"/>
                    <a:pt x="20788" y="16316"/>
                    <a:pt x="20788" y="10800"/>
                  </a:cubicBezTo>
                  <a:cubicBezTo>
                    <a:pt x="20788" y="5284"/>
                    <a:pt x="16316" y="812"/>
                    <a:pt x="10800" y="812"/>
                  </a:cubicBezTo>
                  <a:cubicBezTo>
                    <a:pt x="5284" y="812"/>
                    <a:pt x="812" y="5284"/>
                    <a:pt x="812" y="108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8028000" y="115920"/>
            <a:ext cx="971640" cy="50472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8"/>
          <p:cNvGrpSpPr/>
          <p:nvPr/>
        </p:nvGrpSpPr>
        <p:grpSpPr>
          <a:xfrm>
            <a:off x="1162080" y="173520"/>
            <a:ext cx="558720" cy="676800"/>
            <a:chOff x="1162080" y="173520"/>
            <a:chExt cx="558720" cy="676800"/>
          </a:xfrm>
        </p:grpSpPr>
        <p:grpSp>
          <p:nvGrpSpPr>
            <p:cNvPr id="48" name="Group 9"/>
            <p:cNvGrpSpPr/>
            <p:nvPr/>
          </p:nvGrpSpPr>
          <p:grpSpPr>
            <a:xfrm>
              <a:off x="1280520" y="465480"/>
              <a:ext cx="313560" cy="356040"/>
              <a:chOff x="1280520" y="465480"/>
              <a:chExt cx="313560" cy="356040"/>
            </a:xfrm>
          </p:grpSpPr>
          <p:sp>
            <p:nvSpPr>
              <p:cNvPr id="49" name="Freeform 10"/>
              <p:cNvSpPr/>
              <p:nvPr/>
            </p:nvSpPr>
            <p:spPr>
              <a:xfrm rot="3869400">
                <a:off x="1292400" y="541080"/>
                <a:ext cx="289080" cy="2095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rot="5914200">
                <a:off x="1286280" y="635040"/>
                <a:ext cx="33048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rot="6212400">
                <a:off x="1319400" y="578880"/>
                <a:ext cx="24768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rot="6212400">
                <a:off x="1294920" y="600840"/>
                <a:ext cx="247680" cy="11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14"/>
            <p:cNvGrpSpPr/>
            <p:nvPr/>
          </p:nvGrpSpPr>
          <p:grpSpPr>
            <a:xfrm>
              <a:off x="1224360" y="415440"/>
              <a:ext cx="270000" cy="289800"/>
              <a:chOff x="1224360" y="415440"/>
              <a:chExt cx="270000" cy="289800"/>
            </a:xfrm>
          </p:grpSpPr>
          <p:sp>
            <p:nvSpPr>
              <p:cNvPr id="54" name="Freeform 15"/>
              <p:cNvSpPr/>
              <p:nvPr/>
            </p:nvSpPr>
            <p:spPr>
              <a:xfrm rot="5910600">
                <a:off x="1230120" y="442800"/>
                <a:ext cx="258120" cy="234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 rot="7955400">
                <a:off x="1223640" y="556560"/>
                <a:ext cx="29520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 rot="8253600">
                <a:off x="1281240" y="508680"/>
                <a:ext cx="221400" cy="198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 rot="8253600">
                <a:off x="1250640" y="510840"/>
                <a:ext cx="221400" cy="13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9"/>
            <p:cNvGrpSpPr/>
            <p:nvPr/>
          </p:nvGrpSpPr>
          <p:grpSpPr>
            <a:xfrm>
              <a:off x="1162080" y="327240"/>
              <a:ext cx="342720" cy="347400"/>
              <a:chOff x="1162080" y="327240"/>
              <a:chExt cx="342720" cy="347400"/>
            </a:xfrm>
          </p:grpSpPr>
          <p:sp>
            <p:nvSpPr>
              <p:cNvPr id="59" name="Freeform 20"/>
              <p:cNvSpPr/>
              <p:nvPr/>
            </p:nvSpPr>
            <p:spPr>
              <a:xfrm rot="7644000">
                <a:off x="1204200" y="383760"/>
                <a:ext cx="258120" cy="2340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9688800">
                <a:off x="1191240" y="502200"/>
                <a:ext cx="29520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9987000">
                <a:off x="1270800" y="470520"/>
                <a:ext cx="221400" cy="198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23"/>
              <p:cNvSpPr/>
              <p:nvPr/>
            </p:nvSpPr>
            <p:spPr>
              <a:xfrm rot="9987000">
                <a:off x="1244880" y="458280"/>
                <a:ext cx="221400" cy="13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24"/>
            <p:cNvGrpSpPr/>
            <p:nvPr/>
          </p:nvGrpSpPr>
          <p:grpSpPr>
            <a:xfrm>
              <a:off x="1173960" y="248040"/>
              <a:ext cx="318960" cy="304200"/>
              <a:chOff x="1173960" y="248040"/>
              <a:chExt cx="318960" cy="304200"/>
            </a:xfrm>
          </p:grpSpPr>
          <p:sp>
            <p:nvSpPr>
              <p:cNvPr id="64" name="Freeform 25"/>
              <p:cNvSpPr/>
              <p:nvPr/>
            </p:nvSpPr>
            <p:spPr>
              <a:xfrm rot="9694200">
                <a:off x="1204200" y="282960"/>
                <a:ext cx="258120" cy="234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11739000">
                <a:off x="1182240" y="402120"/>
                <a:ext cx="29520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 rot="12037200">
                <a:off x="1274040" y="400320"/>
                <a:ext cx="221400" cy="198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 rot="12037200">
                <a:off x="1261440" y="375840"/>
                <a:ext cx="221400" cy="13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29"/>
            <p:cNvGrpSpPr/>
            <p:nvPr/>
          </p:nvGrpSpPr>
          <p:grpSpPr>
            <a:xfrm>
              <a:off x="1216080" y="212760"/>
              <a:ext cx="335880" cy="290520"/>
              <a:chOff x="1216080" y="212760"/>
              <a:chExt cx="335880" cy="290520"/>
            </a:xfrm>
          </p:grpSpPr>
          <p:sp>
            <p:nvSpPr>
              <p:cNvPr id="69" name="Freeform 30"/>
              <p:cNvSpPr/>
              <p:nvPr/>
            </p:nvSpPr>
            <p:spPr>
              <a:xfrm rot="11763000">
                <a:off x="1239480" y="248400"/>
                <a:ext cx="289080" cy="2091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 rot="13807800">
                <a:off x="1208520" y="351000"/>
                <a:ext cx="33048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 rot="14106000">
                <a:off x="1299960" y="387720"/>
                <a:ext cx="24768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 rot="14106000">
                <a:off x="1301400" y="359640"/>
                <a:ext cx="247680" cy="11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34"/>
            <p:cNvGrpSpPr/>
            <p:nvPr/>
          </p:nvGrpSpPr>
          <p:grpSpPr>
            <a:xfrm>
              <a:off x="1279080" y="173520"/>
              <a:ext cx="344880" cy="360000"/>
              <a:chOff x="1279080" y="173520"/>
              <a:chExt cx="344880" cy="360000"/>
            </a:xfrm>
          </p:grpSpPr>
          <p:sp>
            <p:nvSpPr>
              <p:cNvPr id="74" name="Freeform 35"/>
              <p:cNvSpPr/>
              <p:nvPr/>
            </p:nvSpPr>
            <p:spPr>
              <a:xfrm rot="13857000">
                <a:off x="1306800" y="246600"/>
                <a:ext cx="289080" cy="2095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36"/>
              <p:cNvSpPr/>
              <p:nvPr/>
            </p:nvSpPr>
            <p:spPr>
              <a:xfrm rot="15901800">
                <a:off x="1271520" y="341640"/>
                <a:ext cx="33048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 rot="16200000">
                <a:off x="1334880" y="400680"/>
                <a:ext cx="24768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 rot="16200000">
                <a:off x="1354320" y="379440"/>
                <a:ext cx="247680" cy="11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Group 39"/>
            <p:cNvGrpSpPr/>
            <p:nvPr/>
          </p:nvGrpSpPr>
          <p:grpSpPr>
            <a:xfrm>
              <a:off x="1347120" y="461520"/>
              <a:ext cx="342000" cy="302040"/>
              <a:chOff x="1347120" y="461520"/>
              <a:chExt cx="342000" cy="302040"/>
            </a:xfrm>
          </p:grpSpPr>
          <p:sp>
            <p:nvSpPr>
              <p:cNvPr id="79" name="Freeform 40"/>
              <p:cNvSpPr/>
              <p:nvPr/>
            </p:nvSpPr>
            <p:spPr>
              <a:xfrm rot="1156800">
                <a:off x="1373400" y="512280"/>
                <a:ext cx="289080" cy="2091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 rot="3201600">
                <a:off x="1363680" y="595080"/>
                <a:ext cx="33048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 rot="3500400">
                <a:off x="1356840" y="562680"/>
                <a:ext cx="24768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 rot="3500400">
                <a:off x="1353240" y="595800"/>
                <a:ext cx="247680" cy="11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44"/>
            <p:cNvGrpSpPr/>
            <p:nvPr/>
          </p:nvGrpSpPr>
          <p:grpSpPr>
            <a:xfrm>
              <a:off x="1372320" y="325440"/>
              <a:ext cx="348480" cy="346320"/>
              <a:chOff x="1372320" y="325440"/>
              <a:chExt cx="348480" cy="346320"/>
            </a:xfrm>
          </p:grpSpPr>
          <p:sp>
            <p:nvSpPr>
              <p:cNvPr id="84" name="Freeform 45"/>
              <p:cNvSpPr/>
              <p:nvPr/>
            </p:nvSpPr>
            <p:spPr>
              <a:xfrm rot="19110000">
                <a:off x="1417320" y="381240"/>
                <a:ext cx="258120" cy="2340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 rot="21154800">
                <a:off x="1396080" y="469080"/>
                <a:ext cx="29520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 rot="21453600">
                <a:off x="1384200" y="498960"/>
                <a:ext cx="221400" cy="198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48"/>
              <p:cNvSpPr/>
              <p:nvPr/>
            </p:nvSpPr>
            <p:spPr>
              <a:xfrm rot="21453600">
                <a:off x="1406880" y="522720"/>
                <a:ext cx="221400" cy="13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49"/>
            <p:cNvGrpSpPr/>
            <p:nvPr/>
          </p:nvGrpSpPr>
          <p:grpSpPr>
            <a:xfrm>
              <a:off x="1393560" y="252360"/>
              <a:ext cx="303840" cy="318960"/>
              <a:chOff x="1393560" y="252360"/>
              <a:chExt cx="303840" cy="318960"/>
            </a:xfrm>
          </p:grpSpPr>
          <p:sp>
            <p:nvSpPr>
              <p:cNvPr id="89" name="Freeform 50"/>
              <p:cNvSpPr/>
              <p:nvPr/>
            </p:nvSpPr>
            <p:spPr>
              <a:xfrm rot="17306400">
                <a:off x="1416240" y="294480"/>
                <a:ext cx="258120" cy="234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51"/>
              <p:cNvSpPr/>
              <p:nvPr/>
            </p:nvSpPr>
            <p:spPr>
              <a:xfrm rot="19351200">
                <a:off x="1387440" y="385920"/>
                <a:ext cx="29520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52"/>
              <p:cNvSpPr/>
              <p:nvPr/>
            </p:nvSpPr>
            <p:spPr>
              <a:xfrm rot="19650000">
                <a:off x="1395360" y="437040"/>
                <a:ext cx="221400" cy="198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53"/>
              <p:cNvSpPr/>
              <p:nvPr/>
            </p:nvSpPr>
            <p:spPr>
              <a:xfrm rot="19650000">
                <a:off x="1425240" y="446760"/>
                <a:ext cx="221400" cy="13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1325520" y="211680"/>
              <a:ext cx="284040" cy="343080"/>
              <a:chOff x="1325520" y="211680"/>
              <a:chExt cx="284040" cy="343080"/>
            </a:xfrm>
          </p:grpSpPr>
          <p:sp>
            <p:nvSpPr>
              <p:cNvPr id="94" name="Freeform 55"/>
              <p:cNvSpPr/>
              <p:nvPr/>
            </p:nvSpPr>
            <p:spPr>
              <a:xfrm rot="15187200">
                <a:off x="1323000" y="275400"/>
                <a:ext cx="288720" cy="2091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 rot="17232000">
                <a:off x="1288440" y="364680"/>
                <a:ext cx="33012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 rot="17530800">
                <a:off x="1328760" y="428040"/>
                <a:ext cx="24732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 rot="17530800">
                <a:off x="1355760" y="415800"/>
                <a:ext cx="247680" cy="11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59"/>
            <p:cNvGrpSpPr/>
            <p:nvPr/>
          </p:nvGrpSpPr>
          <p:grpSpPr>
            <a:xfrm>
              <a:off x="1402560" y="448920"/>
              <a:ext cx="283680" cy="248400"/>
              <a:chOff x="1402560" y="448920"/>
              <a:chExt cx="283680" cy="248400"/>
            </a:xfrm>
          </p:grpSpPr>
          <p:sp>
            <p:nvSpPr>
              <p:cNvPr id="99" name="Freeform 60"/>
              <p:cNvSpPr/>
              <p:nvPr/>
            </p:nvSpPr>
            <p:spPr>
              <a:xfrm rot="21405000">
                <a:off x="1415880" y="456120"/>
                <a:ext cx="258120" cy="2340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 rot="1849200">
                <a:off x="1404720" y="545400"/>
                <a:ext cx="29520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62"/>
              <p:cNvSpPr/>
              <p:nvPr/>
            </p:nvSpPr>
            <p:spPr>
              <a:xfrm rot="2147400">
                <a:off x="1387080" y="539640"/>
                <a:ext cx="221400" cy="198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63"/>
              <p:cNvSpPr/>
              <p:nvPr/>
            </p:nvSpPr>
            <p:spPr>
              <a:xfrm rot="2147400">
                <a:off x="1392480" y="573120"/>
                <a:ext cx="221400" cy="13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64"/>
            <p:cNvGrpSpPr/>
            <p:nvPr/>
          </p:nvGrpSpPr>
          <p:grpSpPr>
            <a:xfrm>
              <a:off x="1237320" y="412920"/>
              <a:ext cx="298800" cy="350640"/>
              <a:chOff x="1237320" y="412920"/>
              <a:chExt cx="298800" cy="350640"/>
            </a:xfrm>
          </p:grpSpPr>
          <p:sp>
            <p:nvSpPr>
              <p:cNvPr id="104" name="Freeform 65"/>
              <p:cNvSpPr/>
              <p:nvPr/>
            </p:nvSpPr>
            <p:spPr>
              <a:xfrm rot="4137000">
                <a:off x="1242000" y="486720"/>
                <a:ext cx="288720" cy="2091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66"/>
              <p:cNvSpPr/>
              <p:nvPr/>
            </p:nvSpPr>
            <p:spPr>
              <a:xfrm rot="6181800">
                <a:off x="1235520" y="581040"/>
                <a:ext cx="33012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67"/>
              <p:cNvSpPr/>
              <p:nvPr/>
            </p:nvSpPr>
            <p:spPr>
              <a:xfrm rot="6480000">
                <a:off x="1273680" y="524160"/>
                <a:ext cx="24732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68"/>
              <p:cNvSpPr/>
              <p:nvPr/>
            </p:nvSpPr>
            <p:spPr>
              <a:xfrm rot="6480000">
                <a:off x="1247760" y="544320"/>
                <a:ext cx="247680" cy="11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69"/>
            <p:cNvGrpSpPr/>
            <p:nvPr/>
          </p:nvGrpSpPr>
          <p:grpSpPr>
            <a:xfrm>
              <a:off x="1314360" y="491760"/>
              <a:ext cx="350640" cy="358560"/>
              <a:chOff x="1314360" y="491760"/>
              <a:chExt cx="350640" cy="358560"/>
            </a:xfrm>
          </p:grpSpPr>
          <p:sp>
            <p:nvSpPr>
              <p:cNvPr id="109" name="Freeform 70"/>
              <p:cNvSpPr/>
              <p:nvPr/>
            </p:nvSpPr>
            <p:spPr>
              <a:xfrm rot="2797200">
                <a:off x="1344960" y="568440"/>
                <a:ext cx="289080" cy="2091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ff0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71"/>
              <p:cNvSpPr/>
              <p:nvPr/>
            </p:nvSpPr>
            <p:spPr>
              <a:xfrm rot="4842000">
                <a:off x="1338120" y="657720"/>
                <a:ext cx="33048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72"/>
              <p:cNvSpPr/>
              <p:nvPr/>
            </p:nvSpPr>
            <p:spPr>
              <a:xfrm rot="5140200">
                <a:off x="1353240" y="606960"/>
                <a:ext cx="24768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73"/>
              <p:cNvSpPr/>
              <p:nvPr/>
            </p:nvSpPr>
            <p:spPr>
              <a:xfrm rot="5140200">
                <a:off x="1335960" y="635400"/>
                <a:ext cx="247680" cy="11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74"/>
            <p:cNvGrpSpPr/>
            <p:nvPr/>
          </p:nvGrpSpPr>
          <p:grpSpPr>
            <a:xfrm>
              <a:off x="1334520" y="396360"/>
              <a:ext cx="221400" cy="247680"/>
              <a:chOff x="1334520" y="396360"/>
              <a:chExt cx="221400" cy="247680"/>
            </a:xfrm>
          </p:grpSpPr>
          <p:sp>
            <p:nvSpPr>
              <p:cNvPr id="114" name="AutoShape 75"/>
              <p:cNvSpPr/>
              <p:nvPr/>
            </p:nvSpPr>
            <p:spPr>
              <a:xfrm rot="16200000">
                <a:off x="1321200" y="409320"/>
                <a:ext cx="247680" cy="221400"/>
              </a:xfrm>
              <a:custGeom>
                <a:avLst/>
                <a:gdLst>
                  <a:gd name="textAreaLeft" fmla="*/ 57960 w 247680"/>
                  <a:gd name="textAreaRight" fmla="*/ 189720 w 247680"/>
                  <a:gd name="textAreaTop" fmla="*/ 51840 h 221400"/>
                  <a:gd name="textAreaBottom" fmla="*/ 169560 h 221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76"/>
              <p:cNvSpPr/>
              <p:nvPr/>
            </p:nvSpPr>
            <p:spPr>
              <a:xfrm rot="16200000">
                <a:off x="1357920" y="444600"/>
                <a:ext cx="165240" cy="14760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77"/>
          <p:cNvGrpSpPr/>
          <p:nvPr/>
        </p:nvGrpSpPr>
        <p:grpSpPr>
          <a:xfrm>
            <a:off x="617400" y="67320"/>
            <a:ext cx="799560" cy="819000"/>
            <a:chOff x="617400" y="67320"/>
            <a:chExt cx="799560" cy="819000"/>
          </a:xfrm>
        </p:grpSpPr>
        <p:grpSp>
          <p:nvGrpSpPr>
            <p:cNvPr id="117" name="Group 78"/>
            <p:cNvGrpSpPr/>
            <p:nvPr/>
          </p:nvGrpSpPr>
          <p:grpSpPr>
            <a:xfrm>
              <a:off x="809280" y="375480"/>
              <a:ext cx="299880" cy="388800"/>
              <a:chOff x="809280" y="375480"/>
              <a:chExt cx="299880" cy="388800"/>
            </a:xfrm>
          </p:grpSpPr>
          <p:sp>
            <p:nvSpPr>
              <p:cNvPr id="118" name="Freeform 79"/>
              <p:cNvSpPr/>
              <p:nvPr/>
            </p:nvSpPr>
            <p:spPr>
              <a:xfrm rot="15870600">
                <a:off x="782280" y="433800"/>
                <a:ext cx="35316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80"/>
              <p:cNvSpPr/>
              <p:nvPr/>
            </p:nvSpPr>
            <p:spPr>
              <a:xfrm rot="17915400">
                <a:off x="740160" y="544320"/>
                <a:ext cx="403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81"/>
              <p:cNvSpPr/>
              <p:nvPr/>
            </p:nvSpPr>
            <p:spPr>
              <a:xfrm rot="18213600">
                <a:off x="776160" y="620280"/>
                <a:ext cx="30276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82"/>
              <p:cNvSpPr/>
              <p:nvPr/>
            </p:nvSpPr>
            <p:spPr>
              <a:xfrm rot="18213600">
                <a:off x="812880" y="613080"/>
                <a:ext cx="30276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83"/>
            <p:cNvGrpSpPr/>
            <p:nvPr/>
          </p:nvGrpSpPr>
          <p:grpSpPr>
            <a:xfrm>
              <a:off x="617400" y="223200"/>
              <a:ext cx="440640" cy="399960"/>
              <a:chOff x="617400" y="223200"/>
              <a:chExt cx="440640" cy="399960"/>
            </a:xfrm>
          </p:grpSpPr>
          <p:sp>
            <p:nvSpPr>
              <p:cNvPr id="123" name="Freeform 84"/>
              <p:cNvSpPr/>
              <p:nvPr/>
            </p:nvSpPr>
            <p:spPr>
              <a:xfrm rot="19950000">
                <a:off x="662760" y="289440"/>
                <a:ext cx="35316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85"/>
              <p:cNvSpPr/>
              <p:nvPr/>
            </p:nvSpPr>
            <p:spPr>
              <a:xfrm rot="394200">
                <a:off x="638280" y="388800"/>
                <a:ext cx="403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86"/>
              <p:cNvSpPr/>
              <p:nvPr/>
            </p:nvSpPr>
            <p:spPr>
              <a:xfrm rot="692400">
                <a:off x="616680" y="406800"/>
                <a:ext cx="30276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87"/>
              <p:cNvSpPr/>
              <p:nvPr/>
            </p:nvSpPr>
            <p:spPr>
              <a:xfrm rot="692400">
                <a:off x="640800" y="440280"/>
                <a:ext cx="30276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88"/>
            <p:cNvGrpSpPr/>
            <p:nvPr/>
          </p:nvGrpSpPr>
          <p:grpSpPr>
            <a:xfrm>
              <a:off x="834480" y="416160"/>
              <a:ext cx="426600" cy="435240"/>
              <a:chOff x="834480" y="416160"/>
              <a:chExt cx="426600" cy="435240"/>
            </a:xfrm>
          </p:grpSpPr>
          <p:sp>
            <p:nvSpPr>
              <p:cNvPr id="128" name="Freeform 89"/>
              <p:cNvSpPr/>
              <p:nvPr/>
            </p:nvSpPr>
            <p:spPr>
              <a:xfrm rot="13997400">
                <a:off x="883080" y="490320"/>
                <a:ext cx="3294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90"/>
              <p:cNvSpPr/>
              <p:nvPr/>
            </p:nvSpPr>
            <p:spPr>
              <a:xfrm rot="16042200">
                <a:off x="839160" y="618840"/>
                <a:ext cx="376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91"/>
              <p:cNvSpPr/>
              <p:nvPr/>
            </p:nvSpPr>
            <p:spPr>
              <a:xfrm rot="16340400">
                <a:off x="913680" y="688320"/>
                <a:ext cx="28224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92"/>
              <p:cNvSpPr/>
              <p:nvPr/>
            </p:nvSpPr>
            <p:spPr>
              <a:xfrm rot="16340400">
                <a:off x="941400" y="666000"/>
                <a:ext cx="28260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93"/>
            <p:cNvGrpSpPr/>
            <p:nvPr/>
          </p:nvGrpSpPr>
          <p:grpSpPr>
            <a:xfrm>
              <a:off x="853200" y="70200"/>
              <a:ext cx="415080" cy="429480"/>
              <a:chOff x="853200" y="70200"/>
              <a:chExt cx="415080" cy="429480"/>
            </a:xfrm>
          </p:grpSpPr>
          <p:sp>
            <p:nvSpPr>
              <p:cNvPr id="133" name="Freeform 94"/>
              <p:cNvSpPr/>
              <p:nvPr/>
            </p:nvSpPr>
            <p:spPr>
              <a:xfrm rot="3545400">
                <a:off x="896040" y="141480"/>
                <a:ext cx="32904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95"/>
              <p:cNvSpPr/>
              <p:nvPr/>
            </p:nvSpPr>
            <p:spPr>
              <a:xfrm rot="5590200">
                <a:off x="892800" y="268920"/>
                <a:ext cx="37620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96"/>
              <p:cNvSpPr/>
              <p:nvPr/>
            </p:nvSpPr>
            <p:spPr>
              <a:xfrm rot="5888400">
                <a:off x="918720" y="206280"/>
                <a:ext cx="28188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97"/>
              <p:cNvSpPr/>
              <p:nvPr/>
            </p:nvSpPr>
            <p:spPr>
              <a:xfrm rot="5888400">
                <a:off x="888840" y="233280"/>
                <a:ext cx="28224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98"/>
            <p:cNvGrpSpPr/>
            <p:nvPr/>
          </p:nvGrpSpPr>
          <p:grpSpPr>
            <a:xfrm>
              <a:off x="1003680" y="343440"/>
              <a:ext cx="413280" cy="343800"/>
              <a:chOff x="1003680" y="343440"/>
              <a:chExt cx="413280" cy="343800"/>
            </a:xfrm>
          </p:grpSpPr>
          <p:sp>
            <p:nvSpPr>
              <p:cNvPr id="138" name="Freeform 99"/>
              <p:cNvSpPr/>
              <p:nvPr/>
            </p:nvSpPr>
            <p:spPr>
              <a:xfrm rot="9972600">
                <a:off x="1030320" y="381600"/>
                <a:ext cx="35316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00"/>
              <p:cNvSpPr/>
              <p:nvPr/>
            </p:nvSpPr>
            <p:spPr>
              <a:xfrm rot="12017400">
                <a:off x="999720" y="517680"/>
                <a:ext cx="403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01"/>
              <p:cNvSpPr/>
              <p:nvPr/>
            </p:nvSpPr>
            <p:spPr>
              <a:xfrm rot="12315600">
                <a:off x="1123560" y="525240"/>
                <a:ext cx="30276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02"/>
              <p:cNvSpPr/>
              <p:nvPr/>
            </p:nvSpPr>
            <p:spPr>
              <a:xfrm rot="12315600">
                <a:off x="1107720" y="494280"/>
                <a:ext cx="30276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Group 103"/>
            <p:cNvGrpSpPr/>
            <p:nvPr/>
          </p:nvGrpSpPr>
          <p:grpSpPr>
            <a:xfrm>
              <a:off x="708120" y="67320"/>
              <a:ext cx="422280" cy="402840"/>
              <a:chOff x="708120" y="67320"/>
              <a:chExt cx="422280" cy="402840"/>
            </a:xfrm>
          </p:grpSpPr>
          <p:sp>
            <p:nvSpPr>
              <p:cNvPr id="143" name="Freeform 104"/>
              <p:cNvSpPr/>
              <p:nvPr/>
            </p:nvSpPr>
            <p:spPr>
              <a:xfrm rot="1583400">
                <a:off x="754560" y="125280"/>
                <a:ext cx="32904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05"/>
              <p:cNvSpPr/>
              <p:nvPr/>
            </p:nvSpPr>
            <p:spPr>
              <a:xfrm rot="3628800">
                <a:off x="748440" y="241920"/>
                <a:ext cx="37620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06"/>
              <p:cNvSpPr/>
              <p:nvPr/>
            </p:nvSpPr>
            <p:spPr>
              <a:xfrm rot="3926400">
                <a:off x="741240" y="200880"/>
                <a:ext cx="28188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07"/>
              <p:cNvSpPr/>
              <p:nvPr/>
            </p:nvSpPr>
            <p:spPr>
              <a:xfrm rot="3926400">
                <a:off x="729000" y="240840"/>
                <a:ext cx="28224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108"/>
            <p:cNvGrpSpPr/>
            <p:nvPr/>
          </p:nvGrpSpPr>
          <p:grpSpPr>
            <a:xfrm>
              <a:off x="955440" y="157680"/>
              <a:ext cx="405720" cy="436680"/>
              <a:chOff x="955440" y="157680"/>
              <a:chExt cx="405720" cy="436680"/>
            </a:xfrm>
          </p:grpSpPr>
          <p:sp>
            <p:nvSpPr>
              <p:cNvPr id="148" name="Freeform 109"/>
              <p:cNvSpPr/>
              <p:nvPr/>
            </p:nvSpPr>
            <p:spPr>
              <a:xfrm rot="7062600">
                <a:off x="978840" y="242280"/>
                <a:ext cx="35316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10"/>
              <p:cNvSpPr/>
              <p:nvPr/>
            </p:nvSpPr>
            <p:spPr>
              <a:xfrm rot="9108000">
                <a:off x="964080" y="375840"/>
                <a:ext cx="403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11"/>
              <p:cNvSpPr/>
              <p:nvPr/>
            </p:nvSpPr>
            <p:spPr>
              <a:xfrm rot="9405600">
                <a:off x="1065960" y="327600"/>
                <a:ext cx="30276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12"/>
              <p:cNvSpPr/>
              <p:nvPr/>
            </p:nvSpPr>
            <p:spPr>
              <a:xfrm rot="9405600">
                <a:off x="1028880" y="320760"/>
                <a:ext cx="30276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13"/>
            <p:cNvGrpSpPr/>
            <p:nvPr/>
          </p:nvGrpSpPr>
          <p:grpSpPr>
            <a:xfrm>
              <a:off x="653760" y="344880"/>
              <a:ext cx="392400" cy="430920"/>
              <a:chOff x="653760" y="344880"/>
              <a:chExt cx="392400" cy="430920"/>
            </a:xfrm>
          </p:grpSpPr>
          <p:sp>
            <p:nvSpPr>
              <p:cNvPr id="153" name="Freeform 114"/>
              <p:cNvSpPr/>
              <p:nvPr/>
            </p:nvSpPr>
            <p:spPr>
              <a:xfrm rot="17626800">
                <a:off x="675720" y="426600"/>
                <a:ext cx="35316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15"/>
              <p:cNvSpPr/>
              <p:nvPr/>
            </p:nvSpPr>
            <p:spPr>
              <a:xfrm rot="19671600">
                <a:off x="639360" y="530280"/>
                <a:ext cx="403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16"/>
              <p:cNvSpPr/>
              <p:nvPr/>
            </p:nvSpPr>
            <p:spPr>
              <a:xfrm rot="19969800">
                <a:off x="641880" y="590040"/>
                <a:ext cx="30276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7"/>
              <p:cNvSpPr/>
              <p:nvPr/>
            </p:nvSpPr>
            <p:spPr>
              <a:xfrm rot="19969800">
                <a:off x="679680" y="601560"/>
                <a:ext cx="30276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18"/>
            <p:cNvGrpSpPr/>
            <p:nvPr/>
          </p:nvGrpSpPr>
          <p:grpSpPr>
            <a:xfrm>
              <a:off x="707400" y="219240"/>
              <a:ext cx="364680" cy="311760"/>
              <a:chOff x="707400" y="219240"/>
              <a:chExt cx="364680" cy="311760"/>
            </a:xfrm>
          </p:grpSpPr>
          <p:sp>
            <p:nvSpPr>
              <p:cNvPr id="158" name="Freeform 119"/>
              <p:cNvSpPr/>
              <p:nvPr/>
            </p:nvSpPr>
            <p:spPr>
              <a:xfrm rot="21327000">
                <a:off x="726120" y="231840"/>
                <a:ext cx="3294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20"/>
              <p:cNvSpPr/>
              <p:nvPr/>
            </p:nvSpPr>
            <p:spPr>
              <a:xfrm rot="1771800">
                <a:off x="711720" y="340920"/>
                <a:ext cx="376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21"/>
              <p:cNvSpPr/>
              <p:nvPr/>
            </p:nvSpPr>
            <p:spPr>
              <a:xfrm rot="2070000">
                <a:off x="689400" y="334440"/>
                <a:ext cx="28224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22"/>
              <p:cNvSpPr/>
              <p:nvPr/>
            </p:nvSpPr>
            <p:spPr>
              <a:xfrm rot="2070000">
                <a:off x="696600" y="375480"/>
                <a:ext cx="28260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123"/>
            <p:cNvGrpSpPr/>
            <p:nvPr/>
          </p:nvGrpSpPr>
          <p:grpSpPr>
            <a:xfrm>
              <a:off x="1014840" y="475200"/>
              <a:ext cx="376920" cy="342720"/>
              <a:chOff x="1014840" y="475200"/>
              <a:chExt cx="376920" cy="342720"/>
            </a:xfrm>
          </p:grpSpPr>
          <p:sp>
            <p:nvSpPr>
              <p:cNvPr id="163" name="Freeform 124"/>
              <p:cNvSpPr/>
              <p:nvPr/>
            </p:nvSpPr>
            <p:spPr>
              <a:xfrm rot="11440800">
                <a:off x="1038240" y="503280"/>
                <a:ext cx="3294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rot="13485600">
                <a:off x="1001160" y="644760"/>
                <a:ext cx="376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26"/>
              <p:cNvSpPr/>
              <p:nvPr/>
            </p:nvSpPr>
            <p:spPr>
              <a:xfrm rot="13783800">
                <a:off x="1112760" y="678240"/>
                <a:ext cx="28224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27"/>
              <p:cNvSpPr/>
              <p:nvPr/>
            </p:nvSpPr>
            <p:spPr>
              <a:xfrm rot="13783800">
                <a:off x="1114560" y="644400"/>
                <a:ext cx="28260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28"/>
            <p:cNvGrpSpPr/>
            <p:nvPr/>
          </p:nvGrpSpPr>
          <p:grpSpPr>
            <a:xfrm>
              <a:off x="954360" y="219960"/>
              <a:ext cx="444240" cy="420480"/>
              <a:chOff x="954360" y="219960"/>
              <a:chExt cx="444240" cy="420480"/>
            </a:xfrm>
          </p:grpSpPr>
          <p:sp>
            <p:nvSpPr>
              <p:cNvPr id="168" name="Freeform 129"/>
              <p:cNvSpPr/>
              <p:nvPr/>
            </p:nvSpPr>
            <p:spPr>
              <a:xfrm rot="8720400">
                <a:off x="999000" y="296280"/>
                <a:ext cx="35316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rot="10765200">
                <a:off x="974880" y="433080"/>
                <a:ext cx="403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rot="11063400">
                <a:off x="1095120" y="414360"/>
                <a:ext cx="30276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 rot="11063400">
                <a:off x="1067760" y="391680"/>
                <a:ext cx="30276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133"/>
            <p:cNvGrpSpPr/>
            <p:nvPr/>
          </p:nvGrpSpPr>
          <p:grpSpPr>
            <a:xfrm>
              <a:off x="992160" y="107640"/>
              <a:ext cx="281160" cy="367200"/>
              <a:chOff x="992160" y="107640"/>
              <a:chExt cx="281160" cy="367200"/>
            </a:xfrm>
          </p:grpSpPr>
          <p:sp>
            <p:nvSpPr>
              <p:cNvPr id="173" name="Freeform 134"/>
              <p:cNvSpPr/>
              <p:nvPr/>
            </p:nvSpPr>
            <p:spPr>
              <a:xfrm rot="5460600">
                <a:off x="951840" y="157680"/>
                <a:ext cx="35316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7505400">
                <a:off x="942840" y="285480"/>
                <a:ext cx="403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rot="7803600">
                <a:off x="1015560" y="219600"/>
                <a:ext cx="30276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37"/>
              <p:cNvSpPr/>
              <p:nvPr/>
            </p:nvSpPr>
            <p:spPr>
              <a:xfrm rot="7803600">
                <a:off x="977760" y="230400"/>
                <a:ext cx="30276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138"/>
            <p:cNvGrpSpPr/>
            <p:nvPr/>
          </p:nvGrpSpPr>
          <p:grpSpPr>
            <a:xfrm>
              <a:off x="776160" y="124200"/>
              <a:ext cx="435240" cy="435960"/>
              <a:chOff x="776160" y="124200"/>
              <a:chExt cx="435240" cy="435960"/>
            </a:xfrm>
          </p:grpSpPr>
          <p:sp>
            <p:nvSpPr>
              <p:cNvPr id="178" name="Freeform 139"/>
              <p:cNvSpPr/>
              <p:nvPr/>
            </p:nvSpPr>
            <p:spPr>
              <a:xfrm rot="2734200">
                <a:off x="828720" y="198720"/>
                <a:ext cx="3294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40"/>
              <p:cNvSpPr/>
              <p:nvPr/>
            </p:nvSpPr>
            <p:spPr>
              <a:xfrm rot="4779000">
                <a:off x="825120" y="321120"/>
                <a:ext cx="376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41"/>
              <p:cNvSpPr/>
              <p:nvPr/>
            </p:nvSpPr>
            <p:spPr>
              <a:xfrm rot="5077200">
                <a:off x="836280" y="264600"/>
                <a:ext cx="28224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42"/>
              <p:cNvSpPr/>
              <p:nvPr/>
            </p:nvSpPr>
            <p:spPr>
              <a:xfrm rot="5077200">
                <a:off x="812160" y="298800"/>
                <a:ext cx="28260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43"/>
            <p:cNvGrpSpPr/>
            <p:nvPr/>
          </p:nvGrpSpPr>
          <p:grpSpPr>
            <a:xfrm>
              <a:off x="791640" y="427680"/>
              <a:ext cx="371880" cy="399960"/>
              <a:chOff x="791640" y="427680"/>
              <a:chExt cx="371880" cy="399960"/>
            </a:xfrm>
          </p:grpSpPr>
          <p:sp>
            <p:nvSpPr>
              <p:cNvPr id="183" name="Freeform 144"/>
              <p:cNvSpPr/>
              <p:nvPr/>
            </p:nvSpPr>
            <p:spPr>
              <a:xfrm rot="15159000">
                <a:off x="812880" y="484200"/>
                <a:ext cx="32904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45"/>
              <p:cNvSpPr/>
              <p:nvPr/>
            </p:nvSpPr>
            <p:spPr>
              <a:xfrm rot="17203800">
                <a:off x="769680" y="605520"/>
                <a:ext cx="37620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46"/>
              <p:cNvSpPr/>
              <p:nvPr/>
            </p:nvSpPr>
            <p:spPr>
              <a:xfrm rot="17502000">
                <a:off x="821160" y="680040"/>
                <a:ext cx="28188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47"/>
              <p:cNvSpPr/>
              <p:nvPr/>
            </p:nvSpPr>
            <p:spPr>
              <a:xfrm rot="17502000">
                <a:off x="855720" y="667800"/>
                <a:ext cx="28224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48"/>
            <p:cNvGrpSpPr/>
            <p:nvPr/>
          </p:nvGrpSpPr>
          <p:grpSpPr>
            <a:xfrm>
              <a:off x="910440" y="456480"/>
              <a:ext cx="436320" cy="429840"/>
              <a:chOff x="910440" y="456480"/>
              <a:chExt cx="436320" cy="429840"/>
            </a:xfrm>
          </p:grpSpPr>
          <p:sp>
            <p:nvSpPr>
              <p:cNvPr id="188" name="Freeform 149"/>
              <p:cNvSpPr/>
              <p:nvPr/>
            </p:nvSpPr>
            <p:spPr>
              <a:xfrm rot="13134600">
                <a:off x="963720" y="527760"/>
                <a:ext cx="3294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50"/>
              <p:cNvSpPr/>
              <p:nvPr/>
            </p:nvSpPr>
            <p:spPr>
              <a:xfrm rot="15179400">
                <a:off x="920880" y="662040"/>
                <a:ext cx="376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51"/>
              <p:cNvSpPr/>
              <p:nvPr/>
            </p:nvSpPr>
            <p:spPr>
              <a:xfrm rot="15477600">
                <a:off x="1010880" y="721800"/>
                <a:ext cx="28224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52"/>
              <p:cNvSpPr/>
              <p:nvPr/>
            </p:nvSpPr>
            <p:spPr>
              <a:xfrm rot="15477600">
                <a:off x="1030680" y="693360"/>
                <a:ext cx="28260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53"/>
            <p:cNvGrpSpPr/>
            <p:nvPr/>
          </p:nvGrpSpPr>
          <p:grpSpPr>
            <a:xfrm>
              <a:off x="844560" y="293400"/>
              <a:ext cx="378000" cy="365040"/>
              <a:chOff x="844560" y="293400"/>
              <a:chExt cx="378000" cy="365040"/>
            </a:xfrm>
          </p:grpSpPr>
          <p:sp>
            <p:nvSpPr>
              <p:cNvPr id="193" name="AutoShape 154"/>
              <p:cNvSpPr/>
              <p:nvPr/>
            </p:nvSpPr>
            <p:spPr>
              <a:xfrm rot="15064800">
                <a:off x="892080" y="324360"/>
                <a:ext cx="282240" cy="302760"/>
              </a:xfrm>
              <a:custGeom>
                <a:avLst/>
                <a:gdLst>
                  <a:gd name="textAreaLeft" fmla="*/ 66240 w 282240"/>
                  <a:gd name="textAreaRight" fmla="*/ 216000 w 282240"/>
                  <a:gd name="textAreaTop" fmla="*/ 70920 h 302760"/>
                  <a:gd name="textAreaBottom" fmla="*/ 231840 h 30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155"/>
              <p:cNvSpPr/>
              <p:nvPr/>
            </p:nvSpPr>
            <p:spPr>
              <a:xfrm rot="15064800">
                <a:off x="932400" y="374760"/>
                <a:ext cx="188280" cy="20160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Group 156"/>
          <p:cNvGrpSpPr/>
          <p:nvPr/>
        </p:nvGrpSpPr>
        <p:grpSpPr>
          <a:xfrm>
            <a:off x="-12600" y="-34200"/>
            <a:ext cx="913320" cy="990360"/>
            <a:chOff x="-12600" y="-34200"/>
            <a:chExt cx="913320" cy="990360"/>
          </a:xfrm>
        </p:grpSpPr>
        <p:grpSp>
          <p:nvGrpSpPr>
            <p:cNvPr id="196" name="Group 157"/>
            <p:cNvGrpSpPr/>
            <p:nvPr/>
          </p:nvGrpSpPr>
          <p:grpSpPr>
            <a:xfrm>
              <a:off x="395280" y="170280"/>
              <a:ext cx="498600" cy="500400"/>
              <a:chOff x="395280" y="170280"/>
              <a:chExt cx="498600" cy="500400"/>
            </a:xfrm>
          </p:grpSpPr>
          <p:sp>
            <p:nvSpPr>
              <p:cNvPr id="197" name="Freeform 158"/>
              <p:cNvSpPr/>
              <p:nvPr/>
            </p:nvSpPr>
            <p:spPr>
              <a:xfrm rot="18826800">
                <a:off x="452160" y="259200"/>
                <a:ext cx="38448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59"/>
              <p:cNvSpPr/>
              <p:nvPr/>
            </p:nvSpPr>
            <p:spPr>
              <a:xfrm rot="20871600">
                <a:off x="418320" y="380520"/>
                <a:ext cx="43956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60"/>
              <p:cNvSpPr/>
              <p:nvPr/>
            </p:nvSpPr>
            <p:spPr>
              <a:xfrm rot="21169800">
                <a:off x="403920" y="428400"/>
                <a:ext cx="32976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61"/>
              <p:cNvSpPr/>
              <p:nvPr/>
            </p:nvSpPr>
            <p:spPr>
              <a:xfrm rot="21169800">
                <a:off x="439200" y="457920"/>
                <a:ext cx="32976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62"/>
            <p:cNvGrpSpPr/>
            <p:nvPr/>
          </p:nvGrpSpPr>
          <p:grpSpPr>
            <a:xfrm>
              <a:off x="402840" y="79920"/>
              <a:ext cx="404640" cy="450360"/>
              <a:chOff x="402840" y="79920"/>
              <a:chExt cx="404640" cy="450360"/>
            </a:xfrm>
          </p:grpSpPr>
          <p:sp>
            <p:nvSpPr>
              <p:cNvPr id="202" name="Freeform 163"/>
              <p:cNvSpPr/>
              <p:nvPr/>
            </p:nvSpPr>
            <p:spPr>
              <a:xfrm rot="17034600">
                <a:off x="412920" y="144000"/>
                <a:ext cx="384120" cy="321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64"/>
              <p:cNvSpPr/>
              <p:nvPr/>
            </p:nvSpPr>
            <p:spPr>
              <a:xfrm rot="19078800">
                <a:off x="369720" y="270360"/>
                <a:ext cx="43920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65"/>
              <p:cNvSpPr/>
              <p:nvPr/>
            </p:nvSpPr>
            <p:spPr>
              <a:xfrm rot="19377600">
                <a:off x="385920" y="346680"/>
                <a:ext cx="32940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66"/>
              <p:cNvSpPr/>
              <p:nvPr/>
            </p:nvSpPr>
            <p:spPr>
              <a:xfrm rot="19377600">
                <a:off x="429120" y="355320"/>
                <a:ext cx="32940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67"/>
            <p:cNvGrpSpPr/>
            <p:nvPr/>
          </p:nvGrpSpPr>
          <p:grpSpPr>
            <a:xfrm>
              <a:off x="163080" y="-34200"/>
              <a:ext cx="496440" cy="501120"/>
              <a:chOff x="163080" y="-34200"/>
              <a:chExt cx="496440" cy="501120"/>
            </a:xfrm>
          </p:grpSpPr>
          <p:sp>
            <p:nvSpPr>
              <p:cNvPr id="207" name="Freeform 168"/>
              <p:cNvSpPr/>
              <p:nvPr/>
            </p:nvSpPr>
            <p:spPr>
              <a:xfrm rot="13688400">
                <a:off x="218880" y="55080"/>
                <a:ext cx="38412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69"/>
              <p:cNvSpPr/>
              <p:nvPr/>
            </p:nvSpPr>
            <p:spPr>
              <a:xfrm rot="15733200">
                <a:off x="169920" y="201600"/>
                <a:ext cx="43884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70"/>
              <p:cNvSpPr/>
              <p:nvPr/>
            </p:nvSpPr>
            <p:spPr>
              <a:xfrm rot="16031400">
                <a:off x="262080" y="278640"/>
                <a:ext cx="32904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71"/>
              <p:cNvSpPr/>
              <p:nvPr/>
            </p:nvSpPr>
            <p:spPr>
              <a:xfrm rot="16031400">
                <a:off x="289800" y="249840"/>
                <a:ext cx="32940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72"/>
            <p:cNvGrpSpPr/>
            <p:nvPr/>
          </p:nvGrpSpPr>
          <p:grpSpPr>
            <a:xfrm>
              <a:off x="-6480" y="106200"/>
              <a:ext cx="453240" cy="401400"/>
              <a:chOff x="-6480" y="106200"/>
              <a:chExt cx="453240" cy="401400"/>
            </a:xfrm>
          </p:grpSpPr>
          <p:sp>
            <p:nvSpPr>
              <p:cNvPr id="212" name="Freeform 173"/>
              <p:cNvSpPr/>
              <p:nvPr/>
            </p:nvSpPr>
            <p:spPr>
              <a:xfrm rot="10003800">
                <a:off x="25200" y="145800"/>
                <a:ext cx="384480" cy="321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74"/>
              <p:cNvSpPr/>
              <p:nvPr/>
            </p:nvSpPr>
            <p:spPr>
              <a:xfrm rot="12048600">
                <a:off x="-8280" y="309600"/>
                <a:ext cx="43956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75"/>
              <p:cNvSpPr/>
              <p:nvPr/>
            </p:nvSpPr>
            <p:spPr>
              <a:xfrm rot="12346800">
                <a:off x="127440" y="316080"/>
                <a:ext cx="32976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76"/>
              <p:cNvSpPr/>
              <p:nvPr/>
            </p:nvSpPr>
            <p:spPr>
              <a:xfrm rot="12346800">
                <a:off x="111240" y="280440"/>
                <a:ext cx="32976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177"/>
            <p:cNvGrpSpPr/>
            <p:nvPr/>
          </p:nvGrpSpPr>
          <p:grpSpPr>
            <a:xfrm>
              <a:off x="244440" y="412200"/>
              <a:ext cx="498960" cy="499680"/>
              <a:chOff x="244440" y="412200"/>
              <a:chExt cx="498960" cy="499680"/>
            </a:xfrm>
          </p:grpSpPr>
          <p:sp>
            <p:nvSpPr>
              <p:cNvPr id="217" name="Freeform 178"/>
              <p:cNvSpPr/>
              <p:nvPr/>
            </p:nvSpPr>
            <p:spPr>
              <a:xfrm rot="2727600">
                <a:off x="301680" y="500760"/>
                <a:ext cx="38412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79"/>
              <p:cNvSpPr/>
              <p:nvPr/>
            </p:nvSpPr>
            <p:spPr>
              <a:xfrm rot="4772400">
                <a:off x="296280" y="638280"/>
                <a:ext cx="43920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80"/>
              <p:cNvSpPr/>
              <p:nvPr/>
            </p:nvSpPr>
            <p:spPr>
              <a:xfrm rot="5070600">
                <a:off x="309960" y="572760"/>
                <a:ext cx="32940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81"/>
              <p:cNvSpPr/>
              <p:nvPr/>
            </p:nvSpPr>
            <p:spPr>
              <a:xfrm rot="5070600">
                <a:off x="283680" y="612000"/>
                <a:ext cx="32940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182"/>
            <p:cNvGrpSpPr/>
            <p:nvPr/>
          </p:nvGrpSpPr>
          <p:grpSpPr>
            <a:xfrm>
              <a:off x="83520" y="438840"/>
              <a:ext cx="347040" cy="404640"/>
              <a:chOff x="83520" y="438840"/>
              <a:chExt cx="347040" cy="404640"/>
            </a:xfrm>
          </p:grpSpPr>
          <p:sp>
            <p:nvSpPr>
              <p:cNvPr id="222" name="Freeform 183"/>
              <p:cNvSpPr/>
              <p:nvPr/>
            </p:nvSpPr>
            <p:spPr>
              <a:xfrm rot="5628000">
                <a:off x="64800" y="479880"/>
                <a:ext cx="38412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84"/>
              <p:cNvSpPr/>
              <p:nvPr/>
            </p:nvSpPr>
            <p:spPr>
              <a:xfrm rot="7672800">
                <a:off x="55800" y="635400"/>
                <a:ext cx="43920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85"/>
              <p:cNvSpPr/>
              <p:nvPr/>
            </p:nvSpPr>
            <p:spPr>
              <a:xfrm rot="7971000">
                <a:off x="136080" y="562680"/>
                <a:ext cx="32940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86"/>
              <p:cNvSpPr/>
              <p:nvPr/>
            </p:nvSpPr>
            <p:spPr>
              <a:xfrm rot="7971000">
                <a:off x="92520" y="570960"/>
                <a:ext cx="32940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87"/>
            <p:cNvGrpSpPr/>
            <p:nvPr/>
          </p:nvGrpSpPr>
          <p:grpSpPr>
            <a:xfrm>
              <a:off x="-10440" y="295200"/>
              <a:ext cx="455760" cy="485280"/>
              <a:chOff x="-10440" y="295200"/>
              <a:chExt cx="455760" cy="485280"/>
            </a:xfrm>
          </p:grpSpPr>
          <p:sp>
            <p:nvSpPr>
              <p:cNvPr id="227" name="Freeform 188"/>
              <p:cNvSpPr/>
              <p:nvPr/>
            </p:nvSpPr>
            <p:spPr>
              <a:xfrm rot="6925800">
                <a:off x="24840" y="376920"/>
                <a:ext cx="384480" cy="321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89"/>
              <p:cNvSpPr/>
              <p:nvPr/>
            </p:nvSpPr>
            <p:spPr>
              <a:xfrm rot="8970600">
                <a:off x="10440" y="537480"/>
                <a:ext cx="43956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90"/>
              <p:cNvSpPr/>
              <p:nvPr/>
            </p:nvSpPr>
            <p:spPr>
              <a:xfrm rot="9268800">
                <a:off x="117360" y="480240"/>
                <a:ext cx="32976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91"/>
              <p:cNvSpPr/>
              <p:nvPr/>
            </p:nvSpPr>
            <p:spPr>
              <a:xfrm rot="9268800">
                <a:off x="75960" y="471600"/>
                <a:ext cx="32976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92"/>
            <p:cNvGrpSpPr/>
            <p:nvPr/>
          </p:nvGrpSpPr>
          <p:grpSpPr>
            <a:xfrm>
              <a:off x="438120" y="329400"/>
              <a:ext cx="462600" cy="415440"/>
              <a:chOff x="438120" y="329400"/>
              <a:chExt cx="462600" cy="415440"/>
            </a:xfrm>
          </p:grpSpPr>
          <p:sp>
            <p:nvSpPr>
              <p:cNvPr id="232" name="Freeform 193"/>
              <p:cNvSpPr/>
              <p:nvPr/>
            </p:nvSpPr>
            <p:spPr>
              <a:xfrm rot="20636400">
                <a:off x="478800" y="375840"/>
                <a:ext cx="384480" cy="321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94"/>
              <p:cNvSpPr/>
              <p:nvPr/>
            </p:nvSpPr>
            <p:spPr>
              <a:xfrm rot="1081200">
                <a:off x="456840" y="496800"/>
                <a:ext cx="43956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95"/>
              <p:cNvSpPr/>
              <p:nvPr/>
            </p:nvSpPr>
            <p:spPr>
              <a:xfrm rot="1379400">
                <a:off x="430200" y="503640"/>
                <a:ext cx="32976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96"/>
              <p:cNvSpPr/>
              <p:nvPr/>
            </p:nvSpPr>
            <p:spPr>
              <a:xfrm rot="1379400">
                <a:off x="448200" y="547560"/>
                <a:ext cx="32976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97"/>
            <p:cNvGrpSpPr/>
            <p:nvPr/>
          </p:nvGrpSpPr>
          <p:grpSpPr>
            <a:xfrm>
              <a:off x="342360" y="427680"/>
              <a:ext cx="446040" cy="392400"/>
              <a:chOff x="342360" y="427680"/>
              <a:chExt cx="446040" cy="392400"/>
            </a:xfrm>
          </p:grpSpPr>
          <p:sp>
            <p:nvSpPr>
              <p:cNvPr id="237" name="Freeform 198"/>
              <p:cNvSpPr/>
              <p:nvPr/>
            </p:nvSpPr>
            <p:spPr>
              <a:xfrm rot="805800">
                <a:off x="372960" y="468000"/>
                <a:ext cx="384120" cy="311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99"/>
              <p:cNvSpPr/>
              <p:nvPr/>
            </p:nvSpPr>
            <p:spPr>
              <a:xfrm rot="2850600">
                <a:off x="361080" y="590400"/>
                <a:ext cx="43920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00"/>
              <p:cNvSpPr/>
              <p:nvPr/>
            </p:nvSpPr>
            <p:spPr>
              <a:xfrm rot="3148800">
                <a:off x="344880" y="556560"/>
                <a:ext cx="329400" cy="26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01"/>
              <p:cNvSpPr/>
              <p:nvPr/>
            </p:nvSpPr>
            <p:spPr>
              <a:xfrm rot="3148800">
                <a:off x="341640" y="603720"/>
                <a:ext cx="32940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202"/>
            <p:cNvGrpSpPr/>
            <p:nvPr/>
          </p:nvGrpSpPr>
          <p:grpSpPr>
            <a:xfrm>
              <a:off x="-12600" y="196200"/>
              <a:ext cx="529200" cy="494280"/>
              <a:chOff x="-12600" y="196200"/>
              <a:chExt cx="529200" cy="494280"/>
            </a:xfrm>
          </p:grpSpPr>
          <p:sp>
            <p:nvSpPr>
              <p:cNvPr id="242" name="Freeform 203"/>
              <p:cNvSpPr/>
              <p:nvPr/>
            </p:nvSpPr>
            <p:spPr>
              <a:xfrm rot="7717200">
                <a:off x="125640" y="205200"/>
                <a:ext cx="252360" cy="475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04"/>
              <p:cNvSpPr/>
              <p:nvPr/>
            </p:nvSpPr>
            <p:spPr>
              <a:xfrm rot="9762000">
                <a:off x="116280" y="447480"/>
                <a:ext cx="288720" cy="54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05"/>
              <p:cNvSpPr/>
              <p:nvPr/>
            </p:nvSpPr>
            <p:spPr>
              <a:xfrm rot="10060200">
                <a:off x="189360" y="395640"/>
                <a:ext cx="216360" cy="40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06"/>
              <p:cNvSpPr/>
              <p:nvPr/>
            </p:nvSpPr>
            <p:spPr>
              <a:xfrm rot="10060200">
                <a:off x="159840" y="364320"/>
                <a:ext cx="21636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207"/>
            <p:cNvGrpSpPr/>
            <p:nvPr/>
          </p:nvGrpSpPr>
          <p:grpSpPr>
            <a:xfrm>
              <a:off x="246960" y="28800"/>
              <a:ext cx="485640" cy="442800"/>
              <a:chOff x="246960" y="28800"/>
              <a:chExt cx="485640" cy="442800"/>
            </a:xfrm>
          </p:grpSpPr>
          <p:sp>
            <p:nvSpPr>
              <p:cNvPr id="247" name="Freeform 208"/>
              <p:cNvSpPr/>
              <p:nvPr/>
            </p:nvSpPr>
            <p:spPr>
              <a:xfrm rot="13857000">
                <a:off x="397440" y="12240"/>
                <a:ext cx="183960" cy="475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09"/>
              <p:cNvSpPr/>
              <p:nvPr/>
            </p:nvSpPr>
            <p:spPr>
              <a:xfrm rot="15901800">
                <a:off x="351720" y="224280"/>
                <a:ext cx="210240" cy="54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10"/>
              <p:cNvSpPr/>
              <p:nvPr/>
            </p:nvSpPr>
            <p:spPr>
              <a:xfrm rot="16200000">
                <a:off x="428400" y="267120"/>
                <a:ext cx="157680" cy="40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11"/>
              <p:cNvSpPr/>
              <p:nvPr/>
            </p:nvSpPr>
            <p:spPr>
              <a:xfrm rot="16200000">
                <a:off x="471600" y="258480"/>
                <a:ext cx="15768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212"/>
            <p:cNvGrpSpPr/>
            <p:nvPr/>
          </p:nvGrpSpPr>
          <p:grpSpPr>
            <a:xfrm>
              <a:off x="148320" y="110880"/>
              <a:ext cx="370800" cy="394920"/>
              <a:chOff x="148320" y="110880"/>
              <a:chExt cx="370800" cy="394920"/>
            </a:xfrm>
          </p:grpSpPr>
          <p:sp>
            <p:nvSpPr>
              <p:cNvPr id="252" name="Freeform 213"/>
              <p:cNvSpPr/>
              <p:nvPr/>
            </p:nvSpPr>
            <p:spPr>
              <a:xfrm rot="11895600">
                <a:off x="191520" y="146880"/>
                <a:ext cx="28404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14"/>
              <p:cNvSpPr/>
              <p:nvPr/>
            </p:nvSpPr>
            <p:spPr>
              <a:xfrm rot="13940400">
                <a:off x="153720" y="303840"/>
                <a:ext cx="32472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215"/>
              <p:cNvSpPr/>
              <p:nvPr/>
            </p:nvSpPr>
            <p:spPr>
              <a:xfrm rot="14238600">
                <a:off x="252360" y="336240"/>
                <a:ext cx="24336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216"/>
              <p:cNvSpPr/>
              <p:nvPr/>
            </p:nvSpPr>
            <p:spPr>
              <a:xfrm rot="14238600">
                <a:off x="264240" y="304560"/>
                <a:ext cx="24372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217"/>
            <p:cNvGrpSpPr/>
            <p:nvPr/>
          </p:nvGrpSpPr>
          <p:grpSpPr>
            <a:xfrm>
              <a:off x="150480" y="478440"/>
              <a:ext cx="443520" cy="477720"/>
              <a:chOff x="150480" y="478440"/>
              <a:chExt cx="443520" cy="477720"/>
            </a:xfrm>
          </p:grpSpPr>
          <p:sp>
            <p:nvSpPr>
              <p:cNvPr id="257" name="Freeform 218"/>
              <p:cNvSpPr/>
              <p:nvPr/>
            </p:nvSpPr>
            <p:spPr>
              <a:xfrm rot="4063800">
                <a:off x="180000" y="555840"/>
                <a:ext cx="38412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219"/>
              <p:cNvSpPr/>
              <p:nvPr/>
            </p:nvSpPr>
            <p:spPr>
              <a:xfrm rot="6108000">
                <a:off x="174600" y="702360"/>
                <a:ext cx="43920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220"/>
              <p:cNvSpPr/>
              <p:nvPr/>
            </p:nvSpPr>
            <p:spPr>
              <a:xfrm rot="6406200">
                <a:off x="218520" y="626760"/>
                <a:ext cx="32940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221"/>
              <p:cNvSpPr/>
              <p:nvPr/>
            </p:nvSpPr>
            <p:spPr>
              <a:xfrm rot="6406200">
                <a:off x="181080" y="653400"/>
                <a:ext cx="32940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222"/>
            <p:cNvGrpSpPr/>
            <p:nvPr/>
          </p:nvGrpSpPr>
          <p:grpSpPr>
            <a:xfrm>
              <a:off x="255960" y="298440"/>
              <a:ext cx="329400" cy="329400"/>
              <a:chOff x="255960" y="298440"/>
              <a:chExt cx="329400" cy="329400"/>
            </a:xfrm>
          </p:grpSpPr>
          <p:sp>
            <p:nvSpPr>
              <p:cNvPr id="262" name="AutoShape 223"/>
              <p:cNvSpPr/>
              <p:nvPr/>
            </p:nvSpPr>
            <p:spPr>
              <a:xfrm>
                <a:off x="255960" y="298440"/>
                <a:ext cx="329400" cy="329400"/>
              </a:xfrm>
              <a:custGeom>
                <a:avLst/>
                <a:gdLst>
                  <a:gd name="textAreaLeft" fmla="*/ 77400 w 329400"/>
                  <a:gd name="textAreaRight" fmla="*/ 252000 w 329400"/>
                  <a:gd name="textAreaTop" fmla="*/ 77400 h 329400"/>
                  <a:gd name="textAreaBottom" fmla="*/ 252000 h 32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Oval 224"/>
              <p:cNvSpPr/>
              <p:nvPr/>
            </p:nvSpPr>
            <p:spPr>
              <a:xfrm>
                <a:off x="313200" y="346680"/>
                <a:ext cx="219600" cy="21960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Rectangle 225"/>
          <p:cNvSpPr/>
          <p:nvPr/>
        </p:nvSpPr>
        <p:spPr>
          <a:xfrm>
            <a:off x="1068480" y="789120"/>
            <a:ext cx="7920000" cy="71280"/>
          </a:xfrm>
          <a:prstGeom prst="rect">
            <a:avLst/>
          </a:prstGeom>
          <a:gradFill rotWithShape="0">
            <a:gsLst>
              <a:gs pos="0">
                <a:srgbClr val="ffffff">
                  <a:alpha val="30196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26"/>
          <p:cNvSpPr/>
          <p:nvPr/>
        </p:nvSpPr>
        <p:spPr>
          <a:xfrm>
            <a:off x="-72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http://www.1ppt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62000" y="6354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49280" y="104472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雷雨教学课件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9104-11F3-429C-BB95-B3EEA2C7F3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{41F0B572-1AB5-4667-B5FF-1EF70C0C6467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228600" y="1143000"/>
            <a:ext cx="89154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：雷声小了，雨声也小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：池塘里水满了，青蛙也叫起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： （        ）了，（          ）也（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{49EE94A0-90DF-4ABA-8EA4-0D10DC1C2330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914400" y="1523880"/>
            <a:ext cx="5486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业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背诵全文，签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课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1640" y="572436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矩形 4"/>
          <p:cNvSpPr/>
          <p:nvPr/>
        </p:nvSpPr>
        <p:spPr>
          <a:xfrm>
            <a:off x="2050920" y="644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4488fa14d8afd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7240" y="86364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1500" spc="-1" strike="noStrike">
                <a:solidFill>
                  <a:srgbClr val="ffff66"/>
                </a:solidFill>
                <a:latin typeface="Arial"/>
                <a:ea typeface="隶书"/>
              </a:rPr>
              <a:t>雷雨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200724152449890"/>
          <p:cNvPicPr/>
          <p:nvPr/>
        </p:nvPicPr>
        <p:blipFill>
          <a:blip r:embed="rId1"/>
          <a:stretch/>
        </p:blipFill>
        <p:spPr>
          <a:xfrm>
            <a:off x="-152280" y="-1158840"/>
            <a:ext cx="9583560" cy="8053200"/>
          </a:xfrm>
          <a:prstGeom prst="rect">
            <a:avLst/>
          </a:prstGeom>
          <a:ln w="0">
            <a:noFill/>
          </a:ln>
        </p:spPr>
      </p:pic>
      <p:sp>
        <p:nvSpPr>
          <p:cNvPr id="308" name="WordArt 4"/>
          <p:cNvSpPr txBox="1"/>
          <p:nvPr/>
        </p:nvSpPr>
        <p:spPr>
          <a:xfrm>
            <a:off x="3086280" y="324000"/>
            <a:ext cx="4456080" cy="17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雷雨时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{4D77220D-B6C2-423B-8E74-7D38C1A9E10D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"/>
          <p:cNvSpPr/>
          <p:nvPr/>
        </p:nvSpPr>
        <p:spPr>
          <a:xfrm>
            <a:off x="533520" y="76212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考考你，会读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533520" y="3276720"/>
            <a:ext cx="6172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黑沉沉     压下来     一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乱摆      垂下来     逃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越来越响    彩虹    蝉    蜘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{70136D14-E394-47AE-A961-AE5DFD0D4E4E}"/>
          <p:cNvPicPr/>
          <p:nvPr/>
        </p:nvPicPr>
        <p:blipFill>
          <a:blip r:embed="rId1"/>
          <a:stretch/>
        </p:blipFill>
        <p:spPr>
          <a:xfrm>
            <a:off x="0" y="5533920"/>
            <a:ext cx="9144000" cy="13240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3"/>
          <p:cNvSpPr/>
          <p:nvPr/>
        </p:nvSpPr>
        <p:spPr>
          <a:xfrm>
            <a:off x="1447920" y="304920"/>
            <a:ext cx="6858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读准这些句子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满天的乌云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黑沉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地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压下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忽然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一阵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大风，吹得树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乱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只蜘蛛从网上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垂下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逃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闪电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越来越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雷声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越来越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条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彩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挂在天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叫了。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蜘蛛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又坐在网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rp0415013"/>
          <p:cNvPicPr/>
          <p:nvPr/>
        </p:nvPicPr>
        <p:blipFill>
          <a:blip r:embed="rId1"/>
          <a:stretch/>
        </p:blipFill>
        <p:spPr>
          <a:xfrm>
            <a:off x="0" y="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3"/>
          <p:cNvSpPr/>
          <p:nvPr/>
        </p:nvSpPr>
        <p:spPr>
          <a:xfrm>
            <a:off x="0" y="50292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乌云                 树叶                蝉                 树枝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蜘蛛                      闪电                         雷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457200" y="51814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0" y="50292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（压）            （不动）     （不叫）      （乱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（逃走）              （亮）                     （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rp041514"/>
          <p:cNvPicPr/>
          <p:nvPr/>
        </p:nvPicPr>
        <p:blipFill>
          <a:blip r:embed="rId1"/>
          <a:stretch/>
        </p:blipFill>
        <p:spPr>
          <a:xfrm>
            <a:off x="0" y="2090880"/>
            <a:ext cx="9144000" cy="476712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3"/>
          <p:cNvSpPr/>
          <p:nvPr/>
        </p:nvSpPr>
        <p:spPr>
          <a:xfrm>
            <a:off x="152280" y="228600"/>
            <a:ext cx="7315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试试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自由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~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圈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~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段描写了哪些景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rp041514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533520" y="533520"/>
            <a:ext cx="8991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天             空气             雨            太阳         彩虹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蝉             蜘蛛           池塘           青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frog"/>
          <p:cNvPicPr/>
          <p:nvPr/>
        </p:nvPicPr>
        <p:blipFill>
          <a:blip r:embed="rId1"/>
          <a:stretch/>
        </p:blipFill>
        <p:spPr>
          <a:xfrm>
            <a:off x="4724280" y="3500280"/>
            <a:ext cx="4419720" cy="335772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3"/>
          <p:cNvSpPr/>
          <p:nvPr/>
        </p:nvSpPr>
        <p:spPr>
          <a:xfrm>
            <a:off x="304920" y="152388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看着这雨后迷人的景色，我想说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呱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呱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呱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5564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22:45:47Z</dcterms:created>
  <dc:creator/>
  <dc:description/>
  <cp:keywords>幻灯片之家 http:/www.eeppt.com</cp:keywords>
  <dc:language>en-US</dc:language>
  <cp:lastModifiedBy/>
  <dcterms:modified xsi:type="dcterms:W3CDTF">2015-07-17T15:00:28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