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type.wav" ContentType="audio/x-wav"/>
  <Override PartName="/ppt/media/image11.jpeg" ContentType="image/jpeg"/>
  <Override PartName="/ppt/media/chimes.wav" ContentType="audio/x-wav"/>
  <Override PartName="/ppt/media/image1.jpeg" ContentType="image/jpeg"/>
  <Override PartName="/ppt/media/coin.wav" ContentType="audio/x-wav"/>
  <Override PartName="/ppt/media/image3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7701-FA71-43D1-9E2D-CF809E1E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4C94-C9DA-4101-9296-0D8FD6423261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BE8D-1336-4276-8870-EEC22C9899DC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E994-BF7F-43DB-ABEB-C5CA77021550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48E5-E66A-4574-A5B2-5400F7345C93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7250-FCB5-40CF-9BCE-DDE0270984AB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4E54-06DB-4395-A219-6ABA322CF7DF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C2FB-788E-4937-B32E-B42C8ABC1D79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0762-A530-46A7-98BC-DA74E42F5649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3455-DE51-45D8-A640-B1A0735CC480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2C34-6081-4C40-AB71-7EFEFFA8B938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BBAD-2B76-477B-88A6-A76CE436D91F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89D6-E008-496C-A8E5-5D2CC7A9F8A8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F01D-8CA8-4961-A5C4-08FFF516915D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7F58-A663-4E38-B682-90795520CB59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97D7-07FD-46B8-ABCA-C8CD6EB462BD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2A40-45D6-437B-ACC2-F174F8B4B61B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71DC-42FD-4B1F-BE08-022E1F485D92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566F-41BC-49A7-852D-64E8BDA182CB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ACB0-B9C4-4199-9197-3121EC8DF052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75A9-64C3-4D80-86B5-F5DEF66B0C21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2B6B-783A-4331-B513-6176A569954E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B969-4629-4FA8-AC5D-F34191A09688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B06D-ED08-4E77-9D2C-6C6DF42B0EEF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7C7C-58E2-44D2-9016-1D1A2553C901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AB17-9E21-4502-871C-D01FAE34EE92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48DC-B5B3-4C7E-8F18-BBE1C4D9D226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029-81E0-46D3-8B7E-F10D127D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E27-AE94-4E3E-BCBF-DE3D377B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7D3-5579-446C-92CF-DC0CEC98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482-56F0-4AA3-8946-F9EAD298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4049-502F-440D-ADBE-FECB77D3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7081-E865-4765-A69B-731190C2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5BF2-4682-4D61-8061-7B887030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DCEA-07DF-49FD-9046-66FCD085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16FD-4050-4626-949B-D2EAC4C4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E000-04F2-4C10-A39E-3B2305C7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E962-5266-4022-99C6-39E5409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8E9-CFA7-4B04-ADC7-F721E53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7241-F8D6-4F32-8E56-26DA7FB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F74E-BCCF-48B6-8176-82361E8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3371-5C1C-460B-BAA5-7C5B5999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0310-0E5D-4977-889B-DA63331D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D04F-FA21-46F6-863D-C1F390AF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F641-0468-493F-9AAE-582050DA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2F2F-537B-4597-9C3C-BFE5EDBA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F34D-6880-4E1A-86FB-2E33283E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523F-A552-4C23-B825-30D979BA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1AD2-7B82-4461-AC83-A02EA320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7E4-5D6A-4AE0-9AE0-5E26DD06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FB61-1470-402E-9765-CEBD3ADE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2A15-AB0A-4206-9A1C-A003E790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220E-B9E2-45E8-82DC-B4A7AE4C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34C6-9929-4AB3-872E-79B53011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386C-B93C-4078-991E-6731023C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4C9B-EB14-4DC6-8F85-FD23D04C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6D490-319B-46EA-A554-477BC96E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9C0-D56C-435F-916F-35832AC8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F37-54F3-489D-8F7A-1A06EA93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625-51A4-4E17-9894-55868F75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18B-F941-4BF2-878C-D1C924EE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6F2-6756-44B8-82C7-20D018B7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AD1-FABC-4AC3-98A4-7A68C2B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0F7F-3517-45F8-9C90-C7FBDA1BE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03F8-98EE-444B-B3B0-E71C0D79F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B715-5761-49D8-9260-EE0AD3FE6A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9.xm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685800" y="1700280"/>
            <a:ext cx="7989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隆中对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完整版免费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《隆中对》mp3音频课文朗读.mp3" descr=""/>
          <p:cNvPicPr/>
          <p:nvPr/>
        </p:nvPicPr>
        <p:blipFill>
          <a:blip r:embed="rId2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o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2050920" y="2637000"/>
            <a:ext cx="40770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疏通文义</a:t>
            </a:r>
            <a:endParaRPr b="1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762120" y="836640"/>
            <a:ext cx="8381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亮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耕陇亩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好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梁父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身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八尺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管仲、乐毅，时人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博陵崔州平，颖川徐庶元直与亮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善，谓为 信然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660680" y="141300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亲自                喜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111400" y="234936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经常   跟                没有人   同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47640" y="3357720"/>
            <a:ext cx="695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只有                             友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598400" y="4365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认为     确实这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685800"/>
            <a:ext cx="89852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新野。徐庶见先主。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。谓先主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诸葛孔明者，卧龙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愿见之乎？”先主曰：“君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来。”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曰：“此人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见，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屈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也。将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宜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驾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125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当时     驻扎                       器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011480" y="2101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判断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56640" y="3102120"/>
            <a:ext cx="71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可                             一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71840" y="40006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接近     委屈招来      应该屈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755640" y="508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拜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说课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80880" y="99072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由是先主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诣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亮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三往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见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因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人，曰：“汉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倾颓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奸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窃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主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蒙尘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孤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度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德量力，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大义于天下，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智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浅短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遂用猖獗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至于今日。然志犹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已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谓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计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出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71640" y="148428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去拜访  总共      才  就叫人避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39400" y="24922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崩溃   盗用皇帝的政令  蒙受风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042920" y="350028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估计          伸张               智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36480" y="44370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   就因此失败                     停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80880" y="53737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为   怎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463040" y="4730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概括前三段的内容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9640" y="1341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介绍诸葛亮的隐居生活和不平凡的抱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689480" y="2781360"/>
            <a:ext cx="38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徐庶向刘备推荐诸葛亮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611280" y="37162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刘备三顾茅庐，向诸葛亮请教复兴大计，并表示自己的决心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M3"/>
          <p:cNvPicPr/>
          <p:nvPr/>
        </p:nvPicPr>
        <p:blipFill>
          <a:blip r:embed="rId1"/>
          <a:stretch/>
        </p:blipFill>
        <p:spPr>
          <a:xfrm>
            <a:off x="7066080" y="4572000"/>
            <a:ext cx="207792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、诸葛亮“每自比于管仲、乐毅”是否太狂？作者这样写是什么意图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并不“狂”。实际上诸葛亮的才能远高于管仲、乐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作者这样写是为了突出诸葛亮才能非凡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50920" y="18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学习前三段思考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、为什么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此人可就见，不可屈致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 将军宜枉驾顾之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暗示诸葛亮有大才，不会轻易投靠刘备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就见”才能表现出刘备的诚意，才有可能感动诸葛亮并赢得他的信任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oin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、先主诣亮，“凡三往，乃见”，仅仅是表现刘备的求贤若渴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、表现刘备的求贤若渴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、从侧面烘托诸葛亮的非凡才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oin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064720" cy="18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奸臣窃命，主上蒙尘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的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奸臣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是谁？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主上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是谁？这句话指的是什么事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167680" cy="21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奸臣”指曹操；“主上”指汉献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这句话指曹操逼迫汉献帝迁都许昌，挟天子而令诸侯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oin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8893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滚滚长江东逝水，浪花淘尽英雄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三顾频繁天下计，一番晤对古今情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黑体"/>
              </a:rPr>
              <a:t>画纸之上分天下，谈笑之间定乾坤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754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、刘备的“信大义于天下”具体是指什么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17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兴复汉室，统一中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1" name="Picture 4" descr="bizhi1"/>
          <p:cNvPicPr/>
          <p:nvPr/>
        </p:nvPicPr>
        <p:blipFill>
          <a:blip r:embed="rId1"/>
          <a:srcRect l="0" t="4006" r="0" b="0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oin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79280" y="0"/>
            <a:ext cx="8964720" cy="64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课堂检测、解释字词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耕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父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莫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信然     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新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c0c0c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君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</a:t>
            </a:r>
            <a:r>
              <a:rPr b="1" lang="zh-CN" sz="3600" spc="-1" strike="noStrike">
                <a:solidFill>
                  <a:srgbClr val="c0c0c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此人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屈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r>
              <a:rPr b="1" lang="zh-CN" sz="3600" spc="-1" strike="noStrike">
                <a:solidFill>
                  <a:srgbClr val="c0c0c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宜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驾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主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亮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往 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德量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欲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义于天下          遂用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猖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然志犹未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君谓计将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79280" y="0"/>
            <a:ext cx="8964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写出下列句子的大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每自比于管仲、乐毅，时人莫之许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此人可就见，不可屈致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将军岂愿见之乎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4.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将军宜枉驾顾之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孤不度德量力，欲信大义于天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24000" y="13680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他）常常把自己比作管仲、乐毅，当时的人人没有谁同意这一点 。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39640" y="278028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个人只能到他那里去拜访，不能委屈他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召他上门来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4360" y="436572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将军是否愿意见他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956680" y="551556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您应当屈尊亲自去拜访他。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835640" y="762120"/>
            <a:ext cx="540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亮答曰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自董卓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已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来，豪杰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并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起，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郡者不可胜数。曹操比于袁绍，则名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微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而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寡，然操遂能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绍，以弱为强者，非惟天时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抑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亦人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也。今操已拥百万之众，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挟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天子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令诸侯，此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诚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不可与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争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36880" y="1268280"/>
            <a:ext cx="53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　一起   占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300720" y="2276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19520" y="3141720"/>
            <a:ext cx="12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战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50920" y="41497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而且   谋划                   挟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268360" y="5229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确     争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865520" y="765000"/>
            <a:ext cx="5752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孙权据有江东，已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三世，国险而民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为之用，此可以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为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援而不可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图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也。荆州北据汉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沔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利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尽南海，东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连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吴会，西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巴、蜀，此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武之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而其主不能守，此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天所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以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资将军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将军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岂有意乎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433760" y="1197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经历 　　　　　 归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116000" y="22050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作为 　　谋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9640" y="3213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物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连接      到达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-121320" y="4149720"/>
            <a:ext cx="78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地方                大概    用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826920" y="51577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可有意思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08440" y="1114560"/>
            <a:ext cx="5057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益州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险塞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，沃野千里，天府之土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高祖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因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之以成帝业。刘璋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暗弱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，张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在北，民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殷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国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富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而不知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存恤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。智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之士思得明君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143000" y="1692360"/>
            <a:ext cx="28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险要的地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58920" y="2924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凭借               昏庸懦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286720" y="42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兴旺  富裕      爱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67040" y="260280"/>
            <a:ext cx="5057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将军既帝室之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信义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著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于四海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总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英雄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思贤若渴，若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荆、益，保其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岩阻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西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戎，南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夷越，外结好孙权，内修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政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；天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有变，则命一上将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荆州之军以向宛、洛，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军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身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率益州之众出于秦川，百姓孰敢不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箪食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以迎将军乎？诚如是，则霸业可成，汉室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兴矣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080080" y="765000"/>
            <a:ext cx="65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后代          闻名       广泛的招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533680" y="1773360"/>
            <a:ext cx="661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占据             险要的地方     和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219320" y="2708280"/>
            <a:ext cx="65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安抚                                            政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419640" y="364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带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04920" y="4581360"/>
            <a:ext cx="95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亲自                              （用）箪盛着饭食（用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50920" y="566100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壶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装着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682280" y="635040"/>
            <a:ext cx="556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先主曰：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善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于是与亮情好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日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关羽、张飞等不悦，先主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解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之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孤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之有孔明，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犹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鱼之有水也。愿诸君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复言。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羽飞乃止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18148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59640" y="104472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一天天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165720" y="2266920"/>
            <a:ext cx="14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解释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36760" y="33336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         好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49816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孤不度德量力，欲信大义于天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非唯天时，抑亦人谋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荆州北据汉、沔，利尽南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然志犹未已，君谓计将安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57120" y="8564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我没有估计自己的德行能否服人，衡量自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力量能否胜人，想要在天下伸张大义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053960" y="2570760"/>
            <a:ext cx="6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仅是时机好，而且也是人的筹划得当。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28760" y="5572080"/>
            <a:ext cx="8351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但是我的志向到现在还没有罢休，您说该采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怎样的办法呢？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500040" y="41004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荆州北靠汉水、沔水，一直到南海的物资都能得到。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此殆天所以资将军，将军岂有意乎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6.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百姓孰敢不箪食壶浆以迎将军乎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24000" y="18406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这大概是天拿它来资助将军的，将军是否有夺取它的意图？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95280" y="42076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百姓谁敢不用篮子盛着饭，用壶装着酒来迎接将军呢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下面的对联是什么意思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765000"/>
            <a:ext cx="7345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对二表三分鼎，六出七纵八阵图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92000" y="1557000"/>
            <a:ext cx="5187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一对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隆中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表：前、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出师表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分：分为魏蜀吴三国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六出：六出祁山北伐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七纵：七擒七纵孟获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八阵图：孔明所设军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总之，概括诸葛亮一生功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Picture 5" descr="图片1"/>
          <p:cNvPicPr/>
          <p:nvPr/>
        </p:nvPicPr>
        <p:blipFill>
          <a:blip r:embed="rId1"/>
          <a:stretch/>
        </p:blipFill>
        <p:spPr>
          <a:xfrm>
            <a:off x="250920" y="1484280"/>
            <a:ext cx="3028680" cy="4249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75564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是我国人民心目中智慧的化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7.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民殷国富而不知存恤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8.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信义著于四海，总揽英雄，思贤如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9.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孤之有孔明，犹鱼之有水也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68360" y="98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百姓国家兴旺富裕，（刘璋）却不知道爱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501480" y="263700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（将军的）信用道义闻名天下，广泛罗致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雄，思慕贤才如饥似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755640" y="4797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我有了孔明，就像鱼有了水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758960" y="152280"/>
            <a:ext cx="56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思考：全文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个自然段可分为三部分，怎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分？三部分是按什么顺序排列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2158920" y="1700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诸葛亮的出身及年轻时的抱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徐庶推荐诸葛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158920" y="3213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刘备问计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诸葛亮对策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文章的主体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268360" y="4869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刘备的评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54160" y="1752480"/>
            <a:ext cx="1661760" cy="113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之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-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298440" y="3225960"/>
            <a:ext cx="1661760" cy="113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之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-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357120" y="4724280"/>
            <a:ext cx="1661760" cy="113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之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132000" y="5877000"/>
            <a:ext cx="23050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时间顺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统观对策（第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段），可以分为几层，介绍了哪些内容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、分析曹操、孙权两大集团的状况，分清敌友，采取不同的方针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、指出荆、益二州在战略上的重要地位和夺取的可能性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、归纳策略的主要之点并指出光明的前景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502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第四段：写隆中对策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93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拥百万之众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军事优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挟天子而令诸侯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政治优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已历三世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地位巩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国险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地理险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民附，贤能为之用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政治优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用武之国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地理：交通便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其主不能守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政治形势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既不会用兵，又不会用人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天府之土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地势险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政治形势：暗弱（民殷国富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不知存恤， 智能之士思得明君。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589800" y="692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此诚不可与争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515280" y="2133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此可以为援而不可图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497640" y="3645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可争，但作为根据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不保险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796440" y="5734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可图，作为根据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5292720" y="765000"/>
            <a:ext cx="647640" cy="287640"/>
          </a:xfrm>
          <a:prstGeom prst="rightArrow">
            <a:avLst>
              <a:gd name="adj1" fmla="val 50000"/>
              <a:gd name="adj2" fmla="val 56289"/>
            </a:avLst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5292720" y="220500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5292720" y="4005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5580000" y="5805360"/>
            <a:ext cx="647640" cy="287640"/>
          </a:xfrm>
          <a:prstGeom prst="rightArrow">
            <a:avLst>
              <a:gd name="adj1" fmla="val 50000"/>
              <a:gd name="adj2" fmla="val 56289"/>
            </a:avLst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468360" y="549360"/>
            <a:ext cx="71280" cy="8650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>
            <a:off x="468360" y="1916280"/>
            <a:ext cx="71280" cy="115236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AutoShape 17"/>
          <p:cNvSpPr/>
          <p:nvPr/>
        </p:nvSpPr>
        <p:spPr>
          <a:xfrm>
            <a:off x="395280" y="3500280"/>
            <a:ext cx="142920" cy="1295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395280" y="5229360"/>
            <a:ext cx="73080" cy="1225440"/>
          </a:xfrm>
          <a:custGeom>
            <a:avLst/>
            <a:gdLst>
              <a:gd name="textAreaLeft" fmla="*/ 46800 w 73080"/>
              <a:gd name="textAreaRight" fmla="*/ 73440 w 7308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319480" y="1616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0920" y="189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诸葛亮替刘备设计的政治蓝图是什么？诸葛亮为达到这个目的提出了什么战略方针？根据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379880" y="213372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政治蓝图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霸业可成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汉室可兴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95280" y="2852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战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方针：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跨有荆、益，保其岩阻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、西和诸戎，南抚夷越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、外结好孙权，内修政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95280" y="4292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根据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187280" y="4797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、不具备向北或向东发展的可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、荆、益两州可作建立霸业的基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、修明内政是巩固政权的保证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3941280" y="907920"/>
            <a:ext cx="90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从文中找出对诸葛亮和刘备总评价的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7520" y="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黑体"/>
              </a:rPr>
              <a:t>思考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68360" y="177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诸葛亮：身长八尺，每自比于管仲、乐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9640" y="3284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刘  备：将军既帝室之胄，信义著于四海，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总揽英雄，思贤若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4346280" y="2565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表现了诸葛亮具有远大的政治抱负和政治军事才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5280" y="4581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是一个胸怀大志、求贤若渴的明君，这正是诸葛亮辅佐他的原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50920" y="333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在对前景形势的分析中，诸葛亮特别强调了什么因素的作用？你是从哪些语句中可以看出来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5" name="Picture 3" descr="zhugeliang"/>
          <p:cNvPicPr/>
          <p:nvPr/>
        </p:nvPicPr>
        <p:blipFill>
          <a:blip r:embed="rId1"/>
          <a:stretch/>
        </p:blipFill>
        <p:spPr>
          <a:xfrm>
            <a:off x="6570720" y="1523880"/>
            <a:ext cx="2230560" cy="4713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611280" y="2492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特别强调了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人谋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”的作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826920" y="3573360"/>
            <a:ext cx="486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惟天时，抑亦人谋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贤能为之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总揽英雄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思贤若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809316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侧面描写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烘托诸葛亮对于刘备的重要性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9" name="Picture 3" descr="longzhongdui"/>
          <p:cNvPicPr/>
          <p:nvPr/>
        </p:nvPicPr>
        <p:blipFill>
          <a:blip r:embed="rId1"/>
          <a:srcRect l="0" t="11155" r="0" b="13944"/>
          <a:stretch/>
        </p:blipFill>
        <p:spPr>
          <a:xfrm>
            <a:off x="1258920" y="3933720"/>
            <a:ext cx="6591240" cy="27576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304920" y="380880"/>
            <a:ext cx="822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、“孤之有孔明，犹鱼有水”属于什么描写方法？起什么作用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、对曹操为什么“不可与争锋”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今操已拥百万之众，挟天子而令诸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964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、对孙权，为什么“可以为援而不可图也”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79280" y="4292640"/>
            <a:ext cx="8007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孙权据有江东，已历三世，国险而民附，贤能为之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oin.wav"/>
      </p:stSnd>
    </p:sndAc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79280" y="189000"/>
            <a:ext cx="792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结合具体语句，分析刘备和诸葛亮这两个人的人物形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79280" y="357336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结尾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关羽、张飞等不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什么作用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468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刘　备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是一个胸怀大志、求贤若渴的明君形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68360" y="2349360"/>
            <a:ext cx="81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诸葛亮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是一个自视甚高、富有雄才大略的谋臣形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380880" y="428796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引出刘备对诸葛亮的评价，说明他的“自比”并非虚夸，从侧面突出了诸葛亮的杰出才能；同时照应了前文，使文章显得结构严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诸葛亮"/>
          <p:cNvPicPr/>
          <p:nvPr/>
        </p:nvPicPr>
        <p:blipFill>
          <a:blip r:embed="rId2"/>
          <a:stretch/>
        </p:blipFill>
        <p:spPr>
          <a:xfrm>
            <a:off x="4484520" y="692280"/>
            <a:ext cx="4659480" cy="6148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228600" y="765000"/>
            <a:ext cx="41148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诸葛亮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，字孔明，三国时著名政治家，军事家，中国历史上的名相。现在，“诸葛亮”这个名字已经成为了智慧的象征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7380360" y="6021360"/>
            <a:ext cx="1584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66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65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赏析本文刻画人物形象的方法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。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03280" y="836280"/>
            <a:ext cx="774072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从各个方面描写刻画诸葛亮这个中心人物，是本文最主要的写作特点。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黑体"/>
              </a:rPr>
              <a:t>开头一段写诸葛亮，从正面写他的非凡抱负；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徐庶向刘备推荐诸葛亮，则从侧面来写。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刘备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诸葛亮问答从正面通过人物自身的语言塑造形象，充分表现诸葛亮的天才预见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而刘备三顾茅庐、密谈后“与亮情好日密”、关张不悦、刘鱼水相答都从侧面表现诸葛亮的非凡才能。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正面描写与侧面描写相照应，使诸葛亮这个人物形象更丰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2" name="Picture 4" descr="zhugeliang"/>
          <p:cNvPicPr/>
          <p:nvPr/>
        </p:nvPicPr>
        <p:blipFill>
          <a:blip r:embed="rId1"/>
          <a:stretch/>
        </p:blipFill>
        <p:spPr>
          <a:xfrm>
            <a:off x="0" y="1916280"/>
            <a:ext cx="1773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76320" y="2622600"/>
            <a:ext cx="609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隆中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838080" y="1143000"/>
            <a:ext cx="228600" cy="4648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990720" y="914400"/>
            <a:ext cx="42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、诸葛亮青年时代之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990720" y="16765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二、徐庶推荐诸葛亮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066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三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828800" y="312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刘 备 问 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8288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诸葛亮对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1600200" y="3276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5148360" y="1197000"/>
            <a:ext cx="3808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580000" y="90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抱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Line 13"/>
          <p:cNvSpPr/>
          <p:nvPr/>
        </p:nvSpPr>
        <p:spPr>
          <a:xfrm>
            <a:off x="6443640" y="1197000"/>
            <a:ext cx="3938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6804000" y="907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作铺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4356000" y="1916280"/>
            <a:ext cx="18925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6248520" y="1600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侧面烘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990720" y="5424480"/>
            <a:ext cx="55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四、孤之有孔明，犹鱼之有水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477120" y="5424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侧面烘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3809880" y="2514600"/>
            <a:ext cx="76320" cy="2438280"/>
          </a:xfrm>
          <a:custGeom>
            <a:avLst/>
            <a:gdLst>
              <a:gd name="textAreaLeft" fmla="*/ 48960 w 76320"/>
              <a:gd name="textAreaRight" fmla="*/ 76320 w 763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4079880" y="2286000"/>
            <a:ext cx="407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不具备向东或向北发展的可能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4076640" y="3357720"/>
            <a:ext cx="4024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夺取荆、益州二州，作为根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4102200" y="4495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修明内政，联吴抗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8077320" y="1219320"/>
            <a:ext cx="166680" cy="4800600"/>
          </a:xfrm>
          <a:custGeom>
            <a:avLst/>
            <a:gdLst>
              <a:gd name="textAreaLeft" fmla="*/ 0 w 166680"/>
              <a:gd name="textAreaRight" fmla="*/ 60120 w 16668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8244000" y="765000"/>
            <a:ext cx="72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黑体"/>
              </a:rPr>
              <a:t>未出茅庐而知天下三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3657600" y="29084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4533840" y="27558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6172200" y="5715000"/>
            <a:ext cx="2286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0492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古 今 异 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762120" y="1828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猖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371600" y="1676520"/>
            <a:ext cx="457200" cy="1447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905120" y="1600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今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905120" y="25146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古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766440" y="4495680"/>
            <a:ext cx="7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有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1371600" y="419112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1752480" y="40384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今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1752480" y="5257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古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2666880" y="160020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猖狂、凶猛而放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2590920" y="2514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失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2666880" y="3962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故意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2666880" y="5257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有某种打算、想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324000" y="33336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通假字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116000" y="1484280"/>
            <a:ext cx="6248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、欲信大义于天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、自董卓已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312640" y="2421000"/>
            <a:ext cx="35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伸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”</a:t>
            </a:r>
            <a:r>
              <a:rPr b="1" lang="en-US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,   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伸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312640" y="4292640"/>
            <a:ext cx="35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已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以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”</a:t>
            </a:r>
            <a:r>
              <a:rPr b="1" lang="en-US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,   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以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0" y="1981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0" y="4648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然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4114800" y="2133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已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191120" y="4648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609480" y="15238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4572000" y="15238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609480" y="411480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4724280" y="419112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914400" y="1295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然志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犹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未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914400" y="22860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犹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鱼之有水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4876920" y="19051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自董卓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已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4876920" y="1066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然志犹未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952880" y="27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今操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已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拥兵百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838080" y="3809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然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志犹未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838080" y="4876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谓为信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5029200" y="5607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谓为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信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5029200" y="3809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欲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信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大义于天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4952880" y="472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信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义著于四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1835280" y="1773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还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755640" y="27813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好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6227640" y="148428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停止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5940360" y="2349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通“以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5651640" y="3141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已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755640" y="4292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然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2133720" y="533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这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5003640" y="4292640"/>
            <a:ext cx="44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通“伸”，伸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Text Box 28"/>
          <p:cNvSpPr/>
          <p:nvPr/>
        </p:nvSpPr>
        <p:spPr>
          <a:xfrm>
            <a:off x="4788000" y="5157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诚信 信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Text Box 29"/>
          <p:cNvSpPr/>
          <p:nvPr/>
        </p:nvSpPr>
        <p:spPr>
          <a:xfrm>
            <a:off x="5867280" y="5987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确实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WordArt 30"/>
          <p:cNvSpPr txBox="1"/>
          <p:nvPr/>
        </p:nvSpPr>
        <p:spPr>
          <a:xfrm>
            <a:off x="533520" y="380880"/>
            <a:ext cx="426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三、一词多义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152280" y="1295280"/>
            <a:ext cx="68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50920" y="4437000"/>
            <a:ext cx="91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067280" y="2924280"/>
            <a:ext cx="106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685800" y="76212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755640" y="393372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4572000" y="1989000"/>
            <a:ext cx="380880" cy="2514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990720" y="304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谓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为信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990720" y="1066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君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谓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计将安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066680" y="1828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谓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先主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971640" y="386064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因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屏人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900000" y="5084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高祖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因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之以成帝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4643280" y="170028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好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为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《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梁父吟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4788000" y="27813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外结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好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孙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932360" y="3933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情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好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日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2895480" y="304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3809880" y="1066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认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Text Box 18"/>
          <p:cNvSpPr/>
          <p:nvPr/>
        </p:nvSpPr>
        <p:spPr>
          <a:xfrm>
            <a:off x="2971800" y="1981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对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2771640" y="38606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于是，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Text Box 20"/>
          <p:cNvSpPr/>
          <p:nvPr/>
        </p:nvSpPr>
        <p:spPr>
          <a:xfrm>
            <a:off x="4716360" y="5157720"/>
            <a:ext cx="2438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凭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7812000" y="1700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喜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6732720" y="2852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友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7164360" y="40053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友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5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0" y="1295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609480" y="53352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838080" y="304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则命一上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将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荆州之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76212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君谓计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将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安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838080" y="2286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出郭相扶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533520" y="350532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826920" y="3141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好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梁父吟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828800" y="449568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755640" y="38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谓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信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55640" y="4653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以弱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强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755640" y="5445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贤能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之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5148360" y="2602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将   率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3733920" y="1295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将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3200400" y="2286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扶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3564000" y="3141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吟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2771640" y="38606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3059280" y="4653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成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Text Box 20"/>
          <p:cNvSpPr/>
          <p:nvPr/>
        </p:nvSpPr>
        <p:spPr>
          <a:xfrm>
            <a:off x="3276720" y="558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5715000" y="1981080"/>
            <a:ext cx="2743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遂</a:t>
            </a:r>
            <a:r>
              <a:rPr b="1" lang="zh-CN" sz="32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用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猖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贤能为之</a:t>
            </a:r>
            <a:r>
              <a:rPr b="1" lang="zh-CN" sz="32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此</a:t>
            </a:r>
            <a:r>
              <a:rPr b="1" lang="zh-CN" sz="32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用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武之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Rectangle 22"/>
          <p:cNvSpPr/>
          <p:nvPr/>
        </p:nvSpPr>
        <p:spPr>
          <a:xfrm>
            <a:off x="4741200" y="29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AutoShape 23"/>
          <p:cNvSpPr/>
          <p:nvPr/>
        </p:nvSpPr>
        <p:spPr>
          <a:xfrm>
            <a:off x="5410080" y="220968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Rectangle 24"/>
          <p:cNvSpPr/>
          <p:nvPr/>
        </p:nvSpPr>
        <p:spPr>
          <a:xfrm>
            <a:off x="7524720" y="1989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因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Rectangle 25"/>
          <p:cNvSpPr/>
          <p:nvPr/>
        </p:nvSpPr>
        <p:spPr>
          <a:xfrm>
            <a:off x="7812000" y="299736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任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Rectangle 26"/>
          <p:cNvSpPr/>
          <p:nvPr/>
        </p:nvSpPr>
        <p:spPr>
          <a:xfrm>
            <a:off x="7812000" y="39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运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1510920" y="404640"/>
            <a:ext cx="5064840" cy="57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练习一：解释句中的词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亮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躬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耕陇亩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先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之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将军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枉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驾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顾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之。（   ）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先主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诣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亮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孤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度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德量力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欲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信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大义于天下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殆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以资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将军。（ ）（ ）（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民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殷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国富而不知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存恤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（  ）（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22640" y="189000"/>
            <a:ext cx="46670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练习二：写出下列句子的大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时人莫之许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人可就见，不可屈致也。将军宜枉驾顾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孤不度德量力，欲信大义于天下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而智术浅短，遂用猖獗，至于今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非为天时，抑亦人谋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荆州北据汉、沔，利尽南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殆天所以资将军，将军岂有意乎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百姓孰敢不箪食壶浆以迎将军乎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9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孤之有孔明，犹鱼之有水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解释下列加点的字词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每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自此于管仲、乐毅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徐庶见先主，先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之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殆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天所以资将军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将军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身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率益州之众出于秦川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谓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信然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⑥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人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就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见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940360" y="1268280"/>
            <a:ext cx="2952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常常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器重、重视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大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亲自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确实这样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⑥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接近、趋向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学习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了解文学常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准确、流利地朗读课文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完成一、二两段的翻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457200" y="915840"/>
            <a:ext cx="65530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一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释下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红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词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谓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信然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将军宜枉驾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顾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凡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⒋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欲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信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大义于天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⒌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遂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猖蹶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⒍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汉室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倾颓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429000" y="167652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确实这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4648320" y="228600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拜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895480" y="2971800"/>
            <a:ext cx="16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总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4724280" y="365760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通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伸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，伸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276720" y="434340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失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3352680" y="495288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崩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0" y="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巩固练习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179280" y="611280"/>
            <a:ext cx="79930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二、用现代汉语翻译下面句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然志犹未已，君谓计将安出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诸葛孔明者，卧龙也，将军岂愿见之乎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此人可就见，不可屈致也。将军宜枉驾顾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250920" y="141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我的志向还不罢休，您看该采取怎样的办法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971640" y="328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诸葛孔明是一条卧龙，您想见他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250920" y="51577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个人只能登门求见，不能降低他的身份把他召来。您倒应该降低身份去拜访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课堂练习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644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隆中对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节选自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作者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字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朝史学家。所著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载了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三国的历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曹操比于袁绍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然操遂能克绍，以弱为强者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50920" y="4508640"/>
            <a:ext cx="8353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国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蜀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诸葛亮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陈寿  承祚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晋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国志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魏、蜀、吴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则名微而众寡  非惟天时  抑亦人谋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3757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诸葛亮替刘备设计的政治蓝图是什么？（用课文中的话回答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）诸葛亮为达到这个目标提出了什么战略方针？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）根据是什么？（用原文回答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在诸葛亮的眼里刘备是一个怎样的人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请从文中找出原句加以说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8915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）占据荆益两州，安抚西南诸族，联合孙权，整顿内政，然后俟机从荆、益两路北伐曹操，统一中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）根据当时“天下大势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0875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26"/>
          <p:cNvSpPr/>
          <p:nvPr/>
        </p:nvSpPr>
        <p:spPr>
          <a:xfrm>
            <a:off x="179280" y="-10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时代背景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1027"/>
          <p:cNvSpPr/>
          <p:nvPr/>
        </p:nvSpPr>
        <p:spPr>
          <a:xfrm>
            <a:off x="468360" y="3028680"/>
            <a:ext cx="82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东汉末年朝廷政治日趋黑暗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官府摇役繁重、刑罚极其苛刻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广大人民陷于水深火热之中。这时，爆发了一场规模巨大的农民起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黄巾起义。在镇压黄巾起义过程中产生和壮大起来的大小武装力量，为了取代东汉王朝，争夺势力范围，进行了勾心斗角的政治斗争和频繁的军事混战。在镇压黄巾起义中起家的曹操、刘备和孙坚，在多次战争中，一步步扩大势力。赤壁大战之后，形成了曹操、刘备和孙权三国鼎立的形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zhugeliang"/>
          <p:cNvPicPr/>
          <p:nvPr/>
        </p:nvPicPr>
        <p:blipFill>
          <a:blip r:embed="rId1"/>
          <a:stretch/>
        </p:blipFill>
        <p:spPr>
          <a:xfrm>
            <a:off x="304920" y="609480"/>
            <a:ext cx="2390760" cy="5051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2843280" y="765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公元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07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年，刘备屡败，只好投靠刘表，寄居新野，势单力孤。渴求贤者辅佐其成就大业，于是三顾茅庐，问计于诸葛亮。诸葛亮被刘备的三顾之情所打动。这篇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隆中对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就是诸葛亮当时纵谈天下大事的一段记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39640" y="1628640"/>
            <a:ext cx="81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本文节选自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三国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蜀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诸葛亮传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作者是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陈寿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字承祚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朝安汉人，史学家，所著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三国志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共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6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卷，记载三国时期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魏 、蜀、吴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历史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3560" y="294948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4114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ào          fǔ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好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为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父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吟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qīng  tu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倾    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uó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度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德 量 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hēn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信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大 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chāng ju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猖     獗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0" y="333000"/>
            <a:ext cx="4100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uài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吴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i       x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殆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存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yī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国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zhòu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帝室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ā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箪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食壶浆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02:54:06Z</dcterms:created>
  <dc:creator/>
  <dc:description/>
  <cp:keywords>幻灯片之家 http:/www.eeppt.com</cp:keywords>
  <dc:language>en-US</dc:language>
  <cp:lastModifiedBy/>
  <dcterms:modified xsi:type="dcterms:W3CDTF">2015-07-20T06:36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