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17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899-AA43-4DF9-A76F-6C9C6A57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16A-04C9-4905-9F55-B8613AD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62D-7A98-4727-89BC-20CED400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DB2-25CA-4E9E-8003-EA476F73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2F4-4078-4108-9FF3-45A2C7AD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E1C-6592-4F15-BA93-AA068FD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45DE-7C48-4533-B955-C29B14B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00EA-C87D-4F6E-A085-7D2118E9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102-16CF-4188-874D-1BD0BCB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E1C-A9E6-487E-93A1-3D1986C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C626-F4B5-43E1-B34A-4B1C477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8B1-C5C2-402A-BAB1-3ADF9B8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960F-60C8-47C5-8F5E-9E2824A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CC9-D179-47BC-A213-F1470AFE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4022-A165-4025-8C63-7BF97C9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ADB0-1598-46B1-BB46-8664D7A9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5AB3-243A-4DED-A113-64BC7440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B2F-ACF8-4F2A-BE86-32494E92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D1D-F4F9-46D0-AB21-7B14827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122-BB74-4FDA-8C14-58E023C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601-7C76-432A-B1D8-A5AD4792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317-6858-4A71-936B-170E72A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C46-A37E-49BC-A1D8-3083D6A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B6B-041A-49E7-8BCA-73A65D2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200" y="1600560"/>
                    <a:ext cx="4752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680" y="119664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840"/>
                  <a:ext cx="607320" cy="784800"/>
                  <a:chOff x="7112160" y="15840"/>
                  <a:chExt cx="60732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8880" y="47628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4320" y="103680"/>
                    <a:ext cx="303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240" y="466920"/>
                    <a:ext cx="543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480" y="478080"/>
                    <a:ext cx="487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200" y="98280"/>
                    <a:ext cx="2617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680" cy="1249200"/>
                  <a:chOff x="6711120" y="929880"/>
                  <a:chExt cx="91368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960" cy="1218240"/>
                  <a:chOff x="7312320" y="1001160"/>
                  <a:chExt cx="363960" cy="121824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4000" y="1876320"/>
                    <a:ext cx="421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000"/>
                  <a:ext cx="949680" cy="1230120"/>
                  <a:chOff x="7798680" y="909000"/>
                  <a:chExt cx="949680" cy="123012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240" y="1228320"/>
                    <a:ext cx="8856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560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39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240" y="1351440"/>
                    <a:ext cx="8222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1840"/>
                    <a:ext cx="738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A30-65F9-4A83-9FF4-3CE2B928654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4DB6-DCBC-44C4-A772-67E1E6A2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9" name="Picture 41" descr="11GT1945030392E"/>
          <p:cNvPicPr/>
          <p:nvPr/>
        </p:nvPicPr>
        <p:blipFill>
          <a:blip r:embed="rId16"/>
          <a:stretch/>
        </p:blipFill>
        <p:spPr>
          <a:xfrm>
            <a:off x="0" y="9036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971640" y="692280"/>
            <a:ext cx="262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 Black"/>
                <a:ea typeface="楷体_GB2312"/>
              </a:rPr>
              <a:t>我能组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465560" y="22734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信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465560" y="320976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言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31800" y="22766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沿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152680" y="32814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没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465560" y="458136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抬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465560" y="5516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台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223960" y="458136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蛙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223960" y="55166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娃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971640" y="24192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4572000" y="24210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971640" y="46530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4572000" y="472428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1908000" y="2344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90800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2072160" y="220500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信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语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5744160" y="2276640"/>
            <a:ext cx="66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边沿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没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2010600" y="45385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抬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上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888520" y="450864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青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娃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884160" y="1465200"/>
            <a:ext cx="8136000" cy="1267560"/>
            <a:chOff x="884160" y="1465200"/>
            <a:chExt cx="8136000" cy="1267560"/>
          </a:xfrm>
        </p:grpSpPr>
        <p:grpSp>
          <p:nvGrpSpPr>
            <p:cNvPr id="259" name="Group 3"/>
            <p:cNvGrpSpPr/>
            <p:nvPr/>
          </p:nvGrpSpPr>
          <p:grpSpPr>
            <a:xfrm>
              <a:off x="884160" y="1465200"/>
              <a:ext cx="2658960" cy="963720"/>
              <a:chOff x="884160" y="1465200"/>
              <a:chExt cx="2658960" cy="963720"/>
            </a:xfrm>
          </p:grpSpPr>
          <p:pic>
            <p:nvPicPr>
              <p:cNvPr id="260" name="Picture 4" descr="青蛙"/>
              <p:cNvPicPr/>
              <p:nvPr/>
            </p:nvPicPr>
            <p:blipFill>
              <a:blip r:embed="rId2"/>
              <a:stretch/>
            </p:blipFill>
            <p:spPr>
              <a:xfrm>
                <a:off x="884160" y="1465200"/>
                <a:ext cx="1000080" cy="9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Text Box 5"/>
              <p:cNvSpPr/>
              <p:nvPr/>
            </p:nvSpPr>
            <p:spPr>
              <a:xfrm>
                <a:off x="1974600" y="1517760"/>
                <a:ext cx="15685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2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说：</a:t>
                </a:r>
                <a:endParaRPr b="0" lang="en-US" sz="4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62" name="Text Box 6"/>
            <p:cNvSpPr/>
            <p:nvPr/>
          </p:nvSpPr>
          <p:spPr>
            <a:xfrm>
              <a:off x="2814480" y="1541520"/>
              <a:ext cx="620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别说大话了！天不过井口那么大，还用飞那么远吗？”</a:t>
              </a:r>
              <a:endParaRPr b="0" lang="en-US" sz="3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554040" y="3330720"/>
            <a:ext cx="8186760" cy="939960"/>
            <a:chOff x="554040" y="3330720"/>
            <a:chExt cx="8186760" cy="939960"/>
          </a:xfrm>
        </p:grpSpPr>
        <p:grpSp>
          <p:nvGrpSpPr>
            <p:cNvPr id="264" name="Group 8"/>
            <p:cNvGrpSpPr/>
            <p:nvPr/>
          </p:nvGrpSpPr>
          <p:grpSpPr>
            <a:xfrm>
              <a:off x="554040" y="3330720"/>
              <a:ext cx="2836800" cy="939960"/>
              <a:chOff x="554040" y="3330720"/>
              <a:chExt cx="2836800" cy="939960"/>
            </a:xfrm>
          </p:grpSpPr>
          <p:pic>
            <p:nvPicPr>
              <p:cNvPr id="265" name="Picture 9" descr="小鸟"/>
              <p:cNvPicPr/>
              <p:nvPr/>
            </p:nvPicPr>
            <p:blipFill>
              <a:blip r:embed="rId3"/>
              <a:stretch/>
            </p:blipFill>
            <p:spPr>
              <a:xfrm>
                <a:off x="554040" y="3470400"/>
                <a:ext cx="1598760" cy="8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Text Box 10"/>
              <p:cNvSpPr/>
              <p:nvPr/>
            </p:nvSpPr>
            <p:spPr>
              <a:xfrm>
                <a:off x="2013120" y="3330720"/>
                <a:ext cx="13777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2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说：</a:t>
                </a:r>
                <a:endParaRPr b="0" lang="en-US" sz="4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67" name="Text Box 11"/>
            <p:cNvSpPr/>
            <p:nvPr/>
          </p:nvSpPr>
          <p:spPr>
            <a:xfrm>
              <a:off x="2890800" y="3376800"/>
              <a:ext cx="585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弄错了。天无边无际，大得很哪！”</a:t>
              </a:r>
              <a:endParaRPr b="0" lang="en-US" sz="3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765000" y="1352520"/>
            <a:ext cx="27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ff"/>
                </a:solidFill>
                <a:latin typeface="黑体"/>
                <a:ea typeface="黑体"/>
              </a:rPr>
              <a:t>想象：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444680" y="2703600"/>
            <a:ext cx="7561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Arial"/>
                <a:ea typeface="楷体_GB2312"/>
              </a:rPr>
              <a:t>如果青蛙跳出了井口，它可能会看到些什么？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3392640" y="506520"/>
            <a:ext cx="1958760" cy="1820880"/>
            <a:chOff x="3392640" y="506520"/>
            <a:chExt cx="1958760" cy="1820880"/>
          </a:xfrm>
        </p:grpSpPr>
        <p:pic>
          <p:nvPicPr>
            <p:cNvPr id="272" name="Picture 5" descr="青蛙"/>
            <p:cNvPicPr/>
            <p:nvPr/>
          </p:nvPicPr>
          <p:blipFill>
            <a:blip r:embed="rId2"/>
            <a:stretch/>
          </p:blipFill>
          <p:spPr>
            <a:xfrm>
              <a:off x="3392640" y="1482840"/>
              <a:ext cx="7948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6"/>
            <p:cNvSpPr/>
            <p:nvPr/>
          </p:nvSpPr>
          <p:spPr>
            <a:xfrm rot="798600">
              <a:off x="4187160" y="618840"/>
              <a:ext cx="1079280" cy="863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build0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3"/>
          <p:cNvGrpSpPr/>
          <p:nvPr/>
        </p:nvGrpSpPr>
        <p:grpSpPr>
          <a:xfrm>
            <a:off x="7159680" y="2398680"/>
            <a:ext cx="1882800" cy="2297160"/>
            <a:chOff x="7159680" y="2398680"/>
            <a:chExt cx="1882800" cy="2297160"/>
          </a:xfrm>
        </p:grpSpPr>
        <p:grpSp>
          <p:nvGrpSpPr>
            <p:cNvPr id="276" name="Group 4"/>
            <p:cNvGrpSpPr/>
            <p:nvPr/>
          </p:nvGrpSpPr>
          <p:grpSpPr>
            <a:xfrm>
              <a:off x="8048520" y="3257640"/>
              <a:ext cx="557280" cy="1438200"/>
              <a:chOff x="8048520" y="3257640"/>
              <a:chExt cx="557280" cy="1438200"/>
            </a:xfrm>
          </p:grpSpPr>
          <p:sp>
            <p:nvSpPr>
              <p:cNvPr id="277" name="Line 5"/>
              <p:cNvSpPr/>
              <p:nvPr/>
            </p:nvSpPr>
            <p:spPr>
              <a:xfrm>
                <a:off x="8194680" y="325764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78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048520" y="410544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159680" y="239868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64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风景0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7440480" y="1666800"/>
            <a:ext cx="1882800" cy="2297160"/>
            <a:chOff x="7440480" y="1666800"/>
            <a:chExt cx="1882800" cy="2297160"/>
          </a:xfrm>
        </p:grpSpPr>
        <p:grpSp>
          <p:nvGrpSpPr>
            <p:cNvPr id="282" name="Group 4"/>
            <p:cNvGrpSpPr/>
            <p:nvPr/>
          </p:nvGrpSpPr>
          <p:grpSpPr>
            <a:xfrm>
              <a:off x="8329320" y="2525760"/>
              <a:ext cx="557280" cy="1438200"/>
              <a:chOff x="8329320" y="2525760"/>
              <a:chExt cx="557280" cy="1438200"/>
            </a:xfrm>
          </p:grpSpPr>
          <p:sp>
            <p:nvSpPr>
              <p:cNvPr id="283" name="Line 5"/>
              <p:cNvSpPr/>
              <p:nvPr/>
            </p:nvSpPr>
            <p:spPr>
              <a:xfrm>
                <a:off x="8475480" y="252576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84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337356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5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166680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70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Sight1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288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289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90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1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76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风景1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294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295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96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/>
          <p:cNvSpPr/>
          <p:nvPr/>
        </p:nvSpPr>
        <p:spPr>
          <a:xfrm>
            <a:off x="363528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580040" y="83664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《坐井观天》</a:t>
            </a: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课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82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天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302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303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304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5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://www.eeppt.com/moban/kejian/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88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 Black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81C-EE69-47C3-B2AB-76734E181E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06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313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314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315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94" dur="5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0415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信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014640" y="6094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xìn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WordArt 3" descr=""/>
          <p:cNvPicPr/>
          <p:nvPr/>
        </p:nvPicPr>
        <p:blipFill>
          <a:blip r:embed="rId2"/>
          <a:stretch/>
        </p:blipFill>
        <p:spPr>
          <a:xfrm>
            <a:off x="3048120" y="1116000"/>
            <a:ext cx="5121000" cy="1724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沿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989440" y="60948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yán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抬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124080" y="609480"/>
            <a:ext cx="14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tái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际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425760" y="907920"/>
            <a:ext cx="14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jì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蛙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997360" y="62388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wā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错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048120" y="609480"/>
            <a:ext cx="188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cuò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答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098880" y="700200"/>
            <a:ext cx="190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dá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还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933640" y="700200"/>
            <a:ext cx="228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hái</a:t>
            </a:r>
            <a:r>
              <a:rPr b="0" lang="zh-CN" sz="8800" spc="-1" strike="noStrike">
                <a:solidFill>
                  <a:srgbClr val="ff5050"/>
                </a:solidFill>
                <a:latin typeface="Times New Roman"/>
              </a:rPr>
              <a:t>　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05:43Z</dcterms:created>
  <dc:creator/>
  <dc:description/>
  <cp:keywords>幻灯片之家 http:/www.eeppt.com</cp:keywords>
  <dc:language>en-US</dc:language>
  <cp:lastModifiedBy/>
  <dcterms:modified xsi:type="dcterms:W3CDTF">2015-07-04T11:06:2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