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1C2-B8AC-4170-BE48-1218CC0A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6F1-F9EE-49EA-AB2E-2046E764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BC1-60E3-438C-BA95-345D662A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EF41-52B5-48D4-A24E-CE1274ED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54D-987B-4030-ABE4-53147A74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D4F-427A-429A-8693-16DB876A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94F-B03C-4199-85CF-A2E2D3CA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87B-CB0B-4DB5-856E-8D919E27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567-86E4-4D78-8DA4-3980AB41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6E3-AC1D-4080-91CE-12E8DC7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C24-4DEA-4413-B5D4-EE26B95F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1ED-C8BD-4539-BA88-25ACF830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3D81-5B96-469C-8E01-8B5685481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91&amp;cl=2&amp;cm=1&amp;sc=0&amp;lm=-1&amp;pn=90&amp;rn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16&amp;cl=2&amp;cm=1&amp;sc=0&amp;lm=-1&amp;pn=15&amp;rn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F:\ppt\705\人教版四年级语文上册《母鸡》PPT课件\6545510_194557375181_2.jpg"/>
          <p:cNvPicPr/>
          <p:nvPr/>
        </p:nvPicPr>
        <p:blipFill>
          <a:blip r:embed="rId1"/>
          <a:srcRect l="8396" t="0" r="3873" b="5289"/>
          <a:stretch/>
        </p:blipFill>
        <p:spPr>
          <a:xfrm>
            <a:off x="0" y="-1713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7721640" y="29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7262640" y="5373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efefe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老舍</a:t>
            </a:r>
            <a:endParaRPr b="1" lang="en-US" sz="1800" spc="1" strike="noStrike">
              <a:ln w="19080">
                <a:solidFill>
                  <a:srgbClr val="fefefe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5" name=""/>
          <p:cNvSpPr/>
          <p:nvPr/>
        </p:nvSpPr>
        <p:spPr>
          <a:xfrm>
            <a:off x="1549440" y="9097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《母鸡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:\ppt\705\人教版四年级语文上册《母鸡》PPT课件\4181839_090019216599_2.jpg"/>
          <p:cNvPicPr/>
          <p:nvPr/>
        </p:nvPicPr>
        <p:blipFill>
          <a:blip r:embed="rId1"/>
          <a:srcRect l="2431" t="2897" r="10375" b="367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i2_061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i2_059"/>
          <p:cNvPicPr/>
          <p:nvPr/>
        </p:nvPicPr>
        <p:blipFill>
          <a:blip r:embed="rId1"/>
          <a:stretch/>
        </p:blipFill>
        <p:spPr>
          <a:xfrm>
            <a:off x="-304920" y="166680"/>
            <a:ext cx="9753840" cy="652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AF3-0B45-4F66-95C2-7864C8DBB7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u=2392229512,1844039189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197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5003640" y="122400"/>
            <a:ext cx="4140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发生在一位游子与母亲之间。游子探亲期满离开故乡，母亲送他去车站。在车站，儿子放旅行包的拎带被挤断。眼看着就要到发车时间，母亲急忙从身上解下裤腰带，把旅行包扎好。解裤腰带时，由于心急又用力，她把脸都涨红了。儿子问母亲怎么回家呢？母亲说，不要紧，慢慢走。多少年来，儿子一直把母亲这根裤腰带珍藏在身边。多少年来，儿子一直在想，他母亲没有裤腰带是怎样走回几里外的家的。 另一个故事由发生在一个犯人同母亲之间，探监的日子，一位来自贫困山区的母亲，经过乘驴车、汽车和火车的辗转，探望服刑的儿子。在探监人五光十色的物品中，老母亲给儿子掏出用白布包着的葵花子。葵花子已经炒熟，老母亲全嗑好了。没有皮，白花花的像密密麻麻的雀舌头服刑的儿子接过这堆葵花子肉，手开始抖。母亲亦无言语，撩起衣襟拭泪。她千里迢迢探望儿子，卖掉了鸡蛋和小猪崽，还要节省许多开支才凑足路费，来之前，在白天的劳碌后，晚上在煤油灯下嗑瓜子。嗑好的瓜子肉放在一起，看它们像小山一点点增多，不舍得吃一粒。十多斤瓜子嗑了许多夜晚。在所有探监人当中，他母亲的衣着是最褴褛的。母亲一口一口嗑的瓜子，包含了千言万语。儿子“扑通”给母亲跪下，他忏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u=2011381153,2506338328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1116000" y="1989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黑体"/>
              </a:rPr>
              <a:t>母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黑体"/>
              <a:ea typeface="黑体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6084720" y="76500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宋体"/>
              </a:rPr>
              <a:t>无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6156360" y="3789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勇敢</a:t>
            </a:r>
            <a:endParaRPr b="0" lang="en-US" sz="1800" spc="-1" strike="noStrike">
              <a:ln w="9360">
                <a:solidFill>
                  <a:srgbClr val="8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60" name="WordArt 11"/>
          <p:cNvSpPr txBox="1"/>
          <p:nvPr/>
        </p:nvSpPr>
        <p:spPr>
          <a:xfrm>
            <a:off x="6227640" y="479736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辛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61" name="WordArt 12"/>
          <p:cNvSpPr txBox="1"/>
          <p:nvPr/>
        </p:nvSpPr>
        <p:spPr>
          <a:xfrm>
            <a:off x="6156360" y="1773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负责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6156360" y="2781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宋体"/>
              </a:rPr>
              <a:t>慈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2:37:50Z</dcterms:created>
  <dc:creator/>
  <dc:description/>
  <cp:keywords>幻灯片之家 http:/www.eeppt.com</cp:keywords>
  <dc:language>en-US</dc:language>
  <cp:lastModifiedBy/>
  <dcterms:modified xsi:type="dcterms:W3CDTF">2015-07-17T15:04:5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