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矩形 33"/>
          <p:cNvSpPr/>
          <p:nvPr/>
        </p:nvSpPr>
        <p:spPr>
          <a:xfrm>
            <a:off x="3133800" y="884160"/>
            <a:ext cx="785880" cy="785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矩形 34"/>
          <p:cNvSpPr/>
          <p:nvPr/>
        </p:nvSpPr>
        <p:spPr>
          <a:xfrm>
            <a:off x="4208400" y="884160"/>
            <a:ext cx="785880" cy="785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矩形 35"/>
          <p:cNvSpPr/>
          <p:nvPr/>
        </p:nvSpPr>
        <p:spPr>
          <a:xfrm>
            <a:off x="5257800" y="884160"/>
            <a:ext cx="785880" cy="785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矩形 36"/>
          <p:cNvSpPr/>
          <p:nvPr/>
        </p:nvSpPr>
        <p:spPr>
          <a:xfrm>
            <a:off x="3133800" y="1890720"/>
            <a:ext cx="785880" cy="785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矩形 44"/>
          <p:cNvSpPr/>
          <p:nvPr/>
        </p:nvSpPr>
        <p:spPr>
          <a:xfrm>
            <a:off x="3133800" y="2921040"/>
            <a:ext cx="785880" cy="787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45"/>
          <p:cNvSpPr/>
          <p:nvPr/>
        </p:nvSpPr>
        <p:spPr>
          <a:xfrm>
            <a:off x="4208400" y="2921040"/>
            <a:ext cx="785880" cy="787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6"/>
          <p:cNvSpPr/>
          <p:nvPr/>
        </p:nvSpPr>
        <p:spPr>
          <a:xfrm>
            <a:off x="5257800" y="2921040"/>
            <a:ext cx="785880" cy="787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7"/>
          <p:cNvSpPr/>
          <p:nvPr/>
        </p:nvSpPr>
        <p:spPr>
          <a:xfrm>
            <a:off x="3133800" y="4978440"/>
            <a:ext cx="785880" cy="785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8"/>
          <p:cNvSpPr/>
          <p:nvPr/>
        </p:nvSpPr>
        <p:spPr>
          <a:xfrm>
            <a:off x="4208400" y="4978440"/>
            <a:ext cx="785880" cy="785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9"/>
          <p:cNvSpPr/>
          <p:nvPr/>
        </p:nvSpPr>
        <p:spPr>
          <a:xfrm>
            <a:off x="5257800" y="4978440"/>
            <a:ext cx="785880" cy="785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0"/>
          <p:cNvSpPr/>
          <p:nvPr/>
        </p:nvSpPr>
        <p:spPr>
          <a:xfrm>
            <a:off x="5257800" y="3962520"/>
            <a:ext cx="785880" cy="785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3"/>
          <p:cNvGrpSpPr/>
          <p:nvPr/>
        </p:nvGrpSpPr>
        <p:grpSpPr>
          <a:xfrm>
            <a:off x="2970360" y="-4878360"/>
            <a:ext cx="2909880" cy="4878720"/>
            <a:chOff x="2970360" y="-4878360"/>
            <a:chExt cx="2909880" cy="4878720"/>
          </a:xfrm>
        </p:grpSpPr>
        <p:sp>
          <p:nvSpPr>
            <p:cNvPr id="48" name="矩形 51"/>
            <p:cNvSpPr/>
            <p:nvPr/>
          </p:nvSpPr>
          <p:spPr>
            <a:xfrm>
              <a:off x="2970360" y="-4878360"/>
              <a:ext cx="785880" cy="785520"/>
            </a:xfrm>
            <a:prstGeom prst="rect">
              <a:avLst/>
            </a:prstGeom>
            <a:gradFill rotWithShape="0">
              <a:gsLst>
                <a:gs pos="0">
                  <a:srgbClr val="2c69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52"/>
            <p:cNvSpPr/>
            <p:nvPr/>
          </p:nvSpPr>
          <p:spPr>
            <a:xfrm>
              <a:off x="2970360" y="-3871800"/>
              <a:ext cx="785880" cy="785520"/>
            </a:xfrm>
            <a:prstGeom prst="rect">
              <a:avLst/>
            </a:prstGeom>
            <a:gradFill rotWithShape="0">
              <a:gsLst>
                <a:gs pos="0">
                  <a:srgbClr val="2c69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53"/>
            <p:cNvSpPr/>
            <p:nvPr/>
          </p:nvSpPr>
          <p:spPr>
            <a:xfrm>
              <a:off x="5094360" y="-4878360"/>
              <a:ext cx="785880" cy="785520"/>
            </a:xfrm>
            <a:prstGeom prst="rect">
              <a:avLst/>
            </a:prstGeom>
            <a:gradFill rotWithShape="0">
              <a:gsLst>
                <a:gs pos="0">
                  <a:srgbClr val="2c69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54"/>
            <p:cNvSpPr/>
            <p:nvPr/>
          </p:nvSpPr>
          <p:spPr>
            <a:xfrm>
              <a:off x="5094360" y="-3871800"/>
              <a:ext cx="785880" cy="785520"/>
            </a:xfrm>
            <a:prstGeom prst="rect">
              <a:avLst/>
            </a:prstGeom>
            <a:gradFill rotWithShape="0">
              <a:gsLst>
                <a:gs pos="0">
                  <a:srgbClr val="2c69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55"/>
            <p:cNvSpPr/>
            <p:nvPr/>
          </p:nvSpPr>
          <p:spPr>
            <a:xfrm>
              <a:off x="2970360" y="-2840760"/>
              <a:ext cx="785880" cy="785520"/>
            </a:xfrm>
            <a:prstGeom prst="rect">
              <a:avLst/>
            </a:prstGeom>
            <a:gradFill rotWithShape="0">
              <a:gsLst>
                <a:gs pos="0">
                  <a:srgbClr val="2c69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56"/>
            <p:cNvSpPr/>
            <p:nvPr/>
          </p:nvSpPr>
          <p:spPr>
            <a:xfrm>
              <a:off x="4044600" y="-2840760"/>
              <a:ext cx="785880" cy="785520"/>
            </a:xfrm>
            <a:prstGeom prst="rect">
              <a:avLst/>
            </a:prstGeom>
            <a:gradFill rotWithShape="0">
              <a:gsLst>
                <a:gs pos="0">
                  <a:srgbClr val="2c69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57"/>
            <p:cNvSpPr/>
            <p:nvPr/>
          </p:nvSpPr>
          <p:spPr>
            <a:xfrm>
              <a:off x="5094360" y="-2840760"/>
              <a:ext cx="785880" cy="785520"/>
            </a:xfrm>
            <a:prstGeom prst="rect">
              <a:avLst/>
            </a:prstGeom>
            <a:gradFill rotWithShape="0">
              <a:gsLst>
                <a:gs pos="0">
                  <a:srgbClr val="2c69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60"/>
            <p:cNvSpPr/>
            <p:nvPr/>
          </p:nvSpPr>
          <p:spPr>
            <a:xfrm>
              <a:off x="5094360" y="-785160"/>
              <a:ext cx="785880" cy="785520"/>
            </a:xfrm>
            <a:prstGeom prst="rect">
              <a:avLst/>
            </a:prstGeom>
            <a:gradFill rotWithShape="0">
              <a:gsLst>
                <a:gs pos="0">
                  <a:srgbClr val="2c69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61"/>
            <p:cNvSpPr/>
            <p:nvPr/>
          </p:nvSpPr>
          <p:spPr>
            <a:xfrm>
              <a:off x="5094360" y="-1800360"/>
              <a:ext cx="785880" cy="785520"/>
            </a:xfrm>
            <a:prstGeom prst="rect">
              <a:avLst/>
            </a:prstGeom>
            <a:gradFill rotWithShape="0">
              <a:gsLst>
                <a:gs pos="0">
                  <a:srgbClr val="2c69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23"/>
          <p:cNvGrpSpPr/>
          <p:nvPr/>
        </p:nvGrpSpPr>
        <p:grpSpPr>
          <a:xfrm>
            <a:off x="3003480" y="-1817640"/>
            <a:ext cx="2909880" cy="1792440"/>
            <a:chOff x="3003480" y="-1817640"/>
            <a:chExt cx="2909880" cy="1792440"/>
          </a:xfrm>
        </p:grpSpPr>
        <p:sp>
          <p:nvSpPr>
            <p:cNvPr id="58" name="矩形 62"/>
            <p:cNvSpPr/>
            <p:nvPr/>
          </p:nvSpPr>
          <p:spPr>
            <a:xfrm>
              <a:off x="3003480" y="-1817640"/>
              <a:ext cx="785880" cy="785520"/>
            </a:xfrm>
            <a:prstGeom prst="rect">
              <a:avLst/>
            </a:prstGeom>
            <a:gradFill rotWithShape="0">
              <a:gsLst>
                <a:gs pos="0">
                  <a:srgbClr val="0ad01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64"/>
            <p:cNvSpPr/>
            <p:nvPr/>
          </p:nvSpPr>
          <p:spPr>
            <a:xfrm>
              <a:off x="5127480" y="-1817640"/>
              <a:ext cx="785880" cy="785520"/>
            </a:xfrm>
            <a:prstGeom prst="rect">
              <a:avLst/>
            </a:prstGeom>
            <a:gradFill rotWithShape="0">
              <a:gsLst>
                <a:gs pos="0">
                  <a:srgbClr val="0ad01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65"/>
            <p:cNvSpPr/>
            <p:nvPr/>
          </p:nvSpPr>
          <p:spPr>
            <a:xfrm>
              <a:off x="5127480" y="-810720"/>
              <a:ext cx="785880" cy="785520"/>
            </a:xfrm>
            <a:prstGeom prst="rect">
              <a:avLst/>
            </a:prstGeom>
            <a:gradFill rotWithShape="0">
              <a:gsLst>
                <a:gs pos="0">
                  <a:srgbClr val="0ad01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71"/>
            <p:cNvSpPr/>
            <p:nvPr/>
          </p:nvSpPr>
          <p:spPr>
            <a:xfrm>
              <a:off x="4065480" y="-1817640"/>
              <a:ext cx="785880" cy="785520"/>
            </a:xfrm>
            <a:prstGeom prst="rect">
              <a:avLst/>
            </a:prstGeom>
            <a:gradFill rotWithShape="0">
              <a:gsLst>
                <a:gs pos="0">
                  <a:srgbClr val="0ad01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8"/>
          <p:cNvGrpSpPr/>
          <p:nvPr/>
        </p:nvGrpSpPr>
        <p:grpSpPr>
          <a:xfrm>
            <a:off x="-3051000" y="1109520"/>
            <a:ext cx="2910240" cy="4880160"/>
            <a:chOff x="-3051000" y="1109520"/>
            <a:chExt cx="2910240" cy="4880160"/>
          </a:xfrm>
        </p:grpSpPr>
        <p:sp>
          <p:nvSpPr>
            <p:cNvPr id="63" name="矩形 73"/>
            <p:cNvSpPr/>
            <p:nvPr/>
          </p:nvSpPr>
          <p:spPr>
            <a:xfrm>
              <a:off x="-3051000" y="1109520"/>
              <a:ext cx="785880" cy="785880"/>
            </a:xfrm>
            <a:prstGeom prst="rect">
              <a:avLst/>
            </a:prstGeom>
            <a:gradFill rotWithShape="0">
              <a:gsLst>
                <a:gs pos="0">
                  <a:srgbClr val="f6882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74"/>
            <p:cNvSpPr/>
            <p:nvPr/>
          </p:nvSpPr>
          <p:spPr>
            <a:xfrm>
              <a:off x="-3051000" y="5203800"/>
              <a:ext cx="785880" cy="785880"/>
            </a:xfrm>
            <a:prstGeom prst="rect">
              <a:avLst/>
            </a:prstGeom>
            <a:gradFill rotWithShape="0">
              <a:gsLst>
                <a:gs pos="0">
                  <a:srgbClr val="f6882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75"/>
            <p:cNvSpPr/>
            <p:nvPr/>
          </p:nvSpPr>
          <p:spPr>
            <a:xfrm>
              <a:off x="-926640" y="1109520"/>
              <a:ext cx="785880" cy="785880"/>
            </a:xfrm>
            <a:prstGeom prst="rect">
              <a:avLst/>
            </a:prstGeom>
            <a:gradFill rotWithShape="0">
              <a:gsLst>
                <a:gs pos="0">
                  <a:srgbClr val="f6882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76"/>
            <p:cNvSpPr/>
            <p:nvPr/>
          </p:nvSpPr>
          <p:spPr>
            <a:xfrm>
              <a:off x="-926640" y="2116080"/>
              <a:ext cx="785880" cy="785880"/>
            </a:xfrm>
            <a:prstGeom prst="rect">
              <a:avLst/>
            </a:prstGeom>
            <a:gradFill rotWithShape="0">
              <a:gsLst>
                <a:gs pos="0">
                  <a:srgbClr val="f6882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77"/>
            <p:cNvSpPr/>
            <p:nvPr/>
          </p:nvSpPr>
          <p:spPr>
            <a:xfrm>
              <a:off x="-3051000" y="3147480"/>
              <a:ext cx="785880" cy="785880"/>
            </a:xfrm>
            <a:prstGeom prst="rect">
              <a:avLst/>
            </a:prstGeom>
            <a:gradFill rotWithShape="0">
              <a:gsLst>
                <a:gs pos="0">
                  <a:srgbClr val="f6882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78"/>
            <p:cNvSpPr/>
            <p:nvPr/>
          </p:nvSpPr>
          <p:spPr>
            <a:xfrm>
              <a:off x="-1976400" y="3147480"/>
              <a:ext cx="785880" cy="785880"/>
            </a:xfrm>
            <a:prstGeom prst="rect">
              <a:avLst/>
            </a:prstGeom>
            <a:gradFill rotWithShape="0">
              <a:gsLst>
                <a:gs pos="0">
                  <a:srgbClr val="f6882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79"/>
            <p:cNvSpPr/>
            <p:nvPr/>
          </p:nvSpPr>
          <p:spPr>
            <a:xfrm>
              <a:off x="-926640" y="3147480"/>
              <a:ext cx="785880" cy="785880"/>
            </a:xfrm>
            <a:prstGeom prst="rect">
              <a:avLst/>
            </a:prstGeom>
            <a:gradFill rotWithShape="0">
              <a:gsLst>
                <a:gs pos="0">
                  <a:srgbClr val="f6882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80"/>
            <p:cNvSpPr/>
            <p:nvPr/>
          </p:nvSpPr>
          <p:spPr>
            <a:xfrm>
              <a:off x="-926640" y="5203800"/>
              <a:ext cx="785880" cy="785880"/>
            </a:xfrm>
            <a:prstGeom prst="rect">
              <a:avLst/>
            </a:prstGeom>
            <a:gradFill rotWithShape="0">
              <a:gsLst>
                <a:gs pos="0">
                  <a:srgbClr val="f6882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81"/>
            <p:cNvSpPr/>
            <p:nvPr/>
          </p:nvSpPr>
          <p:spPr>
            <a:xfrm>
              <a:off x="-3051000" y="4175640"/>
              <a:ext cx="785880" cy="785880"/>
            </a:xfrm>
            <a:prstGeom prst="rect">
              <a:avLst/>
            </a:prstGeom>
            <a:gradFill rotWithShape="0">
              <a:gsLst>
                <a:gs pos="0">
                  <a:srgbClr val="f6882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82"/>
            <p:cNvSpPr/>
            <p:nvPr/>
          </p:nvSpPr>
          <p:spPr>
            <a:xfrm>
              <a:off x="-1988640" y="1109520"/>
              <a:ext cx="785880" cy="785880"/>
            </a:xfrm>
            <a:prstGeom prst="rect">
              <a:avLst/>
            </a:prstGeom>
            <a:gradFill rotWithShape="0">
              <a:gsLst>
                <a:gs pos="0">
                  <a:srgbClr val="f6882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83"/>
            <p:cNvSpPr/>
            <p:nvPr/>
          </p:nvSpPr>
          <p:spPr>
            <a:xfrm>
              <a:off x="-1988640" y="5203800"/>
              <a:ext cx="785880" cy="785880"/>
            </a:xfrm>
            <a:prstGeom prst="rect">
              <a:avLst/>
            </a:prstGeom>
            <a:gradFill rotWithShape="0">
              <a:gsLst>
                <a:gs pos="0">
                  <a:srgbClr val="f6882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40"/>
          <p:cNvGrpSpPr/>
          <p:nvPr/>
        </p:nvGrpSpPr>
        <p:grpSpPr>
          <a:xfrm>
            <a:off x="10845720" y="1076400"/>
            <a:ext cx="785880" cy="4879800"/>
            <a:chOff x="10845720" y="1076400"/>
            <a:chExt cx="785880" cy="4879800"/>
          </a:xfrm>
        </p:grpSpPr>
        <p:sp>
          <p:nvSpPr>
            <p:cNvPr id="75" name="矩形 84"/>
            <p:cNvSpPr/>
            <p:nvPr/>
          </p:nvSpPr>
          <p:spPr>
            <a:xfrm>
              <a:off x="10845720" y="1076400"/>
              <a:ext cx="785880" cy="785520"/>
            </a:xfrm>
            <a:prstGeom prst="rect">
              <a:avLst/>
            </a:prstGeom>
            <a:gradFill rotWithShape="0">
              <a:gsLst>
                <a:gs pos="0">
                  <a:srgbClr val="e739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85"/>
            <p:cNvSpPr/>
            <p:nvPr/>
          </p:nvSpPr>
          <p:spPr>
            <a:xfrm>
              <a:off x="10845720" y="5170680"/>
              <a:ext cx="785880" cy="785520"/>
            </a:xfrm>
            <a:prstGeom prst="rect">
              <a:avLst/>
            </a:prstGeom>
            <a:gradFill rotWithShape="0">
              <a:gsLst>
                <a:gs pos="0">
                  <a:srgbClr val="e739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87"/>
            <p:cNvSpPr/>
            <p:nvPr/>
          </p:nvSpPr>
          <p:spPr>
            <a:xfrm>
              <a:off x="10845720" y="2099880"/>
              <a:ext cx="785880" cy="785520"/>
            </a:xfrm>
            <a:prstGeom prst="rect">
              <a:avLst/>
            </a:prstGeom>
            <a:gradFill rotWithShape="0">
              <a:gsLst>
                <a:gs pos="0">
                  <a:srgbClr val="e739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88"/>
            <p:cNvSpPr/>
            <p:nvPr/>
          </p:nvSpPr>
          <p:spPr>
            <a:xfrm>
              <a:off x="10845720" y="3123360"/>
              <a:ext cx="785880" cy="785520"/>
            </a:xfrm>
            <a:prstGeom prst="rect">
              <a:avLst/>
            </a:prstGeom>
            <a:gradFill rotWithShape="0">
              <a:gsLst>
                <a:gs pos="0">
                  <a:srgbClr val="e739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 92"/>
            <p:cNvSpPr/>
            <p:nvPr/>
          </p:nvSpPr>
          <p:spPr>
            <a:xfrm>
              <a:off x="10845720" y="4146840"/>
              <a:ext cx="785880" cy="785520"/>
            </a:xfrm>
            <a:prstGeom prst="rect">
              <a:avLst/>
            </a:prstGeom>
            <a:gradFill rotWithShape="0">
              <a:gsLst>
                <a:gs pos="0">
                  <a:srgbClr val="e739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矩形 95"/>
          <p:cNvSpPr/>
          <p:nvPr/>
        </p:nvSpPr>
        <p:spPr>
          <a:xfrm>
            <a:off x="3137040" y="-4878360"/>
            <a:ext cx="785520" cy="787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6"/>
          <p:cNvSpPr/>
          <p:nvPr/>
        </p:nvSpPr>
        <p:spPr>
          <a:xfrm>
            <a:off x="4210200" y="-4878360"/>
            <a:ext cx="787320" cy="787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7"/>
          <p:cNvSpPr/>
          <p:nvPr/>
        </p:nvSpPr>
        <p:spPr>
          <a:xfrm>
            <a:off x="5259240" y="-4878360"/>
            <a:ext cx="785880" cy="787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8"/>
          <p:cNvSpPr/>
          <p:nvPr/>
        </p:nvSpPr>
        <p:spPr>
          <a:xfrm>
            <a:off x="3137040" y="-3871800"/>
            <a:ext cx="785520" cy="787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9"/>
          <p:cNvSpPr/>
          <p:nvPr/>
        </p:nvSpPr>
        <p:spPr>
          <a:xfrm>
            <a:off x="3137040" y="-2840040"/>
            <a:ext cx="785520" cy="787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00"/>
          <p:cNvSpPr/>
          <p:nvPr/>
        </p:nvSpPr>
        <p:spPr>
          <a:xfrm>
            <a:off x="4210200" y="-2840040"/>
            <a:ext cx="787320" cy="787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1"/>
          <p:cNvSpPr/>
          <p:nvPr/>
        </p:nvSpPr>
        <p:spPr>
          <a:xfrm>
            <a:off x="5259240" y="-2840040"/>
            <a:ext cx="785880" cy="787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02"/>
          <p:cNvSpPr/>
          <p:nvPr/>
        </p:nvSpPr>
        <p:spPr>
          <a:xfrm>
            <a:off x="3137040" y="-784080"/>
            <a:ext cx="785520" cy="784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03"/>
          <p:cNvSpPr/>
          <p:nvPr/>
        </p:nvSpPr>
        <p:spPr>
          <a:xfrm>
            <a:off x="4210200" y="-784080"/>
            <a:ext cx="787320" cy="784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04"/>
          <p:cNvSpPr/>
          <p:nvPr/>
        </p:nvSpPr>
        <p:spPr>
          <a:xfrm>
            <a:off x="5259240" y="-784080"/>
            <a:ext cx="785880" cy="784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05"/>
          <p:cNvSpPr/>
          <p:nvPr/>
        </p:nvSpPr>
        <p:spPr>
          <a:xfrm>
            <a:off x="5259240" y="-1798560"/>
            <a:ext cx="785880" cy="785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13"/>
          <p:cNvSpPr/>
          <p:nvPr/>
        </p:nvSpPr>
        <p:spPr>
          <a:xfrm>
            <a:off x="2978280" y="1336680"/>
            <a:ext cx="785520" cy="785880"/>
          </a:xfrm>
          <a:prstGeom prst="rect">
            <a:avLst/>
          </a:prstGeom>
          <a:gradFill rotWithShape="0">
            <a:gsLst>
              <a:gs pos="0">
                <a:srgbClr val="2c69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4"/>
          <p:cNvSpPr/>
          <p:nvPr/>
        </p:nvSpPr>
        <p:spPr>
          <a:xfrm>
            <a:off x="2978280" y="2343240"/>
            <a:ext cx="785520" cy="785880"/>
          </a:xfrm>
          <a:prstGeom prst="rect">
            <a:avLst/>
          </a:prstGeom>
          <a:gradFill rotWithShape="0">
            <a:gsLst>
              <a:gs pos="0">
                <a:srgbClr val="2c69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5"/>
          <p:cNvSpPr/>
          <p:nvPr/>
        </p:nvSpPr>
        <p:spPr>
          <a:xfrm>
            <a:off x="5102280" y="1336680"/>
            <a:ext cx="785880" cy="785880"/>
          </a:xfrm>
          <a:prstGeom prst="rect">
            <a:avLst/>
          </a:prstGeom>
          <a:gradFill rotWithShape="0">
            <a:gsLst>
              <a:gs pos="0">
                <a:srgbClr val="2c69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16"/>
          <p:cNvSpPr/>
          <p:nvPr/>
        </p:nvSpPr>
        <p:spPr>
          <a:xfrm>
            <a:off x="5102280" y="2343240"/>
            <a:ext cx="785880" cy="785880"/>
          </a:xfrm>
          <a:prstGeom prst="rect">
            <a:avLst/>
          </a:prstGeom>
          <a:gradFill rotWithShape="0">
            <a:gsLst>
              <a:gs pos="0">
                <a:srgbClr val="2c69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17"/>
          <p:cNvSpPr/>
          <p:nvPr/>
        </p:nvSpPr>
        <p:spPr>
          <a:xfrm>
            <a:off x="2978280" y="3375000"/>
            <a:ext cx="785520" cy="785880"/>
          </a:xfrm>
          <a:prstGeom prst="rect">
            <a:avLst/>
          </a:prstGeom>
          <a:gradFill rotWithShape="0">
            <a:gsLst>
              <a:gs pos="0">
                <a:srgbClr val="2c69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18"/>
          <p:cNvSpPr/>
          <p:nvPr/>
        </p:nvSpPr>
        <p:spPr>
          <a:xfrm>
            <a:off x="4051440" y="3375000"/>
            <a:ext cx="787320" cy="785880"/>
          </a:xfrm>
          <a:prstGeom prst="rect">
            <a:avLst/>
          </a:prstGeom>
          <a:gradFill rotWithShape="0">
            <a:gsLst>
              <a:gs pos="0">
                <a:srgbClr val="2c69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9"/>
          <p:cNvSpPr/>
          <p:nvPr/>
        </p:nvSpPr>
        <p:spPr>
          <a:xfrm>
            <a:off x="5102280" y="3375000"/>
            <a:ext cx="785880" cy="785880"/>
          </a:xfrm>
          <a:prstGeom prst="rect">
            <a:avLst/>
          </a:prstGeom>
          <a:gradFill rotWithShape="0">
            <a:gsLst>
              <a:gs pos="0">
                <a:srgbClr val="2c69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0"/>
          <p:cNvSpPr/>
          <p:nvPr/>
        </p:nvSpPr>
        <p:spPr>
          <a:xfrm>
            <a:off x="5102280" y="5430960"/>
            <a:ext cx="785880" cy="785520"/>
          </a:xfrm>
          <a:prstGeom prst="rect">
            <a:avLst/>
          </a:prstGeom>
          <a:gradFill rotWithShape="0">
            <a:gsLst>
              <a:gs pos="0">
                <a:srgbClr val="2c69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1"/>
          <p:cNvSpPr/>
          <p:nvPr/>
        </p:nvSpPr>
        <p:spPr>
          <a:xfrm>
            <a:off x="5102280" y="4414680"/>
            <a:ext cx="785880" cy="785880"/>
          </a:xfrm>
          <a:prstGeom prst="rect">
            <a:avLst/>
          </a:prstGeom>
          <a:gradFill rotWithShape="0">
            <a:gsLst>
              <a:gs pos="0">
                <a:srgbClr val="2c69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22"/>
          <p:cNvSpPr/>
          <p:nvPr/>
        </p:nvSpPr>
        <p:spPr>
          <a:xfrm>
            <a:off x="2992320" y="957240"/>
            <a:ext cx="785880" cy="785880"/>
          </a:xfrm>
          <a:prstGeom prst="rect">
            <a:avLst/>
          </a:prstGeom>
          <a:gradFill rotWithShape="0">
            <a:gsLst>
              <a:gs pos="0">
                <a:srgbClr val="0ad01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3"/>
          <p:cNvSpPr/>
          <p:nvPr/>
        </p:nvSpPr>
        <p:spPr>
          <a:xfrm>
            <a:off x="2992320" y="5051520"/>
            <a:ext cx="785880" cy="787320"/>
          </a:xfrm>
          <a:prstGeom prst="rect">
            <a:avLst/>
          </a:prstGeom>
          <a:gradFill rotWithShape="0">
            <a:gsLst>
              <a:gs pos="0">
                <a:srgbClr val="0ad01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4"/>
          <p:cNvSpPr/>
          <p:nvPr/>
        </p:nvSpPr>
        <p:spPr>
          <a:xfrm>
            <a:off x="5114880" y="957240"/>
            <a:ext cx="787320" cy="785880"/>
          </a:xfrm>
          <a:prstGeom prst="rect">
            <a:avLst/>
          </a:prstGeom>
          <a:gradFill rotWithShape="0">
            <a:gsLst>
              <a:gs pos="0">
                <a:srgbClr val="0ad01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5"/>
          <p:cNvSpPr/>
          <p:nvPr/>
        </p:nvSpPr>
        <p:spPr>
          <a:xfrm>
            <a:off x="5114880" y="1965240"/>
            <a:ext cx="787320" cy="785880"/>
          </a:xfrm>
          <a:prstGeom prst="rect">
            <a:avLst/>
          </a:prstGeom>
          <a:gradFill rotWithShape="0">
            <a:gsLst>
              <a:gs pos="0">
                <a:srgbClr val="0ad01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6"/>
          <p:cNvSpPr/>
          <p:nvPr/>
        </p:nvSpPr>
        <p:spPr>
          <a:xfrm>
            <a:off x="2992320" y="2995560"/>
            <a:ext cx="785880" cy="785880"/>
          </a:xfrm>
          <a:prstGeom prst="rect">
            <a:avLst/>
          </a:prstGeom>
          <a:gradFill rotWithShape="0">
            <a:gsLst>
              <a:gs pos="0">
                <a:srgbClr val="0ad01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7"/>
          <p:cNvSpPr/>
          <p:nvPr/>
        </p:nvSpPr>
        <p:spPr>
          <a:xfrm>
            <a:off x="4065480" y="2995560"/>
            <a:ext cx="785880" cy="785880"/>
          </a:xfrm>
          <a:prstGeom prst="rect">
            <a:avLst/>
          </a:prstGeom>
          <a:gradFill rotWithShape="0">
            <a:gsLst>
              <a:gs pos="0">
                <a:srgbClr val="0ad01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28"/>
          <p:cNvSpPr/>
          <p:nvPr/>
        </p:nvSpPr>
        <p:spPr>
          <a:xfrm>
            <a:off x="5114880" y="2995560"/>
            <a:ext cx="787320" cy="785880"/>
          </a:xfrm>
          <a:prstGeom prst="rect">
            <a:avLst/>
          </a:prstGeom>
          <a:gradFill rotWithShape="0">
            <a:gsLst>
              <a:gs pos="0">
                <a:srgbClr val="0ad01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9"/>
          <p:cNvSpPr/>
          <p:nvPr/>
        </p:nvSpPr>
        <p:spPr>
          <a:xfrm>
            <a:off x="5114880" y="5051520"/>
            <a:ext cx="787320" cy="787320"/>
          </a:xfrm>
          <a:prstGeom prst="rect">
            <a:avLst/>
          </a:prstGeom>
          <a:gradFill rotWithShape="0">
            <a:gsLst>
              <a:gs pos="0">
                <a:srgbClr val="0ad01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0"/>
          <p:cNvSpPr/>
          <p:nvPr/>
        </p:nvSpPr>
        <p:spPr>
          <a:xfrm>
            <a:off x="5114880" y="4035600"/>
            <a:ext cx="787320" cy="787320"/>
          </a:xfrm>
          <a:prstGeom prst="rect">
            <a:avLst/>
          </a:prstGeom>
          <a:gradFill rotWithShape="0">
            <a:gsLst>
              <a:gs pos="0">
                <a:srgbClr val="0ad01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1"/>
          <p:cNvSpPr/>
          <p:nvPr/>
        </p:nvSpPr>
        <p:spPr>
          <a:xfrm>
            <a:off x="4054320" y="957240"/>
            <a:ext cx="785880" cy="785880"/>
          </a:xfrm>
          <a:prstGeom prst="rect">
            <a:avLst/>
          </a:prstGeom>
          <a:gradFill rotWithShape="0">
            <a:gsLst>
              <a:gs pos="0">
                <a:srgbClr val="0ad01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2"/>
          <p:cNvSpPr/>
          <p:nvPr/>
        </p:nvSpPr>
        <p:spPr>
          <a:xfrm>
            <a:off x="4054320" y="5051520"/>
            <a:ext cx="785880" cy="787320"/>
          </a:xfrm>
          <a:prstGeom prst="rect">
            <a:avLst/>
          </a:prstGeom>
          <a:gradFill rotWithShape="0">
            <a:gsLst>
              <a:gs pos="0">
                <a:srgbClr val="0ad01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77"/>
          <p:cNvGrpSpPr/>
          <p:nvPr/>
        </p:nvGrpSpPr>
        <p:grpSpPr>
          <a:xfrm>
            <a:off x="3003480" y="6858000"/>
            <a:ext cx="2957760" cy="2846520"/>
            <a:chOff x="3003480" y="6858000"/>
            <a:chExt cx="2957760" cy="2846520"/>
          </a:xfrm>
        </p:grpSpPr>
        <p:grpSp>
          <p:nvGrpSpPr>
            <p:cNvPr id="112" name="Group 78"/>
            <p:cNvGrpSpPr/>
            <p:nvPr/>
          </p:nvGrpSpPr>
          <p:grpSpPr>
            <a:xfrm>
              <a:off x="3051360" y="6858000"/>
              <a:ext cx="2909880" cy="2842200"/>
              <a:chOff x="3051360" y="6858000"/>
              <a:chExt cx="2909880" cy="2842200"/>
            </a:xfrm>
          </p:grpSpPr>
          <p:sp>
            <p:nvSpPr>
              <p:cNvPr id="113" name="矩形 63"/>
              <p:cNvSpPr/>
              <p:nvPr/>
            </p:nvSpPr>
            <p:spPr>
              <a:xfrm>
                <a:off x="3051360" y="8914320"/>
                <a:ext cx="785880" cy="785880"/>
              </a:xfrm>
              <a:prstGeom prst="rect">
                <a:avLst/>
              </a:prstGeom>
              <a:gradFill rotWithShape="0">
                <a:gsLst>
                  <a:gs pos="0">
                    <a:srgbClr val="0ad013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矩形 66"/>
              <p:cNvSpPr/>
              <p:nvPr/>
            </p:nvSpPr>
            <p:spPr>
              <a:xfrm>
                <a:off x="3051360" y="6858000"/>
                <a:ext cx="785880" cy="785880"/>
              </a:xfrm>
              <a:prstGeom prst="rect">
                <a:avLst/>
              </a:prstGeom>
              <a:gradFill rotWithShape="0">
                <a:gsLst>
                  <a:gs pos="0">
                    <a:srgbClr val="0ad013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矩形 67"/>
              <p:cNvSpPr/>
              <p:nvPr/>
            </p:nvSpPr>
            <p:spPr>
              <a:xfrm>
                <a:off x="4125600" y="6858000"/>
                <a:ext cx="785880" cy="785880"/>
              </a:xfrm>
              <a:prstGeom prst="rect">
                <a:avLst/>
              </a:prstGeom>
              <a:gradFill rotWithShape="0">
                <a:gsLst>
                  <a:gs pos="0">
                    <a:srgbClr val="0ad013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矩形 68"/>
              <p:cNvSpPr/>
              <p:nvPr/>
            </p:nvSpPr>
            <p:spPr>
              <a:xfrm>
                <a:off x="5175360" y="6858000"/>
                <a:ext cx="785880" cy="785880"/>
              </a:xfrm>
              <a:prstGeom prst="rect">
                <a:avLst/>
              </a:prstGeom>
              <a:gradFill rotWithShape="0">
                <a:gsLst>
                  <a:gs pos="0">
                    <a:srgbClr val="0ad013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矩形 69"/>
              <p:cNvSpPr/>
              <p:nvPr/>
            </p:nvSpPr>
            <p:spPr>
              <a:xfrm>
                <a:off x="5175360" y="8914320"/>
                <a:ext cx="785880" cy="785880"/>
              </a:xfrm>
              <a:prstGeom prst="rect">
                <a:avLst/>
              </a:prstGeom>
              <a:gradFill rotWithShape="0">
                <a:gsLst>
                  <a:gs pos="0">
                    <a:srgbClr val="0ad013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矩形 70"/>
              <p:cNvSpPr/>
              <p:nvPr/>
            </p:nvSpPr>
            <p:spPr>
              <a:xfrm>
                <a:off x="5175360" y="7898400"/>
                <a:ext cx="785880" cy="785880"/>
              </a:xfrm>
              <a:prstGeom prst="rect">
                <a:avLst/>
              </a:prstGeom>
              <a:gradFill rotWithShape="0">
                <a:gsLst>
                  <a:gs pos="0">
                    <a:srgbClr val="0ad013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矩形 72"/>
              <p:cNvSpPr/>
              <p:nvPr/>
            </p:nvSpPr>
            <p:spPr>
              <a:xfrm>
                <a:off x="4113360" y="8914320"/>
                <a:ext cx="785880" cy="785880"/>
              </a:xfrm>
              <a:prstGeom prst="rect">
                <a:avLst/>
              </a:prstGeom>
              <a:gradFill rotWithShape="0">
                <a:gsLst>
                  <a:gs pos="0">
                    <a:srgbClr val="0ad013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矩形 135"/>
            <p:cNvSpPr/>
            <p:nvPr/>
          </p:nvSpPr>
          <p:spPr>
            <a:xfrm>
              <a:off x="3003480" y="8918640"/>
              <a:ext cx="785880" cy="785880"/>
            </a:xfrm>
            <a:prstGeom prst="rect">
              <a:avLst/>
            </a:prstGeom>
            <a:gradFill rotWithShape="0">
              <a:gsLst>
                <a:gs pos="0">
                  <a:srgbClr val="0ad01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矩形 138"/>
          <p:cNvSpPr/>
          <p:nvPr/>
        </p:nvSpPr>
        <p:spPr>
          <a:xfrm>
            <a:off x="3003480" y="1076400"/>
            <a:ext cx="785880" cy="785880"/>
          </a:xfrm>
          <a:prstGeom prst="rect">
            <a:avLst/>
          </a:prstGeom>
          <a:gradFill rotWithShape="0">
            <a:gsLst>
              <a:gs pos="0">
                <a:srgbClr val="f6882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9"/>
          <p:cNvSpPr/>
          <p:nvPr/>
        </p:nvSpPr>
        <p:spPr>
          <a:xfrm>
            <a:off x="3003480" y="5170320"/>
            <a:ext cx="785880" cy="785880"/>
          </a:xfrm>
          <a:prstGeom prst="rect">
            <a:avLst/>
          </a:prstGeom>
          <a:gradFill rotWithShape="0">
            <a:gsLst>
              <a:gs pos="0">
                <a:srgbClr val="f6882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0"/>
          <p:cNvSpPr/>
          <p:nvPr/>
        </p:nvSpPr>
        <p:spPr>
          <a:xfrm>
            <a:off x="5127480" y="1076400"/>
            <a:ext cx="785880" cy="785880"/>
          </a:xfrm>
          <a:prstGeom prst="rect">
            <a:avLst/>
          </a:prstGeom>
          <a:gradFill rotWithShape="0">
            <a:gsLst>
              <a:gs pos="0">
                <a:srgbClr val="f6882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41"/>
          <p:cNvSpPr/>
          <p:nvPr/>
        </p:nvSpPr>
        <p:spPr>
          <a:xfrm>
            <a:off x="5127480" y="2082960"/>
            <a:ext cx="785880" cy="785520"/>
          </a:xfrm>
          <a:prstGeom prst="rect">
            <a:avLst/>
          </a:prstGeom>
          <a:gradFill rotWithShape="0">
            <a:gsLst>
              <a:gs pos="0">
                <a:srgbClr val="f6882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42"/>
          <p:cNvSpPr/>
          <p:nvPr/>
        </p:nvSpPr>
        <p:spPr>
          <a:xfrm>
            <a:off x="3003480" y="3114720"/>
            <a:ext cx="785880" cy="785880"/>
          </a:xfrm>
          <a:prstGeom prst="rect">
            <a:avLst/>
          </a:prstGeom>
          <a:gradFill rotWithShape="0">
            <a:gsLst>
              <a:gs pos="0">
                <a:srgbClr val="f6882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3"/>
          <p:cNvSpPr/>
          <p:nvPr/>
        </p:nvSpPr>
        <p:spPr>
          <a:xfrm>
            <a:off x="4078440" y="3114720"/>
            <a:ext cx="785520" cy="785880"/>
          </a:xfrm>
          <a:prstGeom prst="rect">
            <a:avLst/>
          </a:prstGeom>
          <a:gradFill rotWithShape="0">
            <a:gsLst>
              <a:gs pos="0">
                <a:srgbClr val="f6882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4"/>
          <p:cNvSpPr/>
          <p:nvPr/>
        </p:nvSpPr>
        <p:spPr>
          <a:xfrm>
            <a:off x="5127480" y="3114720"/>
            <a:ext cx="785880" cy="785880"/>
          </a:xfrm>
          <a:prstGeom prst="rect">
            <a:avLst/>
          </a:prstGeom>
          <a:gradFill rotWithShape="0">
            <a:gsLst>
              <a:gs pos="0">
                <a:srgbClr val="f6882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45"/>
          <p:cNvSpPr/>
          <p:nvPr/>
        </p:nvSpPr>
        <p:spPr>
          <a:xfrm>
            <a:off x="5127480" y="5170320"/>
            <a:ext cx="785880" cy="785880"/>
          </a:xfrm>
          <a:prstGeom prst="rect">
            <a:avLst/>
          </a:prstGeom>
          <a:gradFill rotWithShape="0">
            <a:gsLst>
              <a:gs pos="0">
                <a:srgbClr val="f6882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46"/>
          <p:cNvSpPr/>
          <p:nvPr/>
        </p:nvSpPr>
        <p:spPr>
          <a:xfrm>
            <a:off x="3003480" y="4141800"/>
            <a:ext cx="785880" cy="785880"/>
          </a:xfrm>
          <a:prstGeom prst="rect">
            <a:avLst/>
          </a:prstGeom>
          <a:gradFill rotWithShape="0">
            <a:gsLst>
              <a:gs pos="0">
                <a:srgbClr val="f6882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7"/>
          <p:cNvSpPr/>
          <p:nvPr/>
        </p:nvSpPr>
        <p:spPr>
          <a:xfrm>
            <a:off x="4065480" y="1076400"/>
            <a:ext cx="785880" cy="785880"/>
          </a:xfrm>
          <a:prstGeom prst="rect">
            <a:avLst/>
          </a:prstGeom>
          <a:gradFill rotWithShape="0">
            <a:gsLst>
              <a:gs pos="0">
                <a:srgbClr val="f6882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48"/>
          <p:cNvSpPr/>
          <p:nvPr/>
        </p:nvSpPr>
        <p:spPr>
          <a:xfrm>
            <a:off x="4065480" y="5170320"/>
            <a:ext cx="785880" cy="785880"/>
          </a:xfrm>
          <a:prstGeom prst="rect">
            <a:avLst/>
          </a:prstGeom>
          <a:gradFill rotWithShape="0">
            <a:gsLst>
              <a:gs pos="0">
                <a:srgbClr val="f6882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50"/>
          <p:cNvSpPr/>
          <p:nvPr/>
        </p:nvSpPr>
        <p:spPr>
          <a:xfrm>
            <a:off x="4282920" y="1076400"/>
            <a:ext cx="785880" cy="785880"/>
          </a:xfrm>
          <a:prstGeom prst="rect">
            <a:avLst/>
          </a:prstGeom>
          <a:gradFill rotWithShape="0">
            <a:gsLst>
              <a:gs pos="0">
                <a:srgbClr val="e739d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51"/>
          <p:cNvSpPr/>
          <p:nvPr/>
        </p:nvSpPr>
        <p:spPr>
          <a:xfrm>
            <a:off x="4282920" y="5170320"/>
            <a:ext cx="785880" cy="785880"/>
          </a:xfrm>
          <a:prstGeom prst="rect">
            <a:avLst/>
          </a:prstGeom>
          <a:gradFill rotWithShape="0">
            <a:gsLst>
              <a:gs pos="0">
                <a:srgbClr val="e739d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52"/>
          <p:cNvSpPr/>
          <p:nvPr/>
        </p:nvSpPr>
        <p:spPr>
          <a:xfrm>
            <a:off x="4282920" y="2100240"/>
            <a:ext cx="785880" cy="785880"/>
          </a:xfrm>
          <a:prstGeom prst="rect">
            <a:avLst/>
          </a:prstGeom>
          <a:gradFill rotWithShape="0">
            <a:gsLst>
              <a:gs pos="0">
                <a:srgbClr val="e739d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53"/>
          <p:cNvSpPr/>
          <p:nvPr/>
        </p:nvSpPr>
        <p:spPr>
          <a:xfrm>
            <a:off x="4282920" y="3124080"/>
            <a:ext cx="785880" cy="785880"/>
          </a:xfrm>
          <a:prstGeom prst="rect">
            <a:avLst/>
          </a:prstGeom>
          <a:gradFill rotWithShape="0">
            <a:gsLst>
              <a:gs pos="0">
                <a:srgbClr val="e739d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54"/>
          <p:cNvSpPr/>
          <p:nvPr/>
        </p:nvSpPr>
        <p:spPr>
          <a:xfrm>
            <a:off x="4282920" y="4146480"/>
            <a:ext cx="785880" cy="787320"/>
          </a:xfrm>
          <a:prstGeom prst="rect">
            <a:avLst/>
          </a:prstGeom>
          <a:gradFill rotWithShape="0">
            <a:gsLst>
              <a:gs pos="0">
                <a:srgbClr val="e739d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"/>
          <p:cNvSpPr/>
          <p:nvPr/>
        </p:nvSpPr>
        <p:spPr>
          <a:xfrm>
            <a:off x="2964600" y="120600"/>
            <a:ext cx="342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倒计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84037 E">
                                      <p:cBhvr>
                                        <p:cTn id="6" dur="3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84037 E">
                                      <p:cBhvr>
                                        <p:cTn id="8" dur="3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84037 E">
                                      <p:cBhvr>
                                        <p:cTn id="10" dur="3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84037 E">
                                      <p:cBhvr>
                                        <p:cTn id="12" dur="3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84037 E">
                                      <p:cBhvr>
                                        <p:cTn id="14" dur="3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84037 E">
                                      <p:cBhvr>
                                        <p:cTn id="16" dur="3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84037 E">
                                      <p:cBhvr>
                                        <p:cTn id="18" dur="3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84037 E">
                                      <p:cBhvr>
                                        <p:cTn id="20" dur="3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84037 E">
                                      <p:cBhvr>
                                        <p:cTn id="22" dur="3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84037 E">
                                      <p:cBhvr>
                                        <p:cTn id="24" dur="3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84037 E">
                                      <p:cBhvr>
                                        <p:cTn id="26" dur="3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0035 0.003 L -0.74357 -0.25444 E">
                                      <p:cBhvr>
                                        <p:cTn id="51" dur="300" fill="hold"/>
                                        <p:tgtEl>
                                          <p:spTgt spid="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11718 0.003 L -0.46371 -0.48259 E">
                                      <p:cBhvr>
                                        <p:cTn id="53" dur="300" fill="hold"/>
                                        <p:tgtEl>
                                          <p:spTgt spid="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11459 0.003 L 0.26753 -0.71073 E">
                                      <p:cBhvr>
                                        <p:cTn id="55" dur="300" fill="hold"/>
                                        <p:tgtEl>
                                          <p:spTgt spid="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0035 -0.14325 L -0.74357 -0.09066 E">
                                      <p:cBhvr>
                                        <p:cTn id="57" dur="300" fill="hold"/>
                                        <p:tgtEl>
                                          <p:spTgt spid="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0035 -0.14694 L 0.97309 -0.13033 E">
                                      <p:cBhvr>
                                        <p:cTn id="59" dur="300" fill="hold"/>
                                        <p:tgtEl>
                                          <p:spTgt spid="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11718 -0.14694 L 0.65226 -0.35847 E">
                                      <p:cBhvr>
                                        <p:cTn id="61" dur="3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11459 0.003 L 0.62586 -0.47866 E">
                                      <p:cBhvr>
                                        <p:cTn id="63" dur="3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0035 0.003 L -0.14271 0.63322 E">
                                      <p:cBhvr>
                                        <p:cTn id="65" dur="3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11718 0.003 L 0.13716 0.63322 E">
                                      <p:cBhvr>
                                        <p:cTn id="67" dur="3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11459 0.003 L 0.62586 0.51927 E">
                                      <p:cBhvr>
                                        <p:cTn id="69" dur="3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 0 L 0.77257 0 E">
                                      <p:cBhvr>
                                        <p:cTn id="71" dur="3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57093E-006 L 4.16667E-006 0.91235 E">
                                      <p:cBhvr>
                                        <p:cTn id="74" dur="3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1736 -0.06275 L -0.53785 -0.61408 E">
                                      <p:cBhvr>
                                        <p:cTn id="95" dur="3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1736 -0.209 L -0.81285 -0.24129 E">
                                      <p:cBhvr>
                                        <p:cTn id="97" dur="3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974 -0.06275 L 0.14531 -0.72803 E">
                                      <p:cBhvr>
                                        <p:cTn id="99" dur="3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974 -0.209 L 0.75764 -0.81153 E">
                                      <p:cBhvr>
                                        <p:cTn id="101" dur="3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1736 -0.21269 L 0.90399 -0.5474 E">
                                      <p:cBhvr>
                                        <p:cTn id="103" dur="3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1 -0.21269 L -0.32934 1.09135 E">
                                      <p:cBhvr>
                                        <p:cTn id="105" dur="3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974 -0.06275 L 0.91788 -0.22584 E">
                                      <p:cBhvr>
                                        <p:cTn id="107" dur="3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974 -0.06274 L 0.83194 0.08766 E">
                                      <p:cBhvr>
                                        <p:cTn id="109" dur="3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974 -0.21384 L -1.05642 0.27036 E">
                                      <p:cBhvr>
                                        <p:cTn id="111" dur="3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18 L 0.00781 0.40231 E">
                                      <p:cBhvr>
                                        <p:cTn id="114" dur="3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 0.01384 L 0.0052 -0.55663 E">
                                      <p:cBhvr>
                                        <p:cTn id="116" dur="3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158 -0.00761 L 0.31736 -0.50381 E">
                                      <p:cBhvr>
                                        <p:cTn id="141" dur="3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158 -0.00762 L -0.71267 0.04175 E">
                                      <p:cBhvr>
                                        <p:cTn id="143" dur="3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38889E-006 4.02537E-006 L 0.59757 -0.60254 E">
                                      <p:cBhvr>
                                        <p:cTn id="145" dur="3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 0 L 0.94427 0 E">
                                      <p:cBhvr>
                                        <p:cTn id="147" dur="3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158 -0.15756 L -0.97031 -0.0376 E">
                                      <p:cBhvr>
                                        <p:cTn id="149" dur="3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10156 -0.15756 L -0.94739 -0.15156 E">
                                      <p:cBhvr>
                                        <p:cTn id="151" dur="3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38889E-006 2.53749E-007 L -0.94757 -0.32849 E">
                                      <p:cBhvr>
                                        <p:cTn id="153" dur="3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9896 -0.00762 L 0.29878 0.49804 E">
                                      <p:cBhvr>
                                        <p:cTn id="155" dur="3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 0 L 0.94427 0 E">
                                      <p:cBhvr>
                                        <p:cTn id="157" dur="3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10035 -0.00761 L 0.41337 -0.50381 E">
                                      <p:cBhvr>
                                        <p:cTn id="159" dur="3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10035 -0.00762 L -0.77326 0.49804 E">
                                      <p:cBhvr>
                                        <p:cTn id="161" dur="3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1.71857E-006 L 0.68664 1.71857E-006 E">
                                      <p:cBhvr>
                                        <p:cTn id="164" dur="3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201"/>
                            </p:stCondLst>
                            <p:childTnLst>
                              <p:par>
                                <p:cTn id="189" nodeType="afterEffect" fill="hold" presetClass="path" presetID="54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1458 -0.02492 C 0.000869999999999999 -0.00923 -0.04722 0.00669 -0.06389 0.00669 C -0.17014 0.00669 -0.27934 -0.23945 -0.27934 -0.48559 C -0.27934 -0.36148 -0.33403 -0.23945 -0.38542 -0.23945 C -0.4401 -0.23945 -0.49184 -0.36332 -0.49184 -0.48559 C -0.49184 -0.42422 -0.5191 -0.36148 -0.54635 -0.36148 C -0.57378 -0.36148 -0.60104 -0.42261 -0.60104 -0.48559 C -0.60104 -0.45398 -0.61476 -0.42422 -0.6283 -0.42422 C -0.64201 -0.42422 -0.65573 -0.45583 -0.65573 -0.48559 C -0.65573 -0.46967 -0.66285 -0.45398 -0.66927 -0.45398 C -0.67292 -0.45398 -0.68299 -0.46967 -0.68299 -0.48559 C -0.68299 -0.47751 -0.68646 -0.46967 -0.6901 -0.46967 C -0.6901 -0.47174 -0.69722 -0.47751 -0.69722 -0.48559 C -0.69722 -0.48143 -0.69722 -0.47751 -0.70069 -0.47751 C -0.70069 -0.47959 -0.70434 -0.48166 -0.70434 -0.48559 C -0.70434 -0.48351 -0.70434 -0.48143 -0.70434 -0.47959 C -0.70781 -0.47959 -0.70781 -0.48166 -0.70781 -0.48374 C -0.71146 -0.48374 -0.71146 -0.48166 -0.71146 -0.47959 C -0.7151 -0.47959 -0.7151 -0.48166 -0.7151 -0.48374 E">
                                      <p:cBhvr>
                                        <p:cTn id="190" dur="3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54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5E-006 8.8812E-007 C -0.01268 -0.01315 -0.05608 -0.0263 -0.07084 -0.0263 C -0.16702 -0.0263 -0.26545 0.17993 -0.26545 0.38639 C -0.26545 0.28212 -0.31476 0.17993 -0.36146 0.17993 C -0.41059 0.17993 -0.45712 0.28351 -0.45712 0.38639 C -0.45712 0.33495 -0.48177 0.28212 -0.50643 0.28212 C -0.53091 0.28212 -0.55556 0.3331 -0.55556 0.38639 C -0.55556 0.3594 -0.56788 0.33495 -0.58021 0.33495 C -0.59254 0.33495 -0.60486 0.36124 -0.60486 0.38639 C -0.60486 0.37255 -0.61129 0.3594 -0.61719 0.3594 C -0.62049 0.3594 -0.62986 0.37255 -0.62986 0.38639 C -0.62986 0.37947 -0.63282 0.37255 -0.63594 0.37255 C -0.63594 0.37439 -0.64236 0.37947 -0.64236 0.38639 C -0.64236 0.3827 -0.64236 0.37947 -0.64584 0.37947 C -0.64584 0.38131 -0.64896 0.38316 -0.64896 0.38639 C -0.64896 0.38454 -0.64896 0.3827 -0.64896 0.38131 C -0.65226 0.38131 -0.65226 0.38316 -0.65226 0.38454 C -0.65538 0.38454 -0.65538 0.38316 -0.65538 0.38131 C -0.65851 0.38131 -0.65851 0.38316 -0.65851 0.38454 E">
                                      <p:cBhvr>
                                        <p:cTn id="192" dur="3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54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10034 -0.02492 C -0.08958 -0.0346 -0.05104 -0.04429 -0.03784 -0.04429 C 0.04705 -0.04429 0.13438 0.10865 0.13438 0.26182 C 0.13438 0.18454 0.17795 0.10865 0.21927 0.10865 C 0.26285 0.10865 0.30417 0.18593 0.30417 0.26182 C 0.30417 0.22376 0.32604 0.18454 0.34792 0.18454 C 0.36962 0.18454 0.3915 0.2226 0.3915 0.26182 C 0.3915 0.24221 0.40243 0.22376 0.41337 0.22376 C 0.42414 0.22376 0.43507 0.24313 0.43507 0.26182 C 0.43507 0.2519 0.4408 0.24221 0.44601 0.24221 C 0.44896 0.24221 0.45695 0.2519 0.45695 0.26182 C 0.45695 0.25674 0.45973 0.2519 0.46268 0.2519 C 0.46268 0.25328 0.46841 0.25674 0.46841 0.26182 C 0.46841 0.25905 0.46841 0.25674 0.47118 0.25674 C 0.47118 0.25813 0.47396 0.25928 0.47396 0.26182 C 0.47396 0.26044 0.47396 0.25905 0.47396 0.25813 C 0.47691 0.25813 0.47691 0.25928 0.47691 0.26067 C 0.47969 0.26067 0.47969 0.25928 0.47969 0.25813 C 0.48264 0.25813 0.48264 0.25928 0.48264 0.26067 E">
                                      <p:cBhvr>
                                        <p:cTn id="194" dur="3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54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10034 -0.17117 C -0.08628 -0.18731 -0.03663 -0.20323 -0.01944 -0.20323 C 0.09063 -0.20323 0.20348 0.04775 0.20348 0.29873 C 0.20348 0.17209 0.26007 0.04775 0.31337 0.04775 C 0.36997 0.04775 0.42344 0.17416 0.42344 0.29873 C 0.42344 0.23621 0.45157 0.17209 0.47986 0.17209 C 0.50816 0.17209 0.53629 0.23437 0.53629 0.29873 C 0.53629 0.26643 0.55052 0.23621 0.56459 0.23621 C 0.57865 0.23621 0.59289 0.26828 0.59289 0.29873 C 0.59289 0.28258 0.60018 0.26643 0.60695 0.26643 C 0.61059 0.26643 0.62118 0.28258 0.62118 0.29873 C 0.62118 0.29066 0.62483 0.28258 0.62848 0.28258 C 0.62848 0.28466 0.63577 0.29066 0.63577 0.29873 C 0.63577 0.29435 0.63577 0.29066 0.63959 0.29066 C 0.63959 0.29273 0.64323 0.29481 0.64323 0.29873 C 0.64323 0.29642 0.64323 0.29435 0.64323 0.29273 C 0.64688 0.29273 0.64688 0.29481 0.64688 0.29688 C 0.65052 0.29688 0.65052 0.29481 0.65052 0.29273 C 0.65434 0.29273 0.65434 0.29481 0.65434 0.29688 E">
                                      <p:cBhvr>
                                        <p:cTn id="196" dur="3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54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1458 -0.17486 C -0.00399 -0.18247 -0.0691 -0.18985 -0.09149 -0.18985 C -0.23542 -0.18985 -0.38299 -0.07082 -0.38299 0.04821 C -0.38299 -0.01199 -0.45694 -0.07082 -0.52674 -0.07082 C -0.60069 -0.07082 -0.67066 -0.01084 -0.67066 0.04821 C -0.67066 0.01846 -0.70746 -0.01199 -0.74444 -0.01199 C -0.78142 -0.01199 -0.8184 0.01776 -0.8184 0.04821 C -0.8184 0.03299 -0.8368 0.01846 -0.85538 0.01846 C -0.87378 0.01846 -0.89236 0.03368 -0.89236 0.04821 C -0.89236 0.0406 -0.90191 0.03299 -0.91076 0.03299 C -0.91562 0.03299 -0.92934 0.0406 -0.92934 0.04821 C -0.92934 0.04429 -0.93403 0.0406 -0.93889 0.0406 C -0.93889 0.04152 -0.94861 0.04429 -0.94861 0.04821 C -0.94861 0.04614 -0.94861 0.04429 -0.9533 0.04429 C -0.9533 0.04521 -0.95816 0.04637 -0.95816 0.04821 C -0.95816 0.04706 -0.95816 0.04614 -0.95816 0.04521 C -0.96302 0.04521 -0.96302 0.04637 -0.96302 0.04729 C -0.96788 0.04729 -0.96788 0.04637 -0.96788 0.04521 C -0.97274 0.04521 -0.97274 0.04637 -0.97274 0.04729 E">
                                      <p:cBhvr>
                                        <p:cTn id="198" dur="3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54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10295 -0.17486 C -0.08837 -0.19331 -0.03681 -0.21177 -0.01892 -0.21177 C 0.09531 -0.21177 0.21267 0.0782 0.21267 0.36839 C 0.21267 0.22214 0.27118 0.0782 0.32674 0.0782 C 0.38542 0.0782 0.4408 0.22445 0.4408 0.36839 C 0.4408 0.29619 0.47014 0.22214 0.49948 0.22214 C 0.52882 0.22214 0.55816 0.29411 0.55816 0.36839 C 0.55816 0.33125 0.57292 0.29619 0.5875 0.29619 C 0.60226 0.29619 0.61684 0.33333 0.61684 0.36839 C 0.61684 0.34971 0.62448 0.33125 0.6316 0.33125 C 0.63542 0.33125 0.64618 0.34971 0.64618 0.36839 C 0.64618 0.35893 0.65 0.34971 0.65382 0.34971 C 0.65382 0.35224 0.66146 0.35893 0.66146 0.36839 C 0.66146 0.36355 0.66146 0.35893 0.66528 0.35893 C 0.66528 0.36147 0.6691 0.36378 0.6691 0.36839 C 0.6691 0.36585 0.6691 0.36355 0.6691 0.36147 C 0.67292 0.36147 0.67292 0.36378 0.67292 0.36632 C 0.67674 0.36632 0.67674 0.36378 0.67674 0.36147 C 0.68073 0.36147 0.68073 0.36378 0.68073 0.36632 E">
                                      <p:cBhvr>
                                        <p:cTn id="200" dur="3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54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10034 -0.02491 C -0.10243 0.00393 -0.1092 0.03276 -0.11163 0.03276 C -0.12673 0.03276 -0.14218 -0.41845 -0.14218 -0.86966 C -0.14218 -0.64198 -0.15 -0.41845 -0.15729 -0.41845 C -0.1651 -0.41845 -0.17239 -0.6459 -0.17239 -0.86966 C -0.17239 -0.75732 -0.17621 -0.64198 -0.18021 -0.64198 C -0.18402 -0.64198 -0.18784 -0.75432 -0.18784 -0.86966 C -0.18784 -0.81199 -0.18975 -0.75732 -0.19184 -0.75732 C -0.19375 -0.75732 -0.19566 -0.81499 -0.19566 -0.86966 C -0.19566 -0.84083 -0.1967 -0.81199 -0.19757 -0.81199 C -0.19809 -0.81199 -0.19948 -0.84083 -0.19948 -0.86966 C -0.19948 -0.85513 -0.2 -0.84083 -0.20052 -0.84083 C -0.20052 -0.84452 -0.20156 -0.85513 -0.20156 -0.86966 C -0.20156 -0.86205 -0.20156 -0.85513 -0.20208 -0.85513 C -0.20208 -0.85882 -0.2026 -0.86274 -0.2026 -0.86966 C -0.2026 -0.86574 -0.2026 -0.86205 -0.2026 -0.85882 C -0.20312 -0.85882 -0.20312 -0.86274 -0.20312 -0.86643 C -0.20364 -0.86643 -0.20364 -0.86274 -0.20364 -0.85882 C -0.20399 -0.85882 -0.20399 -0.86274 -0.20399 -0.86643 E">
                                      <p:cBhvr>
                                        <p:cTn id="202" dur="3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54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10034 -0.02491 C -0.09114 -0.04475 -0.05833 -0.06459 -0.04705 -0.06459 C 0.02535 -0.06459 0.09983 0.24706 0.09983 0.55894 C 0.09983 0.40162 0.13698 0.24706 0.17223 0.24706 C 0.20955 0.24706 0.24462 0.40415 0.24462 0.55894 C 0.24462 0.48143 0.2632 0.40162 0.28195 0.40162 C 0.30052 0.40162 0.3191 0.47913 0.3191 0.55894 C 0.3191 0.51903 0.32848 0.48143 0.33768 0.48143 C 0.34705 0.48143 0.35625 0.52111 0.35625 0.55894 C 0.35625 0.53887 0.36111 0.51903 0.36563 0.51903 C 0.36806 0.51903 0.375 0.53887 0.375 0.55894 C 0.375 0.54879 0.37743 0.53887 0.37986 0.53887 C 0.37986 0.54141 0.38473 0.54879 0.38473 0.55894 C 0.38473 0.55364 0.38473 0.54879 0.38716 0.54879 C 0.38716 0.55156 0.38959 0.5541 0.38959 0.55894 C 0.38959 0.55617 0.38959 0.55364 0.38959 0.55156 C 0.39202 0.55156 0.39202 0.5541 0.39202 0.55663 C 0.39445 0.55663 0.39445 0.5541 0.39445 0.55156 C 0.39688 0.55156 0.39688 0.5541 0.39688 0.55663 E">
                                      <p:cBhvr>
                                        <p:cTn id="204" dur="3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54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1458 -0.17417 C 0.01684 -0.19516 0.02535 -0.21615 0.0283 -0.21615 C 0.04705 -0.21615 0.06632 0.11326 0.06632 0.44291 C 0.06632 0.27658 0.07587 0.11326 0.08507 0.11326 C 0.09462 0.11326 0.10382 0.27935 0.10382 0.44291 C 0.10382 0.36078 0.10868 0.27658 0.11337 0.27658 C 0.11823 0.27658 0.12309 0.35848 0.12309 0.44291 C 0.12309 0.40069 0.12552 0.36078 0.12778 0.36078 C 0.13021 0.36078 0.13264 0.403 0.13264 0.44291 C 0.13264 0.42168 0.13386 0.40069 0.13507 0.40069 C 0.13576 0.40069 0.1375 0.42168 0.1375 0.44291 C 0.1375 0.43229 0.1382 0.42168 0.13872 0.42168 C 0.13872 0.42445 0.13993 0.43229 0.13993 0.44291 C 0.13993 0.43737 0.13993 0.43229 0.14063 0.43229 C 0.14063 0.43506 0.14132 0.43783 0.14132 0.44291 C 0.14132 0.44014 0.14132 0.43737 0.14132 0.43506 C 0.14184 0.43506 0.14184 0.43783 0.14184 0.4406 C 0.14254 0.4406 0.14254 0.43783 0.14254 0.43506 C 0.14323 0.43506 0.14323 0.43783 0.14323 0.4406 E">
                                      <p:cBhvr>
                                        <p:cTn id="206" dur="3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54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10156 -0.02491 C -0.08698 -0.01868 -0.03524 -0.01245 -0.01736 -0.01245 C 0.09705 -0.01245 0.21459 -0.10865 0.21459 -0.20461 C 0.21459 -0.1564 0.27327 -0.10865 0.32882 -0.10865 C 0.38768 -0.10865 0.44323 -0.15709 0.44323 -0.20461 C 0.44323 -0.18085 0.47257 -0.1564 0.50209 -0.1564 C 0.53143 -0.1564 0.56077 -0.18016 0.56077 -0.20461 C 0.56077 -0.19238 0.57552 -0.18085 0.59011 -0.18085 C 0.60486 -0.18085 0.61962 -0.19308 0.61962 -0.20461 C 0.61962 -0.19861 0.62726 -0.19238 0.6342 -0.19238 C 0.63802 -0.19238 0.64896 -0.19861 0.64896 -0.20461 C 0.64896 -0.20161 0.65278 -0.19861 0.6566 -0.19861 C 0.6566 -0.1993 0.66424 -0.20161 0.66424 -0.20461 C 0.66424 -0.20323 0.66424 -0.20161 0.66806 -0.20161 C 0.66806 -0.20253 0.67188 -0.20323 0.67188 -0.20461 C 0.67188 -0.20392 0.67188 -0.20323 0.67188 -0.20253 C 0.6757 -0.20253 0.6757 -0.20323 0.6757 -0.20415 C 0.67952 -0.20415 0.67952 -0.20323 0.67952 -0.20253 C 0.68351 -0.20253 0.68351 -0.20323 0.68351 -0.20415 E">
                                      <p:cBhvr>
                                        <p:cTn id="208" dur="3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54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10156 -0.02491 C -0.10468 -0.04129 -0.1151 -0.05744 -0.11875 -0.05744 C -0.14201 -0.05744 -0.1658 0.19723 -0.1658 0.45214 C -0.1658 0.32365 -0.1776 0.19723 -0.18889 0.19723 C -0.20087 0.19723 -0.21215 0.32572 -0.21215 0.45214 C -0.21215 0.3887 -0.21805 0.32365 -0.22413 0.32365 C -0.23003 0.32365 -0.23593 0.38685 -0.23593 0.45214 C -0.23593 0.41938 -0.23889 0.3887 -0.24201 0.3887 C -0.24496 0.3887 -0.24791 0.42122 -0.24791 0.45214 C -0.24791 0.43576 -0.24948 0.41938 -0.25087 0.41938 C -0.25173 0.41938 -0.25382 0.43576 -0.25382 0.45214 C -0.25382 0.44383 -0.25468 0.43576 -0.25538 0.43576 C -0.25538 0.43783 -0.25694 0.44383 -0.25694 0.45214 C -0.25694 0.44775 -0.25694 0.44383 -0.25781 0.44383 C -0.25781 0.44591 -0.2585 0.44821 -0.2585 0.45214 C -0.2585 0.44983 -0.2585 0.44775 -0.2585 0.44591 C -0.25937 0.44591 -0.25937 0.44821 -0.25937 0.45029 C -0.26007 0.45029 -0.26007 0.44821 -0.26007 0.44591 C -0.26076 0.44591 -0.26076 0.44821 -0.26076 0.45029 E">
                                      <p:cBhvr>
                                        <p:cTn id="210" dur="3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201"/>
                            </p:stCondLst>
                            <p:childTnLst>
                              <p:par>
                                <p:cTn id="2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7209E-006 L -0.68663 -2.57209E-006 E">
                                      <p:cBhvr>
                                        <p:cTn id="213" dur="3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1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502"/>
                            </p:stCondLst>
                            <p:childTnLst>
                              <p:par>
                                <p:cTn id="226" nodeType="after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5E-006 4.02537E-006 L 0.48871 1.08327 E">
                                      <p:cBhvr>
                                        <p:cTn id="227" dur="3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12535 -0.02492 L -0.30833 0.57739 E">
                                      <p:cBhvr>
                                        <p:cTn id="229" dur="3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5E-006 4.02537E-006 L -1.00191 -0.48859 E">
                                      <p:cBhvr>
                                        <p:cTn id="231" dur="3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12535 -0.17601 L -0.99496 0.3098 E">
                                      <p:cBhvr>
                                        <p:cTn id="233" dur="3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12535 -0.17485 L 0.20677 -1.02053 E">
                                      <p:cBhvr>
                                        <p:cTn id="235" dur="3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0"/>
            <a:ext cx="91756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5T12:33:12Z</dcterms:created>
  <dc:creator>sk</dc:creator>
  <dc:description/>
  <cp:keywords/>
  <dc:language>en-US</dc:language>
  <cp:lastModifiedBy>a</cp:lastModifiedBy>
  <dcterms:modified xsi:type="dcterms:W3CDTF">2015-07-20T09:39:51Z</dcterms:modified>
  <cp:revision>46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