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4FB-90C8-447B-9D37-5155A5CC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AD6-F183-41CB-ACAD-DFE022B8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5F7-213D-4336-A130-DCF0F548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93D-9582-447B-AD81-E3CD2918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971-73A6-4246-95E5-CEB3432E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63B-84A2-4C6F-B942-77482745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0F5-3FFA-4274-A587-B966CD9A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2B2-18BB-4140-BEF8-5F6B62AE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A63-9454-4FBD-B78E-7854CBF9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86A-6E3F-4ED9-951B-AFCA3082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54A-9921-4557-8246-8030B90B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04C-4734-4318-B67B-7D162EC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50196"/>
                </a:srgbClr>
              </a:gs>
              <a:gs pos="100000">
                <a:srgbClr val="918415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7EB8-3B07-4F6A-A797-CC01DD3D553F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3104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C:\Users\think\Pictures\20119421332876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642960" y="85716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我可说不上来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四光又跑去问爸爸，爸爸也说不清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785880" y="342900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块突兀的大石头</a:t>
            </a: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到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怎么来的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的周围都是平整的土地，没有一块石头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问题李四光想了</a:t>
            </a: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很多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:\Users\think\Pictures\20119421332876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1357200" y="50004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直到他长大以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英国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学习了地质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才明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冰川可以推动巨大的石头旅行几百里甚至上千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后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李四光回到家乡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专门考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这块大石头，他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终于明白</a:t>
            </a:r>
            <a:r>
              <a:rPr b="1" lang="zh-CN" sz="3600" spc="-1" strike="noStrike" u="sng">
                <a:solidFill>
                  <a:srgbClr val="002060"/>
                </a:solidFill>
                <a:uFillTx/>
                <a:latin typeface="Arial"/>
              </a:rPr>
              <a:t>这块大石头是从遥远的秦岭被冰川带到这里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AutoShape 7"/>
          <p:cNvGrpSpPr/>
          <p:nvPr/>
        </p:nvGrpSpPr>
        <p:grpSpPr>
          <a:xfrm>
            <a:off x="5303880" y="4327560"/>
            <a:ext cx="4125960" cy="2469960"/>
            <a:chOff x="5303880" y="4327560"/>
            <a:chExt cx="4125960" cy="2469960"/>
          </a:xfrm>
        </p:grpSpPr>
        <p:pic>
          <p:nvPicPr>
            <p:cNvPr id="99" name="AutoShape 7" descr=""/>
            <p:cNvPicPr/>
            <p:nvPr/>
          </p:nvPicPr>
          <p:blipFill>
            <a:blip r:embed="rId3"/>
            <a:stretch/>
          </p:blipFill>
          <p:spPr>
            <a:xfrm>
              <a:off x="5303880" y="4327560"/>
              <a:ext cx="412596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156360" y="5076360"/>
              <a:ext cx="24256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楷体_GB2312"/>
                  <a:ea typeface="楷体_GB2312"/>
                </a:rPr>
                <a:t>现在你明白这块大石头是从哪里来的了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C:\Users\think\Pictures\20119421332876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857160" y="12142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经过进一步的考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他发现在长江流域有大量第四冰川活动的遗迹，他的这一研究成果，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震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全世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TextBox 6"/>
          <p:cNvGrpSpPr/>
          <p:nvPr/>
        </p:nvGrpSpPr>
        <p:grpSpPr>
          <a:xfrm>
            <a:off x="1285920" y="566640"/>
            <a:ext cx="2432160" cy="792000"/>
            <a:chOff x="1285920" y="566640"/>
            <a:chExt cx="2432160" cy="792000"/>
          </a:xfrm>
        </p:grpSpPr>
        <p:pic>
          <p:nvPicPr>
            <p:cNvPr id="106" name="TextBox 6" descr=""/>
            <p:cNvPicPr/>
            <p:nvPr/>
          </p:nvPicPr>
          <p:blipFill>
            <a:blip r:embed="rId4"/>
            <a:stretch/>
          </p:blipFill>
          <p:spPr>
            <a:xfrm>
              <a:off x="1285920" y="566640"/>
              <a:ext cx="2432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57200" y="64296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0a0"/>
                  </a:solidFill>
                  <a:latin typeface="Franklin Gothic Book"/>
                  <a:ea typeface="黑体"/>
                </a:rPr>
                <a:t>讨论发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8"/>
          <p:cNvSpPr/>
          <p:nvPr/>
        </p:nvSpPr>
        <p:spPr>
          <a:xfrm>
            <a:off x="785880" y="1785960"/>
            <a:ext cx="81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李四光是怎样解开怪石之谜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428840" y="371484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许多年”、“直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“才”、“专门”、“考察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关键词，我能看出李四光是凭借着自己的勤于思考、执着追求、善于发现才解开怪石之谜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642960" y="171468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c00000"/>
                </a:solidFill>
                <a:latin typeface="Arial"/>
              </a:rPr>
              <a:t>真想不到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聪明的你能为课文补充一段结尾吗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TextBox 8"/>
          <p:cNvGrpSpPr/>
          <p:nvPr/>
        </p:nvGrpSpPr>
        <p:grpSpPr>
          <a:xfrm>
            <a:off x="1285920" y="566640"/>
            <a:ext cx="2432160" cy="792000"/>
            <a:chOff x="1285920" y="566640"/>
            <a:chExt cx="2432160" cy="792000"/>
          </a:xfrm>
        </p:grpSpPr>
        <p:pic>
          <p:nvPicPr>
            <p:cNvPr id="114" name="TextBox 8" descr=""/>
            <p:cNvPicPr/>
            <p:nvPr/>
          </p:nvPicPr>
          <p:blipFill>
            <a:blip r:embed="rId4"/>
            <a:stretch/>
          </p:blipFill>
          <p:spPr>
            <a:xfrm>
              <a:off x="1285920" y="566640"/>
              <a:ext cx="2432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357200" y="64296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0a0"/>
                  </a:solidFill>
                  <a:latin typeface="Franklin Gothic Book"/>
                  <a:ea typeface="黑体"/>
                </a:rPr>
                <a:t>读写联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804000" y="6453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755640" y="981000"/>
            <a:ext cx="792000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坑    考</a:t>
            </a:r>
            <a:r>
              <a:rPr b="1" lang="zh-CN" sz="3200" spc="-1" strike="noStrike">
                <a:solidFill>
                  <a:srgbClr val="00b0f0"/>
                </a:solidFill>
                <a:latin typeface="宋体"/>
              </a:rPr>
              <a:t>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秦岭    流</a:t>
            </a:r>
            <a:r>
              <a:rPr b="1" lang="zh-CN" sz="3200" spc="-1" strike="noStrike">
                <a:solidFill>
                  <a:srgbClr val="00b0f0"/>
                </a:solidFill>
                <a:latin typeface="宋体"/>
              </a:rPr>
              <a:t>域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b0f0"/>
                </a:solidFill>
                <a:latin typeface="宋体"/>
              </a:rPr>
              <a:t>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震惊    著名    奇怪    悄悄    躲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兴趣    平整    推动    旅行    </a:t>
            </a:r>
            <a:r>
              <a:rPr b="1" lang="zh-CN" sz="3200" spc="-1" strike="noStrike">
                <a:solidFill>
                  <a:srgbClr val="00b0f0"/>
                </a:solidFill>
                <a:latin typeface="宋体"/>
              </a:rPr>
              <a:t>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元    研究    成果    陨石    突兀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捉迷</a:t>
            </a:r>
            <a:r>
              <a:rPr b="1" lang="zh-CN" sz="3200" spc="-1" strike="noStrike">
                <a:solidFill>
                  <a:srgbClr val="00b0f0"/>
                </a:solidFill>
                <a:latin typeface="宋体"/>
              </a:rPr>
              <a:t>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严严实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转来转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44720" y="765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kēnɡ    kǎo      qín         yù      y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84360" y="1773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zh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924360" y="836640"/>
            <a:ext cx="122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5651640" y="3933720"/>
            <a:ext cx="108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" name="TextBox 7"/>
          <p:cNvGrpSpPr/>
          <p:nvPr/>
        </p:nvGrpSpPr>
        <p:grpSpPr>
          <a:xfrm>
            <a:off x="1285920" y="566640"/>
            <a:ext cx="2432160" cy="792000"/>
            <a:chOff x="1285920" y="566640"/>
            <a:chExt cx="2432160" cy="792000"/>
          </a:xfrm>
        </p:grpSpPr>
        <p:pic>
          <p:nvPicPr>
            <p:cNvPr id="125" name="TextBox 7" descr=""/>
            <p:cNvPicPr/>
            <p:nvPr/>
          </p:nvPicPr>
          <p:blipFill>
            <a:blip r:embed="rId4"/>
            <a:stretch/>
          </p:blipFill>
          <p:spPr>
            <a:xfrm>
              <a:off x="1285920" y="566640"/>
              <a:ext cx="2432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357200" y="64296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0a0"/>
                  </a:solidFill>
                  <a:latin typeface="Franklin Gothic Book"/>
                  <a:ea typeface="黑体"/>
                </a:rPr>
                <a:t>背景资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2" descr="李四光"/>
          <p:cNvPicPr/>
          <p:nvPr/>
        </p:nvPicPr>
        <p:blipFill>
          <a:blip r:embed="rId5"/>
          <a:stretch/>
        </p:blipFill>
        <p:spPr>
          <a:xfrm>
            <a:off x="285840" y="1928880"/>
            <a:ext cx="2673360" cy="35719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3786120" y="200016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四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），中国著名地质学家，蒙古族。首创地质力学。中央研究院院士，中国科学院院士，之后李四光的著名事迹也被翻拍为电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d5d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E5B-AB1C-430D-B79F-3B555035E3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357120" y="171468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诺贝尔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说一说诺贝尔、李四光为什么能够成为著名的科学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TextBox 8"/>
          <p:cNvGrpSpPr/>
          <p:nvPr/>
        </p:nvGrpSpPr>
        <p:grpSpPr>
          <a:xfrm>
            <a:off x="1285920" y="566640"/>
            <a:ext cx="2432160" cy="792000"/>
            <a:chOff x="1285920" y="566640"/>
            <a:chExt cx="2432160" cy="792000"/>
          </a:xfrm>
        </p:grpSpPr>
        <p:pic>
          <p:nvPicPr>
            <p:cNvPr id="136" name="TextBox 8" descr=""/>
            <p:cNvPicPr/>
            <p:nvPr/>
          </p:nvPicPr>
          <p:blipFill>
            <a:blip r:embed="rId4"/>
            <a:stretch/>
          </p:blipFill>
          <p:spPr>
            <a:xfrm>
              <a:off x="1285920" y="566640"/>
              <a:ext cx="2432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357200" y="64296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0a0"/>
                  </a:solidFill>
                  <a:latin typeface="Franklin Gothic Book"/>
                  <a:ea typeface="黑体"/>
                </a:rPr>
                <a:t>作业布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C:\Users\think\Pictures\20119421332876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214280" y="278604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爸到国外去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期末要进行语文和数学（      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1928880" y="1571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考察、考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"/>
          <p:cNvSpPr/>
          <p:nvPr/>
        </p:nvSpPr>
        <p:spPr>
          <a:xfrm>
            <a:off x="5392800" y="342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5724360" y="3789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42960" y="17146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篇课文讲的是（                  ）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think\Desktop\360桌面截图20120914192243.jpg"/>
          <p:cNvPicPr/>
          <p:nvPr/>
        </p:nvPicPr>
        <p:blipFill>
          <a:blip r:embed="rId4"/>
          <a:stretch/>
        </p:blipFill>
        <p:spPr>
          <a:xfrm>
            <a:off x="5072040" y="2673360"/>
            <a:ext cx="4071960" cy="418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小学语文(记叙文）02"/>
          <p:cNvPicPr/>
          <p:nvPr/>
        </p:nvPicPr>
        <p:blipFill>
          <a:blip r:embed="rId5"/>
          <a:stretch/>
        </p:blipFill>
        <p:spPr>
          <a:xfrm>
            <a:off x="785880" y="571680"/>
            <a:ext cx="207972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539640" y="8366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大石头把他的身影遮得严严实实的，小伙伴围着石头转来转去，也找不到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听说天上常常掉下来陨石，也许它就是从天上掉下来的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它应该把草地砸一个很深很深的大坑，可它为什么没卧进土里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这块突兀的大石头到底是怎么来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332000" y="476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奇怪的大石头“怪”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24000" y="1197000"/>
            <a:ext cx="792000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块巨石孤零零地立在草地上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石头把他的身影遮得严严实实的，小伙伴围着石头转来转去，也找不到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块石头恐怕有几百年的历史了，我小的时候它就在那儿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听说天上常常掉下来陨石，也许它就是从天上掉下来的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么重的大石头从天上掉下来，力量一定非常大。它应该把草地砸一个很深很深的大坑，可它为什么没卧进土里去呢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547640" y="1268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孤零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348000" y="19638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严严实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5364000" y="2421000"/>
            <a:ext cx="252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395280" y="2852640"/>
            <a:ext cx="266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11280" y="2997360"/>
            <a:ext cx="144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几百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059280" y="4221000"/>
            <a:ext cx="12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陨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372360" y="58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卧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95280" y="177336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么重的大石头从天上掉下来，力量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它应该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可它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227640" y="2205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95280" y="765000"/>
            <a:ext cx="8424720" cy="43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长了，他对这块大石头发生了兴趣：这么大的一块石头，是从哪儿来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李四光跑去问老师，老师想了想，说：“这块石头恐怕有几百年的历史了，我小的时候它就在那儿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谁把它放在那儿的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听说天上常常掉下来陨石，也许它就是从天上掉下来的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么重的大石头从天上掉下来，力量一定非常大。它应该把草地砸一个很深很深的大坑。可它为什么没卧进土里去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这我可说不上来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77080" y="1963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恐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68360" y="3763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听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140360" y="37638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也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826920" y="1413000"/>
            <a:ext cx="7705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块突兀的大石头到底是怎么来的？为什么它的四周都是平整的土地，没有一块石头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26920" y="2565360"/>
            <a:ext cx="741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问题李四光想了许多年，直到他长大以后到英国学习了地质学，才明白冰川可以推动巨大的石头旅行几百里甚至上千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"/>
          <p:cNvGrpSpPr/>
          <p:nvPr/>
        </p:nvGrpSpPr>
        <p:grpSpPr>
          <a:xfrm>
            <a:off x="2556000" y="1989000"/>
            <a:ext cx="360360" cy="71280"/>
            <a:chOff x="2556000" y="1989000"/>
            <a:chExt cx="360360" cy="71280"/>
          </a:xfrm>
        </p:grpSpPr>
        <p:sp>
          <p:nvSpPr>
            <p:cNvPr id="162" name="Oval 6"/>
            <p:cNvSpPr/>
            <p:nvPr/>
          </p:nvSpPr>
          <p:spPr>
            <a:xfrm>
              <a:off x="2843280" y="198900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/>
            <p:cNvSpPr/>
            <p:nvPr/>
          </p:nvSpPr>
          <p:spPr>
            <a:xfrm>
              <a:off x="2556000" y="198900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3492360" y="2565360"/>
            <a:ext cx="431640" cy="71280"/>
            <a:chOff x="3492360" y="2565360"/>
            <a:chExt cx="431640" cy="71280"/>
          </a:xfrm>
        </p:grpSpPr>
        <p:sp>
          <p:nvSpPr>
            <p:cNvPr id="165" name="Oval 10"/>
            <p:cNvSpPr/>
            <p:nvPr/>
          </p:nvSpPr>
          <p:spPr>
            <a:xfrm>
              <a:off x="3851280" y="2565360"/>
              <a:ext cx="7272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3492360" y="256536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3"/>
          <p:cNvSpPr/>
          <p:nvPr/>
        </p:nvSpPr>
        <p:spPr>
          <a:xfrm>
            <a:off x="3995640" y="26938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5435640" y="26938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4357800" y="3213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898560" y="1341360"/>
            <a:ext cx="734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来，李四光回到家乡，专门考察了这块大石头。他终于弄明白了，这块大石头是从遥远的秦岭被冰川带到这里来的。经过进一步的考察，他发现在长江流域有大量第四纪冰川活动的遗迹。他的这一研究成果，震惊了全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157800" y="1484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专门考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40360" y="220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终于弄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156360" y="3573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6156360" y="119700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340000" y="1484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考察        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716360" y="3065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300720" y="4005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8172360" y="5589720"/>
            <a:ext cx="287280" cy="576000"/>
          </a:xfrm>
          <a:custGeom>
            <a:avLst/>
            <a:gdLst>
              <a:gd name="textAreaLeft" fmla="*/ 38520 w 287280"/>
              <a:gd name="textAreaRight" fmla="*/ 248760 w 28728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571680" y="1071720"/>
            <a:ext cx="81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四光在和小伙伴们（                 ）时，对一块（        ）的石头产生了兴趣，于是他去请教（        ）和（        ），但都没有得到答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大后李四光去英国（           ）才明白了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，他回到家乡考察，发现了（              ），这一成果震惊了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小学语文(记叙文）02"/>
          <p:cNvPicPr/>
          <p:nvPr/>
        </p:nvPicPr>
        <p:blipFill>
          <a:blip r:embed="rId4"/>
          <a:stretch/>
        </p:blipFill>
        <p:spPr>
          <a:xfrm>
            <a:off x="571680" y="42876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714240" y="171468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为什么说这是一块</a:t>
            </a:r>
            <a:r>
              <a:rPr b="1" lang="zh-CN" sz="4800" spc="-1" strike="noStrike">
                <a:solidFill>
                  <a:srgbClr val="7030a0"/>
                </a:solidFill>
                <a:latin typeface="Arial"/>
              </a:rPr>
              <a:t>“奇怪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的大石头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小学语文(记叙文）03"/>
          <p:cNvPicPr/>
          <p:nvPr/>
        </p:nvPicPr>
        <p:blipFill>
          <a:blip r:embed="rId4"/>
          <a:stretch/>
        </p:blipFill>
        <p:spPr>
          <a:xfrm>
            <a:off x="857160" y="6429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7"/>
          <p:cNvSpPr/>
          <p:nvPr/>
        </p:nvSpPr>
        <p:spPr>
          <a:xfrm>
            <a:off x="5072040" y="3643200"/>
            <a:ext cx="3352680" cy="1981440"/>
          </a:xfrm>
          <a:prstGeom prst="cloudCallout">
            <a:avLst>
              <a:gd name="adj1" fmla="val -55824"/>
              <a:gd name="adj2" fmla="val -6706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快在课文中找一找，用横线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think\Desktop\u=3394960144,3554085809&amp;fm=51&amp;gp=0.jpg"/>
          <p:cNvPicPr/>
          <p:nvPr/>
        </p:nvPicPr>
        <p:blipFill>
          <a:blip r:embed="rId4"/>
          <a:stretch/>
        </p:blipFill>
        <p:spPr>
          <a:xfrm>
            <a:off x="4071960" y="2428920"/>
            <a:ext cx="1409760" cy="1619280"/>
          </a:xfrm>
          <a:prstGeom prst="rect">
            <a:avLst/>
          </a:prstGeom>
          <a:ln w="0">
            <a:noFill/>
          </a:ln>
        </p:spPr>
      </p:pic>
      <p:sp>
        <p:nvSpPr>
          <p:cNvPr id="64" name="下箭头 4"/>
          <p:cNvSpPr/>
          <p:nvPr/>
        </p:nvSpPr>
        <p:spPr>
          <a:xfrm rot="5940000">
            <a:off x="2853000" y="2208600"/>
            <a:ext cx="609480" cy="123660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918415"/>
          </a:solidFill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071720" y="24289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孤零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下箭头 6"/>
          <p:cNvSpPr/>
          <p:nvPr/>
        </p:nvSpPr>
        <p:spPr>
          <a:xfrm>
            <a:off x="4286160" y="3857760"/>
            <a:ext cx="611280" cy="12348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918415"/>
          </a:solidFill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3643200" y="200016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奇怪的大石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2214720" y="521496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恐怕有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几百年的历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下箭头 10"/>
          <p:cNvSpPr/>
          <p:nvPr/>
        </p:nvSpPr>
        <p:spPr>
          <a:xfrm rot="10299000">
            <a:off x="4393440" y="999720"/>
            <a:ext cx="609480" cy="12351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918415"/>
          </a:solidFill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3000240" y="642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积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下箭头 12"/>
          <p:cNvSpPr/>
          <p:nvPr/>
        </p:nvSpPr>
        <p:spPr>
          <a:xfrm rot="15295200">
            <a:off x="5822640" y="2142360"/>
            <a:ext cx="609480" cy="123516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918415"/>
          </a:solidFill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7000920" y="228600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历不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14240" y="17146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四光对这块奇怪的大石头产生了兴趣，他心中有了什么疑惑？是怎样解决疑惑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小学语文(记叙文）03"/>
          <p:cNvPicPr/>
          <p:nvPr/>
        </p:nvPicPr>
        <p:blipFill>
          <a:blip r:embed="rId4"/>
          <a:stretch/>
        </p:blipFill>
        <p:spPr>
          <a:xfrm>
            <a:off x="857160" y="6429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4572000" y="3714840"/>
            <a:ext cx="4143240" cy="2643120"/>
          </a:xfrm>
          <a:prstGeom prst="cloudCallout">
            <a:avLst>
              <a:gd name="adj1" fmla="val -55824"/>
              <a:gd name="adj2" fmla="val -6706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—9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找一找，用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波浪线画出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小学语文(记叙文）03"/>
          <p:cNvPicPr/>
          <p:nvPr/>
        </p:nvPicPr>
        <p:blipFill>
          <a:blip r:embed="rId4"/>
          <a:stretch/>
        </p:blipFill>
        <p:spPr>
          <a:xfrm>
            <a:off x="857160" y="6429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1071720" y="135720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f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b0f0"/>
                </a:solidFill>
                <a:latin typeface="Arial"/>
              </a:rPr>
              <a:t>这么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一块石头，是从哪儿来的呢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645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071720" y="1643040"/>
            <a:ext cx="7572240" cy="29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四光跑去问老师，老师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想了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说：“这块石头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恐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几百年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的历史了，我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小时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就在那儿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它放在那儿的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33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think\Pictures\201194213328766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071720" y="8571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     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听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上常常掉下来陨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也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就是从天上掉下来的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143000" y="228600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这么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大石头从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天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掉下来，力量</a:t>
            </a:r>
            <a:r>
              <a:rPr b="0" lang="zh-CN" sz="3600" spc="-1" strike="noStrike">
                <a:solidFill>
                  <a:srgbClr val="00b0f0"/>
                </a:solidFill>
                <a:latin typeface="Arial"/>
              </a:rPr>
              <a:t>一定非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。它应该把草地砸一个</a:t>
            </a:r>
            <a:r>
              <a:rPr b="0" lang="zh-CN" sz="3600" spc="-1" strike="noStrike">
                <a:solidFill>
                  <a:srgbClr val="00b0f0"/>
                </a:solidFill>
                <a:latin typeface="Arial"/>
              </a:rPr>
              <a:t>很深很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大坑。可它</a:t>
            </a:r>
            <a:r>
              <a:rPr b="0" lang="zh-CN" sz="3600" spc="-1" strike="noStrike">
                <a:solidFill>
                  <a:srgbClr val="c00000"/>
                </a:solidFill>
                <a:latin typeface="Arial"/>
              </a:rPr>
              <a:t>为什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没有卧进土里去呢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椭圆 6"/>
          <p:cNvGrpSpPr/>
          <p:nvPr/>
        </p:nvGrpSpPr>
        <p:grpSpPr>
          <a:xfrm>
            <a:off x="3859200" y="4711680"/>
            <a:ext cx="3932280" cy="1360440"/>
            <a:chOff x="3859200" y="4711680"/>
            <a:chExt cx="3932280" cy="1360440"/>
          </a:xfrm>
        </p:grpSpPr>
        <p:pic>
          <p:nvPicPr>
            <p:cNvPr id="91" name="椭圆 6" descr=""/>
            <p:cNvPicPr/>
            <p:nvPr/>
          </p:nvPicPr>
          <p:blipFill>
            <a:blip r:embed="rId4"/>
            <a:stretch/>
          </p:blipFill>
          <p:spPr>
            <a:xfrm>
              <a:off x="3859200" y="4711680"/>
              <a:ext cx="393228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483080" y="4964040"/>
              <a:ext cx="26780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黑体"/>
                </a:rPr>
                <a:t>李四光真是个（             ）的孩子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2:08:43Z</dcterms:created>
  <dc:creator/>
  <dc:description/>
  <cp:keywords>幻灯片之家 http:/www.eeppt.com</cp:keywords>
  <dc:language>en-US</dc:language>
  <cp:lastModifiedBy/>
  <dcterms:modified xsi:type="dcterms:W3CDTF">2015-07-20T03:35:2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