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0ED-F21B-4C3A-BF52-F22EA1ED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712-FC6F-418D-B969-A4A646A0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55A-4CF9-4DD6-91FD-AC747520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C6D-B645-4F9E-AA1F-B6AFD63B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120-4CEC-4123-B0EB-D6154DD6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973-6F42-4CC7-89EE-BC086167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EF6-6983-43CA-88FA-7B4E27C6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7C1-3555-4DCE-AB52-5C84A6C2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50D-4239-4EB3-B93A-8AE99AC3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E27-9C1A-41B4-865E-DF9F0257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7DE-BEB5-4904-9633-8D312299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FEEA-C058-44A0-9A1C-B5818E9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B14D-F940-4D63-A1CE-172DF38A1A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9D0B-9B24-424B-BF27-EFFAB2871D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480" y="-47520"/>
            <a:ext cx="9086760" cy="6905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440" y="6523200"/>
            <a:ext cx="46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6680" y="-4752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480" y="14400"/>
            <a:ext cx="905328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0" y="14400"/>
            <a:ext cx="9123480" cy="681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9240" y="612612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0" y="11160"/>
            <a:ext cx="91090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240" y="1440"/>
            <a:ext cx="909792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201-8723-4A12-8488-1DAD030150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19240" y="612612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1T02:10:1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