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ADF-B61A-42E1-A0F4-C00261E4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2D8-AE7C-4B0F-B109-8505227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654-B5E0-4FCA-8BD4-23E8984D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E95-D439-4839-8B82-695FD94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CBC-D48C-4F24-B38C-933B1DA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321-B439-41E5-8EC6-68E368BC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960-376A-40E0-A4A2-09D3233E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47C-3703-445C-98DD-D045B3C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468-4687-42BA-B1C2-802349BA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100-EF50-4FE9-AA5E-C225559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54F-8DC8-4F7D-81CC-492E25DF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359-1FE4-47DC-9337-80C957F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508A-056F-41C0-A4F8-77E28990F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491508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2411280" y="2884320"/>
            <a:ext cx="4321440" cy="371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1763640" y="503280"/>
            <a:ext cx="5257800" cy="234936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545200" y="13240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释放压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23976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98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6372360" y="447840"/>
            <a:ext cx="2539800" cy="2044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2:43:42Z</dcterms:modified>
  <cp:revision>1</cp:revision>
  <dc:subject/>
  <dc:title>PowerPoint 演示文稿</dc:title>
</cp:coreProperties>
</file>