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3F1-DE56-4FEF-8F99-8BA370EB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7D3-718C-4498-A411-AD4DD19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BCA12-1E7D-4208-A726-C74798E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8150B-9155-418E-BC96-45607349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6AC6B-6AC0-4934-8588-1D678A6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95D0D-B791-4ACC-8688-7A08277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7939F-47EA-43AB-B525-9BC2856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D8F2-D9E0-4637-BE09-69760690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43CA8-EC7E-4F49-8038-FC97CA2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614E9-8340-439F-BFCF-1CB5D292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175E2-03A0-4655-A062-E4FAB749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5AEB2-65EA-43A7-B6C1-6AEF3B9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1F6-C665-485E-976A-2B698641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1B93C-B6DA-4B5B-9B44-5757D37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C3355-B48F-4748-9956-32AE556D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7158D-E1A9-43AC-912B-328297C4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2FEF8-6B1D-4689-A4A5-725AF9D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6434A-C85A-45D6-A775-48FBDE8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5A0A6-76C6-40CA-B243-092AE10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53CAE-2C4A-4B66-8BF5-9E2F70E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F2966-6560-4673-B9B3-CB580B24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053B7-17E9-4CEF-9D87-A0D0C0ED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47ADF-FBB6-4DBA-9788-C3DFA2C7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918-DEC5-443C-8407-2CFC8148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A829B-58E5-4827-B153-377264ED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82B10-772F-44C1-A76D-C261A9DF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81C9B-FBFD-432E-AC69-19CD34C8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27458-0C85-492E-96A5-21179A3B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616B4-B2CB-4C67-8413-DDEE4932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0E74B-E5B9-4B5D-B16C-FEC2BCC1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9198-916D-4708-947A-90E6DAAA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08E50-D8A8-4175-8F3C-7ACB863B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BB08-4117-46C1-A0CE-E3D7AE2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324FF-1AFC-4532-8D2C-44B454F5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037A-79A3-4CF5-B11D-62476B9E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E5FE9-4979-466A-8C60-A395F58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4BB9-CF7E-497E-8FB2-DDC4883D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F928A-69A2-46A1-8212-675FE41C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C6A43-9E56-425D-9E44-2D87C1AF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2D302-110C-4641-9EE9-F13EC3EC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74749-EB28-4EBB-844C-51C382A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2C413-7E86-436C-B7FA-63007454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958F2-F7D6-4F1E-AA1F-B550B8E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CD7AD-084F-4C52-A803-4327193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AA6DF-542E-4E04-864F-E75D636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5631-3B76-4758-ABDE-EF7707D5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BF09E-D124-4B11-B8F9-C23674C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16E6-1F76-48A4-B4DC-E6FE9DA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F260B-A615-4B94-AEE4-206DB54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CDFFA-024A-45F1-ABDE-5C1A8728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B82D2-E223-4B42-A0B2-BD22927B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8463A-B1E2-475A-AD4C-6BFFF42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738EC-878A-472A-96A0-84147212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FD302-C0AB-4E50-9B08-3C3236C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E2052-C4CB-4F96-A72F-F01F413E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9DEC4-0A3A-48EA-BF72-67F12BAE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026-399B-486F-9852-C8139F82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AA240-75CF-44BA-974F-E3C2418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9734F-AEFD-4DA5-B426-6982A30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C68DD-D75C-4C63-B719-352BD291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D034B-2086-4225-B89B-182A99F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A4D7F-9F8A-4DAD-BC74-4D32A865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79D72-13D6-47E2-AEB7-142C5A34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C3619-83F3-4E97-8150-6A0CA84C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73BDB-EE30-475D-8FE2-716A1161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385DB-F670-467C-8B23-04CD16E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9C2B0-C11D-45EF-A460-DB291148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E5EB-CFAF-4D74-8E73-0AED6CB7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14C6A-AC2C-4378-AA58-79878EFD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1A6DC-456F-437D-AF91-7C47361F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A7EAE-DFE8-4DDA-BF71-F6D7C8C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2DFB9-B8C9-4E9A-8FB2-A86BFCE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DA7F6-6E0D-478D-A245-EC9D064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8E53F-F456-4348-ADEC-390B770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395D1-51C3-4AC9-96D8-8C911CB8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96140-737D-4770-8261-7248F9AF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8F8C6-30B0-439D-8F2B-C7F047EE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F0F38E-8798-4BFC-87C2-D431F58E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F7FB-F436-4079-ABCE-BF35302F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FFB2BE-F442-4331-B15A-ABEF9073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9CC922-5531-49F0-974F-B2CDEE7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A3C952-9045-47C9-8DF1-582E46FE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0B4C2C-29F7-471B-8C4E-3CCB8CE1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228081-982B-426E-B811-89E14EF4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82B63D-B7C7-40BA-A608-6400B88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6C43F8-EE22-49CF-B8B4-51EC418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6EB10D-9E07-4F77-B4D5-535EDA8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AD9778-DB64-487A-A791-02720C66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A91824-F387-4B9E-B7A5-7209AFA1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5F4B-6E25-4B8B-91C6-500EA988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A2A097-F0DE-4306-ABB8-33FCC98F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DE214-603C-448E-B5A7-306B4C6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76E94-571F-407D-B414-D551022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47909-0A6D-408D-A9D2-653CEF5E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F3B6E-71ED-4F05-B303-4116409D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92996-A61C-4C95-B0BA-A25620E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79D89-B81D-4B99-BA79-982B51D0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EB2D3-038B-46A2-9B1F-F6E5CFC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86051-8DD1-4B62-84B5-E93DF7D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9DA8A-6B3F-4E67-9493-3EEFC8E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0F15-1501-4732-8F14-8CA6223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87F5D-107F-4DB9-B0C6-B7CB4AB4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A1DCC-9647-4CE7-8504-E539FA51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313D3-9074-4942-B12B-1F72987B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4F9D3-979C-454D-A07A-31805603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E89AD-C749-4621-8815-5C935DB6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DE79B-8860-4EB9-A77B-320E60A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4BC21-4186-4302-A19E-F51D2771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55B70-8654-44B8-8438-DEA29AC5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1F4B8-449F-4622-8018-90A20C9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7D7C4-8F5B-4430-9811-38E774E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441-6B98-4521-B12E-9C3C8849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E78-6D40-48AE-AE16-0373FAE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DBDD2-FDF4-4CF5-B51C-8258296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7A14B-63B1-4B1F-B16F-6C4F535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62329-CC3F-46B1-A558-7918034D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287EE-5F5B-4EA5-A6F7-B35661D2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69122-EF98-4350-A8FD-D7908F92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09196-2444-4403-8AE2-A7ED659C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9D82A-733D-47B7-980B-798BB7A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42CCB-5C4E-42EE-913E-3CEDB71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E38B5-0909-4068-ADC4-0E718DE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1D86A-38AD-420A-A882-8AE045A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92BC-A44C-42B9-8EED-308FBA60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AF986-3C86-4AC8-A260-29710A7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017B2-D033-4CCE-9E6F-8BE3BD9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5E165-DAAB-4D80-84AF-01728C92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442F2-B344-40D6-8B60-72747CE8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DF985-9CEA-42EB-A500-959EB21E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299FA-2B93-4279-8A87-4FD1B5F9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E6E48-6FFD-4C2D-BEEE-7A449E69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86682-FADA-4A88-A5E8-B6C6F825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E6250-F897-437F-9DEC-55AD09E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9FCE9-D9BB-49C6-A9A2-7421BA1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ECD-8931-4C0C-B32C-F825445B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E08B4-B482-4892-AF4A-90B77D67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CD50F-0DA2-4579-9C9C-CD56B830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600E7-0B76-4467-A1D7-6D2D226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6DA55-4FFA-4B12-90DE-FF96E788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55CAF-5C74-4236-9188-BEA548F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CD9E8-2FC4-4EAA-AEC6-F9FFE9E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00592-5FBA-4ABD-9842-C721A85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89B16-BE95-424F-9E92-077846FB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9BCED-E100-492A-A8CE-FE936A83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CD1E-2B2C-4363-9C62-3CA63807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4C9D-3DEE-46DC-A73C-F1A5AF72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8B4B-4AD3-4D89-B86E-39760F25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DE12-16CA-4A5C-B1F5-F7312D2D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2001-2ED1-4FA2-BFA9-8C9A7C66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397E-37E2-4EAB-AE7E-C3371ADA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FEDC-54FF-473B-BAFC-90A0AA1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FAA-E33C-4ED2-A7BF-25910C6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48E5-0BFD-4C2B-9A1B-274C1C2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090F-0A2C-448B-8C5A-F43D9CA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9F7E-1BB3-4680-8644-AAE6552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EAB3-70A9-4A98-B85D-6B4D936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56D0-BA00-4694-AAE7-C3BC7AA5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DA2B-9D30-4EBB-A765-7B4DAFF3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9440-C15D-4010-A68C-FAF318F4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8115-ADDE-4004-9AFA-2BBAF30D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3697-E1B4-4E4F-8CF9-42D1C4B4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DB4A-4573-4535-A819-ECF0D5A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D11-7D97-4E16-97C3-02F1871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DBE9-247A-4E50-B61E-B17DABEE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8E08-4F6A-4678-867C-1CBE7D10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899C3-0E26-41AB-8E87-29DD2FFA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EE446-38A4-4EFD-A031-20F4BC3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98818-A58D-4521-A818-DD8F48D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1199-B382-477D-9CBC-6E54BBE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717A-39BF-463D-AA97-93E1CAA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A3634-81A7-44AB-93A8-488A75A2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1113-E0ED-4BFB-BB20-023C667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8166-F677-48DD-B410-2C29AD12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9D9-B83A-4516-9DA8-38E95D2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003E-DBFB-4AA4-9D02-B8AB5991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57E7-B043-41F2-A510-10A958EA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6CAD-9350-4370-B47F-A22F05F0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0C80-A9BE-4BA0-8FFA-7A9A3E2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6CB1-784B-4D13-8BFD-785E0B1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A62C-B4EC-451E-A724-2224F19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5BFF-9BA8-4CDB-8273-69BF8AA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A1AB-2C9B-4119-B500-FDA55A6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4818-1BA8-4E44-9866-C85664B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F48A-0400-4E8E-9F22-88A70442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C1F-BBB2-4E40-91F0-81C45347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0B0B-A087-41B9-9E77-28E57D6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AEB37-4946-47DF-AA0F-C9B7EE8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0398-4038-4BA2-8D5C-7C103838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54A8-DEC2-4FFA-9300-F5930BC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0964-DD29-4654-9DD8-096B201F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701E-4705-40EE-9B14-CAD801BE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1F24-65F1-48D0-B167-BD49DDD6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E51F-80A9-4A07-AFE4-8D3B0C3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DD9FB-92BC-406B-AD9D-CD134DA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060D-5D4D-44C0-9DAF-3E014F4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960-FEF1-4D48-BCBE-A45FFCA7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523B1-8912-4BDF-A946-304A894C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53CC-8D06-40F0-9B88-14552E0F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D909-4A91-446D-BAEA-D166782D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03B5-100D-438E-A2DE-78FD1017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DEA61-C2D1-47C3-8F51-D3B9423A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C203-D36F-44A6-908B-41B4AB7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88D1-0D59-4BDB-8E2B-08C03985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9E324-66C9-480F-94E3-A9D7024B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DB181-176F-4CE7-96F6-51B67490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D602-F9BC-41D4-B69D-8F53FAB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B2F-B644-4BA3-96D3-5CEACF3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A545-7DF5-47AB-985A-B76F39B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5AA9-EFB1-4C08-8CEA-B3D799B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BE70-3185-4105-ABB0-6B5A05BF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4F1C1-A466-40A6-A259-92A11C79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F6DD-DB44-45C2-8B70-B262AC19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D3599-C4CA-4CC8-B994-A7EBCCDB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6E24B-4CD6-4F11-B9C8-42279CD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4703-C363-4993-89F9-0D8192C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DE055-B96E-4562-B36E-1128023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40C46-99B4-4FCC-8F8A-5072D46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3E7-5EA2-437B-B50C-AEDBA58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279E2-1D00-4381-B65D-6634BD21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C9962-883E-4B17-922B-0C524CF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929DA-B649-4A2D-8DB2-4623F24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3AD7A-03BB-4A5C-9789-32345689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08EC4-8C14-4831-9BF9-631FF82E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99204-644D-4CB1-8E22-F80B5780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75A84-B58A-4ECA-85C6-BB7D0ACE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6BDD9-A701-420E-8309-9BB47AE8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3F72E-D809-4A6B-B465-9C9F9E3E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7E6DF-41AF-47CD-A34B-18D60674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4040-4463-4C7E-9F88-494127201D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8711-DB85-486B-AF3C-2F126CB6BB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DDB-2CFB-4337-959B-E833DDC6AA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7632-41F4-4E3B-A307-EB0E5D8D1B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403-AF41-4C6D-A4E0-77771A5E9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877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91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037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BFD-B160-4D48-831F-03E5E97D9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8520-B997-4C75-9FA9-8FD60C4B15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4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1CA-984D-4916-9750-27A07EB5F7C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182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7360-4A8F-4332-9988-F341B4BBF4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256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CB2D-9CCF-4924-86FC-A9469AB2A1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5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09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315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319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0F6-B411-4AF9-8BA5-71A5F1B0686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8A5-F50B-4DB9-A206-4B49036719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805E-80EF-4F1E-8114-45D20823E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7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3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7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01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5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9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3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357" name="Freeform 233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359" name="Freeform 235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36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37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38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39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0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41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42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44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45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47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FA05-183F-4EE2-8E38-788E6FC2C2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85B-465E-48BA-A4DA-751A30195F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5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5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B468-6BA4-4B4A-9E4E-469D798E361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FBDD-477A-4503-9FDF-65B836E8E6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577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29C7-1590-4A9D-B194-C3BD7927DB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1980-9D51-418D-9C8A-B2A95FE6BAD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2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43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5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662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663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665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Text Box 2"/>
          <p:cNvSpPr/>
          <p:nvPr/>
        </p:nvSpPr>
        <p:spPr>
          <a:xfrm>
            <a:off x="2050920" y="692280"/>
            <a:ext cx="56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唐雎不辱使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 Box 3"/>
          <p:cNvSpPr/>
          <p:nvPr/>
        </p:nvSpPr>
        <p:spPr>
          <a:xfrm>
            <a:off x="468360" y="227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义务教育课程标准实验教科书   语文  九年级上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2771640" y="2997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执教：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靳元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 Box 5"/>
          <p:cNvSpPr/>
          <p:nvPr/>
        </p:nvSpPr>
        <p:spPr>
          <a:xfrm>
            <a:off x="2771640" y="4005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设计：靳元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1" name="永远是朋友.MP3" descr=""/>
          <p:cNvPicPr/>
          <p:nvPr/>
        </p:nvPicPr>
        <p:blipFill>
          <a:blip r:embed="rId1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2" name="矩形 9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1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42796" fill="hold"/>
                                        <p:tgtEl>
                                          <p:spTgt spid="1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2"/>
          <p:cNvSpPr/>
          <p:nvPr/>
        </p:nvSpPr>
        <p:spPr>
          <a:xfrm>
            <a:off x="7236000" y="29235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3"/>
          <p:cNvSpPr/>
          <p:nvPr/>
        </p:nvSpPr>
        <p:spPr>
          <a:xfrm>
            <a:off x="511920" y="27806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AutoShape 4"/>
          <p:cNvSpPr/>
          <p:nvPr/>
        </p:nvSpPr>
        <p:spPr>
          <a:xfrm>
            <a:off x="1332000" y="1125360"/>
            <a:ext cx="152280" cy="396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102960 h 3961080"/>
              <a:gd name="textAreaBottom" fmla="*/ 385812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AutoShape 5"/>
          <p:cNvSpPr/>
          <p:nvPr/>
        </p:nvSpPr>
        <p:spPr>
          <a:xfrm>
            <a:off x="6877080" y="1052640"/>
            <a:ext cx="358920" cy="4392360"/>
          </a:xfrm>
          <a:custGeom>
            <a:avLst/>
            <a:gdLst>
              <a:gd name="textAreaLeft" fmla="*/ 0 w 358920"/>
              <a:gd name="textAreaRight" fmla="*/ 129600 w 35892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"/>
          <p:cNvSpPr/>
          <p:nvPr/>
        </p:nvSpPr>
        <p:spPr>
          <a:xfrm>
            <a:off x="1547640" y="83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狡诈专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Rectangle 7"/>
          <p:cNvSpPr/>
          <p:nvPr/>
        </p:nvSpPr>
        <p:spPr>
          <a:xfrm>
            <a:off x="1833840" y="155664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虚与委蛇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Text Box 8"/>
          <p:cNvSpPr/>
          <p:nvPr/>
        </p:nvSpPr>
        <p:spPr>
          <a:xfrm>
            <a:off x="1725480" y="2276640"/>
            <a:ext cx="15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骄横狂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9"/>
          <p:cNvSpPr/>
          <p:nvPr/>
        </p:nvSpPr>
        <p:spPr>
          <a:xfrm>
            <a:off x="2070720" y="292428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可一世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10"/>
          <p:cNvSpPr/>
          <p:nvPr/>
        </p:nvSpPr>
        <p:spPr>
          <a:xfrm>
            <a:off x="5160600" y="38602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先恭后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Rectangle 11"/>
          <p:cNvSpPr/>
          <p:nvPr/>
        </p:nvSpPr>
        <p:spPr>
          <a:xfrm>
            <a:off x="1476360" y="4652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外强中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Rectangle 12"/>
          <p:cNvSpPr/>
          <p:nvPr/>
        </p:nvSpPr>
        <p:spPr>
          <a:xfrm>
            <a:off x="4500720" y="1196280"/>
            <a:ext cx="29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 Box 13"/>
          <p:cNvSpPr/>
          <p:nvPr/>
        </p:nvSpPr>
        <p:spPr>
          <a:xfrm>
            <a:off x="4990680" y="1557360"/>
            <a:ext cx="14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卑不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14"/>
          <p:cNvSpPr/>
          <p:nvPr/>
        </p:nvSpPr>
        <p:spPr>
          <a:xfrm>
            <a:off x="4643280" y="227592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畏强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15"/>
          <p:cNvSpPr/>
          <p:nvPr/>
        </p:nvSpPr>
        <p:spPr>
          <a:xfrm>
            <a:off x="4893840" y="2923560"/>
            <a:ext cx="15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宁死不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16"/>
          <p:cNvSpPr/>
          <p:nvPr/>
        </p:nvSpPr>
        <p:spPr>
          <a:xfrm>
            <a:off x="1547640" y="38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先倨后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17"/>
          <p:cNvSpPr/>
          <p:nvPr/>
        </p:nvSpPr>
        <p:spPr>
          <a:xfrm>
            <a:off x="5056200" y="509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Text Box 18"/>
          <p:cNvSpPr/>
          <p:nvPr/>
        </p:nvSpPr>
        <p:spPr>
          <a:xfrm>
            <a:off x="4479840" y="437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19"/>
          <p:cNvSpPr/>
          <p:nvPr/>
        </p:nvSpPr>
        <p:spPr>
          <a:xfrm>
            <a:off x="5451480" y="5451480"/>
            <a:ext cx="21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20"/>
          <p:cNvSpPr/>
          <p:nvPr/>
        </p:nvSpPr>
        <p:spPr>
          <a:xfrm>
            <a:off x="3348000" y="623736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21"/>
          <p:cNvSpPr/>
          <p:nvPr/>
        </p:nvSpPr>
        <p:spPr>
          <a:xfrm>
            <a:off x="4643280" y="83664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立场坚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 Box 22"/>
          <p:cNvSpPr/>
          <p:nvPr/>
        </p:nvSpPr>
        <p:spPr>
          <a:xfrm>
            <a:off x="4788000" y="4653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智勇双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23"/>
          <p:cNvSpPr/>
          <p:nvPr/>
        </p:nvSpPr>
        <p:spPr>
          <a:xfrm>
            <a:off x="3936960" y="1150920"/>
            <a:ext cx="459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 Box 24"/>
          <p:cNvSpPr/>
          <p:nvPr/>
        </p:nvSpPr>
        <p:spPr>
          <a:xfrm>
            <a:off x="3212280" y="1222200"/>
            <a:ext cx="139932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语言描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5"/>
          <p:cNvSpPr/>
          <p:nvPr/>
        </p:nvSpPr>
        <p:spPr>
          <a:xfrm>
            <a:off x="3245760" y="4005360"/>
            <a:ext cx="139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隶书"/>
              </a:rPr>
              <a:t>对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Line 26"/>
          <p:cNvSpPr/>
          <p:nvPr/>
        </p:nvSpPr>
        <p:spPr>
          <a:xfrm>
            <a:off x="1547640" y="3716280"/>
            <a:ext cx="2232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Line 27"/>
          <p:cNvSpPr/>
          <p:nvPr/>
        </p:nvSpPr>
        <p:spPr>
          <a:xfrm flipH="1">
            <a:off x="4500720" y="3716280"/>
            <a:ext cx="2303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 Box 28"/>
          <p:cNvSpPr/>
          <p:nvPr/>
        </p:nvSpPr>
        <p:spPr>
          <a:xfrm>
            <a:off x="260820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 Box 29"/>
          <p:cNvSpPr/>
          <p:nvPr/>
        </p:nvSpPr>
        <p:spPr>
          <a:xfrm>
            <a:off x="3492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Text Box 2"/>
          <p:cNvSpPr/>
          <p:nvPr/>
        </p:nvSpPr>
        <p:spPr>
          <a:xfrm>
            <a:off x="2824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 Box 3"/>
          <p:cNvSpPr/>
          <p:nvPr/>
        </p:nvSpPr>
        <p:spPr>
          <a:xfrm>
            <a:off x="5461920" y="404640"/>
            <a:ext cx="22834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隶书"/>
              </a:rPr>
              <a:t>标新立异读课文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 Box 4"/>
          <p:cNvSpPr/>
          <p:nvPr/>
        </p:nvSpPr>
        <p:spPr>
          <a:xfrm>
            <a:off x="1325880" y="333360"/>
            <a:ext cx="3105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针对课文提出自己独特的观点或对课文进行质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Text Box 2"/>
          <p:cNvSpPr/>
          <p:nvPr/>
        </p:nvSpPr>
        <p:spPr>
          <a:xfrm>
            <a:off x="755640" y="260280"/>
            <a:ext cx="39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</a:rPr>
              <a:t>课堂检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3"/>
          <p:cNvSpPr/>
          <p:nvPr/>
        </p:nvSpPr>
        <p:spPr>
          <a:xfrm>
            <a:off x="611280" y="141300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唐雎所说的“士之怒”的句子是：（         　　　　     ），这个句子运用了（       ）的修辞手法，其作用是（　　 ）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Text Box 2"/>
          <p:cNvSpPr/>
          <p:nvPr/>
        </p:nvSpPr>
        <p:spPr>
          <a:xfrm>
            <a:off x="539640" y="17604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、请说说下边两句话的言外之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 Box 3"/>
          <p:cNvSpPr/>
          <p:nvPr/>
        </p:nvSpPr>
        <p:spPr>
          <a:xfrm>
            <a:off x="692280" y="2276640"/>
            <a:ext cx="81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公亦尝闻天子之怒乎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3146400" y="407664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②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与臣而将四矣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Text Box 2"/>
          <p:cNvSpPr/>
          <p:nvPr/>
        </p:nvSpPr>
        <p:spPr>
          <a:xfrm flipV="1" rot="10800000">
            <a:off x="608040" y="121824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3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祲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”的征兆是相对而言的，对专诸、聂政、要离而言是（  ）的征兆，对王僚、韩傀、庆忌而言是（    ）的征兆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Text Box 2"/>
          <p:cNvSpPr/>
          <p:nvPr/>
        </p:nvSpPr>
        <p:spPr>
          <a:xfrm>
            <a:off x="395280" y="692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公元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3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到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，靠近秦国的韩、魏相继被秦灭亡，其余山东六国的赵、燕、齐、楚在连年战争中早以不堪一击，又过了几年，秦就统一了天下。安陵国是魏的附庸小国，在宗主国魏国灭亡之后，一度还保持着独立的地位。秦国想用诈骗手段吞并安陵，于是安陵君派唐雎到秦国谈判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2"/>
          <p:cNvSpPr/>
          <p:nvPr/>
        </p:nvSpPr>
        <p:spPr>
          <a:xfrm>
            <a:off x="826920" y="692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唐雎不辱使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3"/>
          <p:cNvSpPr/>
          <p:nvPr/>
        </p:nvSpPr>
        <p:spPr>
          <a:xfrm>
            <a:off x="3859560" y="2492280"/>
            <a:ext cx="111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《战国策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Text Box 2"/>
          <p:cNvSpPr/>
          <p:nvPr/>
        </p:nvSpPr>
        <p:spPr>
          <a:xfrm>
            <a:off x="1187280" y="620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隶书"/>
              </a:rPr>
              <a:t>双基小热身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3"/>
          <p:cNvSpPr/>
          <p:nvPr/>
        </p:nvSpPr>
        <p:spPr>
          <a:xfrm>
            <a:off x="1116000" y="2276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注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Text Box 4"/>
          <p:cNvSpPr/>
          <p:nvPr/>
        </p:nvSpPr>
        <p:spPr>
          <a:xfrm>
            <a:off x="992160" y="3284640"/>
            <a:ext cx="76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怫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(    )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跣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(      )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抢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(        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"/>
          <p:cNvSpPr/>
          <p:nvPr/>
        </p:nvSpPr>
        <p:spPr>
          <a:xfrm>
            <a:off x="2052360" y="3429000"/>
            <a:ext cx="7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f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6"/>
          <p:cNvSpPr/>
          <p:nvPr/>
        </p:nvSpPr>
        <p:spPr>
          <a:xfrm>
            <a:off x="4198680" y="335772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xiǎ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 Box 7"/>
          <p:cNvSpPr/>
          <p:nvPr/>
        </p:nvSpPr>
        <p:spPr>
          <a:xfrm>
            <a:off x="6719400" y="335772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qiā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0" y="40464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解释加点词、翻译句子、划分朗读节奏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"/>
          <p:cNvSpPr/>
          <p:nvPr/>
        </p:nvSpPr>
        <p:spPr>
          <a:xfrm flipV="1">
            <a:off x="1908000" y="299700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4"/>
          <p:cNvSpPr/>
          <p:nvPr/>
        </p:nvSpPr>
        <p:spPr>
          <a:xfrm flipV="1">
            <a:off x="2411280" y="2997000"/>
            <a:ext cx="73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Line 5"/>
          <p:cNvSpPr/>
          <p:nvPr/>
        </p:nvSpPr>
        <p:spPr>
          <a:xfrm flipV="1">
            <a:off x="4932360" y="3068640"/>
            <a:ext cx="73080" cy="620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Line 6"/>
          <p:cNvSpPr/>
          <p:nvPr/>
        </p:nvSpPr>
        <p:spPr>
          <a:xfrm flipV="1">
            <a:off x="2411280" y="393336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Line 7"/>
          <p:cNvSpPr/>
          <p:nvPr/>
        </p:nvSpPr>
        <p:spPr>
          <a:xfrm flipV="1">
            <a:off x="2411280" y="1989000"/>
            <a:ext cx="71640" cy="7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Line 8"/>
          <p:cNvSpPr/>
          <p:nvPr/>
        </p:nvSpPr>
        <p:spPr>
          <a:xfrm flipV="1">
            <a:off x="4500720" y="1989000"/>
            <a:ext cx="7272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Group 9"/>
          <p:cNvGrpSpPr/>
          <p:nvPr/>
        </p:nvGrpSpPr>
        <p:grpSpPr>
          <a:xfrm>
            <a:off x="2982960" y="1989000"/>
            <a:ext cx="1804320" cy="790560"/>
            <a:chOff x="2982960" y="1989000"/>
            <a:chExt cx="1804320" cy="790560"/>
          </a:xfrm>
        </p:grpSpPr>
        <p:sp>
          <p:nvSpPr>
            <p:cNvPr id="1390" name="Text Box 10"/>
            <p:cNvSpPr/>
            <p:nvPr/>
          </p:nvSpPr>
          <p:spPr>
            <a:xfrm>
              <a:off x="2982960" y="1989000"/>
              <a:ext cx="98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①</a:t>
              </a: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安陵君因使唐雎使于秦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1"/>
            <p:cNvSpPr/>
            <p:nvPr/>
          </p:nvSpPr>
          <p:spPr>
            <a:xfrm>
              <a:off x="3132000" y="2708280"/>
              <a:ext cx="7272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2"/>
            <p:cNvSpPr/>
            <p:nvPr/>
          </p:nvSpPr>
          <p:spPr>
            <a:xfrm>
              <a:off x="4714560" y="2708280"/>
              <a:ext cx="7272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13"/>
          <p:cNvGrpSpPr/>
          <p:nvPr/>
        </p:nvGrpSpPr>
        <p:grpSpPr>
          <a:xfrm>
            <a:off x="1533240" y="2924280"/>
            <a:ext cx="4389840" cy="792000"/>
            <a:chOff x="1533240" y="2924280"/>
            <a:chExt cx="4389840" cy="792000"/>
          </a:xfrm>
        </p:grpSpPr>
        <p:sp>
          <p:nvSpPr>
            <p:cNvPr id="1394" name="Oval 14"/>
            <p:cNvSpPr/>
            <p:nvPr/>
          </p:nvSpPr>
          <p:spPr>
            <a:xfrm>
              <a:off x="2197080" y="3645000"/>
              <a:ext cx="7308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5"/>
            <p:cNvSpPr/>
            <p:nvPr/>
          </p:nvSpPr>
          <p:spPr>
            <a:xfrm>
              <a:off x="4716720" y="3645000"/>
              <a:ext cx="7308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16"/>
            <p:cNvSpPr/>
            <p:nvPr/>
          </p:nvSpPr>
          <p:spPr>
            <a:xfrm>
              <a:off x="1533240" y="2924280"/>
              <a:ext cx="438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②</a:t>
              </a: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而君逆寡人者，轻寡人与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17"/>
          <p:cNvGrpSpPr/>
          <p:nvPr/>
        </p:nvGrpSpPr>
        <p:grpSpPr>
          <a:xfrm>
            <a:off x="324000" y="3933720"/>
            <a:ext cx="7559640" cy="1366920"/>
            <a:chOff x="324000" y="3933720"/>
            <a:chExt cx="7559640" cy="1366920"/>
          </a:xfrm>
        </p:grpSpPr>
        <p:sp>
          <p:nvSpPr>
            <p:cNvPr id="1398" name="Oval 18"/>
            <p:cNvSpPr/>
            <p:nvPr/>
          </p:nvSpPr>
          <p:spPr>
            <a:xfrm>
              <a:off x="2195640" y="4581360"/>
              <a:ext cx="73080" cy="71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9"/>
            <p:cNvSpPr/>
            <p:nvPr/>
          </p:nvSpPr>
          <p:spPr>
            <a:xfrm>
              <a:off x="2627640" y="5229000"/>
              <a:ext cx="72720" cy="71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Text Box 20"/>
            <p:cNvSpPr/>
            <p:nvPr/>
          </p:nvSpPr>
          <p:spPr>
            <a:xfrm>
              <a:off x="324000" y="3933720"/>
              <a:ext cx="755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③</a:t>
              </a: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寡人欲以五百里之地易安陵，安陵君其许寡人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Line 21"/>
          <p:cNvSpPr/>
          <p:nvPr/>
        </p:nvSpPr>
        <p:spPr>
          <a:xfrm flipV="1">
            <a:off x="5508720" y="4005000"/>
            <a:ext cx="712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Line 22"/>
          <p:cNvSpPr/>
          <p:nvPr/>
        </p:nvSpPr>
        <p:spPr>
          <a:xfrm flipV="1">
            <a:off x="1908000" y="465264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Line 23"/>
          <p:cNvSpPr/>
          <p:nvPr/>
        </p:nvSpPr>
        <p:spPr>
          <a:xfrm flipV="1">
            <a:off x="1908000" y="393336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 Box 24"/>
          <p:cNvSpPr/>
          <p:nvPr/>
        </p:nvSpPr>
        <p:spPr>
          <a:xfrm>
            <a:off x="3492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Text Box 2"/>
          <p:cNvSpPr/>
          <p:nvPr/>
        </p:nvSpPr>
        <p:spPr>
          <a:xfrm>
            <a:off x="324000" y="1268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请复述课文的主要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2"/>
          <p:cNvSpPr/>
          <p:nvPr/>
        </p:nvSpPr>
        <p:spPr>
          <a:xfrm>
            <a:off x="2340000" y="25416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</a:rPr>
              <a:t>朗读大本营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 Box 3"/>
          <p:cNvSpPr/>
          <p:nvPr/>
        </p:nvSpPr>
        <p:spPr>
          <a:xfrm>
            <a:off x="2195640" y="1557360"/>
            <a:ext cx="66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大声读课文，注意读准字音与节奏，把握语气，读出感情，然后小组内分角色朗读或表演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Text Box 2"/>
          <p:cNvSpPr/>
          <p:nvPr/>
        </p:nvSpPr>
        <p:spPr>
          <a:xfrm>
            <a:off x="324000" y="33336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热点练兵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3"/>
          <p:cNvSpPr/>
          <p:nvPr/>
        </p:nvSpPr>
        <p:spPr>
          <a:xfrm>
            <a:off x="574560" y="141300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请同学们细读课文，完成填空题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     ）的秦王，课文的依据是（        ）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     ）的唐雎，课文的依据是（        ）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方法：【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】透过语言文字，力求读出自己独特的体验。【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】在文中做批注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作者采用什么方法刻画人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3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0:52:19Z</dcterms:created>
  <dc:creator/>
  <dc:description/>
  <cp:keywords>幻灯片之家 http:/www.eeppt.com</cp:keywords>
  <dc:language>en-US</dc:language>
  <cp:lastModifiedBy/>
  <dcterms:modified xsi:type="dcterms:W3CDTF">2015-07-20T03:11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