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chimes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74C-FD22-4DF6-ACFC-0F7A92FB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3E8-0D75-4169-8C57-D8606B67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DD9-FF72-4350-9E92-5E32C494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5C8-82A2-4101-924A-6F1045BD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EEAA-E1EC-4A1C-A240-61BC8FAC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6131-538D-4317-BA7A-022EB7C4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1698-5C3E-41A1-9C01-11B26BE7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5128-DD6E-42ED-8CB5-11C5750C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863A-8A94-4ED8-8D80-20D31D36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F1BB-329D-44F7-BFA2-3AC0D05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7B78-021F-4902-A965-1A1CE7A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EB3-3040-4B59-A834-64F2FE2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F5CB-8763-4648-8859-5BA05CDE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8AA2-016C-4C8D-91EF-E9EEC7D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8448-295B-417D-8042-93969068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8A69-96FE-4716-812E-B9623273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28CB-47DF-412C-A104-6DFED204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EE559-05A1-45CB-8ED7-355DDC24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197E-F4A1-48C4-906D-B18D9FEB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7972-FEAE-45EE-B437-7683988C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AF28-8E36-483A-8824-8842C444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BA9F-3A7F-46F6-B555-2522D70D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24D-D33E-4F50-A9A7-81B4CF62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B676-2266-4B5A-88BC-F8BD2927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AAF6-E992-43DC-95D4-626F29A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DE74-09AA-45DD-B034-FBA63D2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449B-5775-49AF-8158-DE331C25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293D-C9C0-41AF-A3E6-F0A6BD3B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DA40-4D4B-44BC-99ED-C79EBB5D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3A82-8BAB-47CF-852E-17866B59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E18-1409-47B0-90E6-C604668F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981-FE24-456E-B952-88F3D57B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368-BA15-4719-9127-A1D17668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CC7-630A-40F4-8DB3-C1A2A8AE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2AF-02D0-4E10-8346-D4C67550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89E-9FFF-4A29-BBB1-0CC43856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89DF-A3D2-435E-BC62-C2D521B061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1029-E066-4F5A-A978-AB5E95A240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7C4B-2DD6-4AA8-9234-1600ED8A3A16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0360" y="549000"/>
            <a:ext cx="33559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楷体_GB2312"/>
              </a:rPr>
              <a:t>我爱你中国的汉字</a:t>
            </a: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楷体_GB2312"/>
              </a:rPr>
              <a:t>课件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4" name="Picture 1027" descr="Xing2"/>
          <p:cNvPicPr/>
          <p:nvPr/>
        </p:nvPicPr>
        <p:blipFill>
          <a:blip r:embed="rId2"/>
          <a:stretch/>
        </p:blipFill>
        <p:spPr>
          <a:xfrm>
            <a:off x="3492360" y="47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29" descr="Xing2"/>
          <p:cNvPicPr/>
          <p:nvPr/>
        </p:nvPicPr>
        <p:blipFill>
          <a:blip r:embed="rId3"/>
          <a:stretch/>
        </p:blipFill>
        <p:spPr>
          <a:xfrm>
            <a:off x="6659640" y="585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0" descr="Xing2"/>
          <p:cNvPicPr/>
          <p:nvPr/>
        </p:nvPicPr>
        <p:blipFill>
          <a:blip r:embed="rId4"/>
          <a:stretch/>
        </p:blipFill>
        <p:spPr>
          <a:xfrm>
            <a:off x="190512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31" descr="Xing2"/>
          <p:cNvPicPr/>
          <p:nvPr/>
        </p:nvPicPr>
        <p:blipFill>
          <a:blip r:embed="rId5"/>
          <a:stretch/>
        </p:blipFill>
        <p:spPr>
          <a:xfrm>
            <a:off x="53352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32" descr="Xing2"/>
          <p:cNvPicPr/>
          <p:nvPr/>
        </p:nvPicPr>
        <p:blipFill>
          <a:blip r:embed="rId6"/>
          <a:stretch/>
        </p:blipFill>
        <p:spPr>
          <a:xfrm>
            <a:off x="3154320" y="5332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33" descr="Xing2"/>
          <p:cNvPicPr/>
          <p:nvPr/>
        </p:nvPicPr>
        <p:blipFill>
          <a:blip r:embed="rId7"/>
          <a:stretch/>
        </p:blipFill>
        <p:spPr>
          <a:xfrm>
            <a:off x="5410080" y="2743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楷书"/>
          <p:cNvPicPr/>
          <p:nvPr/>
        </p:nvPicPr>
        <p:blipFill>
          <a:blip r:embed="rId2"/>
          <a:stretch/>
        </p:blipFill>
        <p:spPr>
          <a:xfrm>
            <a:off x="2484360" y="692280"/>
            <a:ext cx="3810240" cy="5956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224360" y="1557360"/>
            <a:ext cx="8506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端庄的楷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行书"/>
          <p:cNvPicPr/>
          <p:nvPr/>
        </p:nvPicPr>
        <p:blipFill>
          <a:blip r:embed="rId2"/>
          <a:stretch/>
        </p:blipFill>
        <p:spPr>
          <a:xfrm>
            <a:off x="3143160" y="828720"/>
            <a:ext cx="2857680" cy="52005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819000" y="1844640"/>
            <a:ext cx="1521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流畅的行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或挺拔如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9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971640" y="234936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7" name="Picture 11" descr="d94ae8dc5b64579ccc11667d"/>
          <p:cNvPicPr/>
          <p:nvPr/>
        </p:nvPicPr>
        <p:blipFill>
          <a:blip r:embed="rId7"/>
          <a:stretch/>
        </p:blipFill>
        <p:spPr>
          <a:xfrm>
            <a:off x="1403280" y="1981080"/>
            <a:ext cx="6913800" cy="4329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或清亮如溪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0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71640" y="234936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8" name="Picture 11" descr="a98c70b4499323ce31add11a"/>
          <p:cNvPicPr/>
          <p:nvPr/>
        </p:nvPicPr>
        <p:blipFill>
          <a:blip r:embed="rId7"/>
          <a:stretch/>
        </p:blipFill>
        <p:spPr>
          <a:xfrm>
            <a:off x="828720" y="1774800"/>
            <a:ext cx="74898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DE14-DEAD-46CA-B2FB-3CE71EA6E2FF}" type="slidenum">
              <a:t>14</a:t>
            </a:fld>
          </a:p>
        </p:txBody>
      </p:sp>
    </p:spTree>
  </p:cSld>
  <p:transition>
    <p:push dir="r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或浩瀚如海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83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971640" y="234936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1" name="Picture 11" descr="2006531_1b020ea30f549d3345178a10a2d0cb90"/>
          <p:cNvPicPr/>
          <p:nvPr/>
        </p:nvPicPr>
        <p:blipFill>
          <a:blip r:embed="rId7"/>
          <a:srcRect l="0" t="0" r="-2515" b="0"/>
          <a:stretch/>
        </p:blipFill>
        <p:spPr>
          <a:xfrm>
            <a:off x="831960" y="1773360"/>
            <a:ext cx="762948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或凝滑如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93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971640" y="234936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0" name="Picture 13" descr="楷书1"/>
          <p:cNvPicPr/>
          <p:nvPr/>
        </p:nvPicPr>
        <p:blipFill>
          <a:blip r:embed="rId7"/>
          <a:stretch/>
        </p:blipFill>
        <p:spPr>
          <a:xfrm>
            <a:off x="2050920" y="1773360"/>
            <a:ext cx="475164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971640" y="2349360"/>
            <a:ext cx="77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在人类古老的长河中，有哪一个民族像中华民族有这么丰富的书法瑰宝？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8600" y="227664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像</a:t>
            </a:r>
            <a:r>
              <a:rPr b="1" lang="zh-CN" sz="40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徜徉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夏天夜晚的星空下，为那壮丽的景色而迷醉，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限钟情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于我赖以思维和交往的汉字，并震惊于它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限活力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奇特魅力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0" name="Picture 3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据联合国教科文组织提供的数据，汉字是因特网上的第二大语言文字。汉字不仅使中国人、海外华人着迷，而且有的外国人也慕名来中国学习说汉语，写汉字。目前全世界已有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个国家的学校开设了中文课程。</a:t>
            </a:r>
            <a:br>
              <a:rPr sz="4000"/>
            </a:br>
            <a:br>
              <a:rPr sz="2000"/>
            </a:br>
            <a:r>
              <a:rPr b="1" lang="zh-CN" sz="2000" spc="-1" strike="noStrike">
                <a:solidFill>
                  <a:srgbClr val="0033cc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目标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主学会本课的生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并能正确、美观地书写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了解课文内容，能联系上下文的具体语境，了解多种修辞手法的作用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正确、流利、有感情地朗读课文，感受汉字的无穷魅力，激发对祖国文字的喜爱。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Picture 4" descr="Xing2"/>
          <p:cNvPicPr/>
          <p:nvPr/>
        </p:nvPicPr>
        <p:blipFill>
          <a:blip r:embed="rId2"/>
          <a:stretch/>
        </p:blipFill>
        <p:spPr>
          <a:xfrm>
            <a:off x="3419640" y="765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Xing2"/>
          <p:cNvPicPr/>
          <p:nvPr/>
        </p:nvPicPr>
        <p:blipFill>
          <a:blip r:embed="rId3"/>
          <a:stretch/>
        </p:blipFill>
        <p:spPr>
          <a:xfrm>
            <a:off x="6372360" y="260280"/>
            <a:ext cx="685800" cy="104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Xing2"/>
          <p:cNvPicPr/>
          <p:nvPr/>
        </p:nvPicPr>
        <p:blipFill>
          <a:blip r:embed="rId4"/>
          <a:stretch/>
        </p:blipFill>
        <p:spPr>
          <a:xfrm>
            <a:off x="4427640" y="2205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Xing2"/>
          <p:cNvPicPr/>
          <p:nvPr/>
        </p:nvPicPr>
        <p:blipFill>
          <a:blip r:embed="rId5"/>
          <a:stretch/>
        </p:blipFill>
        <p:spPr>
          <a:xfrm>
            <a:off x="1979640" y="213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Xing2"/>
          <p:cNvPicPr/>
          <p:nvPr/>
        </p:nvPicPr>
        <p:blipFill>
          <a:blip r:embed="rId6"/>
          <a:stretch/>
        </p:blipFill>
        <p:spPr>
          <a:xfrm>
            <a:off x="4932360" y="3333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Xing2"/>
          <p:cNvPicPr/>
          <p:nvPr/>
        </p:nvPicPr>
        <p:blipFill>
          <a:blip r:embed="rId4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 flipV="1" rot="10702200">
            <a:off x="684000" y="1020960"/>
            <a:ext cx="77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 rot="10800000">
            <a:off x="685800" y="379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71640" y="2349360"/>
            <a:ext cx="770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让我们与神奇的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汉字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去尽情地对话，用心去体会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汉字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无限魅力，让我们都去爱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汉字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吧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4064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魅力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 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拘束   沉坠  风韵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撇捺   瑰宝   徜徉  驰骋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挺拔如峰      浩瀚如海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凝滑如脂      清亮如溪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611280" y="105264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请声音宏亮地读一读这些字词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Xing2"/>
          <p:cNvPicPr/>
          <p:nvPr/>
        </p:nvPicPr>
        <p:blipFill>
          <a:blip r:embed="rId2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Xing2"/>
          <p:cNvPicPr/>
          <p:nvPr/>
        </p:nvPicPr>
        <p:blipFill>
          <a:blip r:embed="rId3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Xing2"/>
          <p:cNvPicPr/>
          <p:nvPr/>
        </p:nvPicPr>
        <p:blipFill>
          <a:blip r:embed="rId4"/>
          <a:stretch/>
        </p:blipFill>
        <p:spPr>
          <a:xfrm>
            <a:off x="3851280" y="836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Xing2"/>
          <p:cNvPicPr/>
          <p:nvPr/>
        </p:nvPicPr>
        <p:blipFill>
          <a:blip r:embed="rId5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Xing2"/>
          <p:cNvPicPr/>
          <p:nvPr/>
        </p:nvPicPr>
        <p:blipFill>
          <a:blip r:embed="rId6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684360" y="134136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写作的时候，常常为我面前这一个个方块字而动情。它们像一群活泼可爱的孩子在纸上玩笑嬉戏，像一朵朵美丽多姿的鲜花愉悦你的眼睛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它们像一群活泼可爱的孩子在纸上玩笑嬉戏；像一朵朵美丽多姿的鲜花愉悦你的眼睛；像（                         ）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像（                     ）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这时我真不忍将它们框在方格里，真想叫它们离开格子去舒展身体，去不受拘束地享受自己的欢乐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6"/>
          <p:cNvSpPr/>
          <p:nvPr/>
        </p:nvSpPr>
        <p:spPr>
          <a:xfrm>
            <a:off x="4211640" y="2133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Picture 4" descr="隶书"/>
          <p:cNvPicPr/>
          <p:nvPr/>
        </p:nvPicPr>
        <p:blipFill>
          <a:blip r:embed="rId2"/>
          <a:stretch/>
        </p:blipFill>
        <p:spPr>
          <a:xfrm>
            <a:off x="2700360" y="1125360"/>
            <a:ext cx="4464000" cy="5185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825480" y="1052640"/>
            <a:ext cx="1521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古色古香的隶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篆书"/>
          <p:cNvPicPr/>
          <p:nvPr/>
        </p:nvPicPr>
        <p:blipFill>
          <a:blip r:embed="rId2"/>
          <a:stretch/>
        </p:blipFill>
        <p:spPr>
          <a:xfrm>
            <a:off x="826920" y="1484280"/>
            <a:ext cx="74203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草书"/>
          <p:cNvPicPr/>
          <p:nvPr/>
        </p:nvPicPr>
        <p:blipFill>
          <a:blip r:embed="rId2"/>
          <a:stretch/>
        </p:blipFill>
        <p:spPr>
          <a:xfrm>
            <a:off x="1835280" y="981000"/>
            <a:ext cx="6945120" cy="482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9760" y="1484280"/>
            <a:ext cx="1521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行如流水的草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2:05:52Z</dcterms:created>
  <dc:creator/>
  <dc:description/>
  <cp:keywords>幻灯片之家 http:/www.eeppt.com</cp:keywords>
  <dc:language>en-US</dc:language>
  <cp:lastModifiedBy/>
  <dcterms:modified xsi:type="dcterms:W3CDTF">2015-07-20T06:06:26Z</dcterms:modified>
  <cp:revision>1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