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suction.wav" ContentType="audio/x-wav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FFF-06F7-46D6-AF62-7C53C2D8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426-B423-4011-A194-EE474806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258BA-AF5D-474C-88CE-3E8D0224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99F36-19DE-4C99-8EA8-017FF59E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B7AC0-CF52-4D13-A3EE-8FFD044D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4E203-A7AB-4E25-BB3E-A1DCBC47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34AF3-15C1-40FA-A988-0C518D70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FF08F-9C73-43C5-B3B1-18ECC347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56B8D-4511-475E-8E34-90A739DD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4E6DC-0B45-45FD-9C86-692E7A62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E7298-6C25-4BCB-9B23-0223CC5D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300959-99C7-4E5B-BE9C-5A5090B2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316-8214-4C83-8ABD-810D3A45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C1AB2-17E9-4B82-8DBA-1FC523B1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FBF70-4CD5-46DC-A8BE-11220EB3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1F3DC-73AC-4434-BAE7-5CCA5228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A1977-26B3-46FF-85DF-631D7F37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DE17B-9C11-4E66-8551-EC2E4BBB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14EB5-417C-465F-A2BE-FE557F1F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4949B-CA3A-4854-BFFB-DA489609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0B15A-EA58-4087-A152-C37874B7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B8777-E43C-49FB-811D-B60B27B2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D214D6-757F-4F02-A7D0-204D89F0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265-47AF-4E64-8A18-A9630E345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A3B49-801C-4D1C-8EED-8498844B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2F033-9CBA-4C07-A650-C3FCDF6E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89C66-4A04-499B-B7F8-A090E434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D8096-7293-40DB-98F4-440D3816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90E88-16D5-4B68-807B-BC88982D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7A942-9C15-4EE9-A261-3C5C7E68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522AB-B025-46AD-880F-A6C85541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8DFC5-DEC3-4F1C-B9AC-49443353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B2B4D-233E-422D-B570-B2A0381D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A8DFC-6A3F-40E7-90C8-640846BC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07C0-585A-4216-BB93-9A0A10EA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6454B7-5EEB-416E-8B87-2E67B119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1CEB8-9E3D-4274-916B-DD797A11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DB023-93A2-4F72-86CE-83C21CCA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3566E-308E-4518-8BFF-DB224BFA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465BD-FDCC-4633-A18B-09D3C1EF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81A49-0BB7-4AED-810D-4959B574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41646-F1C0-4B35-AAB7-9A276415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6CB69-8659-4EB6-9AD7-CB37DCC7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BE8CE-E360-4C66-9DDC-CA00EB5C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F3B378-69BB-4420-AA7E-7ABA8A0E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0B343-8024-48A5-AAD0-739FC90A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456A9-7A8B-4734-9D13-79B8E4F1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1A831-B3CA-4E20-B924-248D5222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BA8F2-C7D2-4ED6-8A53-89CECBF8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5FEEC-26E6-4591-91B9-C88114BA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558E3-FA66-40E2-9956-BC13F6DBF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DE4847-D0D6-41E1-A772-4B003076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E13436-7627-4933-ABBB-E5240833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36C089-F55E-4A24-8804-8DBF5BB3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2F5AB-A388-4E07-87B1-DA0AFDE2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34FF44-1AA1-46F0-9FDE-9066761E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1C7A-81B4-4B7B-9459-A5C688D7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12C4A-4FE8-43B1-8806-4081D660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54A5E-916F-4B6B-B4B4-BB7D3B58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AFC01-6DD1-4BC7-B597-51F09870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3A887-4ED3-43C2-ACD8-16929C40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02214C-C1BD-47B9-8A41-B21D0518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B835A-CDA7-470E-8E9E-AD9AE019A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F0151-69A8-4F31-9B31-176BAE7E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79ED-32E0-49BE-AE86-349C1A63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ED18-473F-4863-86C1-3AC817B0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D42B-F9E7-48D4-9D38-DE54F77E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B92C-55BE-416E-A822-FD736865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B6D-1D01-41F3-87EA-4A67BB47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94CB-D7D8-45F0-B634-B1175EE4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963E-E94B-41D1-A6E5-EF6F7D92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2FA9-F538-45E0-83E7-1B0C51F1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9C82-6AD0-4318-91AF-D6BD34E5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8427-85F9-4995-A34E-49A8C28C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93497-2499-44C3-8E7D-DA17B4CD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799A-AC1F-4EAB-8B79-4F1437A8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E0FC-3947-49F8-8CDE-4AB24670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A68B-A817-4555-8861-D1AFAEB5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75AFC-8BF3-442C-9AAC-33BC786F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7A8-B764-4ECD-A61C-4ECDA187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222B-2D92-428D-A10D-539E706D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4811A-C519-4CE4-9DCF-881EEC25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3989A-2AE5-4C8F-B75B-1AA566C1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6380A-DF9C-4993-842D-7E0E61A8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6B816-F358-4BED-9B9F-28E76651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E5F1A-A59B-4FFE-9784-FF6032A7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29478-40BA-460E-BF8D-48917020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3BC80-EEB4-4455-BFF6-D8D98336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9ED21-A192-4DB6-9B09-40D21188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3D964-FC19-446B-8044-94ED343B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DBE5-19F2-48B0-842A-6D742ED6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B3377-F30F-4B35-A0A0-3B81124D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B50EE-E6A3-4E88-9B4F-2C5D4E86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883F8-7D22-44B0-B0FB-BDDFB73B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9A205-B526-4EAE-9FAD-85B85161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C4533-8E7A-43B8-9140-0C5A2A6B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F6707-897A-43D2-9DB5-51D29B87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18DAB-F961-4FE3-A3D6-893F23CE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99747-770B-4E75-A260-5AEBA99A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FF7D4-3420-46CF-A6D8-CE8A730BB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613B7-D4E1-469D-8F1D-12AF9857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F39-ECC9-4E08-861C-BFBB277C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C2AC7-2835-4609-AEE3-BF754D72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C09C3-AFB1-4280-B70D-9B7C5758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8F098-4061-4C53-BB4D-DD2CCDAA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03B72-69A5-40FE-8478-20ABAF68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0481C-ED01-4087-9A3B-D7CCF456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67EBB-7260-4A02-97A7-3170819D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A1EEF-B778-4BF8-8D60-AE1D0B82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7645A-286C-49E9-AC9A-E823AFE6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9EC21-35C5-4751-8F66-46F90877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F940F-5DBB-44B7-8CD6-21594BD0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9F1-08DD-4FF2-BCFB-E497F526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6739D-6FAD-4297-822D-26AD9E3B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19A5B-725B-4E5D-84C7-93F7337A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3AEDF-9473-45D0-92A6-9E26DAD7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5FB0-50BE-4B23-A918-B87EA296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70AE6-F78A-4E20-9ABC-6BC876B8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03BEB-DCC3-4B07-A8AE-141D03B4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367F3-52CE-4C1F-8778-9E2C35B0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193D7-A105-466C-88F3-4495708E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FB2D2-F074-477F-9531-E88EEFA3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2D8E4-1D0D-4BDD-A6E5-70F637DE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586-548D-4BD6-8FDE-1C3D58ED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568FD-515A-4E46-BF48-66ADFD36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69C39-5890-48E2-BB4C-7C7AA5C1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3D0B9-4B94-42F2-9D06-44613653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5D103-01A9-4312-BF3E-A629A467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0BCAA-8C75-4F82-A587-460EC323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4A4DC-AFB2-45CF-AB84-58B494A4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26EF0-BB11-4639-9A27-DBB3CD9D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A1E58-6D1C-4A34-8352-5CAFF364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B204E-89AF-4D1E-8494-8AA4CEDF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A15F8-9509-4CA4-B17A-39D97BF5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F0B-AF40-4FFA-8143-D9F10579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6E96B-BD8C-4DC8-9098-A378371C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F7D6D-DEDC-42E6-B910-4642F81D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2329D-AB27-4EB0-886D-856A158E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86375-5F4C-418D-AFA1-DF8C6ACA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4E80D-E704-430A-836E-1780DECA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A4CB2-4A0D-4E80-AF18-7394E8F3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5F64E-FA8D-4C51-96E6-F855DEF5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C5490-B9FC-4156-A8C6-EF4CDE52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1CB65-D2C5-49B1-AD35-DF12C8FE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F2711-5379-4C06-8A13-2F87165C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0295-3082-4562-B3F1-BFC521EE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30000-9503-43AF-813A-8E7096B0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C26E2-4152-4E11-9A49-59EAECEC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C11E6-7CE3-4249-9E5C-4B830E04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2D5FF-C8AE-4D78-AB7E-687BDA0F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D2C67-9FF6-4B71-8B4F-EFF7C5AF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23FA3-B6A5-41A8-8F08-39863EE3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0E412-749D-4B0E-816A-049E5D3D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DA2A7-89F9-47B1-8721-4B2A232C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A610B-B7BA-4FAC-99A8-8FEE930A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8076C-E2E5-41FE-845B-2A24FB82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85E6-B0DE-4B58-A08D-97D75EAA87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7183-FBD5-483B-9635-4774D4916B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E6BB-7AD8-4670-92B0-2BC266A1D44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B234-1D76-44FD-8B32-3FAA3CE615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9242-A58D-44A4-B813-FDF7CC89ED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3AE9-3591-44BF-9B0C-74B572DCE9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45FC-E297-487F-98BB-59751C69D6E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52CDC-B3F6-4CB1-A0DE-6A99E8A7D1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76E3-7C53-48E4-B13D-54DB040D58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302F-F6E6-4F94-B469-86E3821686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55F8-E029-4109-98FB-A2FCEF5EF8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7EAE-76BE-4DEC-A5D1-8A07F80C20A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0718-855F-4270-B9A6-53894B292C9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suction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qiu1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4500720" y="55897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济宁十二中 陈伟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1908000" y="692280"/>
            <a:ext cx="64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物理从永磁体谈起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PPT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  <a:ea typeface="华文新魏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矩形 7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304920" y="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活动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380880" y="990720"/>
            <a:ext cx="8763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利用你手中的材料，通过实验研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哪些是磁体？你判定的依据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磁体各处的磁性强弱是否一样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哪里最强  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 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说明什么</a:t>
            </a: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                                                       3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如何感受到磁极间的相互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怎样使物体磁化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1619280" y="765000"/>
            <a:ext cx="511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基本概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磁性、磁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向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磁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1547640" y="2421000"/>
            <a:ext cx="54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磁极间的相互作用规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1547640" y="4221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磁化与去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5"/>
          <p:cNvSpPr/>
          <p:nvPr/>
        </p:nvSpPr>
        <p:spPr>
          <a:xfrm>
            <a:off x="1258920" y="981000"/>
            <a:ext cx="217440" cy="3672000"/>
          </a:xfrm>
          <a:custGeom>
            <a:avLst/>
            <a:gdLst>
              <a:gd name="textAreaLeft" fmla="*/ 138960 w 217440"/>
              <a:gd name="textAreaRight" fmla="*/ 217800 w 2174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-210240" y="1341360"/>
            <a:ext cx="13993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磁的基本知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2124000" y="306864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同名磁极相互排斥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异名磁极相互吸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9898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将小磁针放在条形磁体周围的某一点，观察小磁针静止时的指向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用手轻轻地拨动小磁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小磁针的指向如何变化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变换一个位置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小磁针的的指向变化吗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、让小磁针在磁体周围缓慢地转动一圈，你有什么发现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以上实验现象说明了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WordArt 3"/>
          <p:cNvSpPr txBox="1"/>
          <p:nvPr/>
        </p:nvSpPr>
        <p:spPr>
          <a:xfrm>
            <a:off x="3348000" y="404640"/>
            <a:ext cx="4896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感知磁场的存在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4" name="WordArt 4"/>
          <p:cNvSpPr txBox="1"/>
          <p:nvPr/>
        </p:nvSpPr>
        <p:spPr>
          <a:xfrm>
            <a:off x="468360" y="404640"/>
            <a:ext cx="234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：</a:t>
            </a:r>
            <a:endParaRPr b="0" lang="en-US" sz="24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3203640" y="333360"/>
            <a:ext cx="279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</a:rPr>
              <a:t>认识磁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"/>
          <p:cNvSpPr/>
          <p:nvPr/>
        </p:nvSpPr>
        <p:spPr>
          <a:xfrm>
            <a:off x="609480" y="457200"/>
            <a:ext cx="82296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方正舒体"/>
              </a:rPr>
              <a:t>活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方正舒体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方正舒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用铁屑显示永磁体的磁场分布情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762120" y="2209680"/>
            <a:ext cx="76197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方法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将条形磁体放在白纸上，再在磁体上平放玻璃板。                                      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在玻璃板上均匀地撒下少量铁屑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轻敲玻璃板 。                                 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画出你所看到磁场分布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4467240" cy="33433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" descr=""/>
          <p:cNvPicPr/>
          <p:nvPr/>
        </p:nvPicPr>
        <p:blipFill>
          <a:blip r:embed="rId2"/>
          <a:stretch/>
        </p:blipFill>
        <p:spPr>
          <a:xfrm>
            <a:off x="5334120" y="404640"/>
            <a:ext cx="3341520" cy="34196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"/>
          <p:cNvPicPr/>
          <p:nvPr/>
        </p:nvPicPr>
        <p:blipFill>
          <a:blip r:embed="rId3"/>
          <a:stretch/>
        </p:blipFill>
        <p:spPr>
          <a:xfrm>
            <a:off x="5219640" y="3933720"/>
            <a:ext cx="3456000" cy="25624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" descr=""/>
          <p:cNvPicPr/>
          <p:nvPr/>
        </p:nvPicPr>
        <p:blipFill>
          <a:blip r:embed="rId4"/>
          <a:stretch/>
        </p:blipFill>
        <p:spPr>
          <a:xfrm>
            <a:off x="826920" y="3933720"/>
            <a:ext cx="3961080" cy="208764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6"/>
          <p:cNvSpPr/>
          <p:nvPr/>
        </p:nvSpPr>
        <p:spPr>
          <a:xfrm>
            <a:off x="1116000" y="6093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同名磁极周围的铁屑分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65040" y="65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116000" y="18900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条形磁铁的磁感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Picture 4" descr="条形磁铁磁场"/>
          <p:cNvPicPr/>
          <p:nvPr/>
        </p:nvPicPr>
        <p:blipFill>
          <a:blip r:embed="rId1"/>
          <a:stretch/>
        </p:blipFill>
        <p:spPr>
          <a:xfrm>
            <a:off x="324000" y="1268280"/>
            <a:ext cx="8424720" cy="432144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5"/>
          <p:cNvSpPr/>
          <p:nvPr/>
        </p:nvSpPr>
        <p:spPr>
          <a:xfrm>
            <a:off x="684360" y="5805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感线分布规律：从磁体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Ｎ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 来，回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36360" y="616572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J2441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12014"/>
          <p:cNvPicPr/>
          <p:nvPr/>
        </p:nvPicPr>
        <p:blipFill>
          <a:blip r:embed="rId1"/>
          <a:srcRect l="0" t="0" r="-133" b="-94"/>
          <a:stretch/>
        </p:blipFill>
        <p:spPr>
          <a:xfrm>
            <a:off x="0" y="-457200"/>
            <a:ext cx="6804000" cy="791856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3"/>
          <p:cNvSpPr/>
          <p:nvPr/>
        </p:nvSpPr>
        <p:spPr>
          <a:xfrm>
            <a:off x="6784920" y="0"/>
            <a:ext cx="15210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指南针为什么能指示南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qiu2"/>
          <p:cNvPicPr/>
          <p:nvPr/>
        </p:nvPicPr>
        <p:blipFill>
          <a:blip r:embed="rId1"/>
          <a:stretch/>
        </p:blipFill>
        <p:spPr>
          <a:xfrm>
            <a:off x="0" y="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53006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5724360" y="479736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地磁场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1979640" y="5589720"/>
            <a:ext cx="59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Times New Roman"/>
              </a:rPr>
              <a:t>地磁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北</a:t>
            </a:r>
            <a:r>
              <a:rPr b="0" lang="zh-CN" sz="3600" spc="-1" strike="noStrike">
                <a:solidFill>
                  <a:srgbClr val="d60093"/>
                </a:solidFill>
                <a:latin typeface="Times New Roman"/>
              </a:rPr>
              <a:t>极在地理南极附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60093"/>
                </a:solidFill>
                <a:latin typeface="Times New Roman"/>
              </a:rPr>
              <a:t>地磁南极在地理北极附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4788000" y="3213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理南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4859280" y="1125360"/>
            <a:ext cx="19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理北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知识小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知识与技能：基本概念、基本规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过程与方法：转换法、模型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通过本节课的学习，你认为对你触动最大以及你最感兴趣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6360" y="616572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0" y="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奇妙的液体磁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固态的磁铁人们并不陌生，然而现代科学技术却创造了一种全新的材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液体磁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装有液体的杯子里投进一枚硬币，它会渐渐沉下去。然后，将杯子置于磁场之中，硬币又会浮上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就是液体磁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机械轴和机体之间滴上几滴铁磁液体，使它们保持在那里并再利用一个环形磁铁将其磁化，这就成了一个液体磁铁的密封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磁场的作用下，铁磁液体还能改变黏度，并能一起到变“硬”为止。这就使液体磁铁有了广阔的应用前景。例如出现了液体磁铁的汽车自动调整机构，这种机构能根据道路的状况调整汽车的弹性。而将液体磁铁用于制造机器人的“手”时，它更显得柔软灵活，能平稳地伸缩。最为有趣的是，如果液体磁铁来紧固机床加工的复杂零部件时，只要将零部件置于铁磁液体中，接通电磁场，铁磁液体将瞬时变浓，直至凝固成硬石头一样，牢牢地紧固住零部件；等到加工完毕，只需断开电流，铁磁液体又恢复了常态，零部件又可自如地取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9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</a:rPr>
              <a:t>你知道吗</a:t>
            </a: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990720" y="12952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468360" y="220500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你知道吗，假如你沿南北方向放一条铁棒，许多年后，地磁场会把它磁化。你会用小磁针探测你的家，寻找家中被磁化的物体吗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82872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133200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1523880" y="129528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描述磁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磁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司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835280" y="0"/>
            <a:ext cx="532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12009"/>
          <p:cNvPicPr/>
          <p:nvPr/>
        </p:nvPicPr>
        <p:blipFill>
          <a:blip r:embed="rId1"/>
          <a:stretch/>
        </p:blipFill>
        <p:spPr>
          <a:xfrm>
            <a:off x="-179280" y="-385920"/>
            <a:ext cx="9504360" cy="777564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1908000" y="640080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质量达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,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高为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80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m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直径为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20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m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圆柱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36360" y="616572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12009"/>
          <p:cNvPicPr/>
          <p:nvPr/>
        </p:nvPicPr>
        <p:blipFill>
          <a:blip r:embed="rId1"/>
          <a:stretch/>
        </p:blipFill>
        <p:spPr>
          <a:xfrm>
            <a:off x="0" y="2971800"/>
            <a:ext cx="4643280" cy="38862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3"/>
          <p:cNvSpPr/>
          <p:nvPr/>
        </p:nvSpPr>
        <p:spPr>
          <a:xfrm>
            <a:off x="3276720" y="3048120"/>
            <a:ext cx="138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4" descr="qiu2"/>
          <p:cNvPicPr/>
          <p:nvPr/>
        </p:nvPicPr>
        <p:blipFill>
          <a:blip r:embed="rId2"/>
          <a:stretch/>
        </p:blipFill>
        <p:spPr>
          <a:xfrm>
            <a:off x="0" y="0"/>
            <a:ext cx="4643280" cy="33163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5" descr="电磁起重机"/>
          <p:cNvPicPr/>
          <p:nvPr/>
        </p:nvPicPr>
        <p:blipFill>
          <a:blip r:embed="rId3"/>
          <a:srcRect l="0" t="0" r="0" b="-39"/>
          <a:stretch/>
        </p:blipFill>
        <p:spPr>
          <a:xfrm>
            <a:off x="4724280" y="0"/>
            <a:ext cx="4419720" cy="3357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司南"/>
          <p:cNvPicPr/>
          <p:nvPr/>
        </p:nvPicPr>
        <p:blipFill>
          <a:blip r:embed="rId4"/>
          <a:srcRect l="0" t="5965" r="0" b="0"/>
          <a:stretch/>
        </p:blipFill>
        <p:spPr>
          <a:xfrm>
            <a:off x="4859280" y="3454560"/>
            <a:ext cx="42847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539640" y="112536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第十四章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  电磁铁与自动控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258920" y="26370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一节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从永磁体谈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556000" y="4149720"/>
            <a:ext cx="42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古老而年轻的磁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2:05:12Z</dcterms:created>
  <dc:creator/>
  <dc:description/>
  <cp:keywords>幻灯片之家 http:/www.eeppt.com</cp:keywords>
  <dc:language>en-US</dc:language>
  <cp:lastModifiedBy/>
  <dcterms:modified xsi:type="dcterms:W3CDTF">2015-07-20T04:00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